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381B-8B85-4F6F-A48E-4359F9703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BBF7-60FF-4181-9D00-EFF696B3F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3189-4830-474A-9616-899140D3B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856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8424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7467-AF14-4014-9B78-D3064D994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B87F-3278-449B-A025-22701DF216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EF5D-3BFB-4199-B1E2-8726AEDC6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99F7-4D5A-42AC-BFE2-388A307D3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484F-926C-42FB-B464-BEE7666F51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5F43-409D-4DA8-9E35-C5A7DA0D9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81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8D26-8F73-43C1-8466-7CF65E3892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7D19-967E-4891-B650-1C534FAF1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304F-7BB0-4EF6-AFF9-10D9DA627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5124-CD15-4399-B397-02C2F92B6E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54D2-C607-420F-A5F6-0FCAC550DD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9460-BA2F-43CC-B556-0EC212EAAF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C3CB-59D6-40F5-8EA4-5BD8AB9F0C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8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85660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484240" y="44920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0E9E-757E-43E3-B96F-4AEFAF920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8C70-577A-484D-A545-C51FD8823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89D7-8224-4315-A8E1-6FCBBFBEA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EDB7-E7A5-4472-B298-10676AB8C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81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10F8-1573-4E65-B904-6A1D0AB7D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E491-0CFE-4132-B2A6-4A6B2C129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11280" y="4492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457A-9AC1-45FC-9DCF-FF1F2B5CF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492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1FE6-65E2-4647-82F8-E26063E6C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3320" indent="-28548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908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484-ADF5-4035-8DB5-59F9E62A5120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3320" indent="-28548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908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48040" indent="-228600"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CDC5-0BBD-4F18-B9C7-377122A07A9B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7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9A8C-9E9C-4723-A559-D09E5106F3E1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3144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"/>
                <a:ea typeface="Arial"/>
              </a:rPr>
              <a:t>Programação Orientada a Aspectos</a:t>
            </a:r>
            <a:br>
              <a:rPr sz="4000"/>
            </a:b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3280" y="3573360"/>
            <a:ext cx="6400800" cy="32846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41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dentificando  </a:t>
            </a:r>
            <a:r>
              <a:rPr b="0" lang="en-US" sz="28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rosscutting Concern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e Calculando métrica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marL="41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Professor: Paulo Borba</a:t>
            </a:r>
            <a:endParaRPr b="0" lang="en-US" sz="1200" spc="-1" strike="noStrike">
              <a:solidFill>
                <a:srgbClr val="663300"/>
              </a:solidFill>
              <a:latin typeface="Times New Roman"/>
            </a:endParaRPr>
          </a:p>
          <a:p>
            <a:pPr marL="41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Equipe: David Aragão, Filipe Cesar, Henrique Sebra, Rilter Tavares</a:t>
            </a: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60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5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BDC4-8377-40A7-AA93-0E50988EC4F1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Exemplo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Concern: E/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private byte[] getByteArray(String imagePath)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out.println("File to ByteArray request..."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FileImageInputStream in = null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byte[] photo = null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try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in = new FileImageInputStream(new File(imagePath)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photo = new byte[(int) in.length()]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in.read(photo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out.println("File " + imagePath + " sent!!!"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 catch (FileNotFoundException e)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out.println("File " + imagePath + " not found!!!"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 catch (IOException e)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out.println("IO Exception!!!"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return photo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65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71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528F-C19C-4862-8445-4FCC62674088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Exemplo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Concern: Eventos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Collection dynamicInfos = facade.searchScheduleInfoByHour(d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Iterator i = dynamicInfos.iterator(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while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 (i.hasNext())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cheduleInfo schedule = (ScheduleInfo) i.next(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DynamicInfoModel info = </a:t>
            </a:r>
            <a:r>
              <a:rPr b="0" lang="en-US" sz="1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new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 DynamicInfoModel(schedule.getDynamicInfo()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.getDescription(), schedule.getDynamicInfo()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.getLanguage().getId(), schedule.getArea()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.getName()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</a:t>
            </a:r>
            <a:r>
              <a:rPr b="0" lang="en-US" sz="14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out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.println("DynamicInfo:" + info.getDescription()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infoModel.add(info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HibernateUtil.closeSession(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if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 (!dynamicInfos.isEmpty()) {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ystem.</a:t>
            </a:r>
            <a:r>
              <a:rPr b="0" lang="en-US" sz="14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out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.println("Dynamic Info "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server.sendDynamicInfos(infoModel);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71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8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A072-4564-4D40-8885-C5500CD74610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Exemplo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Concerns: Comunicação, Persistencia e Evento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public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void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run() {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Date d = 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null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ession currentSession = 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null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while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true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) {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try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{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d = Calendar.getInstance().getTime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urrentSession = HibernateUtil.getCurrentSession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urrentSession.beginTransaction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ollection infoModel = 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new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ArrayList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Collection dynamicInfos = facade.searchScheduleInfoByHour(d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terator i = dynamicInfos.iterator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 Italic"/>
                <a:ea typeface="ヒラギノ明朝 ProN W6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 Italic"/>
                <a:ea typeface="ヒラギノ明朝 ProN W6"/>
              </a:rPr>
              <a:t>	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77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76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828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7D24-7D65-430C-AAED-498F12F24722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while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(i.hasNext()) {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cheduleInfo schedule = (ScheduleInfo) i.next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DynamicInfoModel info = </a:t>
            </a: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new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DynamicInfoModel(schedule.getDynamicInfo(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.getDescription(), schedule.getDynamicInfo(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.getLanguage().getId(), schedule.getArea()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.getName()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ystem.out.println("DynamicInfo:" + info.getDescription()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infoModel.add(info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HibernateUtil.closeSession(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if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(!dynamicInfos.isEmpty()) {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ystem.out.println("Dynamic Info entrou no if carai"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server.sendDynamicInfos(infoModel);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886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429A-040C-4DE7-AE26-88AFD86A3F88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sumo da Atividade  -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 Dúvida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m relação ao enquadramento de alguns trechos de código ao Concern Exato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Tagger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stável: Deixava de marcar sem motivo claro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9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92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944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8F4C-F3A0-4D90-A643-B6B077401B02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étricas Gerad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756108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5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1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003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4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440-1D9E-4932-97F8-F12B02BF461E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étricas Gerad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DOSC, DOSM, CDC, CDO, SLOC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227160" y="3160800"/>
            <a:ext cx="75848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0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06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3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A19-B82A-4246-9729-26CD585362DE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Que </a:t>
            </a: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s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vocês acham que são crosscutting? O de Persistência, segurança, E/S e Evento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Em relação a que outro </a:t>
            </a: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?  A GUI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As métricas foram úteis? Sim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06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120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1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42DC-95E8-43D4-8EEF-EB3AA5A1890F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3300"/>
                </a:solidFill>
                <a:latin typeface="Times New Roman"/>
              </a:rPr>
              <a:t>Dúvidas?</a:t>
            </a:r>
            <a:endParaRPr b="0" lang="en-US" sz="6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3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8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0CB9-CB90-4212-B04C-E32694FA32AA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15000"/>
              </a:lnSpc>
              <a:spcBef>
                <a:spcPts val="700"/>
              </a:spcBef>
              <a:buClr>
                <a:srgbClr val="663300"/>
              </a:buClr>
              <a:buFont typeface="N Helvetica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Lucida Grande"/>
                <a:ea typeface="Lucida Grande"/>
              </a:rPr>
              <a:t>Wi!ser WeServer: Sistema de gerenciamento de conteúdo do Wi!ser.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15000"/>
              </a:lnSpc>
              <a:spcBef>
                <a:spcPts val="1001"/>
              </a:spcBef>
              <a:buClr>
                <a:srgbClr val="663300"/>
              </a:buClr>
              <a:buFont typeface="N Helvetica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Lucida Grande"/>
                <a:ea typeface="Lucida Grande"/>
              </a:rPr>
              <a:t>Wi!ser: Sistema que provê informações sensíveis à contexto (localidade) - Projetão 2006-2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9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4B95-88A8-4422-B0AE-09CF4B284327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O Sistema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sumo da Atividad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Métricas Gerada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nclusõ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Referência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5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9333-83C2-4BB3-99AF-F3E2A2D21C2D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uncionalidades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ugar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tividade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rviç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Informações Dinâmica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Usuári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* Referentes a inserção, remoção, atualização e busca.</a:t>
            </a:r>
            <a:endParaRPr b="0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31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364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CE1-1C63-4A96-9392-5FE1F0BC49B8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 Sistem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úmero de Classes: 161 classes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úmero de Linhas de Código: 22.256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36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AD95-852A-49AC-A157-66710CF6E6BD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 Italic"/>
                <a:ea typeface="Times New Roman Italic"/>
              </a:rPr>
              <a:t>Concerns Escolhi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ista dos </a:t>
            </a:r>
            <a:r>
              <a:rPr b="0" lang="en-US" sz="3200" spc="-1" strike="noStrike">
                <a:solidFill>
                  <a:srgbClr val="663300"/>
                </a:solidFill>
                <a:latin typeface="Times New Roman Italic"/>
                <a:ea typeface="Times New Roman Italic"/>
              </a:rPr>
              <a:t>Concerns: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Negóci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Persistênci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ntrole de Concorrência 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GUI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gurança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vento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E/S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1" marL="784080" indent="-2854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42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480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FE1E-0056-4385-91CC-00667A5472F9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 Italic"/>
                <a:ea typeface="Times New Roman Italic"/>
              </a:rPr>
              <a:t>Concerns  Descartado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Logging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onceitos da aplicaçã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asos de uso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48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38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2D1-B0EB-4FFF-981F-CCB7CC2CAA3D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Número de linhas de código marcadas: 22.256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empo total levado para marcar: 7h 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54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28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533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0" y="838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1143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1447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1752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0" y="2057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23623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26668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0" y="29718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32767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35812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0" y="38862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41911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44956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0" y="48006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51055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54100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0" y="57150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01992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6324480"/>
                <a:ext cx="9142560" cy="180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0" y="6629400"/>
                <a:ext cx="9142560" cy="144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8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3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38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143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47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752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57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62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66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971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276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581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86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91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495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006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055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100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150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0199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3244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294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343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388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5438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487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1532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45820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763120" y="0"/>
                <a:ext cx="144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9067680" y="0"/>
                <a:ext cx="1800" cy="685656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96" name="" descr=""/>
            <p:cNvPicPr/>
            <p:nvPr/>
          </p:nvPicPr>
          <p:blipFill>
            <a:blip r:embed="rId1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"/>
          <p:cNvSpPr txBox="1"/>
          <p:nvPr/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B88-F321-4CDC-B7E7-92B521F1E7A2}" type="slidenum">
              <a:rPr b="0" lang="en-US" sz="1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Resumo da Atividade</a:t>
            </a:r>
            <a:br>
              <a:rPr sz="4000"/>
            </a:b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Exemplo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3200" tIns="50760" bIns="50760" anchor="t">
            <a:normAutofit/>
          </a:bodyPr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 Bold"/>
                <a:ea typeface="Times New Roman Bold"/>
              </a:rPr>
              <a:t>Concern: Segurança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-&gt; Verificação pra saber se o usuário está logado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User userSession = (User) request.getSession().getAttribute(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ystemConstants.USER);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f (userSession == null) {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return actionMapping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.findForward(SystemConstants.FORWARD_NOT_LOGGED);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84120" indent="-34272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  <a:ea typeface="ヒラギノ明朝 ProN W3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xp</dc:creator>
  <dc:description/>
  <dc:language>en-US</dc:language>
  <cp:lastModifiedBy/>
  <cp:revision>0</cp:revision>
  <dc:subject/>
  <dc:title>Programação Orientada a Aspectos </dc:title>
</cp:coreProperties>
</file>