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1007-DF27-41BC-B5F8-D57A6C450D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00-0b-6ª-d4-e3-aa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D4B-F77B-47F8-AA81-50B323E0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BEB-86D1-4F15-BED5-BF41D8F1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825-FC09-4DB5-84B6-288013CC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4F5-5DEA-49EE-8AF0-2348E886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45E7-3286-4F5A-B7AB-8B30CECE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87CD-D6B6-4C8A-BAA8-74393E8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C61-969B-405C-8192-B21F46B0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582A-D073-485A-A4F3-7CA771BB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E39A-26C4-4BF8-9C76-024F93B8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6080-08F2-4009-8F75-C330A20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E4A4-107B-49D9-9C8D-04A63A9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EE9-3115-4042-8F78-E54D63A0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061-722B-4389-B5EF-2CE0E4C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9BA8-BC15-4D0C-A917-C268ADD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0F9C-A4AA-40C7-BFF5-4FBF532E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60A-4E24-4FDC-9D1C-B3DAC372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A96B-A7C2-4F8C-8DFA-015150F8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265-FC46-43FE-A794-B765561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AFB1-2F97-42EE-BCC5-8360144E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E14-29CB-4276-A106-3857B655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B63-A856-478A-B7ED-1A4B243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B5E-FF2C-45EF-80B0-09F7204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FD6F-BA72-4FA5-8549-5C88313C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E08-5BA7-4D49-8DAF-53E294FA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976E-6585-44EC-8649-264F68473D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7ED2-FE2E-44BE-B2B8-FA533F4032BA}" type="slidenum">
              <a:rPr b="0" lang="pt-BR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6600"/>
                </a:solidFill>
                <a:latin typeface="Arial"/>
              </a:rPr>
              <a:t>Programação Orientada a Aspectos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22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Identificando  </a:t>
            </a:r>
            <a:r>
              <a:rPr b="0" i="1" lang="pt-BR" sz="2800" spc="-1" strike="noStrike">
                <a:solidFill>
                  <a:srgbClr val="663300"/>
                </a:solidFill>
                <a:latin typeface="Times New Roman"/>
              </a:rPr>
              <a:t>Crosscutting Concerns</a:t>
            </a: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 e Calculando métrica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3300"/>
                </a:solidFill>
                <a:latin typeface="Times New Roman"/>
              </a:rPr>
              <a:t>Professor: Paulo Borba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663300"/>
                </a:solidFill>
                <a:latin typeface="Times New Roman"/>
              </a:rPr>
              <a:t>Equipe: David Aragão, Filipe Cesar, Henrique Sebra, Rilter Tavares</a:t>
            </a: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Concern: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/S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76341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Concern: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ventos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2654280"/>
            <a:ext cx="75610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Concerns: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Persistência, Evento e</a:t>
            </a:r>
            <a:r>
              <a:rPr b="1" i="1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Comunicação. </a:t>
            </a:r>
            <a:r>
              <a:rPr b="1" i="1" lang="pt-BR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7129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6600"/>
                </a:solidFill>
                <a:latin typeface="Times New Roman"/>
              </a:rPr>
              <a:t>Resumo da Atividade  -</a:t>
            </a:r>
            <a:br>
              <a:rPr sz="4000"/>
            </a:br>
            <a:r>
              <a:rPr b="0" lang="pt-BR" sz="4000" spc="-1" strike="noStrike">
                <a:solidFill>
                  <a:srgbClr val="996600"/>
                </a:solidFill>
                <a:latin typeface="Times New Roman"/>
              </a:rPr>
              <a:t> Dúvida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Em relação ao enquadramento de alguns trechos de código ao Concern Exato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3300"/>
                </a:solidFill>
                <a:latin typeface="Times New Roman"/>
              </a:rPr>
              <a:t>ConcernTagger </a:t>
            </a: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instável: Deixava de marcar sem motivo claro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Métricas Gerad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33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1" name="Picture 5" descr="concerns(1)"/>
          <p:cNvPicPr/>
          <p:nvPr/>
        </p:nvPicPr>
        <p:blipFill>
          <a:blip r:embed="rId1"/>
          <a:stretch/>
        </p:blipFill>
        <p:spPr>
          <a:xfrm>
            <a:off x="250920" y="2852640"/>
            <a:ext cx="756108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Métricas Gerad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DOSC, DOSM, CDC, CDO, SLOC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34" name="Picture 4" descr="métricas(1)"/>
          <p:cNvPicPr/>
          <p:nvPr/>
        </p:nvPicPr>
        <p:blipFill>
          <a:blip r:embed="rId1"/>
          <a:stretch/>
        </p:blipFill>
        <p:spPr>
          <a:xfrm>
            <a:off x="227160" y="3160800"/>
            <a:ext cx="75848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Conclusões Parte 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Que </a:t>
            </a:r>
            <a:r>
              <a:rPr b="0" i="1" lang="pt-BR" sz="3200" spc="-1" strike="noStrike">
                <a:solidFill>
                  <a:srgbClr val="663300"/>
                </a:solidFill>
                <a:latin typeface="Times New Roman"/>
              </a:rPr>
              <a:t>concerns</a:t>
            </a: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 são crosscutting? O de Persistência, segurança, E/S e Evento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Em relação a que outro </a:t>
            </a:r>
            <a:r>
              <a:rPr b="0" i="1" lang="pt-BR" sz="3200" spc="-1" strike="noStrike">
                <a:solidFill>
                  <a:srgbClr val="663300"/>
                </a:solidFill>
                <a:latin typeface="Times New Roman"/>
              </a:rPr>
              <a:t>concern</a:t>
            </a: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?  A GUI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As métricas foram úteis? Sim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Estão corretas? Talvez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Por que?  1ª Experiência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Identificação de </a:t>
            </a:r>
            <a:r>
              <a:rPr b="0" i="1" lang="pt-BR" sz="4400" spc="-1" strike="noStrike">
                <a:solidFill>
                  <a:srgbClr val="996600"/>
                </a:solidFill>
                <a:latin typeface="Times New Roman"/>
              </a:rPr>
              <a:t>concerns</a:t>
            </a: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 através da detecção de código duplicado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Matriz de Clon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40" name="Espaço Reservado para Conteúdo 3" descr="Grafico.GIF"/>
          <p:cNvPicPr/>
          <p:nvPr/>
        </p:nvPicPr>
        <p:blipFill>
          <a:blip r:embed="rId1"/>
          <a:stretch/>
        </p:blipFill>
        <p:spPr>
          <a:xfrm>
            <a:off x="1547640" y="1360440"/>
            <a:ext cx="52390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Exemplo - Repositóri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42" name="Espaço Reservado para Conteúdo 3" descr="Exemplo.GIF"/>
          <p:cNvPicPr/>
          <p:nvPr/>
        </p:nvPicPr>
        <p:blipFill>
          <a:blip r:embed="rId1"/>
          <a:stretch/>
        </p:blipFill>
        <p:spPr>
          <a:xfrm>
            <a:off x="1714680" y="1403280"/>
            <a:ext cx="492912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66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Calibri"/>
                <a:ea typeface="Calibri"/>
              </a:rPr>
              <a:t>Wi!ser WebServer: Sistema de gerenciamento de conteúdo do Wi!ser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6633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Calibri"/>
                <a:ea typeface="Calibri"/>
              </a:rPr>
              <a:t>Wi!ser: Sistema que provê informações sensíveis à contexto (localidade) – “Projetão” 2006-2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Exemplo – Segurança x GU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44" name="Espaço Reservado para Conteúdo 5" descr="Exemplo Segurança x GUI.GIF"/>
          <p:cNvPicPr/>
          <p:nvPr/>
        </p:nvPicPr>
        <p:blipFill>
          <a:blip r:embed="rId1"/>
          <a:stretch/>
        </p:blipFill>
        <p:spPr>
          <a:xfrm>
            <a:off x="228600" y="2660760"/>
            <a:ext cx="7772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Parâmetr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46" name="Espaço Reservado para Conteúdo 3" descr="Métricas.GIF"/>
          <p:cNvPicPr/>
          <p:nvPr/>
        </p:nvPicPr>
        <p:blipFill>
          <a:blip r:embed="rId1"/>
          <a:stretch/>
        </p:blipFill>
        <p:spPr>
          <a:xfrm>
            <a:off x="2122560" y="2060640"/>
            <a:ext cx="40338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Quantidade de Clon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Total de clones: 244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Classes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Fachada: 61 (25%)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CategoryActivityRepository: 6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SubAreaRegisterAction: 16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Concerns Associad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GUI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Persistênci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Seguranç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Quantidade de Clones por Concer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Repositório: 41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GUI e Segurança: 104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663300"/>
                </a:solidFill>
                <a:latin typeface="Times New Roman"/>
              </a:rPr>
              <a:t>Dúvidas?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O Sistem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3300"/>
                </a:solidFill>
                <a:latin typeface="Times New Roman"/>
              </a:rPr>
              <a:t>Concern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Resumo da Atividad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Métricas Gerada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Conclusões sobre métrica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Identificando Clon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Referência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Funcionalidades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Lugar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Atividad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Serviç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Informações Dinâmica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Usuári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663300"/>
                </a:solidFill>
                <a:latin typeface="Times New Roman"/>
              </a:rPr>
              <a:t>* Referentes a inserção, remoção, atualização e busca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Número de Classes: 161 classes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Número de Linhas de Código: 22.256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996600"/>
                </a:solidFill>
                <a:latin typeface="Times New Roman"/>
              </a:rPr>
              <a:t>Concerns Escolhid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663300"/>
                </a:solidFill>
                <a:latin typeface="Times New Roman"/>
              </a:rPr>
              <a:t>Lista dos </a:t>
            </a:r>
            <a:r>
              <a:rPr b="1" i="1" lang="pt-BR" sz="3200" spc="-1" strike="noStrike">
                <a:solidFill>
                  <a:srgbClr val="663300"/>
                </a:solidFill>
                <a:latin typeface="Times New Roman"/>
              </a:rPr>
              <a:t>Concerns</a:t>
            </a:r>
            <a:r>
              <a:rPr b="0" i="1" lang="pt-BR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Negóci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Persistênci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Controle de Concorrência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GUI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Seguranç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Event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E/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3300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996600"/>
                </a:solidFill>
                <a:latin typeface="Times New Roman"/>
              </a:rPr>
              <a:t>Concerns  Descartad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Logging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Conceitos da aplicação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Casos de uso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Número de linhas de código marcadas: ±13.000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3300"/>
                </a:solidFill>
                <a:latin typeface="Times New Roman"/>
              </a:rPr>
              <a:t>Tempo total levado para marcar: 7h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3300"/>
                </a:solidFill>
                <a:latin typeface="Times New Roman"/>
              </a:rPr>
              <a:t>Concern: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Segurança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3300"/>
                </a:solidFill>
                <a:latin typeface="Times New Roman"/>
              </a:rPr>
              <a:t>Verificação pra saber se o usuário está logado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7634160" cy="19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2:22:12Z</dcterms:created>
  <dc:creator>winxp</dc:creator>
  <dc:description/>
  <cp:keywords/>
  <dc:language>en-US</dc:language>
  <cp:lastModifiedBy>Preferred Customer</cp:lastModifiedBy>
  <dcterms:modified xsi:type="dcterms:W3CDTF">2008-04-07T05:45:48Z</dcterms:modified>
  <cp:revision>48</cp:revision>
  <dc:subject/>
  <dc:title>Programação Orientada a Aspecto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6</vt:lpwstr>
  </property>
</Properties>
</file>