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413A-20A6-4905-8DF3-33AFE6DD1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F4C5-41A2-4D32-BC6C-0C672BEF6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FBB0-1BA4-4BAA-87D3-3F2B46DBA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56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8424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87F2-9B03-4465-AB64-0FA5546F0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E19E-0AC3-4BB5-818D-131056890B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1FDC-8E2D-4991-BC98-B48C1A5DBE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8C332-628D-4CA2-9F51-0D1CE38AB1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CD86-184D-43BF-9F1C-F9A162C2A6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E88B-4C4B-4C55-B018-45689B47BA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81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4B80-A18C-4057-A10C-3899D6D2AE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B66A-E8A5-43AF-B5D2-AA0C7F6A4B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D77A-15EE-4D66-9FD6-6F19A2C13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DFBF-D0B9-4BE7-9281-D67C2AC09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5ECF-32A1-48B0-9F34-BA3A49EA95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B66A-0618-4B9F-81BF-B7C0DD1983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ABEE-93D0-464F-B158-74AD56FBE5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856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8424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DD103-889C-4603-9813-5DB8BE0FAD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D36C-6DEF-4727-B247-3B0401447D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26B-D0F9-44EC-91A8-1EE7F74793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376-351E-4934-899E-830596AA56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E96-380D-4F6A-BC06-62CE80FC68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92C-86B9-41E5-8E05-11D0BBDA0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D522-A413-47EE-AD81-CEEDDD1EAF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81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CCA-0D07-4A86-B0CF-E74E830328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E40-0AA3-43E7-8EE4-E282882B30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5C9-4391-476B-8DD2-CAED94CB9D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4CA-945F-4E77-8DB5-67886DDFA3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4F8-A24B-414D-980E-2BBB901BFC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3B1-B9E6-40B1-B789-16554E90E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28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856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48424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828-ACBA-4C3E-B6E1-203E097AE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8846-1216-46DA-BE3D-DAEB3133E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AA21-D9B4-4E7B-AAD7-226BB352D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81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2DE6-9999-4DB5-8D86-46F8D45D1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B191-3BB6-4909-B14B-413ED245F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D8FD-D0D0-4484-BDB7-123E12A3C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29FE-3EA5-4292-9F73-3E7982EC4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53028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9302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3874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573C-C092-4101-9951-C867BAECE262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63180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03176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48896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194616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194616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194616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B65E-FCF9-4B8D-95D6-2F586453A172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53028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9302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3874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1844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71AE-785C-442C-B4BF-DB5807AB51B8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1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15314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  <a:ea typeface="Arial"/>
              </a:rPr>
              <a:t>Programação Orientada a Aspectos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3573360"/>
            <a:ext cx="6400800" cy="32846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Demonstração dos resultad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Professor: Paulo Borba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54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Equipe: David Aragão, Filipe Cesar, Henrique Sebra, Rilter Tavar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6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34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686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úmero de Classes: 161 classe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nt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úmero de Linhas de Código: 22.256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epoi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úmero de Linhas de Código: 19.466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91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Dúvidas?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7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3168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31680" tIns="50760" bIns="50760" anchor="t">
            <a:normAutofit/>
          </a:bodyPr>
          <a:p>
            <a:pPr marL="384120" indent="-342720">
              <a:lnSpc>
                <a:spcPct val="115000"/>
              </a:lnSpc>
              <a:spcBef>
                <a:spcPts val="700"/>
              </a:spcBef>
              <a:buClr>
                <a:srgbClr val="6633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Lucida Grande"/>
                <a:ea typeface="Lucida Grande"/>
              </a:rPr>
              <a:t>Wi!ser WebServer: Sistema de gerenciamento de conteúdo do Wi!ser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15000"/>
              </a:lnSpc>
              <a:spcBef>
                <a:spcPts val="1001"/>
              </a:spcBef>
              <a:buClr>
                <a:srgbClr val="6633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Lucida Grande"/>
                <a:ea typeface="Lucida Grande"/>
              </a:rPr>
              <a:t>Wi!ser: Sistema que provê informações sensíveis à contexto (localidade) – “Projetão” 2006-2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3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3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ncerns Associad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factorings Realizad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Quantidade de Clon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atriz de Clon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8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ncerns Associa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GUI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ersistênci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egóci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34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7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factoring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factorings do Eclip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o Pacote Repositório - Extração de Métodos: 60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o Pacote Service - Extração de Métodos: 6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o Pacote Activity - Extração de Métodos: 6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1960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4D8-F9FB-49B5-8C85-FE75134FC8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457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factoring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factorings com Aspect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acote GUI - Around - 109 Marcaçõ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acote Business - Before - 96 Marcaçõ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acote Fachada - Before, After-Returning, After-Throwing - 106 Marcaçõ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19600" y="6248520"/>
            <a:ext cx="17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9D6-6D9C-4B41-91AD-532E84F83A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46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Quantidade de Clon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t">
            <a:normAutofit/>
          </a:bodyPr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nte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otal de clones: 244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Classes: 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Fachada: 61 (25%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ategoryActivityRepository: 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ubAreaRegisterAction: 16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967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Depoi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Total de clones: 150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97040" indent="-2858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Classes: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Fachada: 2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ategoryActivityRepository: 5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97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ubAreaRegisterAction: 8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51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7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triz de Clones - Ant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5207040" cy="52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57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-6480" tIns="0" bIns="0" anchor="ctr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atriz de Clones - Depo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1523880" y="1397160"/>
            <a:ext cx="5207040" cy="520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xp</dc:creator>
  <dc:description/>
  <dc:language>en-US</dc:language>
  <cp:lastModifiedBy/>
  <cp:revision>0</cp:revision>
  <dc:subject/>
  <dc:title>Programação Orientada a Aspectos </dc:title>
</cp:coreProperties>
</file>