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587A-C828-4D3E-B25E-21BF2AB8D2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973D-64CB-44FA-A9C4-D8F413F1BFD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fluxo de eventos pode ser visto com duplo clique nos Casos de Uso Efetuar Login, Efetuar Pagamento do Qualiti Card e Realizar DOC (pacote Use Case Vie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serve o exemplo para os casos de uso Efet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ogin e Efetuar Pagamento do Qualiti C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30C3-A53E-4680-9D42-36B27773DD1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eja os diagramas EfetuarLogin e EfetuarPagamentoQualitiCard e faça o exercício no diagrama Realizar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62E0-23C8-4B4F-8842-0879B6D4D56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eja os diagramas EfetuarLogin e EfetuarPagamentoQualitiCard e faça o exercício no diagrama Realizar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0E6D-FC71-44E6-98B6-99052D7753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eja os diagramas EfetuarLogin e EfetuarPagamentoQualitiCard e faça o exercício no diagrama Realizar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6083-54BA-4311-8E45-9489FD64D6DD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r caso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E7A8-13C1-4E3C-AF77-FF2CA1A1EE51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r caso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8092-C584-4E42-9071-77FCC557D0E9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r caso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2EB8-DE9D-438C-B7FC-19B45F76B083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r caso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68E-107C-44C3-BE25-1226FE16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788-035F-4F05-A5DE-A18B1369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607-6D2F-48BB-ADF4-2C53A72E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D2F-CB77-44F8-891E-4BAE1237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BB39-12DD-40B5-8858-C8762416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159F-BC27-4264-9F32-BF0F2643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1906-E75C-4EF9-91A8-7252538C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3FF3-2D2D-4397-A3EB-ABDEFDD2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8E9-72F6-4E57-A6AD-53222C6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4EEF-D192-4F6D-A754-BA28EAE4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5549-69A5-49E1-A352-4C71800B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E7E-6B22-44FC-A993-0251BE10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B313-EB4F-4BD2-913D-7B6E326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849A-B941-4620-B6FA-1F7CF11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8260-EAEB-4024-AE4A-798FD27B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C701-EF3E-4B88-8FDA-8BF38C54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92F9-6D17-4856-9978-723CC9A1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B48-FBA6-44A0-8E90-A1D28290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A12-50A0-44E5-9CDA-CFD00B0F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61B-353F-4D90-B4DF-0CE22B7E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77D-8EB6-48B7-8902-A7D17D8D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AF3-4A2D-4188-AC29-1040B4F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3F1-3BCC-4BB9-9F49-94FDECB7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B7A-88E1-444C-9DFA-C216AD70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8E08-C74D-49E6-9C8E-FFDF0BA2836B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E7CD-DA5A-4DD9-972F-3795FE5F4717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tb@cin.ufpe.br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0066"/>
                </a:solidFill>
                <a:latin typeface="Arial"/>
              </a:rPr>
              <a:t>Aula Prática 1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ila Sá – 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ado em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tor Braga – </a:t>
            </a:r>
            <a:r>
              <a:rPr b="0" lang="pt-BR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tb@cin.ufpe.b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1. Encontrar classes de anál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las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1: Encontrar classes de análi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 Artefatos de requisitos do QIB (especialmente o fluxo de eventos do caso de uso Realizar DO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: Identificação das classes de análise, com seus estereótipos e breve descri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brir arquivo: 1classesDeAnalise.md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uração: 15 m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sposta: </a:t>
            </a: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classesDeAnalise.md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569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ara cada caso de u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2. Identificar persist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las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2: </a:t>
            </a: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Identificar persistênci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rtefatos de requisitos, especialmente a descrição dos requisitos não funcion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asses de ent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entificação das classes que deverão ser persist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r classes de cada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uração: 10m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sposta: 2persistencia</a:t>
            </a: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.md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0" y="1814400"/>
            <a:ext cx="914400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ara cada clas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. Distribuir comportamento entre a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Resposta: </a:t>
            </a: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3diagramasInteracao.md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ara cada clas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. Descrever respons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04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Passo 4:</a:t>
            </a:r>
            <a:r>
              <a:rPr b="1" lang="pt-BR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Descrever responsabilidad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rtefatos de requisitos do QIB, especialmente o fluxo de eventos do caso de uso Realizar D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classes de análise identificadas no exercício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 de interação para o caso 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PC com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uração: 20 m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Analisar Casos de U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68360" y="1620720"/>
          <a:ext cx="83469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0720"/>
                    <a:ext cx="83469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8"/>
          <p:cNvSpPr/>
          <p:nvPr/>
        </p:nvSpPr>
        <p:spPr>
          <a:xfrm>
            <a:off x="1187280" y="2852640"/>
            <a:ext cx="194472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330066"/>
                </a:solidFill>
                <a:latin typeface="Arial"/>
              </a:rPr>
              <a:t>Resposta: 4relacionamentosAtributos.md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7559640" cy="48675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664920" y="62308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 diagrama de seqüê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ara cada clas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5. Descrever atributos e associ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6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330066"/>
                </a:solidFill>
                <a:latin typeface="Arial"/>
              </a:rPr>
              <a:t>Passo 5: Exercício: VOPC com relacionamentos e atribut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asses de análise do caso de uso Realizar DOC com estereótipos e responsabilidad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s de interação do caso 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PCs desenvolvidos no exercício anteri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PCs com relacionamentos e atributos. Incluir multiplicidade e navegabilidade dos relacion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uração: 20 m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sposta: 5arquitetura.md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1300320"/>
            <a:ext cx="860436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las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6. Revisar os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6: Revisar Resulta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erificar se as classes de análise satisfazem os requisitos funcio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nificar as classes de anál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erificar se todo o modelo está consistente entre si e com os requisi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are seus resultados com o do arquivo 5arquitetura.md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ncontrar as classes iniciais do sistema(classes de análise) e distribuir comportamento dos casos de uso entre e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ara cada classe descrev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sponsabilidad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ribu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soci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Visão Geral dos artefa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585720" y="1719360"/>
            <a:ext cx="8163000" cy="451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468360" y="1484280"/>
            <a:ext cx="1366920" cy="136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851280" y="1484280"/>
            <a:ext cx="1584360" cy="151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álise e Projeto OO com UML e Padrões|  </a:t>
            </a:r>
            <a:fld id="{B6FB23F9-0EBF-42CB-8FF2-D93F565AD16D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rcício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– Qualiti Internet Ba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efatos 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requisit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 Qualiti Internet Banking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, espec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nte o fluxo de eventos do caso de uso RealizarDoc (ver próximos slid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entificação das classes de análise, com seus estereótipos e breve descr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ject 0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619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álise e Projeto OO com UML e Padrões|  </a:t>
            </a:r>
            <a:fld id="{B9412908-712B-43AB-BBA9-36553007C7A7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QIB – Realizar D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scriçã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38080" y="1981080"/>
            <a:ext cx="74678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e caso de uso é responsável por realizar a transferência de valores entre uma conta deste banco para uma conta de um outro banco. A transferência pode ocorrer entre contas com mesmo CPF ou CPFs disti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ré-cond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o cliente deve estar conectado ao sistema (ter efetuado o log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ós-cond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o valor da transferência foi debitado da conta do cliente, o DOC foi enviado à operadora de DOC e a transação foi regist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álise e Projeto OO com UML e Padrões|  </a:t>
            </a:r>
            <a:fld id="{E11FB100-7654-4ECE-98C1-8AE31440422C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QIB – Realizar D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luxo de eventos prin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1676520"/>
            <a:ext cx="754380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. O cliente informa os dados necessários para a realização do DO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Banco, agência e conta dest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PF do favoreci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Valor do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. O sistema recupera a conta bancária do cliente lo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. O sistema verifica se o saldo da conta do cliente é suficiente para a realização do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. O sistema envia o DOC à opera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. Debita-se o valor da co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. O QIB registra a ocorrência desta transação (um DO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. Emite-se um comprovante da mesma para o usuário, contendo os dados da conta de origem e destino, assim como a data e valor do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álise e Projeto OO com UML e Padrões|  </a:t>
            </a:r>
            <a:fld id="{1A054712-B3C7-412F-B8CA-963C4E24F8C5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QIB – Realizar D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luxo de eventos secundá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09480" y="1828800"/>
            <a:ext cx="7086600" cy="28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uxo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1.</a:t>
            </a:r>
            <a:r>
              <a:rPr b="0" lang="pt-PT" sz="1800" spc="-1" strike="noStrike">
                <a:solidFill>
                  <a:srgbClr val="d8d8ec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O cliente informa os dados necessários para a realização do D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  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- Banco, agência e conta destin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  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- CPF do favoreci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  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- Valor do 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2. O sistema recupera a conta bancária do cliente log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3. O sistema verifica se o saldo da conta do cliente é suficiente para a realização do DO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4. O sistema envia o DOC à operad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Debita-se o valor da co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6. O QIB registra a ocorrência desta transação (um DO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7. Emite-se um comprovante da mesma para o usuário, contendo os dados da conta de origem e destino, assim como a data e valor do 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3886200"/>
            <a:ext cx="7772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uxo secund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asso 3, se o saldo disponível na conta do usuário for menor que o valor do DOC, o sistema informa que o saldo é insuficiente e retorna ao passo 1 do fluxo principal de ev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asso 4, se a operadora de DOC estiver inativa ou se ocorrer algum erro de comunicação que impeça a efetivação da transação, o sistema emite uma mensagem para o cliente e aborta a trans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m qualquer momento o usuário pode cancelar a ope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ara cada caso de u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. Encontrar classes de anál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2. Identificar persistê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ara cada clas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3. Distribuir comportamento entre as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4. Descrever responsabil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5. Descrever atributos e associ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6. Revisar os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0:47:22Z</dcterms:created>
  <dc:creator>Vitor Braga</dc:creator>
  <dc:description/>
  <dc:language>en-US</dc:language>
  <cp:lastModifiedBy>Felipe</cp:lastModifiedBy>
  <dcterms:modified xsi:type="dcterms:W3CDTF">2010-08-31T10:44:43Z</dcterms:modified>
  <cp:revision>19</cp:revision>
  <dc:subject/>
  <dc:title>Aula Prática 1</dc:title>
</cp:coreProperties>
</file>