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AD7-D734-42E7-9EEF-52922082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610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707-AEA7-4CE2-BDB8-A058456A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8390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2FD-4E01-44B4-A0BC-9E4BD4E7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8390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8390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7F9B-8312-4AAD-8625-875719B1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132-44B0-4CDF-8901-1B15C319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121-67CA-460E-9DB0-2B5D92C5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C42-5E6D-499B-B95E-E629B61E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EB29-4B31-4646-92A9-6AE2FBA7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EC7F-4BB3-47DF-B7DF-87F1047D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33D-0A5C-4A4F-940C-10EC3AA1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8390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2A5-23D0-4C6F-A205-A9F14DDC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610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35A-B0FA-49DB-8618-472128BB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6395-5419-4367-B750-4B8A42FFA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00cc99"/>
                </a:solidFill>
                <a:latin typeface="Comic Sans MS"/>
              </a:rPr>
              <a:t>Threads</a:t>
            </a:r>
            <a:endParaRPr b="0" lang="en-US" sz="72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Raimundo da Silva Barreto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Cin/UFPE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Compilando e Executand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cc exemplo0.c –o exemplo0 –lpthread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xemplo0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Esperando por uma thread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pthread_join (pthread_t thread,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void **value_ptr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void *exit_status;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join (exemplo1, NULL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join (exemplo2, NULL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join(thread_ID, &amp;exit_status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cc99"/>
                </a:solidFill>
                <a:latin typeface="Comic Sans MS"/>
              </a:rPr>
              <a:t>Retorn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ndo Resultados</a:t>
            </a:r>
            <a:endParaRPr b="0" lang="en-US" sz="40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void *thread_function (void *)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ar *buffer=(char *) malloc (64) 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turn buffer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void *exit_status; 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ar *thread_result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cc3300"/>
                </a:solidFill>
                <a:latin typeface="Courier New"/>
              </a:rPr>
              <a:t>pthread_join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thread_ID, &amp;</a:t>
            </a:r>
            <a:r>
              <a:rPr b="0" lang="pt-BR" sz="2000" spc="-1" strike="noStrike">
                <a:solidFill>
                  <a:srgbClr val="cc3300"/>
                </a:solidFill>
                <a:latin typeface="Courier New"/>
              </a:rPr>
              <a:t>exit_status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hread_result = (char *)exit_status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 (”result = %s\n", thread_result)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Atributos das Thread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pthread_create() cr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ia uma nova 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thread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com 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atribut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o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s defin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i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os por 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attr.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Atributos d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efault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ão 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us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os se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 attr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é 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NULL.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Default thread creation: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66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pthread_t tid;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66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void *start_func(void *), *arg</a:t>
            </a:r>
            <a:r>
              <a:rPr b="0" lang="en-US" sz="2200" spc="-1" strike="noStrike">
                <a:solidFill>
                  <a:srgbClr val="996633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66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pthread_create(&amp;tid, </a:t>
            </a:r>
            <a:r>
              <a:rPr b="1" lang="pt-BR" sz="2200" spc="-1" strike="noStrike">
                <a:solidFill>
                  <a:srgbClr val="cc3300"/>
                </a:solidFill>
                <a:latin typeface="Courier New"/>
              </a:rPr>
              <a:t>NULL</a:t>
            </a: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, start_func, arg);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This would have the same effect as: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66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pthread_attr_t attr;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3300"/>
                </a:solidFill>
                <a:latin typeface="Courier New"/>
              </a:rPr>
              <a:t>pthread_attr_init(&amp;attr)</a:t>
            </a: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; </a:t>
            </a:r>
            <a:r>
              <a:rPr b="0" lang="en-US" sz="2200" spc="-1" strike="noStrike">
                <a:solidFill>
                  <a:srgbClr val="996633"/>
                </a:solidFill>
                <a:latin typeface="Courier New"/>
              </a:rPr>
              <a:t>/* </a:t>
            </a: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996633"/>
                </a:solidFill>
                <a:latin typeface="Courier New"/>
              </a:rPr>
              <a:t> */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66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pthread_create(&amp;tid, &amp;attr, start_func, arg);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Cuidado!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hreads são assíncrona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mpartilham memória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Necessidade de exclusão mútua no acesso a variáveis compartilhada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xemplo 1.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Sincroniza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Threads são assíncronas (otimizadas para processamento paralelo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Geralmente compartilham dado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Não é garantido acesso exclusivo a estes dado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Garantia de acesso exclusivo requer </a:t>
            </a:r>
            <a:r>
              <a:rPr b="1" i="1" lang="en-US" sz="3200" spc="-1" strike="noStrike">
                <a:solidFill>
                  <a:srgbClr val="3333cc"/>
                </a:solidFill>
                <a:latin typeface="Courier New"/>
              </a:rPr>
              <a:t>sincronização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 entre thread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Maior granularidade (bloco de código bloqueado) diminui a concorrência.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Sincroniza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Soluções de Compromisso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Semáforo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MUTEX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Variáveis de Condição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Monitores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Mutex e Semáfor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 que é um mutex? O que é um semáforo? Qual a diferença entre eles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Um 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mutex 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é um objeto de 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i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ncroniza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ção que permite somente um processo (ou thread) acessar um bloco de código crítico. </a:t>
            </a:r>
            <a:endParaRPr b="0" lang="en-US" sz="2400" spc="-1" strike="noStrike">
              <a:solidFill>
                <a:srgbClr val="9966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Um semáforo permite que um ou mais processos (ou threads) acessem a um bloco de código crítico.</a:t>
            </a:r>
            <a:endParaRPr b="0" lang="en-US" sz="2400" spc="-1" strike="noStrike">
              <a:solidFill>
                <a:srgbClr val="9966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É atribuido um valor para o contador para indicar o número total de processos que podem entrar na região crítica por vez.</a:t>
            </a:r>
            <a:r>
              <a:rPr b="0" lang="pt-BR" sz="20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 Este contador é decrementado toda vez que é chamado a função </a:t>
            </a:r>
            <a:r>
              <a:rPr b="0" lang="pt-BR" sz="2000" spc="-1" strike="noStrike">
                <a:solidFill>
                  <a:srgbClr val="6600cc"/>
                </a:solidFill>
                <a:latin typeface="Verdana"/>
              </a:rPr>
              <a:t>Wait. </a:t>
            </a:r>
            <a:endParaRPr b="0" lang="en-US" sz="2000" spc="-1" strike="noStrike">
              <a:solidFill>
                <a:srgbClr val="6600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Quando o contador atinge zero, os outros processos terão que esperar. O contador é incrementado toda vez que você release o semáforo.</a:t>
            </a:r>
            <a:endParaRPr b="0" lang="en-US" sz="2000" spc="-1" strike="noStrike">
              <a:solidFill>
                <a:srgbClr val="6600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Um 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sem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áf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o é um mutex 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ú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ltipl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o.</a:t>
            </a:r>
            <a:endParaRPr b="0" lang="en-US" sz="2400" spc="-1" strike="noStrike">
              <a:solidFill>
                <a:srgbClr val="9966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Semáfor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lução não “espera-ocupada” (busy-waiting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emáforo geral e semáforo binár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É um contador inteiro não negativo usado para coordenar acesso a recursos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 valor inicial é o número de recurso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s threads incrementam ou decrementam o contador conforme recursos são adicionados ou removidos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e o contador é igual a zero, significa que não existe mais recursos. Qualquer thread que tente decrementar ficará bloqueada até que o contador seja maior que zero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Implementação de Semáfor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#include &lt;semaphore.h&gt;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sem_init(sem_t *sem,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           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pshared,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           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unsigned int value);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sem_wait(sem_t *sem);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sem_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try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wait(sem_t *sem);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sem_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post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(sem_t *sem);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sem_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destroy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(sem_t *sem);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xemplo2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Introdu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Processos leve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threads = PC + stack + register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processo = programa + recursos (tabela de descrição de arquivos, espaço de endereçamento, ...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criação de threads é barata (custo CPU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threads compartilham recurso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threads economiza memória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Mutex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1. Declare um objeto do tip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mutex_t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2. Inicialize o objeto chamand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mutex_init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3. Chamar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mutex_lock</a:t>
            </a:r>
            <a:r>
              <a:rPr b="0" lang="pt-BR" sz="2800" spc="-1" strike="noStrike">
                <a:solidFill>
                  <a:srgbClr val="000000"/>
                </a:solidFill>
                <a:latin typeface="CMR10;CMTT10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ganhar acesso exclusivo ao objeto compartilhad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4. Chamar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mutex_unlock</a:t>
            </a:r>
            <a:r>
              <a:rPr b="0" lang="pt-BR" sz="2800" spc="-1" strike="noStrike">
                <a:solidFill>
                  <a:srgbClr val="000000"/>
                </a:solidFill>
                <a:latin typeface="CMR10;CMTT10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liberar o acesso exclusivo e permitir que outra thread use o objeto compartilhad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5. Elimine o objeto chamand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mutex_destroy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Mutex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#include &lt;pthread.h&gt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Courier New"/>
              </a:rPr>
              <a:t>pthread_mutex_t  lock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nt  shared_data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void  thread_function(void *arg)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or (i=0;i&lt;102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1024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++i) {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// Ac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 à variável compartilhada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cc3300"/>
                </a:solidFill>
                <a:latin typeface="Courier New"/>
              </a:rPr>
              <a:t>pthread_mutex_lock(&amp;lock)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hared_data++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cc3300"/>
                </a:solidFill>
                <a:latin typeface="Courier New"/>
              </a:rPr>
              <a:t>pthread_mutex_unlock(&amp;lock)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Mutex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main ( void) {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thread_t thread_ID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cc3300"/>
                </a:solidFill>
                <a:latin typeface="Courier New"/>
              </a:rPr>
              <a:t>pthread_mutex_ini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(&amp;lock, NULL)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900" spc="-1" strike="noStrike">
                <a:solidFill>
                  <a:srgbClr val="000000"/>
                </a:solidFill>
                <a:latin typeface="Courier New"/>
              </a:rPr>
              <a:t>pthread_create(&amp;thread_ID, NULL, thread_function, NULL);</a:t>
            </a:r>
            <a:endParaRPr b="1" lang="en-US" sz="19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Try to use the shared data.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i=0 ;i&lt;10; ++i) {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cc3300"/>
                </a:solidFill>
                <a:latin typeface="Courier New"/>
              </a:rPr>
              <a:t>pthread_mutex_lock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(&amp;lock)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 ("value=%d\n",shared_data)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cc3300"/>
                </a:solidFill>
                <a:latin typeface="Courier New"/>
              </a:rPr>
              <a:t>pthread_mutex_unlock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(&amp;lock)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thread_join(thread_ID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// Clean up the mutex when we are finished with it.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cc3300"/>
                </a:solidFill>
                <a:latin typeface="Courier New"/>
              </a:rPr>
              <a:t>pthread_mutex_destroy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&amp;lock)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Jantar dos Filósofo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895480"/>
            <a:ext cx="156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Fil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ósofo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76720" y="2590920"/>
            <a:ext cx="2590560" cy="2514600"/>
            <a:chOff x="3276720" y="2590920"/>
            <a:chExt cx="2590560" cy="2514600"/>
          </a:xfrm>
        </p:grpSpPr>
        <p:sp>
          <p:nvSpPr>
            <p:cNvPr id="94" name=""/>
            <p:cNvSpPr/>
            <p:nvPr/>
          </p:nvSpPr>
          <p:spPr>
            <a:xfrm>
              <a:off x="3276720" y="2590920"/>
              <a:ext cx="2590560" cy="25146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440" y="3352680"/>
              <a:ext cx="914040" cy="914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49440" y="3662280"/>
              <a:ext cx="749160" cy="558720"/>
            </a:xfrm>
            <a:custGeom>
              <a:avLst/>
              <a:gdLst/>
              <a:ahLst/>
              <a:rect l="l" t="t" r="r" b="b"/>
              <a:pathLst>
                <a:path w="472" h="352">
                  <a:moveTo>
                    <a:pt x="186" y="0"/>
                  </a:moveTo>
                  <a:cubicBezTo>
                    <a:pt x="221" y="7"/>
                    <a:pt x="257" y="7"/>
                    <a:pt x="290" y="21"/>
                  </a:cubicBezTo>
                  <a:cubicBezTo>
                    <a:pt x="301" y="26"/>
                    <a:pt x="313" y="40"/>
                    <a:pt x="310" y="52"/>
                  </a:cubicBezTo>
                  <a:cubicBezTo>
                    <a:pt x="304" y="79"/>
                    <a:pt x="232" y="79"/>
                    <a:pt x="197" y="83"/>
                  </a:cubicBezTo>
                  <a:cubicBezTo>
                    <a:pt x="187" y="90"/>
                    <a:pt x="178" y="106"/>
                    <a:pt x="166" y="104"/>
                  </a:cubicBezTo>
                  <a:cubicBezTo>
                    <a:pt x="128" y="97"/>
                    <a:pt x="152" y="44"/>
                    <a:pt x="155" y="31"/>
                  </a:cubicBezTo>
                  <a:cubicBezTo>
                    <a:pt x="210" y="35"/>
                    <a:pt x="281" y="4"/>
                    <a:pt x="321" y="42"/>
                  </a:cubicBezTo>
                  <a:cubicBezTo>
                    <a:pt x="385" y="102"/>
                    <a:pt x="304" y="198"/>
                    <a:pt x="259" y="228"/>
                  </a:cubicBezTo>
                  <a:cubicBezTo>
                    <a:pt x="218" y="187"/>
                    <a:pt x="176" y="155"/>
                    <a:pt x="135" y="114"/>
                  </a:cubicBezTo>
                  <a:cubicBezTo>
                    <a:pt x="39" y="133"/>
                    <a:pt x="26" y="118"/>
                    <a:pt x="0" y="197"/>
                  </a:cubicBezTo>
                  <a:cubicBezTo>
                    <a:pt x="72" y="246"/>
                    <a:pt x="158" y="212"/>
                    <a:pt x="238" y="238"/>
                  </a:cubicBezTo>
                  <a:cubicBezTo>
                    <a:pt x="265" y="317"/>
                    <a:pt x="255" y="279"/>
                    <a:pt x="269" y="352"/>
                  </a:cubicBezTo>
                  <a:cubicBezTo>
                    <a:pt x="367" y="330"/>
                    <a:pt x="361" y="326"/>
                    <a:pt x="435" y="280"/>
                  </a:cubicBezTo>
                  <a:cubicBezTo>
                    <a:pt x="422" y="114"/>
                    <a:pt x="472" y="135"/>
                    <a:pt x="362" y="1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11280" y="3460680"/>
              <a:ext cx="744120" cy="739800"/>
            </a:xfrm>
            <a:custGeom>
              <a:avLst/>
              <a:gdLst/>
              <a:ahLst/>
              <a:rect l="l" t="t" r="r" b="b"/>
              <a:pathLst>
                <a:path w="469" h="466">
                  <a:moveTo>
                    <a:pt x="314" y="438"/>
                  </a:moveTo>
                  <a:cubicBezTo>
                    <a:pt x="291" y="385"/>
                    <a:pt x="267" y="343"/>
                    <a:pt x="241" y="293"/>
                  </a:cubicBezTo>
                  <a:cubicBezTo>
                    <a:pt x="251" y="245"/>
                    <a:pt x="254" y="194"/>
                    <a:pt x="272" y="148"/>
                  </a:cubicBezTo>
                  <a:cubicBezTo>
                    <a:pt x="276" y="138"/>
                    <a:pt x="295" y="131"/>
                    <a:pt x="303" y="138"/>
                  </a:cubicBezTo>
                  <a:cubicBezTo>
                    <a:pt x="321" y="153"/>
                    <a:pt x="324" y="179"/>
                    <a:pt x="334" y="200"/>
                  </a:cubicBezTo>
                  <a:cubicBezTo>
                    <a:pt x="331" y="231"/>
                    <a:pt x="342" y="268"/>
                    <a:pt x="324" y="293"/>
                  </a:cubicBezTo>
                  <a:cubicBezTo>
                    <a:pt x="315" y="306"/>
                    <a:pt x="285" y="287"/>
                    <a:pt x="283" y="272"/>
                  </a:cubicBezTo>
                  <a:cubicBezTo>
                    <a:pt x="280" y="246"/>
                    <a:pt x="298" y="221"/>
                    <a:pt x="314" y="200"/>
                  </a:cubicBezTo>
                  <a:cubicBezTo>
                    <a:pt x="331" y="177"/>
                    <a:pt x="368" y="184"/>
                    <a:pt x="396" y="179"/>
                  </a:cubicBezTo>
                  <a:cubicBezTo>
                    <a:pt x="381" y="117"/>
                    <a:pt x="374" y="139"/>
                    <a:pt x="324" y="107"/>
                  </a:cubicBezTo>
                  <a:cubicBezTo>
                    <a:pt x="298" y="0"/>
                    <a:pt x="335" y="125"/>
                    <a:pt x="293" y="148"/>
                  </a:cubicBezTo>
                  <a:cubicBezTo>
                    <a:pt x="259" y="166"/>
                    <a:pt x="217" y="141"/>
                    <a:pt x="179" y="138"/>
                  </a:cubicBezTo>
                  <a:cubicBezTo>
                    <a:pt x="207" y="60"/>
                    <a:pt x="229" y="77"/>
                    <a:pt x="314" y="86"/>
                  </a:cubicBezTo>
                  <a:cubicBezTo>
                    <a:pt x="304" y="134"/>
                    <a:pt x="301" y="185"/>
                    <a:pt x="283" y="231"/>
                  </a:cubicBezTo>
                  <a:cubicBezTo>
                    <a:pt x="279" y="241"/>
                    <a:pt x="262" y="237"/>
                    <a:pt x="252" y="241"/>
                  </a:cubicBezTo>
                  <a:cubicBezTo>
                    <a:pt x="196" y="262"/>
                    <a:pt x="143" y="285"/>
                    <a:pt x="86" y="303"/>
                  </a:cubicBezTo>
                  <a:cubicBezTo>
                    <a:pt x="69" y="300"/>
                    <a:pt x="49" y="302"/>
                    <a:pt x="34" y="293"/>
                  </a:cubicBezTo>
                  <a:cubicBezTo>
                    <a:pt x="0" y="274"/>
                    <a:pt x="14" y="210"/>
                    <a:pt x="24" y="189"/>
                  </a:cubicBezTo>
                  <a:cubicBezTo>
                    <a:pt x="29" y="179"/>
                    <a:pt x="45" y="182"/>
                    <a:pt x="55" y="179"/>
                  </a:cubicBezTo>
                  <a:cubicBezTo>
                    <a:pt x="93" y="182"/>
                    <a:pt x="150" y="156"/>
                    <a:pt x="169" y="189"/>
                  </a:cubicBezTo>
                  <a:cubicBezTo>
                    <a:pt x="297" y="419"/>
                    <a:pt x="174" y="329"/>
                    <a:pt x="117" y="386"/>
                  </a:cubicBezTo>
                  <a:cubicBezTo>
                    <a:pt x="109" y="394"/>
                    <a:pt x="138" y="379"/>
                    <a:pt x="148" y="376"/>
                  </a:cubicBezTo>
                  <a:cubicBezTo>
                    <a:pt x="189" y="383"/>
                    <a:pt x="239" y="370"/>
                    <a:pt x="272" y="396"/>
                  </a:cubicBezTo>
                  <a:cubicBezTo>
                    <a:pt x="289" y="409"/>
                    <a:pt x="269" y="444"/>
                    <a:pt x="252" y="458"/>
                  </a:cubicBezTo>
                  <a:cubicBezTo>
                    <a:pt x="243" y="466"/>
                    <a:pt x="231" y="445"/>
                    <a:pt x="221" y="438"/>
                  </a:cubicBezTo>
                  <a:cubicBezTo>
                    <a:pt x="262" y="311"/>
                    <a:pt x="204" y="421"/>
                    <a:pt x="365" y="396"/>
                  </a:cubicBezTo>
                  <a:cubicBezTo>
                    <a:pt x="379" y="394"/>
                    <a:pt x="367" y="366"/>
                    <a:pt x="376" y="355"/>
                  </a:cubicBezTo>
                  <a:cubicBezTo>
                    <a:pt x="404" y="323"/>
                    <a:pt x="434" y="316"/>
                    <a:pt x="469" y="303"/>
                  </a:cubicBezTo>
                  <a:cubicBezTo>
                    <a:pt x="462" y="293"/>
                    <a:pt x="451" y="284"/>
                    <a:pt x="448" y="272"/>
                  </a:cubicBezTo>
                  <a:cubicBezTo>
                    <a:pt x="440" y="242"/>
                    <a:pt x="453" y="206"/>
                    <a:pt x="438" y="179"/>
                  </a:cubicBezTo>
                  <a:cubicBezTo>
                    <a:pt x="429" y="163"/>
                    <a:pt x="403" y="165"/>
                    <a:pt x="386" y="158"/>
                  </a:cubicBezTo>
                  <a:cubicBezTo>
                    <a:pt x="405" y="37"/>
                    <a:pt x="410" y="140"/>
                    <a:pt x="303" y="86"/>
                  </a:cubicBezTo>
                  <a:cubicBezTo>
                    <a:pt x="293" y="81"/>
                    <a:pt x="325" y="57"/>
                    <a:pt x="314" y="55"/>
                  </a:cubicBezTo>
                  <a:cubicBezTo>
                    <a:pt x="293" y="51"/>
                    <a:pt x="273" y="69"/>
                    <a:pt x="252" y="76"/>
                  </a:cubicBezTo>
                  <a:cubicBezTo>
                    <a:pt x="228" y="69"/>
                    <a:pt x="204" y="52"/>
                    <a:pt x="179" y="55"/>
                  </a:cubicBezTo>
                  <a:cubicBezTo>
                    <a:pt x="168" y="56"/>
                    <a:pt x="174" y="77"/>
                    <a:pt x="169" y="86"/>
                  </a:cubicBezTo>
                  <a:cubicBezTo>
                    <a:pt x="161" y="101"/>
                    <a:pt x="151" y="116"/>
                    <a:pt x="138" y="127"/>
                  </a:cubicBezTo>
                  <a:cubicBezTo>
                    <a:pt x="116" y="147"/>
                    <a:pt x="89" y="162"/>
                    <a:pt x="65" y="179"/>
                  </a:cubicBezTo>
                  <a:cubicBezTo>
                    <a:pt x="47" y="192"/>
                    <a:pt x="128" y="158"/>
                    <a:pt x="128" y="158"/>
                  </a:cubicBezTo>
                  <a:cubicBezTo>
                    <a:pt x="142" y="148"/>
                    <a:pt x="154" y="135"/>
                    <a:pt x="169" y="127"/>
                  </a:cubicBezTo>
                  <a:cubicBezTo>
                    <a:pt x="178" y="122"/>
                    <a:pt x="200" y="117"/>
                    <a:pt x="200" y="117"/>
                  </a:cubicBezTo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4960" y="3809880"/>
              <a:ext cx="456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28195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342680" y="441972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1480" y="4191120"/>
              <a:ext cx="3042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105160" y="32000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560" y="3048120"/>
              <a:ext cx="45684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7960" y="2819520"/>
              <a:ext cx="45684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440" y="3505320"/>
              <a:ext cx="45684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1280" y="4114800"/>
              <a:ext cx="45684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4419720"/>
              <a:ext cx="45684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011320" y="4495680"/>
            <a:ext cx="149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Fil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ósofo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105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Fil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ósofo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3657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Fil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ósofo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209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Fil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ósofo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Jantar dos Filósofo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rimeira solução tem um problema, qual?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á alguma solução?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Introdu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Threads permite a escrita de programas concorrente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Execução pode ser tanto em uni-processadores quanto em multi-processadore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Podem incrementar desempenho em uni-processadores em aplicações específica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6633"/>
                </a:solidFill>
                <a:latin typeface="Comic Sans MS"/>
              </a:rPr>
              <a:t>file I/O</a:t>
            </a:r>
            <a:endParaRPr b="0" lang="en-US" sz="2800" spc="-1" strike="noStrike">
              <a:solidFill>
                <a:srgbClr val="996633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6633"/>
                </a:solidFill>
                <a:latin typeface="Comic Sans MS"/>
              </a:rPr>
              <a:t>socket I/O</a:t>
            </a:r>
            <a:endParaRPr b="0" lang="en-US" sz="2800" spc="-1" strike="noStrike">
              <a:solidFill>
                <a:srgbClr val="9966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Implementa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uas bibliotecas disponíveis: POSIX e Solari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47920" y="2666880"/>
          <a:ext cx="6095880" cy="3129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S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LA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thread_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r_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thread_cre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r_cre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thread_mutex_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utex_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em_w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ema_w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Implementa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creat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attr_in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ex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joi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mutex_in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mutex_lock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mutex_unlock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cond_in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cond_wa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sem_in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sem_wa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sem_pos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Criação de Thread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diciona um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nova thread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ao processo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funçã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main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é uma thread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rea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compartilha todos os dados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do processo com outras threads, mas ela tem seus próprios atributos e pilha privada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ecebe um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onteiro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para uma função, que é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otina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a ser executada pela nova thread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meça com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thread_creat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e termina quando: (i) a rotina terminar; ou (ii) chamada de pthread_exit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Criação de Thread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#include &lt;pthread.h&gt;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int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 pthread_create(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pthread_t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 *new_thread_ID,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const pthread_attr_t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 *attr,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void *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 (*start_func)(</a:t>
            </a: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void *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), 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void *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arg);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c99"/>
                </a:solidFill>
                <a:latin typeface="Comic Sans MS"/>
              </a:rPr>
              <a:t>Criando Thread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#include &lt;pthreads.h&gt;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void print_message_function( void *ptr )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char *message;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message = (char *) ptr;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printf("%s ", message);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715000" y="2209680"/>
            <a:ext cx="3256560" cy="2743200"/>
            <a:chOff x="5715000" y="2209680"/>
            <a:chExt cx="3256560" cy="2743200"/>
          </a:xfrm>
        </p:grpSpPr>
        <p:grpSp>
          <p:nvGrpSpPr>
            <p:cNvPr id="59" name=""/>
            <p:cNvGrpSpPr/>
            <p:nvPr/>
          </p:nvGrpSpPr>
          <p:grpSpPr>
            <a:xfrm>
              <a:off x="5715000" y="3962520"/>
              <a:ext cx="3256560" cy="990360"/>
              <a:chOff x="5715000" y="3962520"/>
              <a:chExt cx="3256560" cy="990360"/>
            </a:xfrm>
          </p:grpSpPr>
          <p:sp>
            <p:nvSpPr>
              <p:cNvPr id="60" name=""/>
              <p:cNvSpPr/>
              <p:nvPr/>
            </p:nvSpPr>
            <p:spPr>
              <a:xfrm>
                <a:off x="5715000" y="3962520"/>
                <a:ext cx="3200760" cy="990360"/>
              </a:xfrm>
              <a:prstGeom prst="wedgeEllipseCallout">
                <a:avLst>
                  <a:gd name="adj1" fmla="val -61944"/>
                  <a:gd name="adj2" fmla="val -49361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26400" y="4156200"/>
                <a:ext cx="294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necessidade de cas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6019920" y="2209680"/>
              <a:ext cx="2057400" cy="6098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c99"/>
                </a:solidFill>
                <a:latin typeface="Comic Sans MS"/>
              </a:rPr>
              <a:t>Criando Thread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t 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thread1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thread2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*message1 = "Hello"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*message2 = "World"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create(&amp;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thread1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NULL, (void*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print_message_funct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(void*) 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message1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create(&amp;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thread2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NULL, (void*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print_message_funct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(void*) 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message2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2:39:55Z</dcterms:created>
  <dc:creator>RSB</dc:creator>
  <dc:description/>
  <dc:language>en-US</dc:language>
  <cp:lastModifiedBy> </cp:lastModifiedBy>
  <dcterms:modified xsi:type="dcterms:W3CDTF">2004-03-23T16:47:50Z</dcterms:modified>
  <cp:revision>41</cp:revision>
  <dc:subject/>
  <dc:title>Threads</dc:title>
</cp:coreProperties>
</file>