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BD5-27DC-4BF5-BBAF-B64F72DE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80D-533E-44EC-9BCC-BB933FA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D2-7D8C-405E-BEAF-3FE4D737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439-3446-48AA-B199-570A874E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7AF-4182-422E-8471-409ED74A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F247-224D-45EE-9D6E-A02C0803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684-A2F9-4275-B9F3-409DA50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EB50-5399-40EF-8F77-36056F6C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51C0-0F9C-41F5-A24C-7F7CCBB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FBB-EB6A-448E-A070-C482A83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8E58-82EB-4166-BB7F-1A8ED4A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327-ECF4-4D2D-B07F-AF283299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0E7-104A-45E3-9B77-A5D823A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D57D-AF40-4765-8C7A-E87FD24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0927-E493-44B5-927A-93116A8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4A73-C425-4343-B00B-63EAA80F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C20E-40B6-413A-8477-480DFCD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C49-5EA8-4521-BFA5-79D8DDB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418-05BB-4CFB-8A5C-23C78E1A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BA2-8A90-46FA-BF47-AFC9B98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539-44B3-4AB1-801B-7C0F606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8EF-81AC-44D2-8590-EC58A1E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6F7-265D-43C0-8911-B0A3A22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76F-A915-48E6-8588-51E555E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4874-F470-48A9-802C-EE43297A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0AD-8284-4FAB-BE26-DE261E72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Microsoft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ardo Sampaio / Leopoldo França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M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2520" y="37749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interfaces DirectX utilizam o estilo de projeto COM - podem sofrer alterações na sua nomenclatura devido a mudanças de versão, mas as interfaces antigas continuam funciona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IDirectDraw   - IID_IDirectDraw    - DirectX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2 - IID_IDirectDraw2  - Direct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4 - IID_IDirectDraw4  - Direct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7 - IID_IDirectDraw7  - Direct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alguns casos, a interface para objetos de baixo nível pode ser adquirida através de uma função como Direct#CreateEx, onde # corresponde a Draw, Input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os casos, a função CoCreateInstance de COM deve ser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cursos necessários para criar uma aplicação Direct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19320" y="1852560"/>
            <a:ext cx="75438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9640" y="1438200"/>
            <a:ext cx="80769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iblioteca de uso geral para o desenvolvimento de aplicações multimí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ocadores de música (WAV, Midi, MP3, .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Video Players (DVDs, MPEG4, Avi, .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plicações multiusuário (re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otivação Ini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lta de recursos do Windows 3.1 p/ multimídia e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possibilidade de acesso direto ao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vas placas aceleradoras de vídeo e s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bjetivos inicia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cesso direto ao Hardware (vídeo, som, entrada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porte à aceleração por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bjetivos Atua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cilitar o desenvolvimento e a otimização de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mplificar a utilização de multimídia em aplicações conven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ses objetivos são em parte contraditórios, o que gerou a divisão do DirectX em dois módul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3366cc"/>
                </a:solidFill>
                <a:latin typeface="Arial"/>
              </a:rPr>
              <a:t>DirectX Foundat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voltado para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rectX Med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voltado para multimí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 outro objetivo é de ser utilizado em outras plataformas (consoles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reamc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XBo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ssui um conjunto de interfaces para o controle eficiente do hardware - totalmente COM (Component Object Mod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aliza processamento nativo por hardware, sem a necessidade de código específico para cada mode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a criação de um objeto DirectX para um dispositivo, uma consulta é realizada neste hardware para verificar quais operações ele é capaz de executar (HAL) e quais devem emuladas por software (H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empre que possível tenta-se utilizar a aceleração por hardware através da HAL (Hardware Abstraction Lay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ndo o hardware não suporta os recursos necessários, automaticamente utiliza-se a HEL (Hardware Emulation Layer), como emulação por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ssibilita um ambiente com melhor desempenho que o DOS, devido a utilizar todas as características do hardware, e infinitamente melhor que a GDI (graphics Device Interfa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Questã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que é extremamente necessário saber para utilizar as APIs Direct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r aplicações Win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balhar com ponteiros (C / 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nipular objet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tar os códigos de retorno do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8064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ódigos de retorno dos méto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ódigo de retorno é o valor retornado quando o método finaliza, indicando sucesso ou fal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dos são do tipo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RESUL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número de 32 bits) - indica se a chamada ao método obteve sucesso ou falha e o por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RESUL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é passado como argumento para as macros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CCEED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) 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AIL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utilização de macros apresenta um código mais limp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ódigos de falha devem ser utilizados para tratamentos específicos (ex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DERR_OUTOFVIDEOMEMORY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m esforço significativo deve ser feito na estruturação do código para realizar o tratamento de err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cc"/>
                </a:solidFill>
                <a:latin typeface="Arial"/>
              </a:rPr>
              <a:t>APIs DirectX Foun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Mus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Pla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et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PIs DirectX Me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h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3D RM (Retained M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Ani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X Trans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rquitetura DirectX e seu relacionamento para Win3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36600" y="1905120"/>
            <a:ext cx="75535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em 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ctX 7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ctX 7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8 e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blioteca de baixo nível, com suporte a gráficos 2D, vídeos e aceleração p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manipular diretamente a memóri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tível com G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a os modos de janela e tela cheia em várias resoluções de acordo com os recursos d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a para jogos 2D, tratamento de imagens e tex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baseada no uso de surfaces, processadas por blitting, que permite transferir imagens entre o vídeo e a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za flipping, evitando que o sincronismo do monitor atrapalhe o processamento dos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baixo nível ideal para desenvolver jogos 3D e outras aplicações de alta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omunicação de baixo nível com as placas aceleradoras de forma independente do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Z-buffers e W-buf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iluminação, materialização, texturização e mip-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aliza transformações e clipping em hardware ou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dapta-se às características de cada hardware ou utiliza emulação por software quando este não possui os recursos necessários (aceleração por hard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DirectDraw como base para acesso ao ví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renderização dos objetos é imedi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ctMu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rabalha com dados musicais baseados em mensagens, que são convertidos para representações digitais (wave) utilizando hardware ou sintetizador de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implementação de software default utiliza 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icrosoft Software Synthesiz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para gerar os sons wave que são repassados para o DirectS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tiliza DirectSound como base para acesso ao dispositivo de s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strumentos são sintetizados concordando com o padrão downloadable sounds (DL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ermite a captura e execução de sons MID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porta composição de músicas em tempo de exec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manipular diretamente o dispositivo de s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mixagem com baixa latência, aceleração por hardware, execução e captura de sons w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todos os serviços oferecidos pelo hardware, como simulação de sons em um ambiente 3D, incluindo Doppler shift, refração, reflexão, efeitos ste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riar jogos multiusuários, servidores de jogos, chats, e outras aplicações em rede sem a necessidade de escrever código para tipos de transporte, protocolos ou serviços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onexão em rede local, na Internet ou via mod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riação e junção de sess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lobbies (agrupamento de jogad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cia jogadores e grupos com uma ses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cesso direto aos dispositivos de entradas, tais como mouse, teclado e joystick, e outros controladores de jogos, bem como dispositivos force-feedback (entrada/saí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ê suporte em baixa lat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stalador automatizado dos componentes de tempo de execução do DirectX necessários para as aplic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bastante conveniente, devido a complexidade da instalação que envolve diversas tarefas não triv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execução e captura de streams multimídia, tais como: vídeo (MPEG, Quicktime, AVI) e áudio (WAV) de arquivos locais ou da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tura pode ser baseada em Video for Windows ou Windows Driver Model (WD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sto por um sistema modular de filt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do com o Windows Media P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Animation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a família de APIs de alto nível e controles multimídia que suporta animação, streaming e integração de diferentes tipos de 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 imagens 2D, objetos 3D, sons, filmes, textos e gráficos ve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usado diretamente na Web (VBScript, JavaScript, ou applets Java) ou em controles ActiveX ou aplicações (Java, Visual Basic, ou 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Component Object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amework que possibilita quebrar projetos de software monolíticos em componentes modular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um paradigma similar as placas de computadores: Simplesmente, juntam-se os chips e eles funcion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quitetura baseada em interfaces. Cada interface possui um identificador ú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componentes de software reutilizáveis que são utilizados dinamicamente em tempo de execução (D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COM é possível modificar um software sem que seja preciso recompilá-lo nov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nova versão da implementação de um componente deve ser compatível com a ant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Trans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alto nível que permite criar, editar e animar im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agens 2D e objetos 3D podem ser usados em aplicações ou plugins dinâmicos par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utilizar transformações pré-existentes ou criar no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superfícies procedurais, filtragem e composição de im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alto nível que permite criar e manipular ambientes e objetos 3D de uma forma simpl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mada acima do Direct3D 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hierarquias de objetos e anim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tém cenas numa base de dados para renderização de uma única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eado em Meshes, Frames e Interpol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lhante aos softwares de edição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uporta multitexturização, bump mapping, e transformação e iluminação por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8.0 é composto desses 5 componen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Audio - an accelerated audio/music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Graphics - an accelerated graphics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Input - a streamlined input device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- a multi-player gaming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Show - an accelerated media playback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A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soft DirectX Audio version 8.0 proveu uma nova arquitetura para integrar musica e efeitos de s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os nomes Microsoft DirectSound e Microsoft DirectMusic continuem sendo usados, a distinção entre eles não está tão clara. É esperado que DirectMusic seja a escolha para criar efeitos de sons intera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quivos Wave agora podem ser carregados pelo DirectMusic loader e tocado pelo DirectMusic performance, sincronizado com notas MID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soft DirectDraw® and Microsoft Direct3D® foram agrupados um componente DirectX Graphic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pplication programming interface (API) foi extensivamente atualizada para se tornar fácil de usar e suportar os mais recentes placas 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2D no 3D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 é simples contrariamente ao que diz o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ões específicas na API ID3DXSprite mas pouca documentação e nenhum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tiliza capacidade de renderização das pla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 Draw x DirectX3D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éia básica: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urfac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substituído por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licada a polígonos (achat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s fixos de texturas (potência d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ações de tamanho de textura em certas pla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tras diferenç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comando de blitting (DirectDraw::Blt) no 3D8, você tem de escrever seu wrapper sobre o ID3DXSprite::Dr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é possível ter acesso a 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color keying (transparência) no 3D8 mas há vários níveis de alpha blending (por c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Input Mapper, incluindo uma interface com usuário padrão que permite ao usuário configurar os dispositivos de forma fácil e rápi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lhorou o suporte para aplicações internacionais. Possui uma nova propriedade para trabalhar com teclados internacionais. Facilitando o desenvolvimento de software para exportaçã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8 interfaces, IDirectPlay8, foi rescrita e  projetada para simplificar, aumentar a performance e ganho de escal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mbiente multiplayer de milhares de usu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osição de canais de vo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Voice permite interface por voz. Também disponibiliza várias topologias: peer to peer, client/server, e client/mixing server. Algoritmos para compressão e descompressão estão disponí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i revisado o esquema de endereçamento baseado em URL, para ser mais intuitiv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ho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Show agora faz parte do DirectX e foi atualizado para essa ed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viços de edição não-lien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remento do suporte a DV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.1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icrosoft DirectX 8.1 inclui novas ferramentas, novos recursos para gráficos e melhoramentos no DirectInput e DirectPl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vas ferrament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pp Wizar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É uma ferramenta wizard  para desenvolvimento de aplicações DirectX com qualquer combinação de compon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rror Lookup Too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É uma ferramenta para converter os códigos de erros hexadecimal em mensagens tex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 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e C++ ou um conjunto de classes C++ que implementam interfaces (conjunto de funçõ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do numa DLL (Dynamic Link Libr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face 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a classes abstrata C++ (não possui código associ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 um conjunto de assinaturas e semânticas, mas nenhuma implem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m vtable (tabela de endereçamento dos métodos que implementam a interface) &lt;=&gt; funções virtuais C+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ibliograf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ide Direct3D, Peter Kov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ks of the Windows Game Programming Gurus, André Lamo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irectDraw x Directx3D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www.gamasutra.com/features/20010615/geczy_0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ísticas princip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complexa e de baix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objeto e interface COM possui um GUI (Globally Unique Identifier) que o torna ú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programas baseados em objetos COM devem funcionar, sem precisar recompilá-lo, com uma nova versão dos objetos 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r um objeto COM é um grande desafio, mas utilizá-lo é bastante fá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acordo com a especificação COM, todas as interfaces devem ser derivadas diretamente ou indiretamente da interface da classe base denominada IUnKnown, que implementa apenas trê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Definição da interface </a:t>
            </a:r>
            <a:r>
              <a:rPr b="0" i="1" lang="pt-BR" sz="2100" spc="-1" strike="noStrike">
                <a:solidFill>
                  <a:srgbClr val="000000"/>
                </a:solidFill>
                <a:latin typeface="Times New Roman"/>
              </a:rPr>
              <a:t>IUnKno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typedef struct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interface IUnKnown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HRESULT QueryInterface ( REFIID idd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           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oid** ppvObject ) = 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ULONG AddRef ( void ) = 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ULONG Release ( void ) = 0;  }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Query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Responsável por verificar a existência de uma determinada interface para um obje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Retorna ao objeto um apontador para a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ddRe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- incrementa o contador de referências do objet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- decrementa o contador de referências do objet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QueryInterface retorna um apontador para uma interface, AddRef é automaticamente chamado para incrementar o contador de referê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outro lado, Release não é chamado de forma automática, portanto o usuário deve se encarregar disto antes de destruir o apontador para a interface - não possui Garbage Col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8064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erfaces de um objeto 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00200" y="162396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é composto por um número de objetos COM (D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s de importação (Libs) que contém os pacotes COM DirectX devem ser incluídas na compilação de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essência, toda chamada para DirectX utiliza o seguinte form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eiro_interface -&gt; nome_método ( lista_parâmetro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 DirectDrawCreate ( NULL , &amp;lpdd , NULL);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lpdd -&gt; SetVideoMode ( 640 , 480 , 256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1:40:32Z</dcterms:created>
  <dc:creator>Charles Andrye Galvao Madeira</dc:creator>
  <dc:description/>
  <dc:language>en-US</dc:language>
  <cp:lastModifiedBy>Eduardo</cp:lastModifiedBy>
  <dcterms:modified xsi:type="dcterms:W3CDTF">2003-12-15T11:24:11Z</dcterms:modified>
  <cp:revision>227</cp:revision>
  <dc:subject/>
  <dc:title>Microsoft DirectX</dc:title>
</cp:coreProperties>
</file>