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6FE-9EA8-413D-96FF-8846F808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BE5-4A06-4888-9DB8-DB9FD069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6CF-08E2-4B60-B4D4-92537DA8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034-6AF0-48CB-AA3C-012FC8D4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35C-E260-4BFD-8CC7-8A2561E0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3C79-2262-4BD2-B16E-10E21104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9D89-4499-45EE-85D4-BE80318F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C5CA-074F-49D1-B548-A21CCD88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4AF-D090-461D-BF87-E225C684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C643-47D7-43B9-A9AB-F66F1831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3C3C-B3AE-43BD-9DBE-46D7EC0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6B5-A1ED-43AD-8E26-4AE3ACC7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3429-6C5C-424C-92EB-F37B609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E72C-5631-4178-9CE6-51E7C1A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BD2E-E99C-49AD-878C-17698FC6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69A-F0BE-4B49-8B57-26D2599D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E1B5-17E1-411E-A5C3-172E8EB1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9B0-2D8B-4535-87EA-78D89AF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02C-2969-4E5A-A2D6-279167F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8E7-9DC5-4C22-896C-A1C9A9D8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B82-A622-4F9B-BA69-5979328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A7B-8ED1-4024-B8EA-27CFAA35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F04-70A3-4F1C-9116-81E3C4B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3BE-94F0-44FA-A1BA-CDD3AE33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7E3A-974A-4D56-8CF0-1C2A1193E66C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00FB-9C71-4B0E-AB3C-5B93394A9F94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avaboutique.internet.com/tutorials/Java_Game_Programming/Applets/PongKI/PongKI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athengine.com/" TargetMode="External"/><Relationship Id="rId2" Type="http://schemas.openxmlformats.org/officeDocument/2006/relationships/hyperlink" Target="http://www.mathengine.com/" TargetMode="External"/><Relationship Id="rId3" Type="http://schemas.openxmlformats.org/officeDocument/2006/relationships/hyperlink" Target="http://www.mathengine.com/" TargetMode="External"/><Relationship Id="rId4" Type="http://schemas.openxmlformats.org/officeDocument/2006/relationships/hyperlink" Target="http://www.mathengine.com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delagem Física para Jog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Érico Souza Texeir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Mardoqueu Souza Vieir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DDA4-66DE-4BB7-B4FE-4C37FC3496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de Atri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Plano  inclina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usar o exemplo do jogo Mári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 colocar as equacoes com o pseudo codig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3FB-B87F-4015-817F-3C955A317F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Centrípe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Falar onde pode ser utiliza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xempl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Conceito físic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Usar o pendulo world Up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F07-3637-436A-8849-D37C65EAEA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Centrípe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xemplo de carro de corri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8B6-E97C-4C9A-8DCD-1DFAA4BFFB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Detecção de colisõ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Verdana"/>
              </a:rPr>
              <a:t>Técnica fundamental para simular o mundo físico mais precisamente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Verdana"/>
              </a:rPr>
              <a:t>Tem sido estudado em diferentes comunidades: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Verdana"/>
              </a:rPr>
              <a:t>robótica, computação gráfica, CAD and geometria computacional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Verdana"/>
              </a:rPr>
              <a:t>Problema: como reagir a uma colisão?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5FF-0202-406D-93F4-45B005F4E9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Colisõ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lástica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Conserva a energia cinética e o momento dos obje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ais fácil de implement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Técnica mais utilizada em jog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Inelástica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ão conserva nem a energia cinética nem o momento dos obje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89A-E193-49B1-9BF3-4640B9856B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733920"/>
            <a:ext cx="79246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if(x &gt; EAST_EDGE || x &lt; WEST_EDG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    </a:t>
            </a: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xv = -xv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if(y &gt; SOUTH_EDGE||y &lt; NORTH_EDG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    </a:t>
            </a:r>
            <a:r>
              <a:rPr b="1" lang="pt-BR" sz="2800" spc="-1" strike="noStrike">
                <a:solidFill>
                  <a:srgbClr val="eaeaea"/>
                </a:solidFill>
                <a:latin typeface="Courier New"/>
              </a:rPr>
              <a:t>yv = -yv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ação: Colisão Elás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gião regular, “bem orientada”, de massa muito maior que o objet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Po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Soluçã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Pensando em termos de resulta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E8D-0ACE-4157-B7E9-46A7FF295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ação: Colisão Elás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Região irregular de massa muito maior que o objet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352680"/>
            <a:ext cx="2971800" cy="24386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581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81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724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842-EFC9-4186-BC72-89FF6001D8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ação: Colisão Elást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ntre dois objeto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EDD-D558-4D71-A366-052EA7DA17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ticulação de Corpos Ríg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BC0-3FC1-4E5A-9A6F-BB43E421AC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ticulação de Corpos Ríg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Problema 1(fig 13-38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Usar Simple Kinematics do liv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927-5162-483E-A9C2-2193D15963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m busca de realismo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Exemplo de jogo...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2A8-B427-4067-9E18-BCD2AEE6E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Articulação de Corpos Ríg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Problema 2(fig 13-39)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Usar Simple Kinematics do liv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33D-994C-4B88-AD9A-A482A5005B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Sistema de Partícul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São modelos físicos que modelam partículas pequena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Explosões, fogo, água,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D62-F724-4627-844F-1F2F31C862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tor de Modelagem Fís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Karm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Prover modelagem física rápida e está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inâmica de corpos rígid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Detecção de colisã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Apropriado para aplicações 3D interativ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31F-B2E2-4C1B-ACAC-DE5C34F9EE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Arial"/>
              </a:rPr>
              <a:t>[1] Karma 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://www.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3"/>
              </a:rPr>
              <a:t>mathengine</a:t>
            </a:r>
            <a:r>
              <a:rPr b="1" lang="pt-BR" sz="2000" spc="-1" strike="noStrike" u="sng">
                <a:solidFill>
                  <a:srgbClr val="b97c01"/>
                </a:solidFill>
                <a:uFillTx/>
                <a:latin typeface="Arial"/>
                <a:hlinkClick r:id="rId4"/>
              </a:rPr>
              <a:t>.com/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51B-DFC3-40FF-BDA6-D6911E5510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Modelagem Físic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ef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ntativa de reprodução de propriedades físicas do mundo re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. atrito, gravidade, aceleração, .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BDD-703C-4BAB-AC60-429BB6ACD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Históric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Conceitos Físicos Fundamentai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Efeitos Gravitacionai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Força de Atrit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Força Centrípeta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Detecção de Colisão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Articulação de Corpos Rígido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Motor de Modelagem Física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EA7-5352-4EE6-B047-767AF8CE07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Nas décadas de 70 e 80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ão existia muita modelagem física envolvida nos video games.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Na década de 90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Modelagem física se tornou muito mais importa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Inicio da era 3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Necessidade de realismo no movimento dos obje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6BB-C4EF-46E7-9446-0E6F7A92B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Conceitos Físicos Fundament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Temp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Mass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Velocidade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Aceleraçã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Forca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Momento Linear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A64-E842-44C5-B9AD-25C526619A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feitos Gravitacion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Conceito gera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4B9-A511-4767-92D2-48E2BD0407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Efeitos Gravitacion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´Modelando Trajetórias de Projeteis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usar o exemplo do jogo sonic, xmen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 colocar as equacoes com o pseudo codig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6C1-84FB-40DA-8C8D-45AA9A5B06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Força de Atri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Falar onde pode ser utilizado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Exemplo do carro de corrida 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Arial"/>
              </a:rPr>
              <a:t>Conceito geral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E23-7D93-47BD-97F5-13F512B689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6:06:32Z</dcterms:created>
  <dc:creator>msv</dc:creator>
  <dc:description/>
  <dc:language>en-US</dc:language>
  <cp:lastModifiedBy>msv</cp:lastModifiedBy>
  <dcterms:modified xsi:type="dcterms:W3CDTF">2002-04-26T01:27:29Z</dcterms:modified>
  <cp:revision>8</cp:revision>
  <dc:subject/>
  <dc:title>Modelagem Física para Jogos</dc:title>
</cp:coreProperties>
</file>