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5B46-BD41-4FF7-B625-EAD884C9F6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r exemplos para cada estilo de personali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xtrovertido: sociável/retraído, afetivo/reser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razível: confiante/desconfiado, prestativo/não-pres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onsciente: organizado/desogarnizado, cuidadoso/desleix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eurótico: preocupado/calmo, seguro/in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berto à experiência:independente/dependente, criativo/não-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C59-7558-49AD-ABC6-607FD756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324-0AC7-453B-BC28-A83CD7D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A70-0BD9-4AB1-A670-96A43E1B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0A9-FC09-4BFD-A2FD-52F06A5F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6269-8F0A-4038-BA31-FD791995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9D69-E8F5-4478-A6AA-1C92D11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0E98-6CFC-4A5B-9047-2B1C0E7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92D7-C630-4DC0-B348-A748073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19F1-704E-49B1-8191-A24B502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1920" y="-7632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4ABC-9E93-4B5B-AFD6-7B7F0D0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BD23-7281-49D9-92EF-8B28C3D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43D-F35E-4880-A693-1E6F4D44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E7F-13E8-461E-B7DC-78F9E2EB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70B-079A-4BC5-ACFD-B97FC60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C00-0540-4801-9091-876B794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5DDB-A09F-4DB4-960B-464AB00F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2BB1-8CEA-4FC3-A73F-2520225D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BB2-588B-40F7-85EC-A582A06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DDE-6510-4112-AD5C-933D73B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615-E7FF-4CB9-9F84-ACC53E84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7632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23C-3EA5-49CC-ADA0-B4A59E6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C89-17E9-4DEA-8ADD-4E5C15F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FBD-EBA2-48C0-81E8-F11D17E2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4BC-D70C-445F-9523-7CA484C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5289-1EC4-44B6-B5BE-D7D1E9E1F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412920"/>
          </a:xfrm>
          <a:prstGeom prst="rect">
            <a:avLst/>
          </a:prstGeom>
          <a:ln w="0">
            <a:noFill/>
          </a:ln>
        </p:spPr>
      </p:pic>
      <p:pic>
        <p:nvPicPr>
          <p:cNvPr id="6" name="paint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B71-8F2A-456D-8015-6ADF18DCF9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304920" y="6597720"/>
            <a:ext cx="8839080" cy="412560"/>
          </a:xfrm>
          <a:prstGeom prst="rect">
            <a:avLst/>
          </a:prstGeom>
          <a:ln w="0">
            <a:noFill/>
          </a:ln>
        </p:spPr>
      </p:pic>
      <p:pic>
        <p:nvPicPr>
          <p:cNvPr id="48" name="paint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edia.mit.edu/characters/" TargetMode="External"/><Relationship Id="rId2" Type="http://schemas.openxmlformats.org/officeDocument/2006/relationships/hyperlink" Target="http://www.media.mit.edu/characters/" TargetMode="External"/><Relationship Id="rId3" Type="http://schemas.openxmlformats.org/officeDocument/2006/relationships/hyperlink" Target="http://www.media.mit.edu/characters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plashpageimage" descr=""/>
          <p:cNvPicPr/>
          <p:nvPr/>
        </p:nvPicPr>
        <p:blipFill>
          <a:blip r:embed="rId1"/>
          <a:stretch/>
        </p:blipFill>
        <p:spPr>
          <a:xfrm>
            <a:off x="76320" y="3728880"/>
            <a:ext cx="3962160" cy="2976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agem de Atores Sintético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160" y="2590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e Implementação de Jog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A em Jog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ço 200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s_18" descr=""/>
          <p:cNvPicPr/>
          <p:nvPr/>
        </p:nvPicPr>
        <p:blipFill>
          <a:blip r:embed="rId2"/>
          <a:stretch/>
        </p:blipFill>
        <p:spPr>
          <a:xfrm>
            <a:off x="2666880" y="5105520"/>
            <a:ext cx="2057400" cy="1550880"/>
          </a:xfrm>
          <a:prstGeom prst="rect">
            <a:avLst/>
          </a:prstGeom>
          <a:ln w="0">
            <a:noFill/>
          </a:ln>
        </p:spPr>
      </p:pic>
      <p:pic>
        <p:nvPicPr>
          <p:cNvPr id="97" name="ogre" descr=""/>
          <p:cNvPicPr/>
          <p:nvPr/>
        </p:nvPicPr>
        <p:blipFill>
          <a:blip r:embed="rId3"/>
          <a:stretch/>
        </p:blipFill>
        <p:spPr>
          <a:xfrm>
            <a:off x="474840" y="1384200"/>
            <a:ext cx="205740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4A19-0E51-4FE5-86A0-937029942CB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ração de emoç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23640"/>
            <a:ext cx="86868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emoções são geradas a partir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dos percebidos e memó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, padrões e atitu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 do cor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ções sociais (c/ outros agentes ou c/ usuár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b-02(1)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326960" cy="1562040"/>
          </a:xfrm>
          <a:prstGeom prst="rect">
            <a:avLst/>
          </a:prstGeom>
          <a:ln w="0">
            <a:noFill/>
          </a:ln>
        </p:spPr>
      </p:pic>
      <p:pic>
        <p:nvPicPr>
          <p:cNvPr id="168" name="b-03(4)" descr=""/>
          <p:cNvPicPr/>
          <p:nvPr/>
        </p:nvPicPr>
        <p:blipFill>
          <a:blip r:embed="rId2"/>
          <a:stretch/>
        </p:blipFill>
        <p:spPr>
          <a:xfrm>
            <a:off x="6629400" y="4876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b-06" descr=""/>
          <p:cNvPicPr/>
          <p:nvPr/>
        </p:nvPicPr>
        <p:blipFill>
          <a:blip r:embed="rId3"/>
          <a:stretch/>
        </p:blipFill>
        <p:spPr>
          <a:xfrm>
            <a:off x="2467080" y="5334120"/>
            <a:ext cx="1266840" cy="1333440"/>
          </a:xfrm>
          <a:prstGeom prst="rect">
            <a:avLst/>
          </a:prstGeom>
          <a:ln w="0">
            <a:noFill/>
          </a:ln>
        </p:spPr>
      </p:pic>
      <p:pic>
        <p:nvPicPr>
          <p:cNvPr id="170" name="b-20" descr=""/>
          <p:cNvPicPr/>
          <p:nvPr/>
        </p:nvPicPr>
        <p:blipFill>
          <a:blip r:embed="rId4"/>
          <a:stretch/>
        </p:blipFill>
        <p:spPr>
          <a:xfrm>
            <a:off x="3886200" y="4038480"/>
            <a:ext cx="2133720" cy="13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6BE-EBE2-45AE-A168-6F2D3913FD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r_static" descr=""/>
          <p:cNvPicPr/>
          <p:nvPr/>
        </p:nvPicPr>
        <p:blipFill>
          <a:blip r:embed="rId1"/>
          <a:stretch/>
        </p:blipFill>
        <p:spPr>
          <a:xfrm>
            <a:off x="4952880" y="4946760"/>
            <a:ext cx="4267440" cy="1663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5560" y="1303200"/>
            <a:ext cx="8450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gabilidade = angústia/3 + irritação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 não amigá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içõe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gústia = intensidade(ANGÚSTIA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ritação = intensidade(IRRITAÇÃ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or = soma(angústia/3, irritação/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_valor = valor_corrente(AMIGABILIDA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or != pc_va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çõ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iciona_propriedade(amigabilidade, val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E64-5AC3-4B75-9D0D-3F12ED815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luência das emoç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ções afetam os seguintes itens dos ag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icionando/removendo obje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ônica estava feliz por ter passado no teste,  então decidiu ir ao cinema com Magal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prior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 sele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 seleção de agentes e objetos quando existem possibilidades múltip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29E-1C35-4FC4-BF95-262BD102B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moções Modelad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9880" y="1474920"/>
          <a:ext cx="93427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474920"/>
                    <a:ext cx="93427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DAB-CE02-4D86-BCD7-20FD67164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atro Virtu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dade baseada na Teoria dos traços e da aprendizagem so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dos inicia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o social-psicológico do person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erarquia de 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junto máquinas de es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o do mundo vir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rip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ênfase na execução de ações está em selecionar aquela que mais se aproxima aos traços de personalidade que o agente transpo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F57-BE00-4012-A6C6-117C4A1569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atro Virtu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8000" y="1959120"/>
            <a:ext cx="8991720" cy="3644640"/>
            <a:chOff x="108000" y="1959120"/>
            <a:chExt cx="8991720" cy="3644640"/>
          </a:xfrm>
        </p:grpSpPr>
        <p:sp>
          <p:nvSpPr>
            <p:cNvPr id="183" name=""/>
            <p:cNvSpPr/>
            <p:nvPr/>
          </p:nvSpPr>
          <p:spPr>
            <a:xfrm>
              <a:off x="1327320" y="5603760"/>
              <a:ext cx="5943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70920" y="3851280"/>
              <a:ext cx="1066680" cy="175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7320" y="3851280"/>
              <a:ext cx="0" cy="175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08000" y="1959120"/>
              <a:ext cx="8991720" cy="3187440"/>
              <a:chOff x="108000" y="1959120"/>
              <a:chExt cx="8991720" cy="3187440"/>
            </a:xfrm>
          </p:grpSpPr>
          <p:sp>
            <p:nvSpPr>
              <p:cNvPr id="187" name=""/>
              <p:cNvSpPr/>
              <p:nvPr/>
            </p:nvSpPr>
            <p:spPr>
              <a:xfrm>
                <a:off x="2851200" y="453708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stado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ísico-emociona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27520" y="1959120"/>
                <a:ext cx="2057400" cy="53316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titu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84920" y="331776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raços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ersonalida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51800" y="3254400"/>
                <a:ext cx="1447920" cy="53352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çõ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000" y="3317760"/>
                <a:ext cx="2209680" cy="53352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dos percebi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18280" y="3622680"/>
                <a:ext cx="609840" cy="14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8600" y="2251080"/>
                <a:ext cx="1371600" cy="10666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984920" y="3927240"/>
                <a:ext cx="1295280" cy="99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708200" y="2327040"/>
                <a:ext cx="1219320" cy="99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8200" y="3851280"/>
                <a:ext cx="1143000" cy="9907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17680" y="3546360"/>
                <a:ext cx="2743200" cy="18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8" name="monica2" descr=""/>
          <p:cNvPicPr/>
          <p:nvPr/>
        </p:nvPicPr>
        <p:blipFill>
          <a:blip r:embed="rId1"/>
          <a:stretch/>
        </p:blipFill>
        <p:spPr>
          <a:xfrm>
            <a:off x="133200" y="165744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199" name="monica4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102888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981080" y="1050840"/>
            <a:ext cx="6742080" cy="2121120"/>
            <a:chOff x="1981080" y="1050840"/>
            <a:chExt cx="6742080" cy="2121120"/>
          </a:xfrm>
        </p:grpSpPr>
        <p:sp>
          <p:nvSpPr>
            <p:cNvPr id="201" name=""/>
            <p:cNvSpPr/>
            <p:nvPr/>
          </p:nvSpPr>
          <p:spPr>
            <a:xfrm>
              <a:off x="1981080" y="1050840"/>
              <a:ext cx="52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Correlated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gressividade, gostar_de, 1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Correlated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gressividade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raiva, 0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 rot="5400000">
              <a:off x="5909040" y="1603080"/>
              <a:ext cx="990720" cy="128916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289160"/>
                <a:gd name="textAreaBottom" fmla="*/ 1289160 h 12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monica-preto" descr=""/>
            <p:cNvPicPr/>
            <p:nvPr/>
          </p:nvPicPr>
          <p:blipFill>
            <a:blip r:embed="rId3"/>
            <a:stretch/>
          </p:blipFill>
          <p:spPr>
            <a:xfrm>
              <a:off x="7135920" y="1066680"/>
              <a:ext cx="1587240" cy="210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monicaturma" descr=""/>
          <p:cNvPicPr/>
          <p:nvPr/>
        </p:nvPicPr>
        <p:blipFill>
          <a:blip r:embed="rId4"/>
          <a:stretch/>
        </p:blipFill>
        <p:spPr>
          <a:xfrm>
            <a:off x="3505320" y="2590920"/>
            <a:ext cx="1143000" cy="873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371600" y="60199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lo centrado nos traço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instabil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BD8-87F3-475A-98C2-5E25165EBBB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ção dos traç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ificados no intervalo [-10,10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ços podem ser definidos de 2 for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AULT(&lt;traço&gt;,valo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&lt;traço&gt;,&lt;correlação&gt;,valo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mbos são exclus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b certas circunstâncias o comportamento do personagem pode ser dif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_SITUATION(&lt;traço&gt;,&lt;prioridade&gt;,&lt;condições&gt;,&lt;valor&gt;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388-6FF0-41D4-AC29-40FDF5F642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5560" y="13838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a Mô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agressividade, raiva, 0.7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agressividade, simpatia,0.3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ressividade = (0.3*grau de simpatia ) + (0.7*irri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_SITUATION(agressividade, 1, raiva&lt;-5, simpatia*.7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F90-0B10-48CD-903D-4E01F8DA8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s Físico-Emociona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 Atitud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160" y="1544400"/>
            <a:ext cx="84499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m relação aos estados físico-emociona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rientado ao próprio ag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LF_MOOD(&lt;mood&gt;, val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rientado a outros ag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GENT_MOOD(&lt;mood&gt;,&lt;agente&gt;,val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m relação as atit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ITTUDE(&lt;atitude&gt;,&lt;agente&gt;,val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13F-3FAD-4BF7-9C3C-E0212DB981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625760"/>
            <a:ext cx="8686800" cy="46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ô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F_MOOD(alegria,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F_MOOD(raiva,1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ENT_MOOD(raiva, Cascão, 1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ITTUDE(gostar_de, Cebolinha, 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2D7-4910-4897-B232-C19378025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ig_finfin" descr=""/>
          <p:cNvPicPr/>
          <p:nvPr/>
        </p:nvPicPr>
        <p:blipFill>
          <a:blip r:embed="rId1"/>
          <a:stretch/>
        </p:blipFill>
        <p:spPr>
          <a:xfrm>
            <a:off x="6648480" y="1143000"/>
            <a:ext cx="2419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res Sintétic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po de agente intelig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ções, limitações físicas, relações interpesso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drão de comportamento do person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tado para o campo de entretenimento interativo cujo objetivo é fornecer “ilusão de vi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po de pesquisa relativamente no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bra a ênfase “resolução de problema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licado em animais virtuais e histórias intera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á-los aos requisitos exigidos pelos NP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F89-5CAE-4711-9B73-AB2956F4A20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cessos envolvid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5560" y="13838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inicialização dos atores é feita utilizando os seguintes pas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ar a situação 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lcular o valor corrente de atitude e m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ar o valor corrente de cada traço de 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situação efe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orrelação a outros compon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valor defa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18D-8CE2-484E-A79A-63F654E92F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121932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struir personalidades que não estão relacionadas com reações emocionais ou traços psic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onstruir personalidades através da definição de grupos de objetivos prioritários e de preferências sobre planos para realizar tais obje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ase Psicológica (Page 198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ersonalidade é um padrão coerente de tipos de comportamento e interações com o ambient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Modelo de Gul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D19-9014-40A7-9C15-F048CB66F5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004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Modelo Gul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o centrado nos objetivo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ilidade mas descarta emo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2286000"/>
            <a:ext cx="7238520" cy="2285640"/>
            <a:chOff x="304920" y="2286000"/>
            <a:chExt cx="7238520" cy="2285640"/>
          </a:xfrm>
        </p:grpSpPr>
        <p:sp>
          <p:nvSpPr>
            <p:cNvPr id="221" name=""/>
            <p:cNvSpPr/>
            <p:nvPr/>
          </p:nvSpPr>
          <p:spPr>
            <a:xfrm>
              <a:off x="304920" y="2286000"/>
              <a:ext cx="198036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na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99080" y="3301920"/>
              <a:ext cx="1900440" cy="507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06400" y="3328200"/>
              <a:ext cx="133704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3365280"/>
              <a:ext cx="204876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s 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1240" y="3564000"/>
              <a:ext cx="563040" cy="1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296360" y="3809880"/>
              <a:ext cx="5632200" cy="761760"/>
              <a:chOff x="1296360" y="3809880"/>
              <a:chExt cx="5632200" cy="76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1296360" y="4571640"/>
                <a:ext cx="47754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071760" y="3809880"/>
                <a:ext cx="856800" cy="7617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6360" y="3809880"/>
                <a:ext cx="0" cy="7617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309400" y="3555720"/>
              <a:ext cx="1478160" cy="14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5280" y="2476440"/>
              <a:ext cx="1502280" cy="825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monica3" descr=""/>
          <p:cNvPicPr/>
          <p:nvPr/>
        </p:nvPicPr>
        <p:blipFill>
          <a:blip r:embed="rId1"/>
          <a:stretch/>
        </p:blipFill>
        <p:spPr>
          <a:xfrm>
            <a:off x="6934320" y="3979800"/>
            <a:ext cx="198108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657600" y="1143000"/>
            <a:ext cx="5410080" cy="2104920"/>
            <a:chOff x="3657600" y="1143000"/>
            <a:chExt cx="5410080" cy="2104920"/>
          </a:xfrm>
        </p:grpSpPr>
        <p:sp>
          <p:nvSpPr>
            <p:cNvPr id="234" name=""/>
            <p:cNvSpPr/>
            <p:nvPr/>
          </p:nvSpPr>
          <p:spPr>
            <a:xfrm>
              <a:off x="3657600" y="1508040"/>
              <a:ext cx="36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Objetiv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ater_cebolinh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 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 rot="5400000">
              <a:off x="6515280" y="1981080"/>
              <a:ext cx="990720" cy="114300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monica-preto" descr=""/>
            <p:cNvPicPr/>
            <p:nvPr/>
          </p:nvPicPr>
          <p:blipFill>
            <a:blip r:embed="rId2"/>
            <a:stretch/>
          </p:blipFill>
          <p:spPr>
            <a:xfrm>
              <a:off x="7659720" y="1143000"/>
              <a:ext cx="14079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0C1-BB52-4D4D-9605-42DD868E3E37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0666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alidade é representada como uma árvore de 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581280" y="2286000"/>
            <a:ext cx="4800600" cy="2895120"/>
            <a:chOff x="3581280" y="2286000"/>
            <a:chExt cx="4800600" cy="2895120"/>
          </a:xfrm>
        </p:grpSpPr>
        <p:sp>
          <p:nvSpPr>
            <p:cNvPr id="239" name=""/>
            <p:cNvSpPr/>
            <p:nvPr/>
          </p:nvSpPr>
          <p:spPr>
            <a:xfrm>
              <a:off x="5562360" y="228600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0800" y="3352680"/>
              <a:ext cx="914400" cy="8377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3352680"/>
              <a:ext cx="914400" cy="8377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410080" y="3047760"/>
              <a:ext cx="38088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160" y="3047760"/>
              <a:ext cx="30492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4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58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16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3760" y="4187520"/>
              <a:ext cx="76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705360" y="4190760"/>
              <a:ext cx="7632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419360" y="4038480"/>
              <a:ext cx="4572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8880" y="4038480"/>
              <a:ext cx="38088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071360" y="5645160"/>
            <a:ext cx="6301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 árvore é a mesma para todos os agen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 que muda são as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2286000"/>
            <a:ext cx="2468880" cy="1219320"/>
            <a:chOff x="1066680" y="2286000"/>
            <a:chExt cx="2468880" cy="1219320"/>
          </a:xfrm>
        </p:grpSpPr>
        <p:sp>
          <p:nvSpPr>
            <p:cNvPr id="254" name=""/>
            <p:cNvSpPr/>
            <p:nvPr/>
          </p:nvSpPr>
          <p:spPr>
            <a:xfrm>
              <a:off x="1066680" y="2286000"/>
              <a:ext cx="245916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51280" y="2362320"/>
              <a:ext cx="677880" cy="5335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5800" y="2935440"/>
              <a:ext cx="23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 - prior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9360" y="240192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- obje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96A-BAC9-4671-8BF4-8199FB560F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143000"/>
            <a:ext cx="84582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inomia para objetivos baseada na psicologia (Ford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ho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umentar posses, dinheiro, 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on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r amizades, evitar isolamento social,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 ligados a construção da imagem do indiví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ten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ências excitantes, evita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F7B-8822-461D-80B2-9DE01ECAD7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da tipo de personalidade atribui uma determinada prioridade aos objetivos de cada gru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sonali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truísta - PR(+), GM(-), I(+), R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ormativo - RS(+), I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goísta - GM(+), PR(-), RS(-), I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lévolo - E(+), PR(-), RS(-), I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952880"/>
            <a:ext cx="3276720" cy="1600200"/>
          </a:xfrm>
          <a:prstGeom prst="rect">
            <a:avLst/>
          </a:prstGeom>
          <a:noFill/>
          <a:ln cap="rnd" w="32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R -prover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GM - ganho mater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 - Imag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S - relacionament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 - entreten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017-08AE-40F2-BF00-B50BE4E107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44400"/>
            <a:ext cx="86868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uaçã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ba o jantar e os pratos estão su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ruísta - Se ofere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ativo - Vai lavar se for a vez del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oísta - Vai lavar se lhe oferecerem algo em troc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évolo - Finge que está do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750-DE69-4498-A246-C756D27EB6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sso Model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5560" y="12236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is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 coerente e clara ao longo do te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tividade em função de estados físico-emocio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ções com outros personagens e jog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iciente e simples de implemen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0EB-B687-4FF9-9C29-2A571B3E599A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siderações Gera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383840"/>
            <a:ext cx="86868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stado interno do 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dos físico-emocionais, atitudes e 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junto de traços que definem a 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lementos quantificados sob intervalos numér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cotom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ntos de diferenciaçã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lacionamento dos ele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ersonalidade definida em função da teori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“The Big Fiv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E01-7C1F-4449-A867-6B9A6BE6FE5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The Big Fiv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nece cinco categorias de personal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categoria agrupa traços semelhantes não ortogo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áveis de personalida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overtido, aprazível, consciente, neurótico 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“aberto à experiênci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teta - {10, 10, 0, 0, 0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ônica - { 0, 0, 10, 10, 0}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D38-5095-4E7E-B310-5C92203F961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quisitos para NPC </a:t>
            </a:r>
            <a:br>
              <a:rPr sz="28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Reilly 96, Crawford 86)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5920" y="1224000"/>
            <a:ext cx="56340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bir uma personalidade que se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erente a longo termo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aramente identificá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s_21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25909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r reatividade segundo estados físico-emocio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46%5B1%5D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28954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908680" y="914400"/>
            <a:ext cx="3231360" cy="2552760"/>
            <a:chOff x="5908680" y="914400"/>
            <a:chExt cx="3231360" cy="2552760"/>
          </a:xfrm>
        </p:grpSpPr>
        <p:pic>
          <p:nvPicPr>
            <p:cNvPr id="107" name="shakingscoobyshaggy" descr=""/>
            <p:cNvPicPr/>
            <p:nvPr/>
          </p:nvPicPr>
          <p:blipFill>
            <a:blip r:embed="rId3"/>
            <a:stretch/>
          </p:blipFill>
          <p:spPr>
            <a:xfrm>
              <a:off x="5908680" y="914400"/>
              <a:ext cx="1922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89160" y="19051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Scoobdo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4191120"/>
            <a:ext cx="5333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er relações com outros personagens e jog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5334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ahoma"/>
              </a:rPr>
              <a:t>Candidatos ideais para jogos RPG e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ahoma"/>
              </a:rPr>
              <a:t>Televisão inte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C80-C636-4485-90AC-A9A1270C4FC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sso Modelo de Personalida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91120" y="2481120"/>
            <a:ext cx="3962160" cy="2587320"/>
            <a:chOff x="4191120" y="2481120"/>
            <a:chExt cx="3962160" cy="2587320"/>
          </a:xfrm>
        </p:grpSpPr>
        <p:sp>
          <p:nvSpPr>
            <p:cNvPr id="274" name=""/>
            <p:cNvSpPr/>
            <p:nvPr/>
          </p:nvSpPr>
          <p:spPr>
            <a:xfrm>
              <a:off x="6781680" y="3548160"/>
              <a:ext cx="1371600" cy="560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46680" y="3830760"/>
              <a:ext cx="1015920" cy="1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199040" y="4157280"/>
              <a:ext cx="2887560" cy="9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91120" y="2481120"/>
              <a:ext cx="281916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31960" y="2336400"/>
            <a:ext cx="743040" cy="3098520"/>
            <a:chOff x="1731960" y="2336400"/>
            <a:chExt cx="743040" cy="3098520"/>
          </a:xfrm>
        </p:grpSpPr>
        <p:sp>
          <p:nvSpPr>
            <p:cNvPr id="279" name=""/>
            <p:cNvSpPr/>
            <p:nvPr/>
          </p:nvSpPr>
          <p:spPr>
            <a:xfrm rot="16200000">
              <a:off x="1981080" y="2325240"/>
              <a:ext cx="482760" cy="505080"/>
            </a:xfrm>
            <a:custGeom>
              <a:avLst/>
              <a:gdLst/>
              <a:ahLst/>
              <a:rect l="l" t="t" r="r" b="b"/>
              <a:pathLst>
                <a:path w="240" h="248">
                  <a:moveTo>
                    <a:pt x="0" y="248"/>
                  </a:moveTo>
                  <a:cubicBezTo>
                    <a:pt x="28" y="132"/>
                    <a:pt x="56" y="16"/>
                    <a:pt x="96" y="8"/>
                  </a:cubicBezTo>
                  <a:cubicBezTo>
                    <a:pt x="136" y="0"/>
                    <a:pt x="216" y="168"/>
                    <a:pt x="240" y="2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5400000">
              <a:off x="1726200" y="4957200"/>
              <a:ext cx="482760" cy="471600"/>
            </a:xfrm>
            <a:custGeom>
              <a:avLst/>
              <a:gdLst/>
              <a:ahLst/>
              <a:rect l="l" t="t" r="r" b="b"/>
              <a:pathLst>
                <a:path w="240" h="248">
                  <a:moveTo>
                    <a:pt x="0" y="248"/>
                  </a:moveTo>
                  <a:cubicBezTo>
                    <a:pt x="28" y="132"/>
                    <a:pt x="56" y="16"/>
                    <a:pt x="96" y="8"/>
                  </a:cubicBezTo>
                  <a:cubicBezTo>
                    <a:pt x="136" y="0"/>
                    <a:pt x="216" y="168"/>
                    <a:pt x="240" y="2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3581280"/>
            <a:ext cx="1828800" cy="703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ços de Person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0880" y="2405160"/>
            <a:ext cx="3814920" cy="3172320"/>
            <a:chOff x="380880" y="2405160"/>
            <a:chExt cx="3814920" cy="3172320"/>
          </a:xfrm>
        </p:grpSpPr>
        <p:sp>
          <p:nvSpPr>
            <p:cNvPr id="283" name=""/>
            <p:cNvSpPr/>
            <p:nvPr/>
          </p:nvSpPr>
          <p:spPr>
            <a:xfrm>
              <a:off x="2286000" y="4873680"/>
              <a:ext cx="1909800" cy="703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tados físico-emo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8280" y="2405160"/>
              <a:ext cx="175284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3429000"/>
              <a:ext cx="1828800" cy="790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209680" y="2852640"/>
              <a:ext cx="1905120" cy="2057400"/>
              <a:chOff x="2209680" y="2852640"/>
              <a:chExt cx="1905120" cy="205740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2286000" y="3199680"/>
                <a:ext cx="1816200" cy="39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114800" y="2852640"/>
                <a:ext cx="0" cy="76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209680" y="4114440"/>
                <a:ext cx="1905120" cy="795600"/>
                <a:chOff x="2209680" y="4114440"/>
                <a:chExt cx="1905120" cy="7956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209680" y="4114440"/>
                  <a:ext cx="1892520" cy="53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114800" y="430020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2" name=""/>
          <p:cNvGrpSpPr/>
          <p:nvPr/>
        </p:nvGrpSpPr>
        <p:grpSpPr>
          <a:xfrm>
            <a:off x="1676520" y="974880"/>
            <a:ext cx="7046640" cy="2197080"/>
            <a:chOff x="1676520" y="974880"/>
            <a:chExt cx="7046640" cy="2197080"/>
          </a:xfrm>
        </p:grpSpPr>
        <p:sp>
          <p:nvSpPr>
            <p:cNvPr id="293" name=""/>
            <p:cNvSpPr/>
            <p:nvPr/>
          </p:nvSpPr>
          <p:spPr>
            <a:xfrm>
              <a:off x="1676520" y="974880"/>
              <a:ext cx="5943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AGSAgent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“Mônica”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ersonalidade.NEUROTICA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mbiente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 rot="5400000">
              <a:off x="6170760" y="1447560"/>
              <a:ext cx="990720" cy="114300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monica-preto" descr=""/>
            <p:cNvPicPr/>
            <p:nvPr/>
          </p:nvPicPr>
          <p:blipFill>
            <a:blip r:embed="rId1"/>
            <a:stretch/>
          </p:blipFill>
          <p:spPr>
            <a:xfrm>
              <a:off x="7315200" y="1066680"/>
              <a:ext cx="1407960" cy="210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1219320" y="4114800"/>
            <a:ext cx="6948360" cy="1846800"/>
            <a:chOff x="1219320" y="4114800"/>
            <a:chExt cx="6948360" cy="1846800"/>
          </a:xfrm>
        </p:grpSpPr>
        <p:sp>
          <p:nvSpPr>
            <p:cNvPr id="297" name=""/>
            <p:cNvSpPr/>
            <p:nvPr/>
          </p:nvSpPr>
          <p:spPr>
            <a:xfrm>
              <a:off x="6858000" y="5562720"/>
              <a:ext cx="13096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27960" y="4114800"/>
              <a:ext cx="15840" cy="144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219320" y="4267080"/>
              <a:ext cx="5638680" cy="1524240"/>
              <a:chOff x="1219320" y="4267080"/>
              <a:chExt cx="5638680" cy="1524240"/>
            </a:xfrm>
          </p:grpSpPr>
          <p:sp>
            <p:nvSpPr>
              <p:cNvPr id="300" name=""/>
              <p:cNvSpPr/>
              <p:nvPr/>
            </p:nvSpPr>
            <p:spPr>
              <a:xfrm>
                <a:off x="1219320" y="4267080"/>
                <a:ext cx="0" cy="1524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19320" y="5791320"/>
                <a:ext cx="5638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2" name="monica2" descr=""/>
          <p:cNvPicPr/>
          <p:nvPr/>
        </p:nvPicPr>
        <p:blipFill>
          <a:blip r:embed="rId2"/>
          <a:stretch/>
        </p:blipFill>
        <p:spPr>
          <a:xfrm>
            <a:off x="152280" y="165744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303" name="monica4" descr=""/>
          <p:cNvPicPr/>
          <p:nvPr/>
        </p:nvPicPr>
        <p:blipFill>
          <a:blip r:embed="rId3"/>
          <a:stretch/>
        </p:blipFill>
        <p:spPr>
          <a:xfrm>
            <a:off x="77760" y="46483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304" name="monica&amp;cebolinha2" descr=""/>
          <p:cNvPicPr/>
          <p:nvPr/>
        </p:nvPicPr>
        <p:blipFill>
          <a:blip r:embed="rId4"/>
          <a:stretch/>
        </p:blipFill>
        <p:spPr>
          <a:xfrm>
            <a:off x="4495680" y="1684440"/>
            <a:ext cx="1295640" cy="906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6248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ilidade com reativ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1D4-747B-40E9-8E03-26B45708C0AB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resentaçã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cada ator existem 2 bases de regr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danças dos estados inter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ção de objetivos e 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entação a Ob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dade de representação: modularidade, abstração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AS é definido em função de um conjunto de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6C8-24C9-4EA0-B925-7B9A49BE8FE0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diagrama0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5419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gumas Cla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E87-EA83-456F-8FF2-96253AFF104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 Interno do 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4857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ersonalidade é composta de cinco variáveis que definem as categorias representadas pela teoria “The Big Five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da variável tem um objeto intensidade associ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valo de valor: [-10,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lor default: [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lor vigente: [5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ioridade da categoria: [1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B6D-E2F4-47E6-B1EC-CA70DAB4EB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 Interno do 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físico-emocionais, atitudes e objetivos são definidos em função de conju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e-se adicionar emoções e atitudes a qualquer tempo no estado interno do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s elementos possuem as seguintes proprieda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valo de valor [-10,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or default [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or vigente [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tor de incremen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tor de decre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egoria (positiva, negativa, neut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BF0-40BA-455B-9AE4-6C55A9F3EB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ando Personage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 necessário que o novo tipo de personagem seja uma herança do modelo de ator sintético propo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r o conjunto de estados físico-emocionais e atitu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r as ações e objetiv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ecificar as bases de reg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A8E-944E-4117-9857-6B3F9C720B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: A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066320"/>
            <a:ext cx="8359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uardiões Ictius, Virgo e Quir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ersonalidades diferen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extrovertido e aprazí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dos físico-emociona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alegria/tristeza, medo/coragem e h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ener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itud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gosta de conheciment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formar guardiões, ajudar jogador, fornecer o elix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558-B443-4E23-A626-66FA423B9EAB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 Guardiã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51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600-64E5-4091-B623-2F37411C50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120320"/>
            <a:ext cx="8381880" cy="52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Criando guardiões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Avatar =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CHGuardianAvatar(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"Ictius",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nome do guardi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transform,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sistema de coordenada relati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canvas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janela de renderiz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 =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CHGAgent("Ictius",10,0,0,0,0,0, gaiaAgent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Avatar(ictiusAvatar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InternaKB("RBase01.rules"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AcaoKB("RBase02.rules"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inserirInternoKB(gaia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D3F-2C41-4593-8656-50DCB9AF66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R do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095480"/>
            <a:ext cx="86868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Para todo agente guardião e jogador, tem-se: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se guardião percebe um pedido de ajuda de um jogador com o qua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mantém uma relação positiva de “gostar de”, então o guard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fica feliz em poder ajudar o jogador.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haracter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HGuardianAgent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ame.GAGaiaAgent ga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ame.GAPerception percep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character.CHPolegarAgent jog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ercepcao.ehTipo(Perception.AJUD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ehAmigav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getAtitudes().isHigh("GOSTAR", jogad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modificaPEmocao(EMOCAO.ALEGRIA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atualizaEI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removerInternoKB(percepcao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inserirAcaoKB(percepcao);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003-95A4-45F9-ABCE-68E7889229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7162920" y="3809880"/>
            <a:ext cx="1957320" cy="2898720"/>
            <a:chOff x="7162920" y="3809880"/>
            <a:chExt cx="1957320" cy="2898720"/>
          </a:xfrm>
        </p:grpSpPr>
        <p:pic>
          <p:nvPicPr>
            <p:cNvPr id="112" name="poster_clr" descr=""/>
            <p:cNvPicPr/>
            <p:nvPr/>
          </p:nvPicPr>
          <p:blipFill>
            <a:blip r:embed="rId1"/>
            <a:stretch/>
          </p:blipFill>
          <p:spPr>
            <a:xfrm>
              <a:off x="7162920" y="3809880"/>
              <a:ext cx="1957320" cy="28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09320" y="62049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Wogg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guns Mode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58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1) Projeto O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MU University, Joseph B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2) Teatro Vir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tanford University, Barbara Hayes-R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3) Projeto G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MU University e Institute of Psicology NRC, Paola Rizzo e Manuela Vel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4) Personality-centred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in - UFPE, grupo de IA e jo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Outros) Sony, MIT, Intellimedia Initiative , Creature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09A-1E7E-48C5-8796-E0DC5843663F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R do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1430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Para todo agente guardião e jogador, tem-se: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se guardião percebe um pedido de ajuda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ele é um guardião amigável e feliz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então o guardião decide ajudar o jogador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ule ruleRB202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acter.CHGuardianAgent guardia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ame.GAPerception per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ame.GAGaiaAgent ga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character.CHPolegarAgent jogad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pre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erception.ehTipo(Perception.AJUD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hAmigav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podeAjudar(jogad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stahFeliz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configuraObjetivoVigente(GAGoal.AJUD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xecutaAcoes(Dica.TIPO_1, jog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guardiao.removerAcaoKB(perception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3E2-C13A-4EF2-A09A-CD15904711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ogos Atuais Usando essa Abordag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Final Fanta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lack &amp;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r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Half-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tar Tr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War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rmy Simulation Training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486-BC31-4FA9-8DE2-94995BF786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ferênci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jeto Oz. URL:http://www-2.cs.cmu.edu/afs/cs.cmu.edu/project/oz/web/oz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eatro Virtual. URL: http://www-ksl.stanford.edu/projects/cait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reatures. URL: http://www.creatures.co.uk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John Lair. URL: http://ai.eecs.umich.edu/people/laird/gamesresearch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me AI Page. URL: http://www.gameai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IT. URL: 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edia.mit.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edu/characters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289-78AF-471B-8F46-F2780064DF4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ntos em comum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quitetura padrão para ag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ber-raciocinar-ag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rtamento definido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s físico-emocionais, atitudes (objetos e atores) e 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junto de traços de persona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ções desses ele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áveis quantificadas numericamente [-10,10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resentam dicotom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218-7EC6-426E-B809-83AF3CBE6F44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ntos Com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440" y="1463760"/>
            <a:ext cx="82468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ços de personal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vertido/extrovertido, amigável/não-amigá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físico-emocio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gria/tristeza, medo/corag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onfiar/confiar em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iar/gostar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91320" y="2895480"/>
            <a:ext cx="2225880" cy="932400"/>
            <a:chOff x="5791320" y="2895480"/>
            <a:chExt cx="2225880" cy="932400"/>
          </a:xfrm>
        </p:grpSpPr>
        <p:pic>
          <p:nvPicPr>
            <p:cNvPr id="121" name="ANI_CAT" descr=""/>
            <p:cNvPicPr/>
            <p:nvPr/>
          </p:nvPicPr>
          <p:blipFill>
            <a:blip r:embed="rId1"/>
            <a:stretch/>
          </p:blipFill>
          <p:spPr>
            <a:xfrm>
              <a:off x="5791320" y="2895480"/>
              <a:ext cx="144756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6560" y="342900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medo(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982920" y="914400"/>
            <a:ext cx="2389680" cy="1770480"/>
            <a:chOff x="6982920" y="914400"/>
            <a:chExt cx="2389680" cy="1770480"/>
          </a:xfrm>
        </p:grpSpPr>
        <p:pic>
          <p:nvPicPr>
            <p:cNvPr id="124" name="tazmanian" descr=""/>
            <p:cNvPicPr/>
            <p:nvPr/>
          </p:nvPicPr>
          <p:blipFill>
            <a:blip r:embed="rId2"/>
            <a:stretch/>
          </p:blipFill>
          <p:spPr>
            <a:xfrm>
              <a:off x="7010280" y="914400"/>
              <a:ext cx="23623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982920" y="2286000"/>
              <a:ext cx="21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amigabilidade(-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43400" y="3962520"/>
            <a:ext cx="3286440" cy="2219040"/>
            <a:chOff x="4343400" y="3962520"/>
            <a:chExt cx="3286440" cy="2219040"/>
          </a:xfrm>
        </p:grpSpPr>
        <p:pic>
          <p:nvPicPr>
            <p:cNvPr id="127" name="APINKSAX" descr=""/>
            <p:cNvPicPr/>
            <p:nvPr/>
          </p:nvPicPr>
          <p:blipFill>
            <a:blip r:embed="rId3"/>
            <a:stretch/>
          </p:blipFill>
          <p:spPr>
            <a:xfrm>
              <a:off x="4343400" y="3962520"/>
              <a:ext cx="152388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634000" y="5638680"/>
              <a:ext cx="19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ranqüilidade(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471-0106-493B-8CE2-6837CE74ADD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ergências e Problem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5920" y="1383840"/>
            <a:ext cx="776592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as emoções, atitudes, estados físicos e traços de personalidade se relaciona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eles são influenciados pela percepçã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esses elementos influenciam a tomada de decisã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4267080"/>
            <a:ext cx="8245440" cy="2438280"/>
            <a:chOff x="380880" y="4267080"/>
            <a:chExt cx="8245440" cy="2438280"/>
          </a:xfrm>
        </p:grpSpPr>
        <p:graphicFrame>
          <p:nvGraphicFramePr>
            <p:cNvPr id="132" name=""/>
            <p:cNvGraphicFramePr/>
            <p:nvPr/>
          </p:nvGraphicFramePr>
          <p:xfrm>
            <a:off x="7026120" y="5105160"/>
            <a:ext cx="1600200" cy="16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26120" y="5105160"/>
                      <a:ext cx="16002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380880" y="4267080"/>
              <a:ext cx="8016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Tahoma"/>
                </a:rPr>
                <a:t>Como manter uma personalidade coerente a longo termo, mas exibir reatividade em função dos estados físico-emocionai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7A5-D519-4BA1-B132-834D3C91947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o OZ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dade é baseada no modelo de emoções O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sas emoções são resultantes de três tipos de avaliações subjetiv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mportância de eventos com respeito ao objetivo do agent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aprovação das ações do próprio agente ou mesmo de outros com respeito ao conjunto de padrões de comportament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sto aos objetos com respeito as atitudes do ag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72E-1CEB-4388-A74E-68DE7C249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8592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o Oz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5943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o centrado nas emoçõe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stabi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905120"/>
            <a:ext cx="8839080" cy="3581280"/>
            <a:chOff x="304920" y="1905120"/>
            <a:chExt cx="8839080" cy="3581280"/>
          </a:xfrm>
        </p:grpSpPr>
        <p:sp>
          <p:nvSpPr>
            <p:cNvPr id="140" name=""/>
            <p:cNvSpPr/>
            <p:nvPr/>
          </p:nvSpPr>
          <p:spPr>
            <a:xfrm>
              <a:off x="2971800" y="3124080"/>
              <a:ext cx="2057400" cy="6098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d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ísico-emo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1905120"/>
              <a:ext cx="2057400" cy="5331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4495680"/>
              <a:ext cx="205740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ços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a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3200400"/>
              <a:ext cx="144792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96080" y="3200400"/>
              <a:ext cx="144792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3200400"/>
              <a:ext cx="205740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dos 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962520" y="2437920"/>
              <a:ext cx="9360" cy="685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733920"/>
              <a:ext cx="0" cy="838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920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92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1371600" cy="1066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29200" y="3809880"/>
              <a:ext cx="1295280" cy="990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371600" y="3733920"/>
              <a:ext cx="7010280" cy="1752480"/>
              <a:chOff x="1371600" y="3733920"/>
              <a:chExt cx="7010280" cy="1752480"/>
            </a:xfrm>
          </p:grpSpPr>
          <p:sp>
            <p:nvSpPr>
              <p:cNvPr id="154" name=""/>
              <p:cNvSpPr/>
              <p:nvPr/>
            </p:nvSpPr>
            <p:spPr>
              <a:xfrm>
                <a:off x="1371600" y="5486400"/>
                <a:ext cx="59436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7315200" y="3733920"/>
                <a:ext cx="1066680" cy="17524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71600" y="3733920"/>
                <a:ext cx="0" cy="17524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1050840"/>
            <a:ext cx="8838720" cy="2044800"/>
            <a:chOff x="0" y="1050840"/>
            <a:chExt cx="8838720" cy="2044800"/>
          </a:xfrm>
        </p:grpSpPr>
        <p:grpSp>
          <p:nvGrpSpPr>
            <p:cNvPr id="158" name=""/>
            <p:cNvGrpSpPr/>
            <p:nvPr/>
          </p:nvGrpSpPr>
          <p:grpSpPr>
            <a:xfrm>
              <a:off x="0" y="1050840"/>
              <a:ext cx="8273160" cy="1311480"/>
              <a:chOff x="0" y="1050840"/>
              <a:chExt cx="8273160" cy="131148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1050840"/>
                <a:ext cx="827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Trac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agressividade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 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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emoca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raiva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- </a:t>
                </a: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emoca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alegria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789880" y="1447920"/>
                <a:ext cx="1471320" cy="914400"/>
              </a:xfrm>
              <a:custGeom>
                <a:avLst/>
                <a:gdLst>
                  <a:gd name="textAreaLeft" fmla="*/ 490320 w 1471320"/>
                  <a:gd name="textAreaRight" fmla="*/ 1260360 w 1471320"/>
                  <a:gd name="textAreaTop" fmla="*/ 526680 h 914400"/>
                  <a:gd name="textAreaBottom" fmla="*/ 7833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monica-preto" descr=""/>
            <p:cNvPicPr/>
            <p:nvPr/>
          </p:nvPicPr>
          <p:blipFill>
            <a:blip r:embed="rId1"/>
            <a:stretch/>
          </p:blipFill>
          <p:spPr>
            <a:xfrm>
              <a:off x="7261920" y="1143000"/>
              <a:ext cx="1576800" cy="195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monica2" descr=""/>
          <p:cNvPicPr/>
          <p:nvPr/>
        </p:nvPicPr>
        <p:blipFill>
          <a:blip r:embed="rId2"/>
          <a:stretch/>
        </p:blipFill>
        <p:spPr>
          <a:xfrm>
            <a:off x="399960" y="160020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163" name="monica4" descr=""/>
          <p:cNvPicPr/>
          <p:nvPr/>
        </p:nvPicPr>
        <p:blipFill>
          <a:blip r:embed="rId3"/>
          <a:stretch/>
        </p:blipFill>
        <p:spPr>
          <a:xfrm>
            <a:off x="1828800" y="38862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monica3" descr=""/>
          <p:cNvPicPr/>
          <p:nvPr/>
        </p:nvPicPr>
        <p:blipFill>
          <a:blip r:embed="rId4"/>
          <a:stretch/>
        </p:blipFill>
        <p:spPr>
          <a:xfrm>
            <a:off x="6019920" y="4191120"/>
            <a:ext cx="1371600" cy="93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677-1785-48BD-82E8-05FC67B3E9B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01:46:29Z</dcterms:created>
  <dc:creator>drds, all</dc:creator>
  <dc:description/>
  <dc:language>en-US</dc:language>
  <cp:lastModifiedBy>glr</cp:lastModifiedBy>
  <cp:lastPrinted>2000-11-03T18:22:39Z</cp:lastPrinted>
  <dcterms:modified xsi:type="dcterms:W3CDTF">2004-02-02T04:17:48Z</dcterms:modified>
  <cp:revision>125</cp:revision>
  <dc:subject/>
  <dc:title>Implementação de Atores Sintéticos</dc:title>
</cp:coreProperties>
</file>