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25.gif" ContentType="image/gif"/>
  <Override PartName="/ppt/media/image13.jpeg" ContentType="image/jpeg"/>
  <Override PartName="/ppt/media/image23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7.png" ContentType="image/png"/>
  <Override PartName="/ppt/media/image14.jpeg" ContentType="image/jpeg"/>
  <Override PartName="/ppt/media/image22.jpeg" ContentType="image/jpeg"/>
  <Override PartName="/ppt/media/image9.png" ContentType="image/png"/>
  <Override PartName="/ppt/media/image8.png" ContentType="image/png"/>
  <Override PartName="/ppt/media/image38.png" ContentType="image/png"/>
  <Override PartName="/ppt/media/image30.png" ContentType="image/png"/>
  <Override PartName="/ppt/media/image28.png" ContentType="image/png"/>
  <Override PartName="/ppt/media/image32.jpeg" ContentType="image/jpeg"/>
  <Override PartName="/ppt/media/image5.png" ContentType="image/png"/>
  <Override PartName="/ppt/media/image35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216E-1AAD-4A44-B67C-6005B3CB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10F9-5012-4566-96CE-82A3C6CC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4A10-B7CF-4027-87B0-FC4DD4C5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299A-CE29-4486-9D18-A8F547A8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583B-993D-48FC-9890-AB397211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80880" y="609480"/>
            <a:ext cx="8382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499C-0C13-444D-BE3B-F4F8016A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628C-3F9D-4D83-8391-0380DEC1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604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2C99-8C08-4AE4-AFAF-5D5A83C6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2C57-ABA5-4CDF-B958-412553B9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932A-94AE-4C34-A394-D53AD45B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604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3621-1F08-40CB-AAEB-E59015B62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516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944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86A4-5396-47D8-B5FD-A7E3F21D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609480"/>
            <a:ext cx="8382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550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55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550"/>
              </a:spcBef>
              <a:buClr>
                <a:srgbClr val="e0b500"/>
              </a:buClr>
              <a:buSzPct val="75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533520"/>
            <a:ext cx="853416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317520" y="44280"/>
            <a:ext cx="749160" cy="432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304920" y="6324480"/>
            <a:ext cx="853416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400800"/>
            <a:ext cx="24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ovemb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44200" y="64008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EBEA-9663-437A-AC2C-BA4B94AD735E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818480" y="68400"/>
            <a:ext cx="1050840" cy="43164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3851280" y="6348240"/>
            <a:ext cx="1440000" cy="43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120" y="23619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ZapfHumnst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ZapfHumnst B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ZapfHumnst B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ZapfHumnst B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ZapfHumnst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1CF7-8A3B-4081-9B13-00D10D6AEC28}" type="slidenum">
              <a:rPr b="0" lang="en-US" sz="1400" spc="-1" strike="noStrike">
                <a:solidFill>
                  <a:srgbClr val="000000"/>
                </a:solidFill>
                <a:latin typeface="ZapfHumnst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arcisio.camara@meantime.com.br" TargetMode="External"/><Relationship Id="rId3" Type="http://schemas.openxmlformats.org/officeDocument/2006/relationships/hyperlink" Target="mailto:glr@cin.ufpe.br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clipse.org/downloads/index.php" TargetMode="External"/><Relationship Id="rId3" Type="http://schemas.openxmlformats.org/officeDocument/2006/relationships/hyperlink" Target="http://www.eclipse.org/downloads/index.php" TargetMode="External"/><Relationship Id="rId4" Type="http://schemas.openxmlformats.org/officeDocument/2006/relationships/hyperlink" Target="http://www.eclipse.org/downloads/index.php" TargetMode="External"/><Relationship Id="rId5" Type="http://schemas.openxmlformats.org/officeDocument/2006/relationships/hyperlink" Target="http://forum.nokia.com/" TargetMode="External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arcisio.camara@meantime.com.br" TargetMode="External"/><Relationship Id="rId3" Type="http://schemas.openxmlformats.org/officeDocument/2006/relationships/hyperlink" Target="mailto:glr@cin.ufpe.br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33.jpeg"/><Relationship Id="rId11" Type="http://schemas.openxmlformats.org/officeDocument/2006/relationships/image" Target="../media/image33.jpeg"/><Relationship Id="rId1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ntenna.sourceforge.net/" TargetMode="External"/><Relationship Id="rId3" Type="http://schemas.openxmlformats.org/officeDocument/2006/relationships/hyperlink" Target="http://eclipseme.org/index.html" TargetMode="External"/><Relationship Id="rId4" Type="http://schemas.openxmlformats.org/officeDocument/2006/relationships/hyperlink" Target="http://ant.apache.org/manual/" TargetMode="External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orum.nokia.com/" TargetMode="External"/><Relationship Id="rId3" Type="http://schemas.openxmlformats.org/officeDocument/2006/relationships/hyperlink" Target="http://www.motocoder.com/" TargetMode="External"/><Relationship Id="rId4" Type="http://schemas.openxmlformats.org/officeDocument/2006/relationships/hyperlink" Target="http://wireless.java.sun.com/" TargetMode="External"/><Relationship Id="rId5" Type="http://schemas.openxmlformats.org/officeDocument/2006/relationships/hyperlink" Target="http://www.microjava.com/" TargetMode="External"/><Relationship Id="rId6" Type="http://schemas.openxmlformats.org/officeDocument/2006/relationships/hyperlink" Target="http://www.midlet-review.com/" TargetMode="External"/><Relationship Id="rId7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90680" y="112680"/>
            <a:ext cx="686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Platelet"/>
              </a:rPr>
              <a:t>Projeto Conceitual de Jog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0240" y="4581360"/>
            <a:ext cx="3112920" cy="121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rcisio Cama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  <a:hlinkClick r:id="rId2"/>
              </a:rPr>
              <a:t>arcisio.camara@meantime.com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Geber Ramal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Verdana"/>
                <a:hlinkClick r:id="rId3"/>
              </a:rPr>
              <a:t>glr@cin.ufpe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268280"/>
            <a:ext cx="554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Desenvolvendo Jog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em Java ME para cel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84320" y="2496960"/>
            <a:ext cx="1209600" cy="1767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68360" y="2924280"/>
            <a:ext cx="554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 Black"/>
              </a:rPr>
              <a:t>Aula 1</a:t>
            </a:r>
            <a:br>
              <a:rPr sz="2800"/>
            </a:br>
            <a:r>
              <a:rPr b="1" lang="en-US" sz="2800" spc="-1" strike="noStrike">
                <a:solidFill>
                  <a:srgbClr val="ff9900"/>
                </a:solidFill>
                <a:latin typeface="Arial Black"/>
              </a:rPr>
              <a:t>Introdução à Java 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Universo Java ME Hoje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Java Community Process (JCP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Java Specification Request (JSR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pt-BR" sz="1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pt-BR" sz="1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pt-BR" sz="1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pt-BR" sz="1400" spc="-1" strike="noStrike">
                <a:solidFill>
                  <a:srgbClr val="ff3300"/>
                </a:solidFill>
                <a:latin typeface="Verdana"/>
              </a:rPr>
              <a:t>   </a:t>
            </a:r>
            <a:r>
              <a:rPr b="1" lang="pt-BR" sz="1400" spc="-1" strike="noStrike">
                <a:solidFill>
                  <a:srgbClr val="ff3300"/>
                </a:solidFill>
                <a:latin typeface="Verdana"/>
              </a:rPr>
              <a:t>http://java.sun.com/javame/technology/jcp.js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132000" y="2976480"/>
            <a:ext cx="6012000" cy="3881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0" y="1943280"/>
            <a:ext cx="3133800" cy="4914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305320" y="6453360"/>
            <a:ext cx="935280" cy="366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00400" y="5635800"/>
            <a:ext cx="687600" cy="529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onfiguraçõ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ma especificação que define o ambiente de software para uma </a:t>
            </a: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família de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spositivos, geralment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s tipos e quantidade de memória disponí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ipos de processadores e veloci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ipo de conexão de re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clui um conjunto básico de classes Jav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É especificada pela JC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nected Device Configuration (CDC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High end consumer de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DA, TV set-top boxes, et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nected, Limited Device Configuration (CLDC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ow end consumer de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ll phones, limited PDAs, et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DC 1.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LDC - Connected Limited, Device 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1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ispositivos limitados com poucos  recur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cessador de, no mínimo 8 Mh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partir de 160 K de memória heap reservada pra Ja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cesso a rede com pouca largura de ban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arget De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elula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wo Way Pag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ersonal Organiz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scopo do CLD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efin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inguagem Java e características da V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/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etworking framewo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guranç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ernacionaliz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Não defin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Gerenciamento do ciclo de vida da aplicação (instalação, execução, deleçã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erface com o usuá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ratamento de even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eração entre usuário e aplicação (comandos, etc…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imitação do CLD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LDC 1.0 possui algumas limitaçõ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1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usência de ponto flutuant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usência de Weak Refer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usência de Finaliz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5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existe o método finalize() no CLD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possui suporte a JN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possui a API d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Reflection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usência d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daemon-thread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thread group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imitação no suporte a Internacionaliz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5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ermite a conversão de byt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tream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para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Unicod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 vice-ver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imitação no tratamento de Er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5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penas duas classes: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java.lang.VirtualMachineErro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java.lang.OutOfMemoryErr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imitação do CLD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LDC 1.1 adiciona alguns recursos ao CLDC 1.0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1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dição de ponto flutuant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dição de Weak Refer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dição de suporte a nomes de Threa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emória mínima de 162 para 192 kby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cotes do CLD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Herdados do J2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ava.la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ava.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ava.ut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Específicos do CLD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avax.microedition.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Profi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9"/>
              </a:spcBef>
              <a:spcAft>
                <a:spcPts val="689"/>
              </a:spcAft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m profile ou “perfil” é uma coleção de API´s  em Java que complementa uma configuração a fim de prover habilidades para uma família de dispositiv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9"/>
              </a:spcBef>
              <a:spcAft>
                <a:spcPts val="689"/>
              </a:spcAft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É especificada pela JC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O principal objetivo é garantir a interoperabilidade entre uma família de dispositiv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IDP (Mobile Information Device Profile): Principal e presente na maioria absoluta dos dispositiv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IDP 1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IDP 2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IDP 2.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IDP 3.0 (em bre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MID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678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125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obile Information Device Profile (MIDP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IDP defin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Interface com o Usuár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ersistência (usando um modelo simples orientado a registr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Networking (estende o Generic Connection framework do CLD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iclo de vida da Aplicaçã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Tratamento de eventos (teclas, interrupção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quisitos de Hardw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4360" y="3860640"/>
          <a:ext cx="7719840" cy="2421000"/>
        </p:xfrm>
        <a:graphic>
          <a:graphicData uri="http://schemas.openxmlformats.org/drawingml/2006/table">
            <a:tbl>
              <a:tblPr/>
              <a:tblGrid>
                <a:gridCol w="3508560"/>
                <a:gridCol w="2133000"/>
                <a:gridCol w="2078280"/>
              </a:tblGrid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DP 1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DP 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ória não volát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8 K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6 K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ória volát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 K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8 K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x54 - 2 c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r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lado e/ou touch scr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ectivid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TTP 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ão exig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ns, WAV, MID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cotes do MIDP 1.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223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IDP Packag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38840"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x.microedition.midl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77680">
              <a:spcBef>
                <a:spcPts val="99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javax.microedition.midlet.MIDlet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x.microedition.lcdu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x.microedition.r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77680">
              <a:spcBef>
                <a:spcPts val="88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javax.microedition.rms.RecordSto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556000" y="2924280"/>
            <a:ext cx="388764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obre quem vos fala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80" y="3068640"/>
            <a:ext cx="8964720" cy="30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ts val="1800"/>
              </a:lnSpc>
              <a:spcBef>
                <a:spcPts val="145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Meantime Mobile Creations – Empresa incubada no C.E.S.A.R focado no desenvolvimento de jogos e aplicativos, baseados em dispositivos móveis, para usuários fina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145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Um dos </a:t>
            </a:r>
            <a:r>
              <a:rPr b="0" lang="pt-BR" sz="1400" spc="-1" strike="noStrike">
                <a:solidFill>
                  <a:srgbClr val="ff6633"/>
                </a:solidFill>
                <a:latin typeface="Verdana"/>
              </a:rPr>
              <a:t>pioneiros mundiais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(desde 2001) na tecnologia J2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145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Várias tecnologias wireless: J2ME, BREW, WAP, SMS e M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145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Atualmente, distribui jogos para </a:t>
            </a:r>
            <a:r>
              <a:rPr b="0" lang="pt-BR" sz="1400" spc="-1" strike="noStrike">
                <a:solidFill>
                  <a:srgbClr val="ff6633"/>
                </a:solidFill>
                <a:latin typeface="Verdana"/>
              </a:rPr>
              <a:t>EUA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0" lang="pt-BR" sz="1400" spc="-1" strike="noStrike">
                <a:solidFill>
                  <a:srgbClr val="ff6633"/>
                </a:solidFill>
                <a:latin typeface="Verdana"/>
              </a:rPr>
              <a:t>Europa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alguns países da </a:t>
            </a:r>
            <a:r>
              <a:rPr b="0" lang="pt-BR" sz="1400" spc="-1" strike="noStrike">
                <a:solidFill>
                  <a:srgbClr val="ff6633"/>
                </a:solidFill>
                <a:latin typeface="Verdana"/>
              </a:rPr>
              <a:t>América Latina e Ási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145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Parceria com diversos fabricantes, publishers e operado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145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Produzimos </a:t>
            </a:r>
            <a:r>
              <a:rPr b="0" lang="pt-BR" sz="1400" spc="-1" strike="noStrike">
                <a:solidFill>
                  <a:srgbClr val="ff6633"/>
                </a:solidFill>
                <a:latin typeface="Verdana"/>
              </a:rPr>
              <a:t>mais de 40 jogos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para celulares (alguns para a Motorola, Sony Ericsson, etc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145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Atua como publisher no Brasil, com parceria com todas as operado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916360" y="1197000"/>
            <a:ext cx="1584360" cy="1871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643280" y="1197000"/>
            <a:ext cx="1584360" cy="1871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443640" y="1197000"/>
            <a:ext cx="1584360" cy="1871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1187280" y="1197000"/>
            <a:ext cx="1584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cotes adicionais do MIDP 2.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223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>
              <a:lnSpc>
                <a:spcPct val="90000"/>
              </a:lnSpc>
              <a:spcBef>
                <a:spcPts val="1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IDP 2.0 Packag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25160">
              <a:lnSpc>
                <a:spcPct val="90000"/>
              </a:lnSpc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x.microedition.med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50320">
              <a:lnSpc>
                <a:spcPct val="90000"/>
              </a:lnSpc>
              <a:spcBef>
                <a:spcPts val="88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javax.microedition.media.Play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850320">
              <a:lnSpc>
                <a:spcPct val="90000"/>
              </a:lnSpc>
              <a:spcBef>
                <a:spcPts val="88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javax.microedition.media.Contro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>
              <a:lnSpc>
                <a:spcPct val="90000"/>
              </a:lnSpc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x.microedition.media.contro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50320">
              <a:lnSpc>
                <a:spcPct val="90000"/>
              </a:lnSpc>
              <a:spcBef>
                <a:spcPts val="99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javax.microedition.media.control.VolumeControl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>
              <a:lnSpc>
                <a:spcPct val="90000"/>
              </a:lnSpc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x.microedition.lcdui.ga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>
              <a:lnSpc>
                <a:spcPct val="90000"/>
              </a:lnSpc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x.microedition.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50320">
              <a:lnSpc>
                <a:spcPct val="90000"/>
              </a:lnSpc>
              <a:spcBef>
                <a:spcPts val="88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javax.microedition.io.PushRegist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116000" y="3789360"/>
            <a:ext cx="6049440" cy="1728720"/>
            <a:chOff x="1116000" y="3789360"/>
            <a:chExt cx="6049440" cy="1728720"/>
          </a:xfrm>
        </p:grpSpPr>
        <p:sp>
          <p:nvSpPr>
            <p:cNvPr id="184" name=""/>
            <p:cNvSpPr/>
            <p:nvPr/>
          </p:nvSpPr>
          <p:spPr>
            <a:xfrm>
              <a:off x="1116000" y="4078080"/>
              <a:ext cx="4249440" cy="14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52720" y="4078080"/>
              <a:ext cx="1512720" cy="14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90680" y="4294080"/>
              <a:ext cx="5709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ay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62600" y="5086080"/>
              <a:ext cx="9151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iledLay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797560" y="5086080"/>
              <a:ext cx="6012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pr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81880" y="4294080"/>
              <a:ext cx="1217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ayerMana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963960" y="5086080"/>
              <a:ext cx="1118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ameCanv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1" name=""/>
            <p:cNvCxnSpPr>
              <a:stCxn id="187" idx="0"/>
              <a:endCxn id="186" idx="2"/>
            </p:cNvCxnSpPr>
            <p:nvPr/>
          </p:nvCxnSpPr>
          <p:spPr>
            <a:xfrm flipH="1" flipV="1" rot="5400000">
              <a:off x="1944000" y="4453920"/>
              <a:ext cx="508680" cy="7560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2" name=""/>
            <p:cNvCxnSpPr>
              <a:stCxn id="188" idx="0"/>
              <a:endCxn id="186" idx="2"/>
            </p:cNvCxnSpPr>
            <p:nvPr/>
          </p:nvCxnSpPr>
          <p:spPr>
            <a:xfrm flipV="1" rot="16200000">
              <a:off x="2582640" y="4570200"/>
              <a:ext cx="508680" cy="5227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>
              <a:stCxn id="186" idx="3"/>
              <a:endCxn id="189" idx="1"/>
            </p:cNvCxnSpPr>
            <p:nvPr/>
          </p:nvCxnSpPr>
          <p:spPr>
            <a:xfrm>
              <a:off x="2883960" y="4436640"/>
              <a:ext cx="96876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4" name=""/>
            <p:cNvSpPr/>
            <p:nvPr/>
          </p:nvSpPr>
          <p:spPr>
            <a:xfrm>
              <a:off x="2852280" y="4221000"/>
              <a:ext cx="26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30760" y="3789360"/>
              <a:ext cx="5893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4480" y="5086080"/>
              <a:ext cx="6926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anv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0" idx="3"/>
              <a:endCxn id="196" idx="1"/>
            </p:cNvCxnSpPr>
            <p:nvPr/>
          </p:nvCxnSpPr>
          <p:spPr>
            <a:xfrm>
              <a:off x="5122440" y="5228640"/>
              <a:ext cx="90360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8" name=""/>
            <p:cNvSpPr/>
            <p:nvPr/>
          </p:nvSpPr>
          <p:spPr>
            <a:xfrm>
              <a:off x="5665320" y="3789360"/>
              <a:ext cx="5220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cd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0040" y="4294080"/>
              <a:ext cx="10065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isplay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6" idx="0"/>
              <a:endCxn id="199" idx="2"/>
            </p:cNvCxnSpPr>
            <p:nvPr/>
          </p:nvCxnSpPr>
          <p:spPr>
            <a:xfrm flipH="1" flipV="1" rot="5400000">
              <a:off x="6148440" y="4830840"/>
              <a:ext cx="508680" cy="18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O que é um MIDl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É uma aplicação MIDP:</a:t>
            </a: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ssui uma classe Java que estende da classe MIDlet e implementa os seguintes métod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5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tartApp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5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auseApp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5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stroyApp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ssui um modelo de ciclo de vida similar aos Applets (explicado adiante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O que é um MIDlet (cont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Gerenciado pelo “Java Application Manager” (JAM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aplicação que deve vir acompanhando a implementação do MIDP e que controla a instalação, execução e remoção dos MIDl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vê o ambiente de execução dos MIDl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rata todos os erros ocorridos durante a instalação e execução dos aplicativos sem “derrubar” o disposit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Ciclo de vida dos MIDle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476360" y="1413000"/>
            <a:ext cx="625644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MIDlet Suites e Descritores (JAD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MIDlet Suite é um conjunto de MIDlets (e seus arquivos) empacotados em um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J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Uma suite deve possuir pelo menos um MIDl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R contém: Arquivos .class , arquivos de recursos (imagem .png, sons .midi, etc) e um manifes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MIDLets numa mesma suite podem compartilhar classes, recursos contidos no JAR e memória persist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IDlets de suites diferentes não podem interagir (MIDP 1 e 2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JA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Java Application Descripto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equeno arquivo texto que descreve uma Sui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Usado pela JAM para fazer verificações antes de baixar a Sui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ode ser usado para guardar propriedades da aplicaçã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par JAR/JAD representa o executável da aplic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2556000" y="4653000"/>
            <a:ext cx="3816360" cy="101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MIDlet-1: AloMundo, , org.cesar.j2me.AloMID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MIDlet-Name: Alô Mund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MIDlet-Vendor: C.E.S.A.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MIDlet-Version: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MIDlet-Jar-Size: 78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MIDlet-Jar-URL: HelloExample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ssos para o desenvolvim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8112240" cy="37814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56000" y="1916280"/>
            <a:ext cx="264960" cy="2649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64000" y="1916280"/>
            <a:ext cx="265320" cy="2649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44000" y="1916280"/>
            <a:ext cx="264960" cy="2649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56000" y="4437000"/>
            <a:ext cx="264960" cy="2653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64000" y="4437000"/>
            <a:ext cx="265320" cy="2653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244000" y="4437000"/>
            <a:ext cx="264960" cy="2653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mbiente de Desenvolvim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ditor texto + Sun Wireless Toolkit (WTK) (fre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00ff"/>
                </a:solidFill>
                <a:latin typeface="Verdana"/>
              </a:rPr>
              <a:t>http://java.sun.com/products/sjwtoolkit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etBeans Mobility + WTK (fre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00ff"/>
                </a:solidFill>
                <a:latin typeface="Verdana"/>
              </a:rPr>
              <a:t>http://www.netbeans.org/products/mobility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clipse + EclipseME + WTK (fre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Verdana"/>
                <a:hlinkClick r:id="rId2"/>
              </a:rPr>
              <a:t>http://www.eclipse.org/downloads/index</a:t>
            </a:r>
            <a:r>
              <a:rPr b="0" lang="pt-BR" sz="1400" spc="-1" strike="noStrike" u="sng">
                <a:solidFill>
                  <a:srgbClr val="000000"/>
                </a:solidFill>
                <a:uFillTx/>
                <a:latin typeface="Verdana"/>
                <a:hlinkClick r:id="rId3"/>
              </a:rPr>
              <a:t>.</a:t>
            </a:r>
            <a:r>
              <a:rPr b="0" lang="pt-BR" sz="1400" spc="-1" strike="noStrike" u="sng">
                <a:solidFill>
                  <a:srgbClr val="000000"/>
                </a:solidFill>
                <a:uFillTx/>
                <a:latin typeface="Verdana"/>
                <a:hlinkClick r:id="rId4"/>
              </a:rPr>
              <a:t>ph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00ff"/>
                </a:solidFill>
                <a:latin typeface="Verdana"/>
              </a:rPr>
              <a:t>http://eclipseme.org/docs/installation.htm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DK´s dos fabricantes (Nokia, Motorola, SonyEricsson, Siemens,…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00ff"/>
                </a:solidFill>
                <a:latin typeface="Verdana"/>
              </a:rPr>
              <a:t>http://developer.motorola.com/docstools/sdks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Verdana"/>
                <a:hlinkClick r:id="rId5"/>
              </a:rPr>
              <a:t>http://forum.nokia.com</a:t>
            </a:r>
            <a:r>
              <a:rPr b="0" lang="pt-BR" sz="1400" spc="-1" strike="noStrike">
                <a:solidFill>
                  <a:srgbClr val="6600ff"/>
                </a:solidFill>
                <a:latin typeface="Verdana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00ff"/>
                </a:solidFill>
                <a:latin typeface="Verdana"/>
              </a:rPr>
              <a:t>http://developer.sonyericsson.com/site/global/home/p_home.js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Borland JBuilder ($400 individua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00ff"/>
                </a:solidFill>
                <a:latin typeface="Verdana"/>
              </a:rPr>
              <a:t>http://www.borland.com/us/products/jbuilder/index.htm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Nosso ambiente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clipse Europa (3.3) for Java Develop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clipseme plugin 1.7.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un Java Wireless Toolkit for CLDC (WTK) 2.5.2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xercício 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riar o famigerado “Alô mundo!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nceitos de Displ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riação e exibição de um High-Level Display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nceitos de adição e tratamento de Coman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Dica: Esteja com a API ao alcance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5042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3300"/>
                </a:solidFill>
                <a:latin typeface="Verdana"/>
              </a:rPr>
              <a:t>http://java.sun.com/javame/reference/apis/jsr118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38384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Mercado de jogos wirel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rincipais tecnolog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trodução a Java 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Wireless Game Desig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Criando nosso Jog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Sugestão de Melhor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Dicas de performance / redução de códig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xercício 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crementar o “Alô Mundo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ceitos de Graphics e suas funçõ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on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iação e exibição de um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Low-Level Display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ratamento de tecl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iação e renderização de Image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gora que vocês já estão craques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amos ao nosso Jogo!!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Etapas na concepção de um Jo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lanejando um Jo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jetando um Jo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senvolvendo um Jo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mulando um Jogo (tes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ploy do Jogo (testes rea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cas de performance / Redução de códi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390680" y="112680"/>
            <a:ext cx="686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Platelet"/>
              </a:rPr>
              <a:t>Projeto Conceitual de Jog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0240" y="4581360"/>
            <a:ext cx="3112920" cy="121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rcisio Cama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  <a:hlinkClick r:id="rId2"/>
              </a:rPr>
              <a:t>arcisio.camara@meantime.com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Geber Ramal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Verdana"/>
                <a:hlinkClick r:id="rId3"/>
              </a:rPr>
              <a:t>glr@cin.ufpe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268280"/>
            <a:ext cx="554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Desenvolvendo Jog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em Java ME para cel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184320" y="2496960"/>
            <a:ext cx="1209600" cy="17672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268360" y="2924280"/>
            <a:ext cx="554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 Black"/>
              </a:rPr>
              <a:t>Aula 2</a:t>
            </a:r>
            <a:br>
              <a:rPr sz="2800"/>
            </a:br>
            <a:r>
              <a:rPr b="1" lang="en-US" sz="2800" spc="-1" strike="noStrike">
                <a:solidFill>
                  <a:srgbClr val="ff9900"/>
                </a:solidFill>
                <a:latin typeface="Arial Black"/>
              </a:rPr>
              <a:t>Prática de jogos em </a:t>
            </a:r>
            <a:br>
              <a:rPr sz="2800"/>
            </a:br>
            <a:r>
              <a:rPr b="1" lang="en-US" sz="2800" spc="-1" strike="noStrike">
                <a:solidFill>
                  <a:srgbClr val="ff9900"/>
                </a:solidFill>
                <a:latin typeface="Arial Black"/>
              </a:rPr>
              <a:t>Java 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lanejando um jog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Fase de game design / concepçã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colha do 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colha da categoria (Arcade, Puzzle, Ação, Esportes,RPG..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Benchmark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atari, mega drive, nintendo 8 bits, et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Multiplaye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ingleplay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elulares fo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aracterísticas de um bom jogo wirel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ápido e fácil de começar e de navegar (evitar uso de muitas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oftkey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 pressionamento de tecla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safiador mas não impossíve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ogos curtos ou com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aveg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m muitas combinações de teclas e reg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lanejando um jogo (cont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Equip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ntre 4 e 7 pesso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Interdisciplinar: artitas gráficos, músicos, game designers, engenheiros de software, engenheiro de testes, etc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Gran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m torno de R$ 120.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Exigências do mercado (desafios extr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iclo de desenvolvimento curto: 3 a 6 me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Verdana"/>
              </a:rPr>
              <a:t>Porte e localizaçã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timização e qualida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stribuiçã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ortais de conteú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scravos das operado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Número de dispositivos é barreira de entr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lanejando um jogo (cont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Limitaçõ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amanho das tel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emória hea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úmero de c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amanho do J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atência da re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usto final do jogo deve ficar entre R$ 5,00 e R$ 10,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usto alto no uso da rede (~1 centavo por kbyte –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$ 1,00 a mais no custo de um jogo de 100 kb, só pra fazer o downloa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Nosso Jogo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0920" y="1295280"/>
            <a:ext cx="8642160" cy="27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nalisamos tudo que foi falado e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Shot´em up game simplificadíiiiiiiiiissimo!! </a:t>
            </a:r>
            <a:r>
              <a:rPr b="0" lang="pt-B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i="1" lang="pt-BR" sz="2200" spc="-1" strike="noStrike">
                <a:solidFill>
                  <a:srgbClr val="ff9900"/>
                </a:solidFill>
                <a:latin typeface="Verdana"/>
              </a:rPr>
              <a:t>Star Hero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 é um jogo singleplayer, no estilo shoot’em up . O jogo consiste em uma espaçonave controlada pelo jogador que trafega pelas galáxias, atirando em inimigos. Essas ações resultam em pontos para o jogador. O objetivo do jogo é acumular o máximo de pontos possíveis.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3492360" y="4149720"/>
            <a:ext cx="175752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Já Temos as Características... Work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rojetando as classes. Precisamos d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 MIDlet (óbvio!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classe que trata os comandos alto-nível e possui o looping básico do jogo (lê entrada, atualiza estado e pinta a tel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classe que representa um elemento do jogo (GameObjec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classe representando a na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classe representando os inimig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classe representando as bal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classe representando a tela principal com a lógica principal do jo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classe com todas as constantes (facilitar o aces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rojeto de clas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641680" y="3139920"/>
            <a:ext cx="1366560" cy="1055880"/>
            <a:chOff x="2641680" y="3139920"/>
            <a:chExt cx="1366560" cy="1055880"/>
          </a:xfrm>
        </p:grpSpPr>
        <p:grpSp>
          <p:nvGrpSpPr>
            <p:cNvPr id="249" name=""/>
            <p:cNvGrpSpPr/>
            <p:nvPr/>
          </p:nvGrpSpPr>
          <p:grpSpPr>
            <a:xfrm>
              <a:off x="2641680" y="3139920"/>
              <a:ext cx="1366560" cy="1055880"/>
              <a:chOff x="2641680" y="3139920"/>
              <a:chExt cx="1366560" cy="1055880"/>
            </a:xfrm>
          </p:grpSpPr>
          <p:sp>
            <p:nvSpPr>
              <p:cNvPr id="250" name=""/>
              <p:cNvSpPr/>
              <p:nvPr/>
            </p:nvSpPr>
            <p:spPr>
              <a:xfrm>
                <a:off x="2641680" y="3139920"/>
                <a:ext cx="1366560" cy="1055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</a:rPr>
                  <a:t>startApp(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</a:rPr>
                  <a:t>pauseApp(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</a:rPr>
                  <a:t>destroyApp(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641680" y="340344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2807640" y="3139920"/>
              <a:ext cx="94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hipMidl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704960" y="5213520"/>
            <a:ext cx="1366560" cy="1055520"/>
            <a:chOff x="1704960" y="5213520"/>
            <a:chExt cx="1366560" cy="1055520"/>
          </a:xfrm>
        </p:grpSpPr>
        <p:grpSp>
          <p:nvGrpSpPr>
            <p:cNvPr id="254" name=""/>
            <p:cNvGrpSpPr/>
            <p:nvPr/>
          </p:nvGrpSpPr>
          <p:grpSpPr>
            <a:xfrm>
              <a:off x="1704960" y="5213520"/>
              <a:ext cx="1366560" cy="1055520"/>
              <a:chOff x="1704960" y="5213520"/>
              <a:chExt cx="1366560" cy="1055520"/>
            </a:xfrm>
          </p:grpSpPr>
          <p:sp>
            <p:nvSpPr>
              <p:cNvPr id="255" name=""/>
              <p:cNvSpPr/>
              <p:nvPr/>
            </p:nvSpPr>
            <p:spPr>
              <a:xfrm>
                <a:off x="1704960" y="5213520"/>
                <a:ext cx="136656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704960" y="547668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1777320" y="5213520"/>
              <a:ext cx="121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hipControl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6300720" y="1700280"/>
            <a:ext cx="1366560" cy="1055520"/>
            <a:chOff x="6300720" y="1700280"/>
            <a:chExt cx="1366560" cy="1055520"/>
          </a:xfrm>
        </p:grpSpPr>
        <p:grpSp>
          <p:nvGrpSpPr>
            <p:cNvPr id="259" name=""/>
            <p:cNvGrpSpPr/>
            <p:nvPr/>
          </p:nvGrpSpPr>
          <p:grpSpPr>
            <a:xfrm>
              <a:off x="6300720" y="1700280"/>
              <a:ext cx="1366560" cy="1055520"/>
              <a:chOff x="6300720" y="1700280"/>
              <a:chExt cx="1366560" cy="1055520"/>
            </a:xfrm>
          </p:grpSpPr>
          <p:sp>
            <p:nvSpPr>
              <p:cNvPr id="260" name=""/>
              <p:cNvSpPr/>
              <p:nvPr/>
            </p:nvSpPr>
            <p:spPr>
              <a:xfrm>
                <a:off x="6300720" y="1700280"/>
                <a:ext cx="136656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300720" y="196344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447240" y="1700280"/>
              <a:ext cx="107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ameOb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5856120" y="3284640"/>
            <a:ext cx="1366560" cy="1055520"/>
            <a:chOff x="5856120" y="3284640"/>
            <a:chExt cx="1366560" cy="1055520"/>
          </a:xfrm>
        </p:grpSpPr>
        <p:grpSp>
          <p:nvGrpSpPr>
            <p:cNvPr id="264" name=""/>
            <p:cNvGrpSpPr/>
            <p:nvPr/>
          </p:nvGrpSpPr>
          <p:grpSpPr>
            <a:xfrm>
              <a:off x="5856120" y="3284640"/>
              <a:ext cx="1366560" cy="1055520"/>
              <a:chOff x="5856120" y="3284640"/>
              <a:chExt cx="1366560" cy="1055520"/>
            </a:xfrm>
          </p:grpSpPr>
          <p:sp>
            <p:nvSpPr>
              <p:cNvPr id="265" name=""/>
              <p:cNvSpPr/>
              <p:nvPr/>
            </p:nvSpPr>
            <p:spPr>
              <a:xfrm>
                <a:off x="5856120" y="3284640"/>
                <a:ext cx="136656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856120" y="354780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6296040" y="3284640"/>
              <a:ext cx="49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h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7296120" y="3933720"/>
            <a:ext cx="1366560" cy="1055520"/>
            <a:chOff x="7296120" y="3933720"/>
            <a:chExt cx="1366560" cy="1055520"/>
          </a:xfrm>
        </p:grpSpPr>
        <p:grpSp>
          <p:nvGrpSpPr>
            <p:cNvPr id="269" name=""/>
            <p:cNvGrpSpPr/>
            <p:nvPr/>
          </p:nvGrpSpPr>
          <p:grpSpPr>
            <a:xfrm>
              <a:off x="7296120" y="3933720"/>
              <a:ext cx="1366560" cy="1055520"/>
              <a:chOff x="7296120" y="3933720"/>
              <a:chExt cx="1366560" cy="1055520"/>
            </a:xfrm>
          </p:grpSpPr>
          <p:sp>
            <p:nvSpPr>
              <p:cNvPr id="270" name=""/>
              <p:cNvSpPr/>
              <p:nvPr/>
            </p:nvSpPr>
            <p:spPr>
              <a:xfrm>
                <a:off x="7296120" y="3933720"/>
                <a:ext cx="136656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296120" y="419688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7738200" y="39337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Fi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416480" y="2852640"/>
            <a:ext cx="1366560" cy="1055520"/>
            <a:chOff x="4416480" y="2852640"/>
            <a:chExt cx="1366560" cy="1055520"/>
          </a:xfrm>
        </p:grpSpPr>
        <p:grpSp>
          <p:nvGrpSpPr>
            <p:cNvPr id="274" name=""/>
            <p:cNvGrpSpPr/>
            <p:nvPr/>
          </p:nvGrpSpPr>
          <p:grpSpPr>
            <a:xfrm>
              <a:off x="4416480" y="2852640"/>
              <a:ext cx="1366560" cy="1055520"/>
              <a:chOff x="4416480" y="2852640"/>
              <a:chExt cx="1366560" cy="1055520"/>
            </a:xfrm>
          </p:grpSpPr>
          <p:sp>
            <p:nvSpPr>
              <p:cNvPr id="275" name=""/>
              <p:cNvSpPr/>
              <p:nvPr/>
            </p:nvSpPr>
            <p:spPr>
              <a:xfrm>
                <a:off x="4416480" y="2852640"/>
                <a:ext cx="136656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416480" y="311580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4796640" y="2852640"/>
              <a:ext cx="66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nem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471480" y="5227560"/>
            <a:ext cx="1411920" cy="1055520"/>
            <a:chOff x="3471480" y="5227560"/>
            <a:chExt cx="1411920" cy="1055520"/>
          </a:xfrm>
        </p:grpSpPr>
        <p:grpSp>
          <p:nvGrpSpPr>
            <p:cNvPr id="279" name=""/>
            <p:cNvGrpSpPr/>
            <p:nvPr/>
          </p:nvGrpSpPr>
          <p:grpSpPr>
            <a:xfrm>
              <a:off x="3471480" y="5227560"/>
              <a:ext cx="1366560" cy="1055520"/>
              <a:chOff x="3471480" y="5227560"/>
              <a:chExt cx="1366560" cy="1055520"/>
            </a:xfrm>
          </p:grpSpPr>
          <p:sp>
            <p:nvSpPr>
              <p:cNvPr id="280" name=""/>
              <p:cNvSpPr/>
              <p:nvPr/>
            </p:nvSpPr>
            <p:spPr>
              <a:xfrm>
                <a:off x="3471480" y="5227560"/>
                <a:ext cx="136656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471480" y="549072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3480480" y="522756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hipGameScre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7308720" y="5300640"/>
            <a:ext cx="1366560" cy="1055880"/>
            <a:chOff x="7308720" y="5300640"/>
            <a:chExt cx="1366560" cy="1055880"/>
          </a:xfrm>
        </p:grpSpPr>
        <p:grpSp>
          <p:nvGrpSpPr>
            <p:cNvPr id="284" name=""/>
            <p:cNvGrpSpPr/>
            <p:nvPr/>
          </p:nvGrpSpPr>
          <p:grpSpPr>
            <a:xfrm>
              <a:off x="7308720" y="5300640"/>
              <a:ext cx="1366560" cy="1055880"/>
              <a:chOff x="7308720" y="5300640"/>
              <a:chExt cx="1366560" cy="1055880"/>
            </a:xfrm>
          </p:grpSpPr>
          <p:sp>
            <p:nvSpPr>
              <p:cNvPr id="285" name=""/>
              <p:cNvSpPr/>
              <p:nvPr/>
            </p:nvSpPr>
            <p:spPr>
              <a:xfrm>
                <a:off x="7308720" y="5300640"/>
                <a:ext cx="1366560" cy="1055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308720" y="556416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7542000" y="530064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onsta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 flipV="1">
            <a:off x="5208480" y="2420640"/>
            <a:ext cx="10191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6361200" y="2781360"/>
            <a:ext cx="5158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7451640" y="2781000"/>
            <a:ext cx="5652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280960" y="4219560"/>
            <a:ext cx="86364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89320" y="4219560"/>
            <a:ext cx="86364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73320" y="5732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27640" y="3933360"/>
            <a:ext cx="5047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4572000" y="4076640"/>
            <a:ext cx="128412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4859280" y="4797360"/>
            <a:ext cx="2403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78040" y="5492880"/>
            <a:ext cx="1323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un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etPaused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etGameOver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mmandAction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21080" y="5516640"/>
            <a:ext cx="1476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oadGameObjects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pdate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aint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keyPressed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302520" y="191124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pplySpeed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ersects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pdate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418280" y="2997360"/>
            <a:ext cx="79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pdate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raw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857920" y="3429000"/>
            <a:ext cx="79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pdate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raw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297920" y="4005360"/>
            <a:ext cx="79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pdate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raw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771640" y="1916280"/>
            <a:ext cx="1209960" cy="720720"/>
            <a:chOff x="2771640" y="1916280"/>
            <a:chExt cx="1209960" cy="720720"/>
          </a:xfrm>
        </p:grpSpPr>
        <p:sp>
          <p:nvSpPr>
            <p:cNvPr id="304" name=""/>
            <p:cNvSpPr/>
            <p:nvPr/>
          </p:nvSpPr>
          <p:spPr>
            <a:xfrm>
              <a:off x="2771640" y="1916280"/>
              <a:ext cx="12099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771640" y="2095920"/>
              <a:ext cx="120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3070800" y="184464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D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348000" y="26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71920" y="2852640"/>
            <a:ext cx="75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&lt;&lt;extends&gt;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63200" y="2781360"/>
            <a:ext cx="75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&lt;&lt;extends&gt;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082480" y="2349360"/>
            <a:ext cx="75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&lt;&lt;extends&gt;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63560" y="2924280"/>
            <a:ext cx="75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&lt;&lt;extends&gt;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71640" y="3500280"/>
            <a:ext cx="360360" cy="4334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0920" y="4581360"/>
            <a:ext cx="360360" cy="4320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5160" y="3213000"/>
            <a:ext cx="15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Liste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-10440" y="42735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unn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610920" y="5013360"/>
            <a:ext cx="108108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5300640"/>
            <a:ext cx="941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&lt;&lt;implements&gt;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55880" y="4292640"/>
            <a:ext cx="941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&lt;&lt;implements&gt;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1331640" y="4005000"/>
            <a:ext cx="865080" cy="115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649400" y="400536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025760" y="48690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6372360" y="620640"/>
            <a:ext cx="1209600" cy="720720"/>
            <a:chOff x="6372360" y="620640"/>
            <a:chExt cx="1209600" cy="720720"/>
          </a:xfrm>
        </p:grpSpPr>
        <p:sp>
          <p:nvSpPr>
            <p:cNvPr id="323" name=""/>
            <p:cNvSpPr/>
            <p:nvPr/>
          </p:nvSpPr>
          <p:spPr>
            <a:xfrm>
              <a:off x="6372360" y="620640"/>
              <a:ext cx="120960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372360" y="800280"/>
              <a:ext cx="12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6678000" y="582480"/>
            <a:ext cx="60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7020000" y="134100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63560" y="1413000"/>
            <a:ext cx="75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&lt;&lt;extends&gt;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72360" y="620640"/>
            <a:ext cx="1224000" cy="720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ntes de codificar, vamos ver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Recursos de jogos do MIDP 2.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azer nosso GameObject herdar do Sprite de MIDP 2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r colisão do sprite de MIDP2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r GameCanv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r tratamento de teclas usando getKeyStates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r back buffer usando getGraphics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r full scre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dição de som (sugestão MID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684360" y="1747800"/>
            <a:ext cx="7920000" cy="7192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iclo de desenvolvimento deve ser rápido (&lt;6 mese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torno do investimento len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rcado: Cadeia de Val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790560" y="2157480"/>
            <a:ext cx="1676520" cy="121896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00" y="0"/>
                </a:lnTo>
                <a:lnTo>
                  <a:pt x="21600" y="10800"/>
                </a:lnTo>
                <a:lnTo>
                  <a:pt x="19400" y="21600"/>
                </a:lnTo>
                <a:lnTo>
                  <a:pt x="0" y="21600"/>
                </a:lnTo>
                <a:lnTo>
                  <a:pt x="2200" y="10800"/>
                </a:lnTo>
                <a:close/>
              </a:path>
            </a:pathLst>
          </a:cu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4240" y="2843280"/>
            <a:ext cx="18288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19160" y="2241720"/>
            <a:ext cx="12985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146240" y="2766960"/>
            <a:ext cx="1295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95360" y="2157480"/>
            <a:ext cx="1528920" cy="1218960"/>
          </a:xfrm>
          <a:custGeom>
            <a:avLst/>
            <a:gdLst>
              <a:gd name="textAreaLeft" fmla="*/ 0 w 1528920"/>
              <a:gd name="textAreaRight" fmla="*/ 1529280 w 15289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00" y="0"/>
                </a:lnTo>
                <a:lnTo>
                  <a:pt x="21600" y="10800"/>
                </a:lnTo>
                <a:lnTo>
                  <a:pt x="19400" y="21600"/>
                </a:lnTo>
                <a:lnTo>
                  <a:pt x="0" y="21600"/>
                </a:lnTo>
                <a:lnTo>
                  <a:pt x="220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22800" y="2157480"/>
            <a:ext cx="1447920" cy="121896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00" y="0"/>
                </a:lnTo>
                <a:lnTo>
                  <a:pt x="21600" y="10800"/>
                </a:lnTo>
                <a:lnTo>
                  <a:pt x="19400" y="21600"/>
                </a:lnTo>
                <a:lnTo>
                  <a:pt x="0" y="21600"/>
                </a:lnTo>
                <a:lnTo>
                  <a:pt x="220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11520" y="262908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60840" y="2157480"/>
            <a:ext cx="1295280" cy="12189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74" y="0"/>
                </a:lnTo>
                <a:lnTo>
                  <a:pt x="21600" y="10800"/>
                </a:lnTo>
                <a:lnTo>
                  <a:pt x="18874" y="21600"/>
                </a:lnTo>
                <a:lnTo>
                  <a:pt x="0" y="21600"/>
                </a:lnTo>
                <a:lnTo>
                  <a:pt x="2726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3840" y="2157480"/>
            <a:ext cx="1371600" cy="121896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50" y="0"/>
                </a:lnTo>
                <a:lnTo>
                  <a:pt x="21600" y="10800"/>
                </a:lnTo>
                <a:lnTo>
                  <a:pt x="19750" y="21600"/>
                </a:lnTo>
                <a:lnTo>
                  <a:pt x="0" y="21600"/>
                </a:lnTo>
                <a:lnTo>
                  <a:pt x="185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bi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7880" y="26146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s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18440" y="2157480"/>
            <a:ext cx="1218960" cy="121896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00" y="0"/>
                </a:lnTo>
                <a:lnTo>
                  <a:pt x="21600" y="10800"/>
                </a:lnTo>
                <a:lnTo>
                  <a:pt x="19400" y="21600"/>
                </a:lnTo>
                <a:lnTo>
                  <a:pt x="0" y="21600"/>
                </a:lnTo>
                <a:lnTo>
                  <a:pt x="220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89720" y="262908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-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660840" y="2157480"/>
            <a:ext cx="2514600" cy="1218960"/>
            <a:chOff x="3660840" y="2157480"/>
            <a:chExt cx="2514600" cy="1218960"/>
          </a:xfrm>
        </p:grpSpPr>
        <p:sp>
          <p:nvSpPr>
            <p:cNvPr id="113" name=""/>
            <p:cNvSpPr/>
            <p:nvPr/>
          </p:nvSpPr>
          <p:spPr>
            <a:xfrm>
              <a:off x="3660840" y="2157480"/>
              <a:ext cx="1295280" cy="121896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74" y="0"/>
                  </a:lnTo>
                  <a:lnTo>
                    <a:pt x="21600" y="10800"/>
                  </a:lnTo>
                  <a:lnTo>
                    <a:pt x="18874" y="21600"/>
                  </a:lnTo>
                  <a:lnTo>
                    <a:pt x="0" y="21600"/>
                  </a:lnTo>
                  <a:lnTo>
                    <a:pt x="2726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03840" y="2157480"/>
              <a:ext cx="1371600" cy="121896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750" y="0"/>
                  </a:lnTo>
                  <a:lnTo>
                    <a:pt x="21600" y="10800"/>
                  </a:lnTo>
                  <a:lnTo>
                    <a:pt x="19750" y="21600"/>
                  </a:lnTo>
                  <a:lnTo>
                    <a:pt x="0" y="21600"/>
                  </a:lnTo>
                  <a:lnTo>
                    <a:pt x="185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bile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r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37880" y="261468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ublis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917640" y="2766960"/>
            <a:ext cx="1523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76360" y="170028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Verdana"/>
              </a:rPr>
              <a:t>Fluxo de produção &gt;&gt;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76360" y="342756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Verdana"/>
              </a:rPr>
              <a:t>&lt;&lt;&lt; Fluxo de receita (R$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cote Jogos MIDP 2.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223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>
              <a:spcBef>
                <a:spcPts val="176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MIDP 2.0 Packag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avax.microedition.lcdui.g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ide AP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77240">
              <a:spcBef>
                <a:spcPts val="125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ff3300"/>
                </a:solidFill>
                <a:latin typeface="Verdana"/>
              </a:rPr>
              <a:t>http://java.sun.com/javame/reference/apis/jsr118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258920" y="2781360"/>
            <a:ext cx="6049800" cy="1728720"/>
            <a:chOff x="1258920" y="2781360"/>
            <a:chExt cx="6049800" cy="1728720"/>
          </a:xfrm>
        </p:grpSpPr>
        <p:sp>
          <p:nvSpPr>
            <p:cNvPr id="335" name=""/>
            <p:cNvSpPr/>
            <p:nvPr/>
          </p:nvSpPr>
          <p:spPr>
            <a:xfrm>
              <a:off x="1258920" y="3070080"/>
              <a:ext cx="4249800" cy="14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96000" y="3070080"/>
              <a:ext cx="1512720" cy="14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33600" y="3286080"/>
              <a:ext cx="5709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ay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06240" y="4078440"/>
              <a:ext cx="9151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iledLay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41200" y="4078440"/>
              <a:ext cx="6012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pr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25160" y="3286080"/>
              <a:ext cx="1217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ayerMana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07240" y="4078440"/>
              <a:ext cx="1118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ameCanv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2" name=""/>
            <p:cNvCxnSpPr>
              <a:stCxn id="338" idx="0"/>
              <a:endCxn id="337" idx="2"/>
            </p:cNvCxnSpPr>
            <p:nvPr/>
          </p:nvCxnSpPr>
          <p:spPr>
            <a:xfrm flipH="1" flipV="1" rot="5400000">
              <a:off x="2086920" y="3445920"/>
              <a:ext cx="509040" cy="756360"/>
            </a:xfrm>
            <a:prstGeom prst="bentConnector3">
              <a:avLst>
                <a:gd name="adj1" fmla="val 499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3" name=""/>
            <p:cNvCxnSpPr>
              <a:stCxn id="339" idx="0"/>
              <a:endCxn id="337" idx="2"/>
            </p:cNvCxnSpPr>
            <p:nvPr/>
          </p:nvCxnSpPr>
          <p:spPr>
            <a:xfrm flipV="1" rot="16200000">
              <a:off x="2725920" y="3562560"/>
              <a:ext cx="509040" cy="523080"/>
            </a:xfrm>
            <a:prstGeom prst="bentConnector3">
              <a:avLst>
                <a:gd name="adj1" fmla="val 499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4" name=""/>
            <p:cNvCxnSpPr>
              <a:stCxn id="337" idx="3"/>
              <a:endCxn id="340" idx="1"/>
            </p:cNvCxnSpPr>
            <p:nvPr/>
          </p:nvCxnSpPr>
          <p:spPr>
            <a:xfrm>
              <a:off x="3027240" y="3428640"/>
              <a:ext cx="96912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45" name=""/>
            <p:cNvSpPr/>
            <p:nvPr/>
          </p:nvSpPr>
          <p:spPr>
            <a:xfrm>
              <a:off x="2995920" y="3213000"/>
              <a:ext cx="26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73680" y="2781360"/>
              <a:ext cx="5893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8120" y="4078440"/>
              <a:ext cx="6926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anv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8" name=""/>
            <p:cNvCxnSpPr>
              <a:stCxn id="341" idx="3"/>
              <a:endCxn id="347" idx="1"/>
            </p:cNvCxnSpPr>
            <p:nvPr/>
          </p:nvCxnSpPr>
          <p:spPr>
            <a:xfrm>
              <a:off x="5265360" y="4220640"/>
              <a:ext cx="90396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9" name=""/>
            <p:cNvSpPr/>
            <p:nvPr/>
          </p:nvSpPr>
          <p:spPr>
            <a:xfrm>
              <a:off x="5808600" y="2781360"/>
              <a:ext cx="5220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cd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43680" y="3286080"/>
              <a:ext cx="10065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isplay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1" name=""/>
            <p:cNvCxnSpPr>
              <a:stCxn id="347" idx="0"/>
              <a:endCxn id="350" idx="2"/>
            </p:cNvCxnSpPr>
            <p:nvPr/>
          </p:nvCxnSpPr>
          <p:spPr>
            <a:xfrm flipH="1" flipV="1" rot="5400000">
              <a:off x="6291360" y="3822840"/>
              <a:ext cx="509040" cy="2520"/>
            </a:xfrm>
            <a:prstGeom prst="bentConnector3">
              <a:avLst>
                <a:gd name="adj1" fmla="val 499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2" name=""/>
            <p:cNvSpPr/>
            <p:nvPr/>
          </p:nvSpPr>
          <p:spPr>
            <a:xfrm>
              <a:off x="2916360" y="4076640"/>
              <a:ext cx="647640" cy="2890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416320" y="3284640"/>
              <a:ext cx="618840" cy="28872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2702160" y="4724280"/>
            <a:ext cx="1072440" cy="276480"/>
          </a:xfrm>
          <a:prstGeom prst="rect">
            <a:avLst/>
          </a:prstGeom>
          <a:solidFill>
            <a:srgbClr val="ffc0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me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0"/>
            <a:endCxn id="352" idx="2"/>
          </p:cNvCxnSpPr>
          <p:nvPr/>
        </p:nvCxnSpPr>
        <p:spPr>
          <a:xfrm flipH="1" flipV="1" rot="5400000">
            <a:off x="3069360" y="4553280"/>
            <a:ext cx="340200" cy="2160"/>
          </a:xfrm>
          <a:prstGeom prst="bentConnector3">
            <a:avLst>
              <a:gd name="adj1" fmla="val 527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pri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3780000" y="5589720"/>
            <a:ext cx="914400" cy="34272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826920" y="1700280"/>
            <a:ext cx="3743640" cy="22669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4"/>
          <a:stretch/>
        </p:blipFill>
        <p:spPr>
          <a:xfrm>
            <a:off x="561960" y="1473120"/>
            <a:ext cx="4905360" cy="2914560"/>
          </a:xfrm>
          <a:prstGeom prst="rect">
            <a:avLst/>
          </a:prstGeom>
          <a:ln w="0">
            <a:noFill/>
          </a:ln>
        </p:spPr>
      </p:pic>
      <p:grpSp>
        <p:nvGrpSpPr>
          <p:cNvPr id="361" name=""/>
          <p:cNvGrpSpPr/>
          <p:nvPr/>
        </p:nvGrpSpPr>
        <p:grpSpPr>
          <a:xfrm>
            <a:off x="3635280" y="1341360"/>
            <a:ext cx="4997520" cy="4638600"/>
            <a:chOff x="3635280" y="1341360"/>
            <a:chExt cx="4997520" cy="4638600"/>
          </a:xfrm>
        </p:grpSpPr>
        <p:pic>
          <p:nvPicPr>
            <p:cNvPr id="362" name="" descr=""/>
            <p:cNvPicPr/>
            <p:nvPr/>
          </p:nvPicPr>
          <p:blipFill>
            <a:blip r:embed="rId5"/>
            <a:stretch/>
          </p:blipFill>
          <p:spPr>
            <a:xfrm>
              <a:off x="5651640" y="1341360"/>
              <a:ext cx="2981160" cy="463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6"/>
            <a:stretch/>
          </p:blipFill>
          <p:spPr>
            <a:xfrm>
              <a:off x="3635280" y="3068640"/>
              <a:ext cx="1152720" cy="39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4" name=""/>
          <p:cNvSpPr/>
          <p:nvPr/>
        </p:nvSpPr>
        <p:spPr>
          <a:xfrm>
            <a:off x="5580000" y="1341360"/>
            <a:ext cx="3095640" cy="5749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74800" y="4365720"/>
            <a:ext cx="369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Verdana"/>
              </a:rPr>
              <a:t>Sprite s = new Sprite(image, frameWidth, frameHeight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635280" y="5084640"/>
            <a:ext cx="12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Verdana"/>
              </a:rPr>
              <a:t>s.move(10, 0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Verdana"/>
              </a:rPr>
              <a:t>s.nextFram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971600" y="957240"/>
            <a:ext cx="339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Verdana"/>
              </a:rPr>
              <a:t>s.setFrameSequence(new int[]{0, 1, 2, … , 1, 1, 1, 1}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641760" y="5084640"/>
            <a:ext cx="1297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Verdana"/>
              </a:rPr>
              <a:t>s.nextFram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Consta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748720" cy="307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mandos do jo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aracterísticas dos obje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eclarar frame sequences (</a:t>
            </a:r>
            <a:r>
              <a:rPr b="0" lang="pt-BR" sz="1800" spc="-1" strike="noStrike">
                <a:solidFill>
                  <a:srgbClr val="ff3300"/>
                </a:solidFill>
                <a:latin typeface="Verdana"/>
              </a:rPr>
              <a:t>exercíci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aracterísticas do aparelho (largura e altura da tel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magens usadas pelos obje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étodo para carregar as imagens (loadImages()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900000" y="3141720"/>
            <a:ext cx="1814760" cy="3078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3348000" y="3068640"/>
            <a:ext cx="122544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ShipMidl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ossui referência para a tela principal do jo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ossui referência para o controlador do jo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icializa os objetos acima no startApp(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icializa o looping do jogo no controlad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ostra a tela do jog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ShipControll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hread que contêm o looping do jo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rata todos os comandos “alto nível”do jo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trola o estado de pause/resume do jogo (lembrar que não tem relação com o pauseApp()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GameOb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Herda de javax.microedition.lcdui.game.Spr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osição x e y na te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ltura e largu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Frame sequence para controlar as animaçõ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Representação gráfica (método paint()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etecção de colisã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ten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Velocidades horizontal e vertic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Método abstrato update(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sponsabilidades das subclasses: Ship, Enemy e F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Inicializar frame sequences nos construtores e nas mudanças de estado das clas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Fazendo isso, não é necessário especializar o método paint(), ou seja, a lógica de renderização é reusad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Shi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É um GameObjec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rray de bal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dicação se a nave está explodin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icializar frame sequences nos construtores e nas mudanças de estado das clas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étodos para mover a na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étodo pra disparar bal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Fi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É um GameObjec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ratamento ao sair da tel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tualiza a posição, dada a velocidad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Enem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É um GameObjec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ossui um comportamento ingênuo (randômic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dicação se a nave está explodin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icializa os frame sequences nos construtores e nas mudanças de estado das classes (</a:t>
            </a:r>
            <a:r>
              <a:rPr b="0" lang="pt-BR" sz="2200" spc="-1" strike="noStrike">
                <a:solidFill>
                  <a:srgbClr val="ff3300"/>
                </a:solidFill>
                <a:latin typeface="Verdana"/>
              </a:rPr>
              <a:t>exercício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ShipGameScre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icializa e possui todos os objetos do jogo (Nave, Inimigos e Balas)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entraliza a atualização dos estados dos objetos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trola colisão de balas com inimig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trola colisão de inimigos com a nave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Renderiza todos os objetos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trola e pinta informações do jogo (pontuação, level e vid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rata pressionamento das teclas (esquerda,direita e fire)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rcado: Visão ger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rincipais Players: EA Mobile (Jamdat), Gameloft (Ubi Software), Glu Mobile, Digital Chocolate, Hands On e I-Pla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mpresas com atuação mundia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aturamentos crescentes e superiores a </a:t>
            </a:r>
            <a:r>
              <a:rPr b="1" lang="pt-BR" sz="2000" spc="-1" strike="noStrike">
                <a:solidFill>
                  <a:srgbClr val="ff3300"/>
                </a:solidFill>
                <a:latin typeface="Verdana"/>
              </a:rPr>
              <a:t>60 milhõ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de dólares por a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odelo de negócios padrão: revenue share em cima das vendas das operadoras para os usuários fina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ercando em processo de consolidaçã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000" y="26366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BUILD &amp; RUN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Deplo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Over the Air” (OT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abo seri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fra vermelh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"/>
          <p:cNvSpPr/>
          <p:nvPr/>
        </p:nvSpPr>
        <p:spPr>
          <a:xfrm>
            <a:off x="5079960" y="2068560"/>
            <a:ext cx="1298520" cy="1519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5345280" y="2205000"/>
            <a:ext cx="698400" cy="115272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2987640" y="206064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4"/>
          <a:stretch/>
        </p:blipFill>
        <p:spPr>
          <a:xfrm>
            <a:off x="2556000" y="321300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5"/>
          <a:stretch/>
        </p:blipFill>
        <p:spPr>
          <a:xfrm>
            <a:off x="3019320" y="528948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6"/>
          <a:stretch/>
        </p:blipFill>
        <p:spPr>
          <a:xfrm>
            <a:off x="5180040" y="550548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7"/>
          <a:stretch/>
        </p:blipFill>
        <p:spPr>
          <a:xfrm>
            <a:off x="7267680" y="528948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8"/>
          <a:stretch/>
        </p:blipFill>
        <p:spPr>
          <a:xfrm>
            <a:off x="7701120" y="3489480"/>
            <a:ext cx="607680" cy="67464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9"/>
          <a:stretch/>
        </p:blipFill>
        <p:spPr>
          <a:xfrm>
            <a:off x="7556400" y="2048040"/>
            <a:ext cx="608040" cy="6746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 flipH="1" flipV="1">
            <a:off x="3713040" y="2282760"/>
            <a:ext cx="720720" cy="225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400200" y="3049560"/>
            <a:ext cx="1106280" cy="3938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5579640" y="3933720"/>
            <a:ext cx="1800" cy="1293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305400" y="3805200"/>
            <a:ext cx="865440" cy="1295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689880" y="3105000"/>
            <a:ext cx="768240" cy="338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3905280" y="3836880"/>
            <a:ext cx="960480" cy="1406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97640" y="1065240"/>
            <a:ext cx="1243080" cy="635040"/>
          </a:xfrm>
          <a:prstGeom prst="wedgeRoundRectCallout">
            <a:avLst>
              <a:gd name="adj1" fmla="val -77967"/>
              <a:gd name="adj2" fmla="val 88750"/>
              <a:gd name="adj3" fmla="val 16667"/>
            </a:avLst>
          </a:prstGeom>
          <a:solidFill>
            <a:srgbClr val="ffcc00">
              <a:alpha val="65000"/>
            </a:srgbClr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MIDLet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29960" y="1998720"/>
            <a:ext cx="113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descobe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57880" y="372600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instal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339880" y="62467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5724360" y="3933720"/>
            <a:ext cx="1800" cy="1293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910560" y="365436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Atualiz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695000" y="271764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remo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98640" y="581508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400" spc="-1" strike="noStrike">
                <a:solidFill>
                  <a:srgbClr val="000000"/>
                </a:solidFill>
                <a:latin typeface="Arial"/>
              </a:rPr>
              <a:t>confirm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811280" y="566100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400" spc="-1" strike="noStrike">
                <a:solidFill>
                  <a:srgbClr val="000000"/>
                </a:solidFill>
                <a:latin typeface="Arial"/>
              </a:rPr>
              <a:t>checag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16200000">
            <a:off x="3648960" y="3008520"/>
            <a:ext cx="507960" cy="4748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189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j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6265800" y="4107960"/>
            <a:ext cx="507960" cy="4381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189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ja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2916000" y="2637000"/>
            <a:ext cx="191880" cy="56340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76680" y="3902040"/>
            <a:ext cx="288720" cy="112572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000680" y="5724360"/>
            <a:ext cx="1153800" cy="16848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6089760" y="5724360"/>
            <a:ext cx="1152360" cy="16848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7740720" y="4220640"/>
            <a:ext cx="288720" cy="95580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 flipV="1">
            <a:off x="8058240" y="3129120"/>
            <a:ext cx="47520" cy="67464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0"/>
          <a:stretch/>
        </p:blipFill>
        <p:spPr>
          <a:xfrm>
            <a:off x="3984480" y="4160880"/>
            <a:ext cx="457200" cy="5065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11"/>
          <a:stretch/>
        </p:blipFill>
        <p:spPr>
          <a:xfrm>
            <a:off x="6649920" y="3008160"/>
            <a:ext cx="457200" cy="5065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4072320" y="46530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618600" y="26575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Melhor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dição de splash scree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dição de men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elhorar tela de game o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abela com recordes (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Background com 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scroll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hefe de f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leta de itens (campo de força, diferentes tiros, etc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ipos diferentes de inimigo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.A dos inimig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pload de pontuaçã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Melhorias no uso de MIDP 2.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Outros recursos de jogos do MIDP 2.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r GameCanv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r tratamento de teclas usando getKeyStates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r back buffer usando getGraphics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r full scre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dição de som (sugestão MID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Otimize, se necessár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Obfuscadores para diminuir tamanho de códi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guard, Retroguard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autela no uso de herança e excesso de clas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Evite usar classes anônimas ou aninhad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cessos a variáveis estáticas e métodos estáticos é mais rápi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rrays no lugar de Vect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Loops de trás pra frente (comparação com 0,null e false é mais rápid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Reuse obje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uidado no uso de Str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Otimização (cont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mbine várias imagens em uma só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Número de cores das image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so do Clip pra pintur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reocupaçõ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amanho do Jar (64k ~ 150k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emória (200k ~ 1 M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cessamento (5 fps ~ 12 fp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2771640" y="2205000"/>
          <a:ext cx="844560" cy="146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71640" y="2205000"/>
                    <a:ext cx="84456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3995640" y="2276640"/>
          <a:ext cx="2732040" cy="306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95640" y="2276640"/>
                    <a:ext cx="273204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5004720" y="2708280"/>
            <a:ext cx="68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P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.7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834560" y="3213000"/>
            <a:ext cx="68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 P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6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Um pouco mais sobre por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ortância do por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a parte do desenvolvimento (~ 40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nsar no porte desde o projeto do jo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emplos de variaçõ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manho de te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I de s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rsão API (MIDP 1.0 ou 2.0, et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gs do celul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ários idiom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ionalidades do jo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tc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ca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ega-se a gerar +2000 versões de uma aplic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Boas práticas para o por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nter código únic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é-processamento //#ifdef &lt;symbol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  <a:hlinkClick r:id="rId2"/>
              </a:rPr>
              <a:t>http://antenna.sourceforge.net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Verdana"/>
                <a:hlinkClick r:id="rId3"/>
              </a:rPr>
              <a:t>http://eclipseme.org/index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pec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squisa acadêm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stemas de bui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ponsável por gerar as várias versões da aplic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é-processa código antes de compil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rencia resources: seleciona arquivos (imagens, sons, etc) por vers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pacota tudo gerando executáveis (jar e ja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Verdana"/>
                <a:hlinkClick r:id="rId4"/>
              </a:rPr>
              <a:t>http://ant.apache.org/manual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Dicas fina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Sites interessan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http://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  <a:hlinkClick r:id="rId2"/>
              </a:rPr>
              <a:t>www.forum.nokia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http://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  <a:hlinkClick r:id="rId3"/>
              </a:rPr>
              <a:t>www.motocoder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  <a:hlinkClick r:id="rId4"/>
              </a:rPr>
              <a:t>http://wireless.java.sun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  <a:hlinkClick r:id="rId5"/>
              </a:rPr>
              <a:t>http://www.microjava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  <a:hlinkClick r:id="rId6"/>
              </a:rPr>
              <a:t>http://www.midlet-review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Listas de discussã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kvm-inter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2me-brasi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23640" y="270792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Obrigado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1476360" y="386064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Dúvidas, questionamentos ou afliçõe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tarcisio.camara@meantime.com.b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rincipais Tecnolog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MS/M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ogos baseados na troca de mensagens (forca, quiz, penalty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WAP/xHTML/iM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ogos baseados em páginas estáticas (velha, pedra papel tesoura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Brew (Binary Runtime Environment for Window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mbiente de execução para chipset Qualcom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++ e API definida pela Qualcomm (animações, som, recursos de rede, etc..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rincipal mercado: EU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ava 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 otimizado para dispositivos com limitaçõ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dotado por todos os maiores players do merc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PI’s especificadas pela comunidade JC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Verdana"/>
              </a:rPr>
              <a:t>Padrão do merc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pri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4788000" y="836640"/>
            <a:ext cx="3381120" cy="5476680"/>
          </a:xfrm>
          <a:prstGeom prst="rect">
            <a:avLst/>
          </a:prstGeom>
          <a:ln w="0">
            <a:noFill/>
          </a:ln>
        </p:spPr>
      </p:pic>
      <p:grpSp>
        <p:nvGrpSpPr>
          <p:cNvPr id="451" name=""/>
          <p:cNvGrpSpPr/>
          <p:nvPr/>
        </p:nvGrpSpPr>
        <p:grpSpPr>
          <a:xfrm>
            <a:off x="611280" y="1341360"/>
            <a:ext cx="3132720" cy="750960"/>
            <a:chOff x="611280" y="1341360"/>
            <a:chExt cx="3132720" cy="750960"/>
          </a:xfrm>
        </p:grpSpPr>
        <p:pic>
          <p:nvPicPr>
            <p:cNvPr id="452" name="" descr=""/>
            <p:cNvPicPr/>
            <p:nvPr/>
          </p:nvPicPr>
          <p:blipFill>
            <a:blip r:embed="rId3"/>
            <a:stretch/>
          </p:blipFill>
          <p:spPr>
            <a:xfrm>
              <a:off x="611280" y="1341360"/>
              <a:ext cx="2581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1778760" y="1846080"/>
              <a:ext cx="19652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Verdana"/>
                </a:rPr>
                <a:t>defineReferencePixel(76, 2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5466240" y="620640"/>
            <a:ext cx="2109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Verdana"/>
              </a:rPr>
              <a:t>setTransform(Sprite.TRANS_…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11280" y="2276640"/>
            <a:ext cx="3410280" cy="1895400"/>
            <a:chOff x="611280" y="2276640"/>
            <a:chExt cx="3410280" cy="1895400"/>
          </a:xfrm>
        </p:grpSpPr>
        <p:pic>
          <p:nvPicPr>
            <p:cNvPr id="456" name="" descr=""/>
            <p:cNvPicPr/>
            <p:nvPr/>
          </p:nvPicPr>
          <p:blipFill>
            <a:blip r:embed="rId4"/>
            <a:stretch/>
          </p:blipFill>
          <p:spPr>
            <a:xfrm>
              <a:off x="611280" y="2276640"/>
              <a:ext cx="289548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2127960" y="2781360"/>
              <a:ext cx="18936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Verdana"/>
                </a:rPr>
                <a:t>defineReferencePixel(25, 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466120" cy="4608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elefones Java (&gt;650 dispositivo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2340000" y="4365720"/>
            <a:ext cx="6264360" cy="358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84560" y="13827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295280"/>
            <a:ext cx="83822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00"/>
                </a:solidFill>
                <a:latin typeface="Verdana"/>
              </a:rPr>
              <a:t>http://developers.sun.com/techtopics/mobility/device/pub/device/list.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2349360"/>
            <a:ext cx="1368360" cy="503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282160" y="4653000"/>
            <a:ext cx="755640" cy="1728720"/>
          </a:xfrm>
          <a:prstGeom prst="downArrow">
            <a:avLst>
              <a:gd name="adj1" fmla="val 66806"/>
              <a:gd name="adj2" fmla="val 30927"/>
            </a:avLst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7963920" y="5234040"/>
            <a:ext cx="141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 disposi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r pág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ntrodução a plataforma J2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236600" y="2414520"/>
            <a:ext cx="1440000" cy="38577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595760" y="4056120"/>
            <a:ext cx="1440000" cy="2216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916360" y="3141720"/>
            <a:ext cx="1439640" cy="3130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6276960" y="4683240"/>
            <a:ext cx="1440000" cy="1589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97080" y="206064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SERV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8280" y="276084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DESK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93320" y="3913200"/>
            <a:ext cx="103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SMAR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C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5975280" y="1312920"/>
            <a:ext cx="1130400" cy="12985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4753080" y="1305000"/>
            <a:ext cx="1155600" cy="12826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764240" y="1320840"/>
            <a:ext cx="1152360" cy="1281240"/>
          </a:xfrm>
          <a:prstGeom prst="rect">
            <a:avLst/>
          </a:prstGeom>
          <a:noFill/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5200" y="1316160"/>
            <a:ext cx="1152720" cy="1280880"/>
          </a:xfrm>
          <a:prstGeom prst="rect">
            <a:avLst/>
          </a:prstGeom>
          <a:noFill/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86240" y="2604960"/>
            <a:ext cx="14400" cy="2433600"/>
          </a:xfrm>
          <a:prstGeom prst="line">
            <a:avLst/>
          </a:prstGeom>
          <a:ln cap="rnd" w="76320">
            <a:solidFill>
              <a:srgbClr val="ffcc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00720" y="3645000"/>
            <a:ext cx="1679400" cy="3682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CELUL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3549600" y="1376280"/>
            <a:ext cx="1127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rquitetura Java 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050920" y="5407200"/>
            <a:ext cx="4753080" cy="792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vice 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0920" y="4603680"/>
            <a:ext cx="475308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ost Operat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0920" y="3800520"/>
            <a:ext cx="2376720" cy="792000"/>
          </a:xfrm>
          <a:prstGeom prst="rect">
            <a:avLst/>
          </a:prstGeom>
          <a:solidFill>
            <a:srgbClr val="ffc0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0920" y="2997360"/>
            <a:ext cx="4753080" cy="79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32320" y="3805200"/>
            <a:ext cx="2376360" cy="388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27640" y="4205160"/>
            <a:ext cx="2376360" cy="389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V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50920" y="2205000"/>
            <a:ext cx="475308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5T10:21:18Z</dcterms:created>
  <dc:creator>Windows_NT</dc:creator>
  <dc:description/>
  <dc:language>en-US</dc:language>
  <cp:lastModifiedBy>Tarcisio Pinto Camara</cp:lastModifiedBy>
  <cp:lastPrinted>1998-09-17T18:01:36Z</cp:lastPrinted>
  <dcterms:modified xsi:type="dcterms:W3CDTF">2007-11-06T15:17:10Z</dcterms:modified>
  <cp:revision>630</cp:revision>
  <dc:subject/>
  <dc:title>Slide sem título </dc:title>
</cp:coreProperties>
</file>