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1873-3086-4BB6-9365-2D6A9091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E386-E121-4BB5-83D7-935CA0B7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CA61-5A47-40AC-9940-468A3F0B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A534-84C4-49E9-889C-42172765A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090B-8695-4B7F-9909-4E85AED8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1D02-949C-4702-B14C-FBFFA98C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B163-071D-46FF-B7E5-B6941865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C68F-F378-4087-B7A3-C023F423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CDAF-259C-4069-A026-82C9F4C5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27F1-199A-4B3E-A3C8-88CF37CC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0A0D-CB2E-4C1E-B2F6-F76EE821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D261-7166-4E41-8EE0-B44E0FD3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B5A8-46A7-4E75-8630-6BC2F100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B23E-401B-4E26-8C42-1FBB9A3D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38E4-5112-4778-BF20-D6526BB1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C940-1F6D-4A96-B610-A2252EC76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FA19-7EF8-438D-98F9-5E869CB9F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E044-A547-4845-8B86-5C80AF42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0E52-3A3D-4436-9F7A-0997C4B5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E34E-6623-4D57-BFA4-4435617E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1B95-27B8-42FF-8EB2-8B4142CA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CDDC-BCE8-445D-86A8-1A185F35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FDE4-E067-492F-886D-B500AA3B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CCAE-BDD0-4877-8EC6-C17B42AF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8F49-1192-4DE7-BC08-679345B387B9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A3DE-E2A7-4936-911E-37DF74308EF8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ile Game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92000" y="2852640"/>
            <a:ext cx="6769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etodologia Ágil para Projetos de Advergam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85080" y="6066000"/>
            <a:ext cx="21240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Allan Araujo</a:t>
            </a:r>
            <a:br>
              <a:rPr sz="2400"/>
            </a:br>
            <a:r>
              <a:rPr b="0" i="1" lang="en-US" sz="1800" spc="-1" strike="noStrike">
                <a:solidFill>
                  <a:srgbClr val="b2b2b2"/>
                </a:solidFill>
                <a:latin typeface="Arial"/>
              </a:rPr>
              <a:t>arsa@cin.ufpe.b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sos de Jog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7488360" cy="396072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2556000" y="6308640"/>
            <a:ext cx="3744720" cy="360360"/>
            <a:chOff x="2556000" y="6308640"/>
            <a:chExt cx="3744720" cy="360360"/>
          </a:xfrm>
        </p:grpSpPr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2556000" y="6392880"/>
              <a:ext cx="374328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556000" y="6308640"/>
              <a:ext cx="3744720" cy="360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ile Game Process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280" y="1981080"/>
            <a:ext cx="74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Valores Ágei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aracterísticas/Objetivo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daptati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esenvolvimento Iterativo e Increment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Orientação a Test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Gerenciamento Descentralizad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uporte ao Gerenciamento e Desenvolviment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ntegração de Processo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Negócios e Produção 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ile Game Process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strutura da Metodologia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16000" y="2781360"/>
            <a:ext cx="691200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ile Game Process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844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apéi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16000" y="2503440"/>
            <a:ext cx="64803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ile Game Process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ases e Disciplina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655344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ile Game Process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48960" y="1699920"/>
            <a:ext cx="76611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áticas Recomendada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stórias (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User Stories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Story Poin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DD e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Continuous Desig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municação Transparen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Daily Meet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mbiente de Trabalho Otimizad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Feedback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Constante e Ciclos Curto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Pair-Programm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õ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16000" y="2035080"/>
            <a:ext cx="7115040" cy="405792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2556000" y="6308640"/>
            <a:ext cx="3744720" cy="360360"/>
            <a:chOff x="2556000" y="6308640"/>
            <a:chExt cx="3744720" cy="360360"/>
          </a:xfrm>
        </p:grpSpPr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2556000" y="6392880"/>
              <a:ext cx="374328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556000" y="6308640"/>
              <a:ext cx="3744720" cy="360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042920" y="5661000"/>
            <a:ext cx="4465800" cy="504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õ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svantage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erramenta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últiplos Projeto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tividades Abstrata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rabalhos Futuro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edir (Projetos e Processo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elhoria e Refinamento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erramentas (Integração e Suporte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Gerenciamento de Portfóli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ê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22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 algn="just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RAUJO, Allan. Agile Game Process – Metodologia Ágil para Projetos de Advergames. Trabalho de Graduação, Bacharelado em Ciência da Computação, Universidade Federal de Pernambuco. 2006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ile Game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692000" y="2852640"/>
            <a:ext cx="6769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etodologia Ágil para Projetos de Advergam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85080" y="6066000"/>
            <a:ext cx="21240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Allan Araujo</a:t>
            </a:r>
            <a:br>
              <a:rPr sz="2400"/>
            </a:br>
            <a:r>
              <a:rPr b="0" i="1" lang="en-US" sz="1800" spc="-1" strike="noStrike">
                <a:solidFill>
                  <a:srgbClr val="b2b2b2"/>
                </a:solidFill>
                <a:latin typeface="Arial"/>
              </a:rPr>
              <a:t>arsa@cin.ufpe.b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Jogo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dvergam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ocessos para Jogo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gile Game Process (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AGP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onclusõ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g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tividade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struturad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emi-Estruturad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gra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stímulo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ísicos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entais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3743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gos Eletrônicos - Histór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ennis for Two (1958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paceWar (1962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uper Mario (1985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onic (1991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al Fantasy (1997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ge of Empires (1999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Halo 2 (2004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WoW (2004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all of Duty 2 (2005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88000" y="2077920"/>
            <a:ext cx="1817640" cy="1711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629400" y="1989000"/>
            <a:ext cx="2479680" cy="1803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788000" y="3860640"/>
            <a:ext cx="432108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gos Eletrônicos - Esti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ipologia do Enred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sport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çã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stratégi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ventur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PG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alidad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reteniment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ducação e Treinament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ublicidad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03640" y="1557360"/>
            <a:ext cx="3500640" cy="2333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49272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erg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981080"/>
            <a:ext cx="412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Jogos </a:t>
            </a: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Publicidad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mersã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teratividad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aracterística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ronogram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úblic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periênci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527280" cy="2305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932360" y="4067280"/>
            <a:ext cx="352116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erg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49320" y="2050920"/>
            <a:ext cx="743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takeholde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lient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gência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esenvolvedor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ojeto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Orçamento: US$ 10 a 500 mil (em média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mbiente Dinâmico e Complex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uração: 3 a 15 semana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quipe Multidisciplinar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3898800" cy="2156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164360" y="64468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c0c0"/>
                </a:solidFill>
                <a:latin typeface="Arial"/>
              </a:rPr>
              <a:t>Fonte: IGD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retanto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2781360"/>
            <a:ext cx="748800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    “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O jogo foi entregue 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com atraso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. Ele contém muitos 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bugs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. As funcionalidades originalmente pretendidas 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não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foram 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entregues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. Lançar o jogo levou muitas horas de desenvolvimento com o time 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sob pressão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. Uma vez lançado o jogo, a gerência parecia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 não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estar 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satisfeita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(...)”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sos de Jog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aterfal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ocessos Iterativos (UP)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etodologias Ágei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reme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ogramming (XP)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cru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04:19:43Z</dcterms:created>
  <dc:creator>Allan Araujo</dc:creator>
  <dc:description/>
  <dc:language>en-US</dc:language>
  <cp:lastModifiedBy>Allan Araujo</cp:lastModifiedBy>
  <dcterms:modified xsi:type="dcterms:W3CDTF">2006-10-06T09:15:22Z</dcterms:modified>
  <cp:revision>90</cp:revision>
  <dc:subject/>
  <dc:title>Slide 1</dc:title>
</cp:coreProperties>
</file>