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C66E-E149-4AED-A3B2-3468038D6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lpGuid – driver que vai ser utilizado, NULL chama o driver def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UnkOuter – sempre 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urface pode ser primaria e secund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pping normalmente e usado em modo jan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7268-A0DC-43E8-9141-EBDE09B01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DC8F-042B-40C6-B961-32D2EA11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3222-AD9A-41B5-852B-1077067EB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353E-C104-4009-A29A-C9FAD3B39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837F-1337-40D7-8489-F828DD66D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12B1-DE2D-4FBD-91E7-2098B56E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021E-9BA2-4197-8352-3DCC6987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3492-AB65-4671-BC01-30B37F11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B38E-3220-495A-82CE-570A3B9E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8434-5B80-4EC1-8E67-431B18DA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5141-8EE1-4075-A3B7-7A6053BE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B1FF-8B2E-4434-B2BC-671D4371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54DB-EF7C-401F-A438-C58B049D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F38B-2442-4A19-94C1-403EA7FC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816E-1527-4534-9919-9276FA93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3D52-E120-46ED-BBA8-9693C95E5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943B-2666-46C8-88D4-4479787D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74E3-2052-43A5-B96C-B28649F0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2866-A1EF-49DC-8839-09BFF50B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A89A-17E1-459C-A0B7-CB127329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7B62-137C-4A32-8ED4-79D84D2B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05E2-B5D8-4E93-9004-D3AE3371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B71F-1253-4DC9-85CB-6640B997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EEA7-C61B-4B66-A5A4-3AD6DC3B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BF24-D18E-4368-8A2D-265A35238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2F4B-1BA9-4E36-81E8-C5A20E492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hyperlink" Target="file:///stretch.exe" TargetMode="External"/><Relationship Id="rId4" Type="http://schemas.openxmlformats.org/officeDocument/2006/relationships/hyperlink" Target="file:///stretch.exe" TargetMode="External"/><Relationship Id="rId5" Type="http://schemas.openxmlformats.org/officeDocument/2006/relationships/hyperlink" Target="file:///stretch.exe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donut.bmp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DirectDraw 7.0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jeto E Implementação De Jo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00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car E Bor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Objeto DirectDra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 ser manipulado pelas interfaces IDirectDraw, IDirectDraw2, IDirectDraw4 e IDirectDraw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ó trabalharemos com a IDirectDraw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criar um objeto DirectDraw usamos a função DirectDrawCreateEx, com a sintaxe:</a:t>
            </a:r>
            <a:br>
              <a:rPr sz="2400"/>
            </a:b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HRESULT WINAPI DirectDrawCreateEx(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 GUID FAR</a:t>
            </a:r>
            <a:r>
              <a:rPr b="0" i="1" lang="pt-BR" sz="1600" spc="-1" strike="noStrike">
                <a:solidFill>
                  <a:srgbClr val="000000"/>
                </a:solidFill>
                <a:latin typeface="Courier New"/>
              </a:rPr>
              <a:t> lpGuid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pt-BR" sz="1600" spc="-1" strike="noStrike">
                <a:solidFill>
                  <a:srgbClr val="000000"/>
                </a:solidFill>
                <a:latin typeface="Courier New"/>
              </a:rPr>
              <a:t>// NULL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 LPVOID *</a:t>
            </a:r>
            <a:r>
              <a:rPr b="0" i="1" lang="pt-BR" sz="1600" spc="-1" strike="noStrike">
                <a:solidFill>
                  <a:srgbClr val="000000"/>
                </a:solidFill>
                <a:latin typeface="Courier New"/>
              </a:rPr>
              <a:t>lpDD,</a:t>
            </a:r>
            <a:r>
              <a:rPr b="0" i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pt-BR" sz="1600" spc="-1" strike="noStrike">
                <a:solidFill>
                  <a:srgbClr val="000000"/>
                </a:solidFill>
                <a:latin typeface="Courier New"/>
              </a:rPr>
              <a:t>// objeto DirectDraw          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 REFIID </a:t>
            </a:r>
            <a:r>
              <a:rPr b="0" i="1" lang="pt-BR" sz="1600" spc="-1" strike="noStrike">
                <a:solidFill>
                  <a:srgbClr val="000000"/>
                </a:solidFill>
                <a:latin typeface="Courier New"/>
              </a:rPr>
              <a:t>iid,</a:t>
            </a:r>
            <a:r>
              <a:rPr b="0" i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pt-BR" sz="1600" spc="-1" strike="noStrike">
                <a:solidFill>
                  <a:srgbClr val="000000"/>
                </a:solidFill>
                <a:latin typeface="Courier New"/>
              </a:rPr>
              <a:t>// IID_DirectDraw7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 IUnknown FAR</a:t>
            </a:r>
            <a:r>
              <a:rPr b="0" i="1" lang="pt-BR" sz="1600" spc="-1" strike="noStrike">
                <a:solidFill>
                  <a:srgbClr val="000000"/>
                </a:solidFill>
                <a:latin typeface="Courier New"/>
              </a:rPr>
              <a:t> *pUnkOuter</a:t>
            </a:r>
            <a:r>
              <a:rPr b="0" i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pt-BR" sz="1600" spc="-1" strike="noStrike">
                <a:solidFill>
                  <a:srgbClr val="000000"/>
                </a:solidFill>
                <a:latin typeface="Courier New"/>
              </a:rPr>
              <a:t>// NULL  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4292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HRESULT h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HWND hW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LPDIRECTDRAW7        m_pD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// DDraw stuff begin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( FAILED( hr = DirectDrawCreateEx( NULL, (VOID**)&amp;m_pD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ID_IDirectDraw7, NULL ) )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turn E_FAI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Nível de Cooperação (Cooperative Level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34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termina como o DirectDraw interage com a tela e como reage a ev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termi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a aplicação será em modo de janela ou tela che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pode ou não haver reboo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deve minimizar ou maximizar a aplicação em resposta a algum ev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usará resoluções de modo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Modo Janela x Tela Chei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HRESULT SetCooperativeLevel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HWND hWnd,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// window ha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DWORD dwFlags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// fl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modo tela che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hr = m_pDD-&gt;SetCooperativeLevel( hWn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DDSCL_EXCLUSIVE |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DDSCL_FULLSCREEN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modo jan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hr = m_pDD-&gt;SetCooperativeLevel( hWnd,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DDSCL_NORMAL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Resolu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creve as dimensões e a quantidade de bits por cor(profundidade) que a placa de vídeo envia para o monitor como a superfície primá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alterada usando o método SetDisplay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HRESULT SetDisplayMode(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WORD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dwWidth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// largura em pix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WORD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dwHeight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ltura em pix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WORD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dwBPP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fund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WORD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dwRefreshRate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fresh rate, 0 p/ defa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WORD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dwFlag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// extra  flags, 0 p/ defa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Startu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24920" y="1484280"/>
            <a:ext cx="813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HRESULT h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HWND hWn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PDIRECTDRAW7 m_pD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/ DDraw stuff begins 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hr = DirectDrawCreateEx( NULL, (VOID**)&amp;m_pD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ID_IDirectDraw7, NULL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f( FAILED(hr) ) return h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/ Set cooperative lev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hr = m_pDD-&gt;SetCooperativeLevel( hWnd, DDSCL_EXCLUSIVE 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DDSCL_FULLSCREEN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f( FAILED(hr) ) return h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// Set the display mode 640x480x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hr = m_pDD-&gt;SetDisplayMode( 640, 480, 8, 0, 0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f( FAILED(h ) ) return h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Surfa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’ o bitmap em memó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tiliza paleta de cores ou RG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de estar em memória de vídeo(VRAM) ou memória do sis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dem ser de dois tip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imá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rresponde diretamente a memória de vídeo sendo raster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iste apenas u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ve ser compatível com a resolução de ví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cundá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rmalmente se utiliza uma ou duas surfaces secundarias como back buffers(double ou triple buffe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ambém usado para imagens e animações de objetos do j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riando Superfície Primári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1984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tiliza o método CreateSu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necessár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pecificar quantos backbuffers serão us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vai usar fl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vai usar operações complex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RESULT CreateSurface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PDDSURFACEDESC2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pDDSurfaceDesc2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DIRECTDRAWSURFACE7 FAR *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plpDDSurfac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Unknown FAR *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UnkOuter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//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LPDIRECTDRAW7        m_pD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LPDIRECTDRAWSURFACE7 m_pddsFrontBuff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// Set the display mode 640x480x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hr = m_pDD-&gt;SetDisplayMode( 640, 480, 8, 0, 0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if( FAILED(h ) ) return h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// Create primary surface (with backbuffer attach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DDSURFACEDESC2 dds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ZeroMemory( &amp;ddsd, sizeof( ddsd )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ddsd.dwSize            = sizeof( ddsd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ddsd.dwFlags           = DDSD_CAPS | DDSD_BACKBUFFERCOU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ddsd.ddsCaps.dwCaps    = DDSCAPS_PRIMARYSURFACE | DDSCAPS_FLIP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   | DDSCAPS_COMPLEX | DDSCAPS_3DDEVIC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ddsd.dwBackBufferCount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hr = m_pDD-&gt;CreateSurface( &amp;ddsd, &amp;m_pddsFrontBuffer, NULL);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if( FAILED(hr) ) return h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Recuperando o backbuff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LPDIRECTDRAW7        m_pD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LPDIRECTDRAWSURFACE7 m_pddsFrontBuff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LPDIRECTDRAWSURFACE7 m_pddsBackBuff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hr = m_pDD-&gt;CreateSurface( &amp;ddsd, &amp;m_pddsFrontBuffer, NULL);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if( FAILED(hr) ) return h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Courier New"/>
              </a:rPr>
              <a:t>// Get a pointer to the back 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DDSCAPS2 ddscap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ZeroMemory( &amp;ddscaps, sizeof( ddscaps )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ddscaps.dwCaps = DDSCAPS_BACKBUFF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hr = m_pddsFrontBuffer-&gt;GetAttachedSurface( &amp;ddscap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                                        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&amp;m_pddsBackBuffer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if( FAILED(hr) ) return h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Roteir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icial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ge fli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l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ando bit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Roteir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icial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ge fli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l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ando bit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Page Flipp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a operação de troca entre dois (ou mais)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uffer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 vídeo, chamados no DX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urfac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alcançar uma maior eficiência, utiliza-se 2 ou mai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urfaces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ripl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uffer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e enquanto se exibe uma delas, as outras são process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sso evita que o sincronismo do monitor atrapalhe o processamento do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ra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ó pode ser realizado em tela cheia. Em modo de janela, é realizado o blitting nor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Page Flipp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248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ame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hile(TRUE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adInpu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cessGa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pdateScree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rawScree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657240" y="1980720"/>
            <a:ext cx="5288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LPDIRECTDRAWSURFACE7 m_pddsFrontBuff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LPDIRECTDRAWSURFACE7 m_pddsBackBuff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// Flip the surf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while (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hRet = m_pddsFrontBuffer-&gt;Flip(NULL, 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if (hRet == DD_O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if (hRet == DDERR_SURFACELO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hRet = RestoreA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if (hRet != DD_O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if (hRet != DDERR_WASSTILLDRAW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Roteir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icial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ge fli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l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ando bit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Blitt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se trabalhar com bitmaps usa-se blit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litting vem de BLT (Block Transfer) e é o nome que se dá à transferência de um bitmap de uma área de memória para out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sa transferência pode ser feita de diversas formas dependendo dos bits da fonte e do dest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se é o ponto forte do DirectDraw pois permite transferir imagens entre o vídeo e a 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Preenchendo Memóri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LPDIRECTDRAWSURFACE7        m_pddsBackBuff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DDBLTFX                     ddbltfx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// Use the blter to do a color fill to clear the back 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ZeroMemory(&amp;ddbltfx, sizeof(ddbltfx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ddbltfx.dwSize = sizeof(ddbltf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ddbltfx.dwFillColor = 0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m_pddsBackBuffer -&gt;Blt(NULL, // pointer to dest R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NULL, // pointer to source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NULL, // pointer to source R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DDBLT_COLORFILL | DDBLT_WAI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// do a color fill and w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&amp;ddbltfx); // pointer to DDBLTFX holding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opiando Bitmaps entre surfa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7726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étodo Blt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enas copia o bitmap de uma surface p/ ou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LPDIRECTDRAWSURFACE7        m_pddsBackBuff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LPDIRECTDRAWSURFACE7        g_pAnimationSurfac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RECT                        rcRec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// regiao do sprite na surface origem(64x6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rcRect.left   =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rcRect.top    =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rcRect.right  = 64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rcRect.bottom = 64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m_pddsBackBuffer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-&gt;BltFast(frameX,  //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posicao X des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frameY,  //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posicao Y des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g_pAnimationSurface, //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rface orige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rcRect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, //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regiao da imagem origem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DDBLTFAST_SRCCOLORKEY); //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usa tranparencia da imag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Operações de Escala e Rota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o do método B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LPDIRECTDRAWSURFACE7        m_pddsBackBuff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LPDIRECTDRAWSURFACE7        g_pAnimationSurfac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RECT                        rcSrcRect,  rcDestRec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DDBLTFX ddbltfx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// rotaciona  - cada unidade e’ 1/100 do ângulo de rotaca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ZeroMemory(&amp;ddbltfx, sizeof(ddbltfx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ddbltfx.dwSize = sizeof(ddbltf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ddbltfx.dwFillColor = angle;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// origem 64x6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rcSrcRect.left  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rcSrcRect.top   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rcSrcRect.right  = 64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rcSrcRect.bottom = 64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// destino 128x1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rcDestRect.left  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rcDestRect.top   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rcDestRect.right  = 128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rcDestRect.bottom = 128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hr = m_pddsBackBuffer -&gt;Blt(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&amp;rcDestRec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g_pAnimationSurfac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&amp;rcSrcRect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(DDBLT_WAIT | DDBLT_KEYSRC | DDBLT_ROTATIONANGLE) 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&amp;ddbltfx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Roteir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roduc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icializac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ge fli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l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sando bit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Objetos de Anima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a-se uma ou mais surfaces p/ armazenar os sprites ou tiles de map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ntém objetos utilizados na memória de vídeo podem usar as operações de blit e fl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rmazena os objetos numa surface off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295280" y="3581280"/>
          <a:ext cx="4800600" cy="29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581280"/>
                    <a:ext cx="4800600" cy="29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6628320" y="4495680"/>
            <a:ext cx="149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99ccff"/>
                </a:solidFill>
                <a:uFillTx/>
                <a:latin typeface="Times New Roman"/>
                <a:hlinkClick r:id="rId3"/>
              </a:rPr>
              <a:t>stretch</a:t>
            </a:r>
            <a:r>
              <a:rPr b="0" lang="pt-BR" sz="2400" spc="-1" strike="noStrike" u="sng">
                <a:solidFill>
                  <a:srgbClr val="99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pt-BR" sz="2400" spc="-1" strike="noStrike" u="sng">
                <a:solidFill>
                  <a:srgbClr val="99ccff"/>
                </a:solidFill>
                <a:uFillTx/>
                <a:latin typeface="Times New Roman"/>
                <a:hlinkClick r:id="rId5"/>
              </a:rPr>
              <a:t>e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onceitos Básic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76471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o componente da API DirectX que permite acessar diret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mória de víde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perações de blitting de hardw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perações de flipp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ntém compatibilidade com GD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mite aceleração tanto em modo de janela como em tela che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baseada no uso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urfac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processadas por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litt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Surface offscre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DDSURFACEDESC2              ddsd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HRESULT                     h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LPDIRECTDRAW7               g_pDD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LPDIRECTDRAWSURFACE7        g_pDDSOffscreen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// Create a offscreen bitma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ddsd.dwFlags = DDSD_CAPS | DDSD_HEIGHT | DDSD_WIDTH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ddsd.ddsCaps.dwCaps = DDSCAPS_OFFSCREENPLAIN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ddsd.dwHeight = 480; // 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altu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ddsd.dwWidth = 640;  // 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largu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hRet = g_pDD-&gt;CreateSurface(&amp;ddsd, &amp;g_pDDSOffscreen, NUL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if (hRet != DD_OK) return 0; // err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GDI x DirectDra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primeiros jogos para Windows tinham o problema de serem bem mais lentos que os jogos  para 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principal razão para isso era o fato de que a GDI (Graphics Device Interface) só trabalhava com a memória do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DirectDraw resolve esse problema e é bem mais eficiente na área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litt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não tendo quase nenhum recurso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ra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Draw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se desenhar no DirectDraw e para realizar certas operações com bitmaps usamos rotinas da GDI, tais co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etDC, CreateDC e Release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oadBitmap, BitBlt e CreateDIB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llipse, Polygon, Rect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veTo, LineTo, A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xtOut, Draw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4343400"/>
            <a:ext cx="7543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LPDIRECTDRAWSURFACE7        g_pDDSOffscree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HDC            hDC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g_pDDSOffscreen-&gt;GetDC(&amp;hDC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// Use GDI to draw the text on the surf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TextOut( hDC, dwOriginX, dwOriginY, strText, _tcslen(strText) 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// Stretch the bitmap to cover this surf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StretchBlt( hDC, 0, 0,  dwWidth, dwHeight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hDCImage, dwBMPOriginX, dwBMPOriginY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dwBMPWidth, dwBMPHeight, SRCCOPY 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g_pDDSOffscreen-&gt;ReleaseDC(&amp;hDC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Objeto CDispla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rectx 8 oferece a classe de exempl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Display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que contem métodos para as principais fun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iar DD em modo full-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iar DD em modo jan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azer Blit/Fl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rregar bitmap de arqu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azer double-buff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lasse fica no diretóri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samples\Multimedia\Common\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Referênci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rectX 7.0 Programmer's 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icks of The Windows Game Programming Gurus, André Lamo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Exercício propos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ificar o exemplo samples\Multimedia\Demos\DirectDraw\FullScreenMode para ter a cor de fundo branco.(fac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zer a animação qualquer do sprite do arquivo anexo.(difícil) 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donut.b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CA1: Existem 60 sprites e a região do i-esimo retângulo na imagem pode ser calculada da seguinte f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cRect.left = i % 10 * 64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cRect.top = i / 10 * 64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cRect.right = i % 10 * 64 + 64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cRect.bottom = i / 10 * 64 + 64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DICA2: use a cor de fundo dos sprites como cor de transpa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Integração do DirectDra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6324840" cy="41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Interfaces DirectDra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1984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rectDr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o primeiro objeto e é usado para criar os dem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rectDrawSurface (“surfac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, em grosso modo, um bitmap em memó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rectDrawPalette (“palett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uma paleta de cores (para os modos de 16-256 co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rectDrawClipper (“clipper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usado para delimitar uma área de um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Objetos DirectDra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04836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Processamento de uma aplicação DirectDra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iste sempre um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urfac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rimária e duas ou mais atrás chamadas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uffer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aplicação escreve em um back buffer, então faz um flipping, para que apareça na te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quanto o sistema está mostrando a imagem, a aplicação escreve de novo no back buff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sso permite uma animação de forma rápida e efici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Roteir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icial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ge fli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l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ando bit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Startu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iar objeto DirectDraw usando interface IDirectDraw7 e ajustar cooperation level e resolução de víde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iar as surfaces IDirectDrawSurface, pelo menos uma primár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iar paleta IDirectDrawPalette, iniciar tripla RGB e anexar as superfíci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for em modo janela, criar o clipp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enhar superfície primá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2T00:53:33Z</dcterms:created>
  <dc:creator>Alexandre Brainer</dc:creator>
  <dc:description/>
  <dc:language>en-US</dc:language>
  <cp:lastModifiedBy>ogm</cp:lastModifiedBy>
  <dcterms:modified xsi:type="dcterms:W3CDTF">2002-02-22T15:43:07Z</dcterms:modified>
  <cp:revision>63</cp:revision>
  <dc:subject/>
  <dc:title>Curso Intensivo de DirectX</dc:title>
</cp:coreProperties>
</file>