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E59-56FD-4BCB-A3C3-65E836C0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B61-DF25-4353-8235-534D6EA7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9D7-9165-4D98-A7DA-948398CB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39B-EF0A-4A63-BA90-A3773BCC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8F34-5495-424E-A9A0-3D2E6524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E185-CA3B-45C3-91DA-2B59C6A0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6B87-A989-4C04-AD81-6D1420C2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447F-F4A1-4334-A117-9602195E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95D1-A0E3-4702-AAC2-E621F058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ACB3-BE8C-4ABD-AD50-03B691BF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050E-6A89-4A67-9EA1-A07FC92B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5E0-0C5C-4B1C-A66E-84D01BAD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65FE-597E-4592-A2EF-AA838B55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27A9-4066-45C6-8963-39D331BF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FFC0-13FF-4DC2-829D-56E6B14E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A7D4-9329-44CB-9673-5121DA7B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3DCD-7D7A-4BCF-A8C5-30AFF80A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B89-7E28-4B46-A563-1132A0FA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C5D-320C-41C7-A711-3454999A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1B6-74BE-4422-93FA-A6C12A8C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7AE-7227-4FD8-BA19-C15834B4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773-47E8-441E-AE81-AA73BB4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F8E-6508-48D2-9EE0-FEA1C133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6C7-B1C7-4500-908D-0C974F1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6892-59FC-46BE-9DD1-988AB6E09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7EDB-0463-4BE2-8C02-B4E881C92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irectDraw 7.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E Implementação De J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0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car E Bor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1 - backgrou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ifique a imagem de fundo do projeto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 região começando em 0,0 de tamanho 640x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 imagem all.b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Tamanho do arquivo 640x8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Cor de transparência é RGB(0, 255, 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2 - 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647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zer o herói girar no centro da t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ireção existem 3 sprites de ani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r const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#define UP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#define LE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#define DOW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#define RIGH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 de cada sprite é 24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osição inicial dos sprites é 0x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cronize com o tempo : timeGet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3 - ani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647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ver o herói pela borda d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r vetor de Velocidade (v_x, v_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th = (0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uth = (0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ast = (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est = (-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posx += time_diff * v_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posy += time_diff * v_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cronizar velocidade de animação e desloc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4 – Mapa de Ti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647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a matriz que represente um mapa de tiles e exibir este mapa na t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rquivo com tiles esta em http://www.cin.ufpe.br/~ogm/jogos/aula-dd-2/tiles1.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tile mede 16x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5 – Scroll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647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ndo o exercício anterior implementar scrolling naquele ma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00:53:33Z</dcterms:created>
  <dc:creator>Alexandre Brainer</dc:creator>
  <dc:description/>
  <dc:language>en-US</dc:language>
  <cp:lastModifiedBy>ogm</cp:lastModifiedBy>
  <dcterms:modified xsi:type="dcterms:W3CDTF">2002-02-27T17:54:01Z</dcterms:modified>
  <cp:revision>80</cp:revision>
  <dc:subject/>
  <dc:title>Curso Intensivo de DirectX</dc:title>
</cp:coreProperties>
</file>