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176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2280" y="141588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8176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2280" y="3285720"/>
            <a:ext cx="27622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5708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77200" y="328572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7200" y="1415880"/>
            <a:ext cx="41864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285720"/>
            <a:ext cx="8578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5788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35080" y="6432480"/>
            <a:ext cx="10540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C956-4AE3-45FD-8349-EA58AD3C1DC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4de0e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675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73152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e Implementação de Jog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001.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árcio Leal de Melo Dah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etodos de  Segment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1100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Download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 *</a:t>
            </a: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pAudioPath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interf.performance ou audio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5600" y="2143080"/>
            <a:ext cx="278676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LoopPoin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Repea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StartPoi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Grap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TrackGrou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sert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RemoveTrac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Track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l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Comp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GetAudioPathConfi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InitPl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Courier New"/>
              </a:rPr>
              <a:t>SetPChannels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362320"/>
            <a:ext cx="3886200" cy="42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Unloa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Add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RemoveNotificationTy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Para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eng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Loop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Repea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GetStartPoi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DefaultRe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Courier New"/>
              </a:rPr>
              <a:t>Set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Track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parte de divisível de um Seg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MIDI possui 16 cana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ada um deles esta num track difere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Cada track pode ser direcionado para um caminho dife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feitos diferentes para cada tr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Track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á vis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rencia o fluxo dos dados até o sintetizad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ntrola quais os sons estão em execução, para onde estão indo e quando vã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ipicamente, só existe um performance na 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Performance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** ppDirectMusic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Sound** ppDirectSound,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WND hWnd,// da janel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DefaultPathType,</a:t>
            </a:r>
            <a:r>
              <a:rPr b="1" i="1" lang="pt-BR" sz="1700" spc="-1" strike="noStrike">
                <a:solidFill>
                  <a:srgbClr val="ffffff"/>
                </a:solidFill>
                <a:latin typeface="Courier New"/>
              </a:rPr>
              <a:t>//DMUS_APATH_SHARED_STEREOPLUSREVERB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PChannelCount, // MIDI 16, Wave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,//DMUS_AUDIOF_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PARAMS *pParams //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Metodos do Performance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5788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Sourc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SegmentName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não implementado!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Transition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param. Composicao. NU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WORD dwFlags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//Muda o comportamento do segment. 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__int64 i64StartTime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 tempo. Assi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DirectMusicSegmentState** ppSegmentStat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From, //segment tocando antes.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Unknown* pAudioPath // NU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HRESULT StopEx(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IUnknown *pObjectToStop, //ponteiro para um obj. toca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__int64 i64StopTime,//tempo para parar. Associado com dwfla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DWORD dwFlags //quando a parada deve ocorrer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)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udioPaths e Buffer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3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define um barramento que indicará para que Buffer um track irá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3dAudioPath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3d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AudioPath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Buff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Não serão vist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411984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Arquitetura do Directx Aud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40320" y="20520"/>
            <a:ext cx="449568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5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Cabeçalh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#define INITGUI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#include &lt;dmusici.h&g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Decla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Loader8* g_pLoader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Performance8* g_pPerformance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DirectMusicSegment8* g_pSegment = NULL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- Inici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6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Initialize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Initialize(NULL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loader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Loader, NULL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Loader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(void**)&amp;g_pLoader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Create performance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CoCreateInstance( CLSID_DirectMusicPerformance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NULL, CLSCTX_INPROC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IID_IDirectMusicPerformance8,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 (void**)&amp;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Criando audiopath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InitAudio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Music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IDirectSound interface not need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Window handl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PATH_SHARED_STEREOPLUSREVERB, // Defaultaudiopath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typ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64, // Number of performance channe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DMUS_AUDIOF_ALL, // Features on synthesiz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 parameters; use defaults.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oteiro da Apresentaçã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7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o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O que 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Relação entr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rectMusic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incipais conceitos, interfaces e funcionalida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rquitetura do DirectX A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empl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cando” um arquivo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escolhendo um dir.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1080" y="1415520"/>
            <a:ext cx="914400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Find the Windows media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HAR str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etWindowsDirectory( strPath, MAX_PATH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strcat( strPath, "\\media" 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onvert to Unicod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SearchPath[MAX_PATH]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ultiByteToWideChar(CP_ACP, 0, strPath, -1,wstrSearchPath,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AX_PATH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Set the search director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SetSearchDirectory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UID_DirectMusicAllTypes, // Types of files sough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SearchPath, // Where to l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FALSE // Don't clear object data. )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abrindo um arquiv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415520"/>
            <a:ext cx="9144000" cy="451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wstrFileName[MAX_PATH] = L"The Microsoft Sound.wav"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f (FAILED(g_pLoader-&gt;LoadObjectFromFile( CLSID_DirectMusicSegment, // Class identifi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IID_IDirectMusicSegment8, // ID of desired interf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strFileName, // File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(LPVOID*) &amp;g_pSegment ))) // Pointer that receives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interfa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 NULL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Media not found, sample will now quit."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"DMusic Tutorial", MB_OK ); return 0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toc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0720" y="1415880"/>
            <a:ext cx="8962920" cy="47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// Download the segment's instruments to the synthesiz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g_pSegment-&gt;Download( g_pPerformance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PlaySegmentEx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, // Segment to pl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Used for songs; not impleme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For transi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Flag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Start time; 0 is immedi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Pointer that receives segment st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Object to stop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 // Audiopath, if not default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MessageBox(NULL,"Click OK to Exit.","Play Audio", MB_OK 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mplo – finalizand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10108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Stop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NULL, // Stop all segment st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, // Do it immediate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0 // Flags. 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CloseDown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eanup all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Loader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Performance-&gt;Release(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g_pSegment-&gt;Release();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// Close down 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CoUninitialize();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6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udar o arquivo fonte para w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trilha sonora no exercício 4 de DDr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rite percorrendo a tel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locar efeito sonoro no movimento do spr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tilizar o wrapper da MS (diretório comm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Lembrar de Segment primário e secundár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incronizar a ação com o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eitos sonoros podem ser encontrados 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ttp://www.findsounds.c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Geber tem um CD com um monte dele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O que é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junto de APIs para lidar com áud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stá para a placa de som com o DGraphics para a placa de víd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Sound e DirectMus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rsão 8 integra bem os do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nipulam arquivos MIDI, wave e DM Producer´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 MP3, WMA etc.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arece que não dá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te da Microsoft não mencio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w-latency mix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Show lida com esse tipo de arquiv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Relação entre 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DirectMusic </a:t>
            </a: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e</a:t>
            </a:r>
            <a:r>
              <a:rPr b="1" i="1" lang="pt-BR" sz="4400" spc="-1" strike="noStrike">
                <a:solidFill>
                  <a:srgbClr val="f4de0e"/>
                </a:solidFill>
                <a:latin typeface="Arial"/>
              </a:rPr>
              <a:t> DirectSound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54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as versões anteri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para o áudio baseado em mensagem (MID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para adquirir e reproduzir wa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rectx 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Music fornece interface para tocar wave o MIDI até um deter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uffer Direct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irectSound continua responsável por aquisição e gerencia seu caminho do buffer até a placa de s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m resum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Music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arquivo até buff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Sound </a:t>
            </a:r>
            <a:r>
              <a:rPr b="1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buffer até pla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Principais conceito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25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a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gment e Segment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r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udiopath e Buff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4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objeto a ser criad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iabiliza o armazenamento de todos os objetos de áudio da aplicaçã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ria uma representação do objeto para a aplicaçã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Prepara o processo de streaming dos objetos de áu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erface IDirectMusicLoader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0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SetSearchDirectory(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GUID_DirectMusicAll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* pwsz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File path for directory. &lt; MAX_PATH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BOOL fClear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 //apaga a info. Do objeto após bus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HRESULT LoadObjectFromFile(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GUID rguidClassID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CLSID_DirectMusicSeg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REFIID iidInterfaceID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, //IID_IDirectMusicSegment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WCHAR *pwzFilePath,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nome do arquiv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void ** ppObject </a:t>
            </a:r>
            <a:r>
              <a:rPr b="1" i="1" lang="pt-BR" sz="1800" spc="-1" strike="noStrike">
                <a:solidFill>
                  <a:srgbClr val="ffffff"/>
                </a:solidFill>
                <a:latin typeface="Courier New"/>
              </a:rPr>
              <a:t>//ponteiro para o obje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4de0e"/>
                </a:solidFill>
                <a:latin typeface="Arial"/>
              </a:rPr>
              <a:t>Métodos do Loader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um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canDirecto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ach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lear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CollectGarbag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EnableCach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ReleaseObjectByUnknow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GetObjec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Courier New"/>
              </a:rPr>
              <a:t>SetObject</a:t>
            </a:r>
            <a:r>
              <a:rPr b="1" i="1" lang="pt-BR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57088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de0e"/>
                </a:solidFill>
                <a:latin typeface="Arial"/>
              </a:rPr>
              <a:t>Segments</a:t>
            </a:r>
            <a:endParaRPr b="1" lang="en-US" sz="4400" spc="-1" strike="noStrike">
              <a:solidFill>
                <a:srgbClr val="f4de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1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capsulam cada um dos dados sonoros que representam um “todo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ave, MIDI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odem ser de 2 tip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imário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Apenas 1 ativo de cada vez (princip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4de0e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cundários </a:t>
            </a:r>
            <a:r>
              <a:rPr b="1" i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Vários ativ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ada vez que um segment é tocado, cria-se um objeto Segment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4de0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terfac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DirectMusicSegment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21:29:37Z</dcterms:created>
  <dc:creator>mlmd</dc:creator>
  <dc:description/>
  <dc:language>en-US</dc:language>
  <cp:lastModifiedBy>Geber</cp:lastModifiedBy>
  <dcterms:modified xsi:type="dcterms:W3CDTF">2002-03-22T17:45:49Z</dcterms:modified>
  <cp:revision>128</cp:revision>
  <dc:subject/>
  <dc:title>DirectMusic e DirectSound</dc:title>
</cp:coreProperties>
</file>