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176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22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176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22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5708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176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22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8176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22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5708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de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27320" indent="-3970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2732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2732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35440" y="6432480"/>
            <a:ext cx="1054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1770-9CEA-476B-BBB9-6FCE8B0965C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de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675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675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DirectX Aud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43000" y="3885840"/>
            <a:ext cx="7315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jeto e Implementação de Jog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002.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runo Jamir e Sil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Baseado na apresentação de Márcio Leal de Melo Dahi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Segment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1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ncapsulam cada um dos dados sonoros que representam um “tod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ave, MIDI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odem ser de 2 tip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imário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Apenas 1 ativo de cada vez (princip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cundários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Vários ativ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ada vez que um segment é tocado, cria-se um objeto Segment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Segment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etodos de  Segmen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1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Download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 *</a:t>
            </a: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pAudioPath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interf.performance ou audio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5600" y="2143080"/>
            <a:ext cx="278676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LoopPoin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Repea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StartPoi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Grap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TrackGrou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Insert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Remove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TrackConf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Cl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Comp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AudioPathConf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InitPla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PChannels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362320"/>
            <a:ext cx="388620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Unlo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AddNotificationTy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RemoveNotificationTy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Par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Par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DefaultRe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Leng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Loop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Repea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StartPoi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DefaultRe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Track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7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ada parte de divisível de um Seg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MIDI possui 16 cana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ada um deles esta num track difere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ada track pode ser direcionado para um caminho dife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feitos diferentes para cada tra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Track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Não será vis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erencia o fluxo dos dados até o sintetizad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trola quais os sons estão em execução, para onde estão indo e quando vã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ipicamente, só existe um performance na  apl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Performance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Metodos do 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InitAudio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Music** ppDirectMusic,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Sound** ppDirectSound,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WND hWnd,// da janel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DefaultPathType,</a:t>
            </a:r>
            <a:r>
              <a:rPr b="1" i="1" lang="pt-BR" sz="1700" spc="-1" strike="noStrike">
                <a:solidFill>
                  <a:srgbClr val="ffffff"/>
                </a:solidFill>
                <a:latin typeface="Courier New"/>
              </a:rPr>
              <a:t>//DMUS_APATH_SHARED_STEREOPLUSREVERB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PChannelCount, // MIDI 16, Wave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Flags,//DMUS_AUDIOF_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UDIOPARAMS *pParams 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Metodos do 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5788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PlaySegmentEx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Source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ponteiro para um obj. toca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*pwzSegmentName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não implementado! NU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Transition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param. Composicao. NU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Flags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Muda o comportamento do segment. 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__int64 i64StartTime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 tempo. Assiciado com dwfla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MusicSegmentState** ppSegmentState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From, //segment tocando antes. 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AudioPath // 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HRESULT StopEx(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IUnknown *pObjectToStop, //ponteiro para um obj. toca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__int64 i64StopTime,//tempo para parar. Associado com dwfla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DWORD dwFlags //quando a parada deve ocorrer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AudioPaths e Buffer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3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dioPath define um barramento que indicará para que Buffer um track ir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dAudioPath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3dBuf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AudioPath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erface IDirectMusicBuffer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Não serão vist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41198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Arquitetura do Directx Aud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40320" y="20520"/>
            <a:ext cx="449568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5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Cabeçalh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#define INITGUI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#include &lt;dmusici.h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Decla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Loader8* g_pLoader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Performance8* g_pPerformance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Segment8* g_pSegment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- Inicializ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Initialize 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Initialize(NULL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Create loader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CreateInstance( CLSID_DirectMusicLoader, NULL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LSCTX_INPROC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ID_IDirectMusicLoader8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(void**)&amp;g_pLoader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Create performance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CreateInstance( CLSID_DirectMusicPerformance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NULL, CLSCTX_INPROC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ID_IDirectMusicPerformance8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(void**)&amp;g_pPerformance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Roteiro da Apresentaçã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o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 que 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lação entr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irectMusic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 Direct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incipais conceitos, interfaces e funcionalida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rquitetura do DirectX A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cando” um arquivo de á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... E aí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gestão de arquitetu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Criando audiopath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InitAudio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IDirectMusic interface not need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IDirectSound interface not need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Window handl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PATH_SHARED_STEREOPLUSREVERB, // Defaultaudiopath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typ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64, // Number of performance channel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UDIOF_ALL, // Features on synthesize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 // Audio parameters; use defaults. 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escolhendo um dir.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1080" y="1415520"/>
            <a:ext cx="9144000" cy="47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Find the Windows media director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CHAR strPath[MAX_PATH]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etWindowsDirectory( strPath, MAX_PATH 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strcat( strPath, "\\media" 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onvert to Unicod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wstrSearchPath[MAX_PATH]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ultiByteToWideChar(CP_ACP, 0, strPath, -1,wstrSearchPath,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AX_PATH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Set the search director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Loader-&gt;SetSearchDirectory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UID_DirectMusicAllTypes, // Types of files sough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strSearchPath, // Where to l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FALSE // Don't clear object data. );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abrindo um arquiv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415520"/>
            <a:ext cx="9144000" cy="45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wstrFileName[MAX_PATH] = L"The Microsoft Sound.wav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f (FAILED(g_pLoader-&gt;LoadObjectFromFile( CLSID_DirectMusicSegment, // Class identifi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ID_IDirectMusicSegment8, // ID of desired interfa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strFileName, // Filena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(LPVOID*) &amp;g_pSegment ))) // Pointer that receives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interfac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{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essageBox( NULL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"Media not found, sample will now quit."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"DMusic Tutorial", MB_OK ); return 0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toc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0720" y="1415880"/>
            <a:ext cx="8962920" cy="47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Download the segment's instruments to the synthesiz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g_pSegment-&gt;Download( g_pPerformance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PlaySegmentEx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Segment, // Segment to pl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Used for songs; not impleme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For transition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Flag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Start time; 0 is immedi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Pointer that receives segment stat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Object to stop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 // Audiopath, if not default.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essageBox(NULL,"Click OK to Exit.","Play Audio", MB_OK 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finaliz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1010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Stop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Stop all seg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Stop all segment st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Do it immediate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 // Flags.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CloseDown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leanup all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Loader-&gt;Release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Release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Segment-&gt;Release(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lose down 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CoUninitialize(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as... E aí?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96640"/>
            <a:ext cx="8578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ugestão de arquitetura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219640" y="1916280"/>
            <a:ext cx="2952720" cy="1073520"/>
            <a:chOff x="5219640" y="1916280"/>
            <a:chExt cx="2952720" cy="1073520"/>
          </a:xfrm>
        </p:grpSpPr>
        <p:sp>
          <p:nvSpPr>
            <p:cNvPr id="130" name=""/>
            <p:cNvSpPr/>
            <p:nvPr/>
          </p:nvSpPr>
          <p:spPr>
            <a:xfrm>
              <a:off x="5219640" y="2276640"/>
              <a:ext cx="72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24360" y="1916280"/>
              <a:ext cx="17287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9640" y="2708280"/>
              <a:ext cx="72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0360" y="234936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Performa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133080" y="2137320"/>
            <a:ext cx="2055240" cy="2296080"/>
            <a:chOff x="3133080" y="2137320"/>
            <a:chExt cx="2055240" cy="2296080"/>
          </a:xfrm>
        </p:grpSpPr>
        <p:sp>
          <p:nvSpPr>
            <p:cNvPr id="135" name=""/>
            <p:cNvSpPr/>
            <p:nvPr/>
          </p:nvSpPr>
          <p:spPr>
            <a:xfrm>
              <a:off x="3133080" y="2137320"/>
              <a:ext cx="2055240" cy="640440"/>
            </a:xfrm>
            <a:prstGeom prst="rect">
              <a:avLst/>
            </a:prstGeom>
            <a:gradFill rotWithShape="0">
              <a:gsLst>
                <a:gs pos="0">
                  <a:srgbClr val="3c6319"/>
                </a:gs>
                <a:gs pos="100000">
                  <a:srgbClr val="83d737">
                    <a:alpha val="8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13716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Gerenci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40000" y="2781360"/>
              <a:ext cx="0" cy="1008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72640" y="3792960"/>
              <a:ext cx="1211040" cy="640440"/>
            </a:xfrm>
            <a:prstGeom prst="rect">
              <a:avLst/>
            </a:prstGeom>
            <a:gradFill rotWithShape="0">
              <a:gsLst>
                <a:gs pos="0">
                  <a:srgbClr val="3c6319"/>
                </a:gs>
                <a:gs pos="100000">
                  <a:srgbClr val="83d737">
                    <a:alpha val="8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13716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Obje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0600" y="3357720"/>
              <a:ext cx="33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84720" y="2997000"/>
            <a:ext cx="3671640" cy="2367720"/>
            <a:chOff x="4284720" y="2997000"/>
            <a:chExt cx="3671640" cy="2367720"/>
          </a:xfrm>
        </p:grpSpPr>
        <p:sp>
          <p:nvSpPr>
            <p:cNvPr id="140" name=""/>
            <p:cNvSpPr/>
            <p:nvPr/>
          </p:nvSpPr>
          <p:spPr>
            <a:xfrm>
              <a:off x="4788000" y="4292640"/>
              <a:ext cx="122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24360" y="400536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Segment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788000" y="2997000"/>
              <a:ext cx="1512720" cy="936720"/>
              <a:chOff x="4788000" y="2997000"/>
              <a:chExt cx="1512720" cy="936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788000" y="3933720"/>
                <a:ext cx="15127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7160" bIns="-137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6300720" y="2997000"/>
                <a:ext cx="0" cy="936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572000" y="4724280"/>
              <a:ext cx="143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436572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Segment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4720" y="5084640"/>
              <a:ext cx="1726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72428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Segment 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284720" y="4436640"/>
              <a:ext cx="0" cy="647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572000" y="4437000"/>
              <a:ext cx="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26920" y="3933720"/>
            <a:ext cx="3097440" cy="1431000"/>
            <a:chOff x="826920" y="3933720"/>
            <a:chExt cx="3097440" cy="1431000"/>
          </a:xfrm>
        </p:grpSpPr>
        <p:sp>
          <p:nvSpPr>
            <p:cNvPr id="152" name=""/>
            <p:cNvSpPr/>
            <p:nvPr/>
          </p:nvSpPr>
          <p:spPr>
            <a:xfrm flipH="1">
              <a:off x="2626920" y="5084640"/>
              <a:ext cx="1297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626920" y="4653000"/>
              <a:ext cx="108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627280" y="4292640"/>
              <a:ext cx="938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924360" y="4436640"/>
              <a:ext cx="0" cy="647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708360" y="4437000"/>
              <a:ext cx="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8840" bIns="78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920" y="393372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Play1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6920" y="429264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Play2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6920" y="472428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PlayN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rcíc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udar o arquivo fonte para wa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locar trilha sonora em uma apl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locar efeito sonoro disparado por algum ev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hamar “Play” com input ou anim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ncronizar a ação com o s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eitos sonoros podem ser encontrados 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ttp://www.findsounds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 Geber tem um CD com um monte deles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O que é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junto de APIs para lidar com áud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stá para a placa de som como DGraphics para a placa de víd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Sound e DirectMus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rsão 8 integra bem os do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nipulam arquivos MIDI, wave e DM Producer´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 MP3, WMA etc.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rece que não dá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ite da Microsoft não mencio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w-latency mix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Show lida com esse tipo de arquiv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Relação entre 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DirectMusic </a:t>
            </a: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e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 DirectSound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54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as versões anterio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Music para o áudio baseado em mensagem (MID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Sound para adquirir e reproduzir wa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rectx 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Music fornece interface para tocar wave o MIDI até um determinad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buffer Direct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Sound continua responsável por aquisição e gerencia seu caminho do buffer até a placa de s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m resum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Music </a:t>
            </a:r>
            <a:r>
              <a:rPr b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arquivo até buf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Sound </a:t>
            </a:r>
            <a:r>
              <a:rPr b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buffer até pla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Relação entre 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DirectMusic </a:t>
            </a: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e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 DirectSound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78800" cy="28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rectx 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Music de nível mais al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posições dinâmicas através de regras musica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tyles: conjunto de patterns + time signature + tempo +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hordma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tyle-Based seg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Principais conceito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25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ad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gment e Segment 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diopath e Buff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4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rimeiro objeto a ser cria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Viabiliza o armazenamento de todos os objetos de áudio da apl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ria uma representação do objeto para a aplic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epara o processo de streaming dos objetos de á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erface IDirectMusicLoader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étodos do 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78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SetSearchDirectory(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GUID rguidClass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GUID_DirectMusicAll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* pwszPath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File path for directory. &lt; MAX_PATH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BOOL fClear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 //apaga a info. Do objeto após busc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LoadObjectFromFile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GUID rguidClassID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CLSID_DirectMusicSeg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IID iidInterfaceID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 //IID_IDirectMusicSegment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*pwzFilePath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nome do arquiv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void ** ppObject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ponteiro para o obje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étodos do 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Enum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ScanDirecto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ache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learCac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ollectGarbag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EnableCac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Release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ReleaseObjectByUnknow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Get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SetObject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21:29:37Z</dcterms:created>
  <dc:creator>mlmd</dc:creator>
  <dc:description/>
  <dc:language>en-US</dc:language>
  <cp:lastModifiedBy>Bruno e Thiago Jamir e Silva</cp:lastModifiedBy>
  <dcterms:modified xsi:type="dcterms:W3CDTF">2003-02-12T00:21:21Z</dcterms:modified>
  <cp:revision>130</cp:revision>
  <dc:subject/>
  <dc:title>DirectMusic e DirectSound</dc:title>
</cp:coreProperties>
</file>