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AD7E-65D8-48B0-AD5E-45A72D294DC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locar figura da memoria de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1E88-BF0C-459A-A3B4-E7FBE9D0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531-0A22-4E39-B3C7-FD72B9BC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6AC-D7CC-4ACD-A8F5-FA6B8657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978-08E7-40F6-8A92-AA0CC3D2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4559-3779-4F65-B3C3-EDDEC31D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3B82-48D8-436A-8675-A3650311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A9E7-322A-437E-B87E-55BC9FD3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2B6E-D9CD-46DC-B6AA-9FE3083D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5861-25FD-4225-ABFC-CA484B27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D28B-F273-411E-BFBA-196EC40D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3069-CCCA-43E4-AEFC-8611FD1B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41D-07F1-49F9-A674-A5378B1F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CDC8-B853-493E-88B6-00DABE86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74B5-76B0-40BA-8B32-A02B5F20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E0B7-EC67-4155-AB10-F5B0DDE6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F713-59CE-4597-A08C-6F9ECE8F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A4BF-731E-4EE8-91F4-25CDD9D7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7662-A986-406A-AD19-AE244366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E8E-7206-454B-AE2F-08A2B87C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CB09-FF35-43F2-B2C0-D1537DE4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F7F-A547-4231-AB44-434E59E9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E320-A882-47A1-BC60-BA56C7E0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081-4223-42CB-BD43-61BED492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9D7-D37F-4EED-9E69-D7D22CD6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38BD-2E5A-4603-9B51-AB462653E12A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8A54-97AB-4DA7-A930-1C6CA8232586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1523520"/>
            <a:ext cx="7926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06633"/>
                </a:solidFill>
                <a:latin typeface="Arial"/>
              </a:rPr>
              <a:t>Forge 16V</a:t>
            </a:r>
            <a:endParaRPr b="0" lang="en-US" sz="5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uardo Sampaio Ro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Tarefa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iar uma aplicação Win3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iar uma instância do GameMan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iar uma instância do Game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dicionar o GameState no GameMan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Iniciar o motor no modo janela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800x600 (CF16VVideoEngine::CreateWindow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Iniciar o motor no modo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fullscreen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800x600x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Limitar o motor a 30 fp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Input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81280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iado e inicializado automaticamente pelo GameManag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ossui suporte a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ouse de até 8 botõ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Joystick de até 128 bot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rabalha nos mod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medi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uffered (Event Listen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Input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3645000"/>
            <a:ext cx="2862360" cy="914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F16VInput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71720" y="2276640"/>
            <a:ext cx="1873080" cy="57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M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69920" y="5300640"/>
            <a:ext cx="1873440" cy="57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V16VKey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2349360"/>
            <a:ext cx="1873440" cy="57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V8iJoystick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3141720"/>
            <a:ext cx="1873440" cy="57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V8iJoystic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4941720"/>
            <a:ext cx="1873440" cy="57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V8iJoystick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58" idx="2"/>
            <a:endCxn id="157" idx="0"/>
          </p:cNvCxnSpPr>
          <p:nvPr/>
        </p:nvCxnSpPr>
        <p:spPr>
          <a:xfrm flipV="1" rot="10800000">
            <a:off x="2907720" y="2852280"/>
            <a:ext cx="1080" cy="7930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"/>
          <p:cNvCxnSpPr>
            <a:stCxn id="157" idx="2"/>
            <a:endCxn id="159" idx="0"/>
          </p:cNvCxnSpPr>
          <p:nvPr/>
        </p:nvCxnSpPr>
        <p:spPr>
          <a:xfrm rot="5400000">
            <a:off x="2536200" y="4928760"/>
            <a:ext cx="741960" cy="2520"/>
          </a:xfrm>
          <a:prstGeom prst="bentConnector3">
            <a:avLst>
              <a:gd name="adj1" fmla="val 49854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5" name=""/>
          <p:cNvCxnSpPr>
            <a:stCxn id="160" idx="1"/>
            <a:endCxn id="157" idx="3"/>
          </p:cNvCxnSpPr>
          <p:nvPr/>
        </p:nvCxnSpPr>
        <p:spPr>
          <a:xfrm flipV="1" rot="10800000">
            <a:off x="4338000" y="2638080"/>
            <a:ext cx="1529280" cy="1464480"/>
          </a:xfrm>
          <a:prstGeom prst="bentConnector3">
            <a:avLst>
              <a:gd name="adj1" fmla="val 4994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6" name=""/>
          <p:cNvCxnSpPr>
            <a:stCxn id="161" idx="1"/>
            <a:endCxn id="157" idx="3"/>
          </p:cNvCxnSpPr>
          <p:nvPr/>
        </p:nvCxnSpPr>
        <p:spPr>
          <a:xfrm flipV="1" rot="10800000">
            <a:off x="4338000" y="3430080"/>
            <a:ext cx="1529280" cy="672480"/>
          </a:xfrm>
          <a:prstGeom prst="bentConnector3">
            <a:avLst>
              <a:gd name="adj1" fmla="val 4994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2" idx="1"/>
            <a:endCxn id="157" idx="3"/>
          </p:cNvCxnSpPr>
          <p:nvPr/>
        </p:nvCxnSpPr>
        <p:spPr>
          <a:xfrm rot="10800000">
            <a:off x="4338000" y="4101480"/>
            <a:ext cx="1529280" cy="1129320"/>
          </a:xfrm>
          <a:prstGeom prst="bentConnector3">
            <a:avLst>
              <a:gd name="adj1" fmla="val 4994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6755040" y="3841920"/>
            <a:ext cx="22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Arial"/>
              </a:rPr>
              <a:t>CF16VInputEngine  - Acessando os Dispositivos</a:t>
            </a:r>
            <a:endParaRPr b="0" lang="en-US" sz="3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CF16VMouse* GetMouse(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CF16VKeyboard* GetKeyboard(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int GetNumberOfJoysticks(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CF16VJoystick* GetJoystick(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int index);</a:t>
            </a: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InputEngine - Mous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ropriedad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sição limit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sição liv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nsibilid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ator Aceler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cessando no modo imedia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: GetMousePos(LONG *x, LONG *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Arial"/>
              </a:rPr>
              <a:t>CFV8iInputEngine – Mouse (Cont.)</a:t>
            </a:r>
            <a:endParaRPr b="0" lang="en-US" sz="3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odo Buffered – Usando o Event Listen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IF16VMouseEventListener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virtual void MouseMoved(long lX, long lY, long lZ) {}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virtual void MouseMovedFreePos( long lX, long lY, long lZ) {}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virtual void MouseButtonDown( int iButton ) {}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virtual void MouseButtonUp( int iButton ) {}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virtual void MouseResetState(void) {}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 quiser receber os eventos, basta registrar um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listener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com o métod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RegisterMouseEventListener(IF16VMouseEventListener *el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Arial"/>
              </a:rPr>
              <a:t>CFV8iInputEngine – Mouse (Cont.)</a:t>
            </a:r>
            <a:endParaRPr b="0" lang="en-US" sz="3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4720" y="3139920"/>
            <a:ext cx="2160720" cy="91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F16V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38920" y="1989000"/>
            <a:ext cx="2449440" cy="57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F16VMouseEven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38920" y="2971800"/>
            <a:ext cx="2449440" cy="57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F16VMouseEven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38920" y="4940280"/>
            <a:ext cx="2449440" cy="57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F16MouseEven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38920" y="3956040"/>
            <a:ext cx="2449440" cy="57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F16VMouseEven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3309840"/>
            <a:ext cx="863640" cy="57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6" idx="1"/>
            <a:endCxn id="181" idx="3"/>
          </p:cNvCxnSpPr>
          <p:nvPr/>
        </p:nvCxnSpPr>
        <p:spPr>
          <a:xfrm flipV="1" rot="10800000">
            <a:off x="1474200" y="3596040"/>
            <a:ext cx="1370520" cy="2520"/>
          </a:xfrm>
          <a:prstGeom prst="bentConnector3">
            <a:avLst>
              <a:gd name="adj1" fmla="val 49921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3" name=""/>
          <p:cNvCxnSpPr>
            <a:stCxn id="178" idx="1"/>
            <a:endCxn id="176" idx="3"/>
          </p:cNvCxnSpPr>
          <p:nvPr/>
        </p:nvCxnSpPr>
        <p:spPr>
          <a:xfrm flipV="1" rot="10800000">
            <a:off x="5004720" y="3260880"/>
            <a:ext cx="934200" cy="3366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4" name=""/>
          <p:cNvCxnSpPr>
            <a:stCxn id="180" idx="1"/>
            <a:endCxn id="176" idx="3"/>
          </p:cNvCxnSpPr>
          <p:nvPr/>
        </p:nvCxnSpPr>
        <p:spPr>
          <a:xfrm rot="10800000">
            <a:off x="5004720" y="3597120"/>
            <a:ext cx="934200" cy="6483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5" name=""/>
          <p:cNvCxnSpPr>
            <a:stCxn id="179" idx="1"/>
            <a:endCxn id="176" idx="3"/>
          </p:cNvCxnSpPr>
          <p:nvPr/>
        </p:nvCxnSpPr>
        <p:spPr>
          <a:xfrm rot="10800000">
            <a:off x="5004720" y="3596400"/>
            <a:ext cx="934200" cy="16329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6" name=""/>
          <p:cNvCxnSpPr>
            <a:stCxn id="177" idx="1"/>
            <a:endCxn id="176" idx="3"/>
          </p:cNvCxnSpPr>
          <p:nvPr/>
        </p:nvCxnSpPr>
        <p:spPr>
          <a:xfrm flipV="1" rot="10800000">
            <a:off x="5004720" y="2277720"/>
            <a:ext cx="934200" cy="13197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1765080" y="3067200"/>
            <a:ext cx="8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Mou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InputEngine - Teclado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uida do estado de 256 tecl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Modo Imedia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OOL GetKeyDown(int key, DWORD *time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Modo Buffer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F16VKeyboardEventListe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InputEngine - Joystick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uida de Joysticks de até 128 bot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gumas proprieda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sição em 3 eix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ot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elocidade/Aceler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orque/Forç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odo Imedi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odo Buff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F16VJoystickEv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e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Tarefa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nverter o exemplo 2 do modo imediato para o modo buffe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ando a tecla F5 for pressionada, usar a função 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VideoEngine::ChangeVideoMod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para converter do modo fullscreen para o modo janela e vice-ver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cas: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se a função IsFullScreen do VideoEngine para saber qual o modo a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função ChangeVideoMode se chamado apenas com o primeiro parâmetro, tenta manter as dimensões do modo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omo usar o motor?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777240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bordagem modular – a cada nova versão será disponibilizado um .lib e os .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03280" y="1773360"/>
            <a:ext cx="1873440" cy="57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Forge16V.l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1773360"/>
            <a:ext cx="1873080" cy="57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ncludes (.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2997360"/>
            <a:ext cx="2862360" cy="91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jeto de J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isual 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43640" y="2843280"/>
            <a:ext cx="230508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J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9" idx="0"/>
            <a:endCxn id="97" idx="2"/>
          </p:cNvCxnSpPr>
          <p:nvPr/>
        </p:nvCxnSpPr>
        <p:spPr>
          <a:xfrm flipV="1" rot="16200000">
            <a:off x="2767320" y="1921320"/>
            <a:ext cx="648360" cy="15040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02" name=""/>
          <p:cNvCxnSpPr>
            <a:stCxn id="99" idx="0"/>
            <a:endCxn id="98" idx="2"/>
          </p:cNvCxnSpPr>
          <p:nvPr/>
        </p:nvCxnSpPr>
        <p:spPr>
          <a:xfrm flipH="1" flipV="1" rot="5400000">
            <a:off x="4316040" y="1876320"/>
            <a:ext cx="648360" cy="15944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03" name=""/>
          <p:cNvCxnSpPr>
            <a:stCxn id="99" idx="3"/>
            <a:endCxn id="100" idx="1"/>
          </p:cNvCxnSpPr>
          <p:nvPr/>
        </p:nvCxnSpPr>
        <p:spPr>
          <a:xfrm>
            <a:off x="5273640" y="3454560"/>
            <a:ext cx="1170720" cy="2160"/>
          </a:xfrm>
          <a:prstGeom prst="bentConnector3">
            <a:avLst>
              <a:gd name="adj1" fmla="val 4992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2916360" y="4437000"/>
            <a:ext cx="1873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irectX 8 Li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4" idx="0"/>
            <a:endCxn id="99" idx="2"/>
          </p:cNvCxnSpPr>
          <p:nvPr/>
        </p:nvCxnSpPr>
        <p:spPr>
          <a:xfrm flipH="1" flipV="1">
            <a:off x="3843000" y="3911040"/>
            <a:ext cx="10080" cy="52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Tarefa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azer o exemplo 3 mostrar o mouse (dica: use a função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tCursorVisibl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do VideoEng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ecutar o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scroll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a figura  com o mouse (quando o mouse estiver a 10 pixels da bor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ratar o evento do botão esquerdo do mouse (F16VM_BUTTON0) ser pressionado, ajustando a posição do mouse para o centro da te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justar a sensibilidade do mouse para 1.0, depois para 1.3 e 2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rocar o botão do mouse esquerdo para o direito (CMouse::SetMouseSwapButtons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Video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incipal componente do Mo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Lida basicamente com Surfaces (imagem em área de memór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erencia automaticamente a memória de víde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uporta os seguintes esquemas de co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5 bb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6 bp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4 bp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32 bp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Video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F16VSur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bstração de Surface do DDra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motor se encarrega de manter sempre uma surface vál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surface sempre fica na área de memória do sist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motor cria uma cópia na área da memória de vídeo (cach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Arial"/>
              </a:rPr>
              <a:t>Gerenciador Gráfico – Gerenciamento de Memória</a:t>
            </a:r>
            <a:endParaRPr b="0" lang="en-US" sz="3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nde uma figura deve ser armazenad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emória de vídeo x Memória do Sist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 DirectDraw, o programador resolve is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835280" y="3357720"/>
            <a:ext cx="5500800" cy="3262320"/>
            <a:chOff x="1835280" y="3357720"/>
            <a:chExt cx="5500800" cy="3262320"/>
          </a:xfrm>
        </p:grpSpPr>
        <p:sp>
          <p:nvSpPr>
            <p:cNvPr id="203" name=""/>
            <p:cNvSpPr/>
            <p:nvPr/>
          </p:nvSpPr>
          <p:spPr>
            <a:xfrm>
              <a:off x="4386240" y="4232160"/>
              <a:ext cx="1325520" cy="108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89640" y="4448160"/>
              <a:ext cx="663480" cy="59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35280" y="3905280"/>
              <a:ext cx="2041560" cy="163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41640" y="6240600"/>
              <a:ext cx="3722760" cy="379440"/>
            </a:xfrm>
            <a:prstGeom prst="leftRightArrow">
              <a:avLst>
                <a:gd name="adj1" fmla="val 50000"/>
                <a:gd name="adj2" fmla="val 1953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arr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79960" y="3357720"/>
              <a:ext cx="138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Memória d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omput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14520" y="3645000"/>
              <a:ext cx="16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Memória 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Placa de Víd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160800" y="4448160"/>
              <a:ext cx="204840" cy="325440"/>
              <a:chOff x="3160800" y="4448160"/>
              <a:chExt cx="204840" cy="325440"/>
            </a:xfrm>
          </p:grpSpPr>
          <p:sp>
            <p:nvSpPr>
              <p:cNvPr id="210" name=""/>
              <p:cNvSpPr/>
              <p:nvPr/>
            </p:nvSpPr>
            <p:spPr>
              <a:xfrm>
                <a:off x="3160800" y="4448160"/>
                <a:ext cx="204840" cy="3254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177720" y="4498200"/>
                <a:ext cx="170280" cy="199800"/>
                <a:chOff x="3177720" y="4498200"/>
                <a:chExt cx="170280" cy="1998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245760" y="454824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245760" y="449820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279960" y="454824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11560" y="454824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313800" y="454824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177720" y="454824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228840" y="45979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262680" y="45979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279960" y="46483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211560" y="46483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2" name=""/>
            <p:cNvSpPr/>
            <p:nvPr/>
          </p:nvSpPr>
          <p:spPr>
            <a:xfrm>
              <a:off x="4716360" y="52084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50960" y="4883040"/>
              <a:ext cx="118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Áre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Exibi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63760" y="4775040"/>
              <a:ext cx="0" cy="1521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263760" y="6294600"/>
              <a:ext cx="147960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743360" y="4882680"/>
              <a:ext cx="0" cy="1411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7" name=""/>
            <p:cNvCxnSpPr>
              <a:stCxn id="204" idx="3"/>
              <a:endCxn id="223" idx="0"/>
            </p:cNvCxnSpPr>
            <p:nvPr/>
          </p:nvCxnSpPr>
          <p:spPr>
            <a:xfrm>
              <a:off x="5252760" y="4747680"/>
              <a:ext cx="1491480" cy="1357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>
              <a:off x="4746240" y="580536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ransferência de </a:t>
              </a:r>
              <a:r>
                <a:rPr b="0" i="1" lang="pt-BR" sz="1800" spc="-1" strike="noStrike">
                  <a:solidFill>
                    <a:srgbClr val="000000"/>
                  </a:solidFill>
                  <a:latin typeface="Arial"/>
                </a:rPr>
                <a:t>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4691160" y="4556160"/>
              <a:ext cx="204840" cy="325440"/>
              <a:chOff x="4691160" y="4556160"/>
              <a:chExt cx="204840" cy="325440"/>
            </a:xfrm>
          </p:grpSpPr>
          <p:sp>
            <p:nvSpPr>
              <p:cNvPr id="230" name=""/>
              <p:cNvSpPr/>
              <p:nvPr/>
            </p:nvSpPr>
            <p:spPr>
              <a:xfrm>
                <a:off x="4691160" y="4556160"/>
                <a:ext cx="204840" cy="3254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4708080" y="4606200"/>
                <a:ext cx="170280" cy="199800"/>
                <a:chOff x="4708080" y="4606200"/>
                <a:chExt cx="170280" cy="1998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776120" y="465624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776120" y="460620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810320" y="465624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741920" y="465624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844160" y="465624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708080" y="465624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759200" y="47059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793040" y="47059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810320" y="47563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741920" y="47563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5405400" y="4937040"/>
              <a:ext cx="204840" cy="325440"/>
              <a:chOff x="5405400" y="4937040"/>
              <a:chExt cx="204840" cy="325440"/>
            </a:xfrm>
          </p:grpSpPr>
          <p:sp>
            <p:nvSpPr>
              <p:cNvPr id="243" name=""/>
              <p:cNvSpPr/>
              <p:nvPr/>
            </p:nvSpPr>
            <p:spPr>
              <a:xfrm>
                <a:off x="5405400" y="4937040"/>
                <a:ext cx="204840" cy="3254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5422320" y="4987080"/>
                <a:ext cx="170280" cy="199800"/>
                <a:chOff x="5422320" y="4987080"/>
                <a:chExt cx="170280" cy="1998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490360" y="50371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490360" y="498708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524560" y="50371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456160" y="50371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558400" y="50371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422320" y="50371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473440" y="508680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507280" y="508680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524560" y="513720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456160" y="513720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 flipV="1">
              <a:off x="4896000" y="5153040"/>
              <a:ext cx="51120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896000" y="488304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Arial"/>
              </a:rPr>
              <a:t>Gerenciador Gráfico – Gerenciamento de Memória </a:t>
            </a:r>
            <a:endParaRPr b="0" lang="en-US" sz="3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Forge 16V utiliza um sistema de Cache de Surf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erenciamento é transparente ao program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71640" y="3429000"/>
            <a:ext cx="7676640" cy="2879640"/>
            <a:chOff x="971640" y="3429000"/>
            <a:chExt cx="7676640" cy="2879640"/>
          </a:xfrm>
        </p:grpSpPr>
        <p:grpSp>
          <p:nvGrpSpPr>
            <p:cNvPr id="260" name=""/>
            <p:cNvGrpSpPr/>
            <p:nvPr/>
          </p:nvGrpSpPr>
          <p:grpSpPr>
            <a:xfrm>
              <a:off x="971640" y="4725720"/>
              <a:ext cx="718560" cy="649080"/>
              <a:chOff x="971640" y="4725720"/>
              <a:chExt cx="718560" cy="649080"/>
            </a:xfrm>
          </p:grpSpPr>
          <p:sp>
            <p:nvSpPr>
              <p:cNvPr id="261" name=""/>
              <p:cNvSpPr/>
              <p:nvPr/>
            </p:nvSpPr>
            <p:spPr>
              <a:xfrm>
                <a:off x="1114200" y="5157360"/>
                <a:ext cx="576000" cy="217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114200" y="5013000"/>
                <a:ext cx="576000" cy="217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114200" y="4868640"/>
                <a:ext cx="576000" cy="217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114200" y="4725720"/>
                <a:ext cx="576000" cy="217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971640" y="479700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971640" y="479700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971640" y="494172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971640" y="508608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971640" y="522900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971640" y="537336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3490920" y="4005000"/>
              <a:ext cx="1873080" cy="136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90560" y="501300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138560" y="4857480"/>
              <a:ext cx="216000" cy="287280"/>
              <a:chOff x="4138560" y="4857480"/>
              <a:chExt cx="216000" cy="287280"/>
            </a:xfrm>
          </p:grpSpPr>
          <p:sp>
            <p:nvSpPr>
              <p:cNvPr id="274" name=""/>
              <p:cNvSpPr/>
              <p:nvPr/>
            </p:nvSpPr>
            <p:spPr>
              <a:xfrm>
                <a:off x="4138560" y="4857480"/>
                <a:ext cx="216000" cy="2872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4156200" y="4901760"/>
                <a:ext cx="179640" cy="176400"/>
                <a:chOff x="4156200" y="4901760"/>
                <a:chExt cx="179640" cy="1764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227840" y="4946040"/>
                  <a:ext cx="36000" cy="43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227840" y="4901760"/>
                  <a:ext cx="36000" cy="43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264200" y="4946040"/>
                  <a:ext cx="36000" cy="43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191840" y="4946040"/>
                  <a:ext cx="36000" cy="43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299840" y="4946040"/>
                  <a:ext cx="36000" cy="43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56200" y="4946040"/>
                  <a:ext cx="36000" cy="43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210200" y="4989960"/>
                  <a:ext cx="36000" cy="43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245840" y="4989960"/>
                  <a:ext cx="36000" cy="43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264200" y="5034240"/>
                  <a:ext cx="36000" cy="43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191840" y="5034240"/>
                  <a:ext cx="36000" cy="43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6" name=""/>
            <p:cNvSpPr/>
            <p:nvPr/>
          </p:nvSpPr>
          <p:spPr>
            <a:xfrm>
              <a:off x="4431960" y="5516280"/>
              <a:ext cx="161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urface.Draw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95640" y="5805360"/>
              <a:ext cx="2736720" cy="503280"/>
            </a:xfrm>
            <a:prstGeom prst="leftRightArrow">
              <a:avLst>
                <a:gd name="adj1" fmla="val 50000"/>
                <a:gd name="adj2" fmla="val 1082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Barra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80000" y="4365360"/>
              <a:ext cx="1295280" cy="100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68920" y="438444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H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06920" y="3429000"/>
              <a:ext cx="158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emória do Comput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35640" y="3717720"/>
              <a:ext cx="1584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emória da Placa de Víd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96000" y="458136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82920" y="51577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82920" y="580536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6514920" y="5013000"/>
              <a:ext cx="216000" cy="287640"/>
              <a:chOff x="6514920" y="5013000"/>
              <a:chExt cx="216000" cy="287640"/>
            </a:xfrm>
          </p:grpSpPr>
          <p:sp>
            <p:nvSpPr>
              <p:cNvPr id="296" name=""/>
              <p:cNvSpPr/>
              <p:nvPr/>
            </p:nvSpPr>
            <p:spPr>
              <a:xfrm>
                <a:off x="6514920" y="5013000"/>
                <a:ext cx="216000" cy="287640"/>
              </a:xfrm>
              <a:prstGeom prst="rect">
                <a:avLst/>
              </a:prstGeom>
              <a:solidFill>
                <a:srgbClr val="eaeaea">
                  <a:alpha val="5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6532560" y="5057280"/>
                <a:ext cx="179640" cy="176760"/>
                <a:chOff x="6532560" y="5057280"/>
                <a:chExt cx="179640" cy="1767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04200" y="510156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505728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640560" y="510156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568200" y="510156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676200" y="510156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532560" y="510156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586560" y="514548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622200" y="514548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4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640560" y="519012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568200" y="519012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 flipV="1">
              <a:off x="6588000" y="530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5889600" y="4652640"/>
              <a:ext cx="216000" cy="287640"/>
              <a:chOff x="5889600" y="4652640"/>
              <a:chExt cx="216000" cy="287640"/>
            </a:xfrm>
          </p:grpSpPr>
          <p:sp>
            <p:nvSpPr>
              <p:cNvPr id="310" name=""/>
              <p:cNvSpPr/>
              <p:nvPr/>
            </p:nvSpPr>
            <p:spPr>
              <a:xfrm>
                <a:off x="5889600" y="4652640"/>
                <a:ext cx="216000" cy="287640"/>
              </a:xfrm>
              <a:prstGeom prst="rect">
                <a:avLst/>
              </a:prstGeom>
              <a:solidFill>
                <a:srgbClr val="eaeaea">
                  <a:alpha val="5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5907240" y="4696920"/>
                <a:ext cx="179640" cy="176760"/>
                <a:chOff x="5907240" y="4696920"/>
                <a:chExt cx="179640" cy="1767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5978880" y="474120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978880" y="469692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015240" y="474120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942880" y="474120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050880" y="474120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907240" y="474120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961240" y="478512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996880" y="478512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4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15240" y="482976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942880" y="482976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2" name=""/>
            <p:cNvSpPr/>
            <p:nvPr/>
          </p:nvSpPr>
          <p:spPr>
            <a:xfrm>
              <a:off x="6154560" y="4678200"/>
              <a:ext cx="433440" cy="334800"/>
            </a:xfrm>
            <a:custGeom>
              <a:avLst/>
              <a:gdLst/>
              <a:ahLst/>
              <a:rect l="l" t="t" r="r" b="b"/>
              <a:pathLst>
                <a:path w="273" h="211">
                  <a:moveTo>
                    <a:pt x="273" y="211"/>
                  </a:moveTo>
                  <a:cubicBezTo>
                    <a:pt x="227" y="135"/>
                    <a:pt x="182" y="60"/>
                    <a:pt x="137" y="30"/>
                  </a:cubicBezTo>
                  <a:cubicBezTo>
                    <a:pt x="92" y="0"/>
                    <a:pt x="30" y="23"/>
                    <a:pt x="0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4560" y="4437000"/>
              <a:ext cx="141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Área de Exibi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27640" y="4197240"/>
              <a:ext cx="1511280" cy="384120"/>
            </a:xfrm>
            <a:custGeom>
              <a:avLst/>
              <a:gdLst/>
              <a:ahLst/>
              <a:rect l="l" t="t" r="r" b="b"/>
              <a:pathLst>
                <a:path w="952" h="242">
                  <a:moveTo>
                    <a:pt x="0" y="242"/>
                  </a:moveTo>
                  <a:cubicBezTo>
                    <a:pt x="238" y="136"/>
                    <a:pt x="476" y="30"/>
                    <a:pt x="635" y="15"/>
                  </a:cubicBezTo>
                  <a:cubicBezTo>
                    <a:pt x="794" y="0"/>
                    <a:pt x="869" y="121"/>
                    <a:pt x="952" y="15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67600" y="465264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urface.Creat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Gerenciador Gráfico - Surfaces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95280" y="2060640"/>
          <a:ext cx="8280360" cy="4118040"/>
        </p:xfrm>
        <a:graphic>
          <a:graphicData uri="http://schemas.openxmlformats.org/drawingml/2006/table">
            <a:tbl>
              <a:tblPr/>
              <a:tblGrid>
                <a:gridCol w="2449440"/>
                <a:gridCol w="3238560"/>
                <a:gridCol w="259236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acteríst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face DirectDra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ge 16V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quivos Gráfic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, JPEG, PCX, TGA e P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olha da melhor área de memór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al – o programador deve escolh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ática – o motor verifica a melhor á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tamento de imagens corrompid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 ser realizado pelo programad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Forge 16V recarrega a imagem automaticame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Video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s seguintes operações podem ser feitas em uma surfa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lit (com ou sem Color Ke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Horizontal ou Vertical F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pha blending* (em todos os sistemas de co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ransformações de Esca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Video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Surface pode ser carregada de arquiv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JP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C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Surface pode ser gravada 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332000" y="2852640"/>
            <a:ext cx="619272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Video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76400" y="4940280"/>
            <a:ext cx="259236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F16VVideo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48000" y="4076640"/>
            <a:ext cx="1655640" cy="4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35280" y="3139920"/>
            <a:ext cx="1656000" cy="4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Til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80000" y="3139920"/>
            <a:ext cx="1656000" cy="4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Sp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139920"/>
            <a:ext cx="1655640" cy="4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4" idx="0"/>
            <a:endCxn id="335" idx="2"/>
          </p:cNvCxnSpPr>
          <p:nvPr/>
        </p:nvCxnSpPr>
        <p:spPr>
          <a:xfrm flipH="1" flipV="1" rot="5400000">
            <a:off x="3958920" y="4722120"/>
            <a:ext cx="432360" cy="39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0" name=""/>
          <p:cNvCxnSpPr>
            <a:stCxn id="335" idx="0"/>
            <a:endCxn id="336" idx="2"/>
          </p:cNvCxnSpPr>
          <p:nvPr/>
        </p:nvCxnSpPr>
        <p:spPr>
          <a:xfrm flipH="1" flipV="1" rot="5400000">
            <a:off x="4067640" y="3680280"/>
            <a:ext cx="505440" cy="288000"/>
          </a:xfrm>
          <a:prstGeom prst="bentConnector3">
            <a:avLst>
              <a:gd name="adj1" fmla="val 49964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1" name=""/>
          <p:cNvCxnSpPr>
            <a:stCxn id="335" idx="0"/>
            <a:endCxn id="338" idx="2"/>
          </p:cNvCxnSpPr>
          <p:nvPr/>
        </p:nvCxnSpPr>
        <p:spPr>
          <a:xfrm flipV="1" rot="16200000">
            <a:off x="3059640" y="2959200"/>
            <a:ext cx="505440" cy="1729440"/>
          </a:xfrm>
          <a:prstGeom prst="bentConnector3">
            <a:avLst>
              <a:gd name="adj1" fmla="val 49964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42" name=""/>
          <p:cNvCxnSpPr>
            <a:stCxn id="335" idx="0"/>
            <a:endCxn id="337" idx="2"/>
          </p:cNvCxnSpPr>
          <p:nvPr/>
        </p:nvCxnSpPr>
        <p:spPr>
          <a:xfrm flipH="1" flipV="1" rot="5400000">
            <a:off x="5040000" y="2707920"/>
            <a:ext cx="505440" cy="2232720"/>
          </a:xfrm>
          <a:prstGeom prst="bentConnector3">
            <a:avLst>
              <a:gd name="adj1" fmla="val 49964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1908000" y="1628640"/>
            <a:ext cx="165600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so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789440" y="1628640"/>
            <a:ext cx="1655640" cy="43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32" idx="0"/>
            <a:endCxn id="343" idx="2"/>
          </p:cNvCxnSpPr>
          <p:nvPr/>
        </p:nvCxnSpPr>
        <p:spPr>
          <a:xfrm flipV="1" rot="16200000">
            <a:off x="3191040" y="1605240"/>
            <a:ext cx="783360" cy="1693080"/>
          </a:xfrm>
          <a:prstGeom prst="bentConnector3">
            <a:avLst>
              <a:gd name="adj1" fmla="val 49287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6" name=""/>
          <p:cNvCxnSpPr>
            <a:stCxn id="332" idx="0"/>
            <a:endCxn id="344" idx="2"/>
          </p:cNvCxnSpPr>
          <p:nvPr/>
        </p:nvCxnSpPr>
        <p:spPr>
          <a:xfrm flipH="1" flipV="1" rot="5400000">
            <a:off x="4631760" y="1856880"/>
            <a:ext cx="783360" cy="1189800"/>
          </a:xfrm>
          <a:prstGeom prst="bentConnector3">
            <a:avLst>
              <a:gd name="adj1" fmla="val 49287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Arial"/>
              </a:rPr>
              <a:t>Como exibir uma imagem na tela?</a:t>
            </a:r>
            <a:endParaRPr b="0" lang="en-US" sz="3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Forge 16V usa um buffer (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backbuffer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) pra montar toda imagem antes de mostrá-la no moni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sse buffer é uma CF16VSur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ara acessar esse buffer, use a função CF16VVideoEngine::GetBackBuffer(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epois basta chamar a função Draw da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que se deseja exibir na tela passando como parâmetro o backbu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Principais Componentes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3760" y="2759040"/>
            <a:ext cx="12492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erenci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2720" y="2759040"/>
            <a:ext cx="12492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erenci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 En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30960" y="2759040"/>
            <a:ext cx="12492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erenci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ráf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3760" y="1557360"/>
            <a:ext cx="12492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erenci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 S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65600" y="3962520"/>
            <a:ext cx="1249200" cy="69192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erenci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o Mu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41920" y="3962520"/>
            <a:ext cx="1249200" cy="69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erenci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ultiusu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65600" y="5100480"/>
            <a:ext cx="12492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erenci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38400" y="3898800"/>
            <a:ext cx="1249200" cy="8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erenci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odelag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ís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7" idx="1"/>
            <a:endCxn id="108" idx="3"/>
          </p:cNvCxnSpPr>
          <p:nvPr/>
        </p:nvCxnSpPr>
        <p:spPr>
          <a:xfrm rot="10800000">
            <a:off x="3301200" y="3106080"/>
            <a:ext cx="5025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"/>
          <p:cNvCxnSpPr>
            <a:stCxn id="107" idx="0"/>
            <a:endCxn id="110" idx="2"/>
          </p:cNvCxnSpPr>
          <p:nvPr/>
        </p:nvCxnSpPr>
        <p:spPr>
          <a:xfrm flipV="1">
            <a:off x="4428720" y="2248920"/>
            <a:ext cx="108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07" idx="3"/>
            <a:endCxn id="109" idx="1"/>
          </p:cNvCxnSpPr>
          <p:nvPr/>
        </p:nvCxnSpPr>
        <p:spPr>
          <a:xfrm>
            <a:off x="5052960" y="3106440"/>
            <a:ext cx="37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07" idx="2"/>
            <a:endCxn id="111" idx="0"/>
          </p:cNvCxnSpPr>
          <p:nvPr/>
        </p:nvCxnSpPr>
        <p:spPr>
          <a:xfrm rot="5400000">
            <a:off x="3708360" y="3234600"/>
            <a:ext cx="502560" cy="938880"/>
          </a:xfrm>
          <a:prstGeom prst="bentConnector3">
            <a:avLst>
              <a:gd name="adj1" fmla="val 5060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>
            <a:stCxn id="107" idx="2"/>
            <a:endCxn id="112" idx="0"/>
          </p:cNvCxnSpPr>
          <p:nvPr/>
        </p:nvCxnSpPr>
        <p:spPr>
          <a:xfrm flipH="1" rot="16200000">
            <a:off x="4643280" y="3238200"/>
            <a:ext cx="510480" cy="938880"/>
          </a:xfrm>
          <a:prstGeom prst="bentConnector3">
            <a:avLst>
              <a:gd name="adj1" fmla="val 498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1" idx="2"/>
            <a:endCxn id="113" idx="0"/>
          </p:cNvCxnSpPr>
          <p:nvPr/>
        </p:nvCxnSpPr>
        <p:spPr>
          <a:xfrm flipV="1" rot="10800000">
            <a:off x="3490200" y="4662000"/>
            <a:ext cx="1080" cy="43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1" idx="1"/>
            <a:endCxn id="114" idx="3"/>
          </p:cNvCxnSpPr>
          <p:nvPr/>
        </p:nvCxnSpPr>
        <p:spPr>
          <a:xfrm flipV="1" rot="10800000">
            <a:off x="2486880" y="4308120"/>
            <a:ext cx="370800" cy="7200"/>
          </a:xfrm>
          <a:prstGeom prst="bentConnector3">
            <a:avLst>
              <a:gd name="adj1" fmla="val 488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1238400" y="5100480"/>
            <a:ext cx="12492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di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 Cen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11" idx="2"/>
          </p:cNvCxnSpPr>
          <p:nvPr/>
        </p:nvCxnSpPr>
        <p:spPr>
          <a:xfrm flipV="1">
            <a:off x="2487240" y="4661640"/>
            <a:ext cx="1003680" cy="78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2054160" y="1557360"/>
            <a:ext cx="124956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erenci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 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2"/>
            <a:endCxn id="107" idx="0"/>
          </p:cNvCxnSpPr>
          <p:nvPr/>
        </p:nvCxnSpPr>
        <p:spPr>
          <a:xfrm>
            <a:off x="2679480" y="2249280"/>
            <a:ext cx="1749960" cy="51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Tarefa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icar a figura de background do exemplo 4 para 800x600. (dica: use a função DrawStretch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verter o background usando as funções DrawHFlip e DrawVFl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senhar o homem das cavernas no centro da tela usando uma Su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senhar o homem das cavernas no centro da tela usando um TileSet. Animar o homem das cavernas. (dica: para carregar as informações do tileset, use o método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tTileInfoFromSurfa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sar o TileSet para criar um Sprite e animá-lo a taxa de 30 f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Log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software desta complexidade deve possuir um sistema de 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e componente é criado automaticamente pelo Game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 mensagens podem ser enviadas pa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rqu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ole Gráf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r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ole DOS(stderr/stdou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V8iLog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xistem 10 níveis de mensage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ada dispositivo pode especificar um nível mínimo de “interesse”. Assim, somente as mensagens com nível superior ao nível mínimo, serão repassadas pelo gerenciador de l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V8iLog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195640" y="2349360"/>
            <a:ext cx="2376360" cy="719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F16VLog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1557360"/>
            <a:ext cx="1656000" cy="43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File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2247840"/>
            <a:ext cx="1656000" cy="4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COM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67280" y="2940120"/>
            <a:ext cx="1656000" cy="43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LPT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56000" y="3716280"/>
            <a:ext cx="1655640" cy="4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Cons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67280" y="3630600"/>
            <a:ext cx="1656000" cy="43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STDOUT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4322880"/>
            <a:ext cx="1656000" cy="43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STDERR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67280" y="5014800"/>
            <a:ext cx="1656000" cy="4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Net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endCxn id="356" idx="1"/>
          </p:cNvCxnSpPr>
          <p:nvPr/>
        </p:nvCxnSpPr>
        <p:spPr>
          <a:xfrm>
            <a:off x="755640" y="2709360"/>
            <a:ext cx="144036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"/>
          <p:cNvCxnSpPr>
            <a:stCxn id="360" idx="0"/>
            <a:endCxn id="356" idx="2"/>
          </p:cNvCxnSpPr>
          <p:nvPr/>
        </p:nvCxnSpPr>
        <p:spPr>
          <a:xfrm flipV="1">
            <a:off x="3384360" y="3067920"/>
            <a:ext cx="1080" cy="64836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arrow" w="sm"/>
          </a:ln>
        </p:spPr>
      </p:cxnSp>
      <p:cxnSp>
        <p:nvCxnSpPr>
          <p:cNvPr id="366" name=""/>
          <p:cNvCxnSpPr>
            <a:stCxn id="356" idx="3"/>
            <a:endCxn id="357" idx="1"/>
          </p:cNvCxnSpPr>
          <p:nvPr/>
        </p:nvCxnSpPr>
        <p:spPr>
          <a:xfrm flipV="1">
            <a:off x="4572000" y="1772640"/>
            <a:ext cx="1296000" cy="937080"/>
          </a:xfrm>
          <a:prstGeom prst="bentConnector3">
            <a:avLst>
              <a:gd name="adj1" fmla="val 4998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56" idx="3"/>
            <a:endCxn id="358" idx="1"/>
          </p:cNvCxnSpPr>
          <p:nvPr/>
        </p:nvCxnSpPr>
        <p:spPr>
          <a:xfrm flipV="1">
            <a:off x="4572000" y="2463120"/>
            <a:ext cx="1296000" cy="246600"/>
          </a:xfrm>
          <a:prstGeom prst="bentConnector3">
            <a:avLst>
              <a:gd name="adj1" fmla="val 4998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8" name=""/>
          <p:cNvCxnSpPr>
            <a:stCxn id="356" idx="3"/>
            <a:endCxn id="359" idx="1"/>
          </p:cNvCxnSpPr>
          <p:nvPr/>
        </p:nvCxnSpPr>
        <p:spPr>
          <a:xfrm>
            <a:off x="4572000" y="2709720"/>
            <a:ext cx="1296000" cy="447120"/>
          </a:xfrm>
          <a:prstGeom prst="bentConnector3">
            <a:avLst>
              <a:gd name="adj1" fmla="val 4998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56" idx="3"/>
            <a:endCxn id="361" idx="1"/>
          </p:cNvCxnSpPr>
          <p:nvPr/>
        </p:nvCxnSpPr>
        <p:spPr>
          <a:xfrm>
            <a:off x="4572000" y="2709720"/>
            <a:ext cx="1296000" cy="1137600"/>
          </a:xfrm>
          <a:prstGeom prst="bentConnector3">
            <a:avLst>
              <a:gd name="adj1" fmla="val 4998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56" idx="3"/>
            <a:endCxn id="362" idx="1"/>
          </p:cNvCxnSpPr>
          <p:nvPr/>
        </p:nvCxnSpPr>
        <p:spPr>
          <a:xfrm>
            <a:off x="4572000" y="2709720"/>
            <a:ext cx="1296000" cy="1829520"/>
          </a:xfrm>
          <a:prstGeom prst="bentConnector3">
            <a:avLst>
              <a:gd name="adj1" fmla="val 4998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56" idx="3"/>
            <a:endCxn id="363" idx="1"/>
          </p:cNvCxnSpPr>
          <p:nvPr/>
        </p:nvCxnSpPr>
        <p:spPr>
          <a:xfrm>
            <a:off x="4572000" y="2709360"/>
            <a:ext cx="1296000" cy="2521800"/>
          </a:xfrm>
          <a:prstGeom prst="bentConnector3">
            <a:avLst>
              <a:gd name="adj1" fmla="val 4998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821520" y="234936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Mensag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Sound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Não é criado automatica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ara criá-lo basta chamar o método 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F16VGameEngine::InitSoundEngine(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uporte a sons Wave e mi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uporte a múltiplos ambi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mbient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ter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verb (não implementado ain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Sound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852640"/>
            <a:ext cx="2808360" cy="93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F16VSound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84720" y="1844640"/>
            <a:ext cx="2376360" cy="503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F16V3DSound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84720" y="2725560"/>
            <a:ext cx="2376360" cy="503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Stereo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84720" y="4491000"/>
            <a:ext cx="2376360" cy="503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Stereo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84720" y="5373720"/>
            <a:ext cx="2376360" cy="503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F16V3DSound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345440" y="1844640"/>
            <a:ext cx="1224000" cy="43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45440" y="2637000"/>
            <a:ext cx="1224000" cy="43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45440" y="3429000"/>
            <a:ext cx="1224000" cy="43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45440" y="5156280"/>
            <a:ext cx="1224000" cy="43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77" idx="1"/>
            <a:endCxn id="376" idx="3"/>
          </p:cNvCxnSpPr>
          <p:nvPr/>
        </p:nvCxnSpPr>
        <p:spPr>
          <a:xfrm flipV="1" rot="10800000">
            <a:off x="3418920" y="2096640"/>
            <a:ext cx="865800" cy="1224720"/>
          </a:xfrm>
          <a:prstGeom prst="bentConnector3">
            <a:avLst>
              <a:gd name="adj1" fmla="val 49875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6" name=""/>
          <p:cNvCxnSpPr>
            <a:stCxn id="378" idx="1"/>
            <a:endCxn id="376" idx="3"/>
          </p:cNvCxnSpPr>
          <p:nvPr/>
        </p:nvCxnSpPr>
        <p:spPr>
          <a:xfrm flipV="1" rot="10800000">
            <a:off x="3418920" y="2977920"/>
            <a:ext cx="865800" cy="343440"/>
          </a:xfrm>
          <a:prstGeom prst="bentConnector3">
            <a:avLst>
              <a:gd name="adj1" fmla="val 49875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7" name=""/>
          <p:cNvCxnSpPr>
            <a:endCxn id="376" idx="3"/>
          </p:cNvCxnSpPr>
          <p:nvPr/>
        </p:nvCxnSpPr>
        <p:spPr>
          <a:xfrm rot="10800000">
            <a:off x="3418920" y="3320280"/>
            <a:ext cx="865800" cy="540360"/>
          </a:xfrm>
          <a:prstGeom prst="bentConnector3">
            <a:avLst>
              <a:gd name="adj1" fmla="val 49875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8" name=""/>
          <p:cNvCxnSpPr>
            <a:stCxn id="379" idx="1"/>
            <a:endCxn id="376" idx="3"/>
          </p:cNvCxnSpPr>
          <p:nvPr/>
        </p:nvCxnSpPr>
        <p:spPr>
          <a:xfrm rot="10800000">
            <a:off x="3418920" y="3320280"/>
            <a:ext cx="865800" cy="1423080"/>
          </a:xfrm>
          <a:prstGeom prst="bentConnector3">
            <a:avLst>
              <a:gd name="adj1" fmla="val 49875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9" name=""/>
          <p:cNvCxnSpPr>
            <a:stCxn id="380" idx="1"/>
            <a:endCxn id="376" idx="3"/>
          </p:cNvCxnSpPr>
          <p:nvPr/>
        </p:nvCxnSpPr>
        <p:spPr>
          <a:xfrm rot="10800000">
            <a:off x="3418920" y="3320280"/>
            <a:ext cx="865800" cy="2305440"/>
          </a:xfrm>
          <a:prstGeom prst="bentConnector3">
            <a:avLst>
              <a:gd name="adj1" fmla="val 49875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0" name=""/>
          <p:cNvCxnSpPr>
            <a:stCxn id="381" idx="1"/>
            <a:endCxn id="377" idx="3"/>
          </p:cNvCxnSpPr>
          <p:nvPr/>
        </p:nvCxnSpPr>
        <p:spPr>
          <a:xfrm flipV="1" rot="10800000">
            <a:off x="6660360" y="2059560"/>
            <a:ext cx="685080" cy="37080"/>
          </a:xfrm>
          <a:prstGeom prst="bentConnector3">
            <a:avLst>
              <a:gd name="adj1" fmla="val 49842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1" name=""/>
          <p:cNvCxnSpPr>
            <a:stCxn id="381" idx="1"/>
            <a:endCxn id="378" idx="3"/>
          </p:cNvCxnSpPr>
          <p:nvPr/>
        </p:nvCxnSpPr>
        <p:spPr>
          <a:xfrm flipV="1" rot="10800000">
            <a:off x="6660360" y="2059560"/>
            <a:ext cx="685080" cy="918360"/>
          </a:xfrm>
          <a:prstGeom prst="bentConnector3">
            <a:avLst>
              <a:gd name="adj1" fmla="val 49842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2" name=""/>
          <p:cNvCxnSpPr>
            <a:stCxn id="383" idx="1"/>
            <a:endCxn id="378" idx="3"/>
          </p:cNvCxnSpPr>
          <p:nvPr/>
        </p:nvCxnSpPr>
        <p:spPr>
          <a:xfrm rot="10800000">
            <a:off x="6660360" y="2977560"/>
            <a:ext cx="685080" cy="667440"/>
          </a:xfrm>
          <a:prstGeom prst="bentConnector3">
            <a:avLst>
              <a:gd name="adj1" fmla="val 49842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3" name=""/>
          <p:cNvCxnSpPr/>
          <p:nvPr/>
        </p:nvCxnSpPr>
        <p:spPr>
          <a:xfrm rot="10800000">
            <a:off x="6737400" y="3860640"/>
            <a:ext cx="682920" cy="6483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4" name=""/>
          <p:cNvCxnSpPr>
            <a:stCxn id="384" idx="1"/>
            <a:endCxn id="379" idx="3"/>
          </p:cNvCxnSpPr>
          <p:nvPr/>
        </p:nvCxnSpPr>
        <p:spPr>
          <a:xfrm rot="10800000">
            <a:off x="6660360" y="4742640"/>
            <a:ext cx="685080" cy="629640"/>
          </a:xfrm>
          <a:prstGeom prst="bentConnector3">
            <a:avLst>
              <a:gd name="adj1" fmla="val 49842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5" name=""/>
          <p:cNvCxnSpPr>
            <a:stCxn id="384" idx="1"/>
            <a:endCxn id="380" idx="3"/>
          </p:cNvCxnSpPr>
          <p:nvPr/>
        </p:nvCxnSpPr>
        <p:spPr>
          <a:xfrm flipV="1" rot="10800000">
            <a:off x="6660360" y="5371200"/>
            <a:ext cx="685080" cy="254520"/>
          </a:xfrm>
          <a:prstGeom prst="bentConnector3">
            <a:avLst>
              <a:gd name="adj1" fmla="val 49842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6" name=""/>
          <p:cNvCxnSpPr>
            <a:stCxn id="382" idx="1"/>
            <a:endCxn id="378" idx="3"/>
          </p:cNvCxnSpPr>
          <p:nvPr/>
        </p:nvCxnSpPr>
        <p:spPr>
          <a:xfrm flipV="1" rot="10800000">
            <a:off x="6660360" y="2851560"/>
            <a:ext cx="685080" cy="126360"/>
          </a:xfrm>
          <a:prstGeom prst="bentConnector3">
            <a:avLst>
              <a:gd name="adj1" fmla="val 49842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7" name=""/>
          <p:cNvSpPr/>
          <p:nvPr/>
        </p:nvSpPr>
        <p:spPr>
          <a:xfrm>
            <a:off x="4284720" y="3645000"/>
            <a:ext cx="2376360" cy="503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F16V3DSound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380360" y="4292640"/>
            <a:ext cx="1224000" cy="43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Sound Egine – Como usar?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iar o SoundEng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iar um ambiente através dos métodos 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eateStereoEnvironment() ou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este3DSoundEnvironment(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Instanciar um objeto do tipo CF16VS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arregar o som através do método CF16VSound::CreateSegmentFromFile(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ocar o som através do método 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F16VSound::Pl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Isométrico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uporte a mapas do tipo Slide, Sttaggered, Diam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lasse principal é a CF16VMap que representa um mapa de t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F16VTilePlot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F16VTileWal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F16VMouse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Isométrico – Como usar?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Herdar a classe CF16VMapCell que representam um t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mplementar GetExtentRect e PaintC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iar um array de objetos da classe que herda CF16VMap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iar um mapa (CF16VMa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Registrar o array de células com o map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Tarefa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Rodar o exemplo 6 e verificar os tipos de mapas através das teclas F1, F2, F3 e F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lterar o exemplo 6 e colocar as árvores em aproximadamente 35% dos tiles (distribuídas aleatoria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locar as sombras das árv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iar mais uma camada para retirar o defeito causado pela sobr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Arial"/>
              </a:rPr>
              <a:t>CF16VGameManager (Gerenciador Principal)</a:t>
            </a:r>
            <a:endParaRPr b="0" lang="en-US" sz="3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lasse principal do mo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rve de ponte para acessar os outros compone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ecisa ser criada antes de utilizar qualquer classe do mo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ó existe uma única instância desta classe no programa (Singlet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ermite estabelecer uma taxa máxima d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frame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r segu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Verifica se a máquina dispõe dos requisitos mínimos para rodar o motor (DirectX 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Tarefa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azer a vaca andar atrás do mouse usando os tiles como referência no exemplo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riando o CF16VGameManager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ic CF16VGameManager*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nstanciate(void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ria uma instância desta classe. Se alguma instância foi criada anteriormente, ela é retornad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ria automaticamente os componentes de Vídeo,Input e Log que são essenciais a qualquer jogo. Se houver qualquer erro, a aplicação é finalizad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s demais componentes (Som, Net, etc.) precisam ser criados explicitamente. Se houver qualquer erro na criação, o motor não trata, apenas inform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Arial"/>
              </a:rPr>
              <a:t>CFV8iGameManager – Acessando os demais módulos.</a:t>
            </a:r>
            <a:endParaRPr b="0" lang="en-US" sz="3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486640" cy="36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CF16VVideoEngine* GetVideoEngine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CF16VInputEngine* GetInputEngine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CF16VSoundEngine* GetSoundEngine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CF16VLogEngine*   GetLogEngine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Usando o motor - Game Stat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F16VGame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Representa um estado do jogo (Menu, opções, video, jogo, etc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Gerenciado pelo CF16VGameMan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ó existe um a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seu jogo deve herdar esta classe e registrar com o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game man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GameStat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GameState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atingGameState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activatingGameState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oveGameState(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ventos de tecl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ventos de M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ventos de Joysti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ventos do Wind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GameStat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3613320"/>
            <a:ext cx="9349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3440" y="3468600"/>
            <a:ext cx="122220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ódul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1917720"/>
            <a:ext cx="3745080" cy="4032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429000"/>
            <a:ext cx="151308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F16VG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tate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36000" y="2131920"/>
            <a:ext cx="1081080" cy="108108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3392640"/>
            <a:ext cx="1081080" cy="10810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36000" y="4653000"/>
            <a:ext cx="1081080" cy="108108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J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2880" y="157788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ódulo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7" idx="3"/>
            <a:endCxn id="138" idx="1"/>
          </p:cNvCxnSpPr>
          <p:nvPr/>
        </p:nvCxnSpPr>
        <p:spPr>
          <a:xfrm flipV="1">
            <a:off x="1690560" y="3936240"/>
            <a:ext cx="1083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8" idx="3"/>
            <a:endCxn id="140" idx="1"/>
          </p:cNvCxnSpPr>
          <p:nvPr/>
        </p:nvCxnSpPr>
        <p:spPr>
          <a:xfrm flipV="1">
            <a:off x="3995280" y="3933000"/>
            <a:ext cx="864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0" idx="3"/>
            <a:endCxn id="142" idx="2"/>
          </p:cNvCxnSpPr>
          <p:nvPr/>
        </p:nvCxnSpPr>
        <p:spPr>
          <a:xfrm>
            <a:off x="6372360" y="3933360"/>
            <a:ext cx="856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1833840" y="364500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vento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2960" y="39546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03560" y="364500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Key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96200" y="366696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Key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ardo</cp:lastModifiedBy>
  <dcterms:modified xsi:type="dcterms:W3CDTF">2004-01-26T03:29:01Z</dcterms:modified>
  <cp:revision>16</cp:revision>
  <dc:subject/>
  <dc:title>PowerPoint Presentation</dc:title>
</cp:coreProperties>
</file>