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EF3-CD0A-46DA-B963-49C37D99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C87-43CC-4A46-A9A3-257FB01A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125-B424-4651-B8F2-691B76FF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386B-7717-4F37-BB6C-63691BB3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FE6D-A221-4E6A-A5BC-E0882139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AD9-1886-4DB0-8D92-9FDA8C4F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ED7-6D0A-4020-99E4-82D5101C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D7D-898F-4671-8403-A33FEE35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2EA-26A4-4293-A4C8-EF3D2138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DB8-2DAD-458B-9C5A-76C9F3B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DBF-E2BA-4489-93CC-00B04BF6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7EA-7A28-4BDB-92E8-A85DDBA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7AE-1CF2-409D-808E-6AE004B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DAC-0BBA-4058-8041-8C803AA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031-9142-4A39-8A21-ADA3AB0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D7C-A039-4830-A3CB-1D9C74A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1C7-6303-445D-AEE0-8184EA6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8D6-07C1-406F-A5D5-75C8BE6B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racle.com/technetwork/java/javase/downloads/jdk6-jsp-136632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9720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Introducao - Java Platform"/>
          <p:cNvPicPr/>
          <p:nvPr/>
        </p:nvPicPr>
        <p:blipFill>
          <a:blip r:embed="rId1"/>
          <a:stretch/>
        </p:blipFill>
        <p:spPr>
          <a:xfrm>
            <a:off x="2314440" y="2090880"/>
            <a:ext cx="4705560" cy="3929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311560" y="155736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taform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nec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junto de bibliotec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apacidades da máquina virtu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ais básicos para uma família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orizont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em um conjunto básico de classes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ão especificadas pela J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nected Device Configuration (C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ampla variação de capacidade comput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As, TV Set-top boxes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capacidade computacional limit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figuração específica para que uma plataforma Java execute em dispositivos com limitações de memória, processamento e gráfic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z melhorias com relação à CLDC 1.0, dentre e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Adição de Ponto Flutua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Memória mínima de 162Kb para 192K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cotes herdades de J2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l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u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otes específicos do CL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x.microedition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eçã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m Java que dá suporte a um grupo específico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tic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l objetivo é garantir interoperabilidade entre dispositivos de um mesmo gru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, entre outras cois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clo de vida da aplica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istênci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face com o usuári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ectividad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quisitos de hardwa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ras AP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P 2.0: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403280" y="5013360"/>
            <a:ext cx="6050160" cy="1728720"/>
            <a:chOff x="1403280" y="5013360"/>
            <a:chExt cx="6050160" cy="1728720"/>
          </a:xfrm>
        </p:grpSpPr>
        <p:sp>
          <p:nvSpPr>
            <p:cNvPr id="103" name="Rectangle 6"/>
            <p:cNvSpPr/>
            <p:nvPr/>
          </p:nvSpPr>
          <p:spPr>
            <a:xfrm>
              <a:off x="1403280" y="5302080"/>
              <a:ext cx="424980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5940360" y="5302080"/>
              <a:ext cx="15130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2578320" y="5518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650600" y="6310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3085560" y="6310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4169880" y="5518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4251600" y="6310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AutoShape 13"/>
            <p:cNvCxnSpPr>
              <a:stCxn id="106" idx="0"/>
              <a:endCxn id="105" idx="2"/>
            </p:cNvCxnSpPr>
            <p:nvPr/>
          </p:nvCxnSpPr>
          <p:spPr>
            <a:xfrm flipH="1" flipV="1" rot="5400000">
              <a:off x="2231640" y="5677560"/>
              <a:ext cx="508680" cy="75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AutoShape 14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2870280" y="5794200"/>
              <a:ext cx="508680" cy="523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15"/>
            <p:cNvCxnSpPr>
              <a:stCxn id="105" idx="3"/>
              <a:endCxn id="108" idx="1"/>
            </p:cNvCxnSpPr>
            <p:nvPr/>
          </p:nvCxnSpPr>
          <p:spPr>
            <a:xfrm>
              <a:off x="3171960" y="5660640"/>
              <a:ext cx="96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Text Box 16"/>
            <p:cNvSpPr/>
            <p:nvPr/>
          </p:nvSpPr>
          <p:spPr>
            <a:xfrm>
              <a:off x="3140280" y="5445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1418040" y="5013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6342480" y="6310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AutoShape 19"/>
            <p:cNvCxnSpPr>
              <a:stCxn id="109" idx="3"/>
              <a:endCxn id="115" idx="1"/>
            </p:cNvCxnSpPr>
            <p:nvPr/>
          </p:nvCxnSpPr>
          <p:spPr>
            <a:xfrm>
              <a:off x="5409720" y="6452640"/>
              <a:ext cx="903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Text Box 20"/>
            <p:cNvSpPr/>
            <p:nvPr/>
          </p:nvSpPr>
          <p:spPr>
            <a:xfrm>
              <a:off x="5953320" y="5013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188040" y="5518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22"/>
            <p:cNvCxnSpPr>
              <a:stCxn id="115" idx="0"/>
              <a:endCxn id="118" idx="2"/>
            </p:cNvCxnSpPr>
            <p:nvPr/>
          </p:nvCxnSpPr>
          <p:spPr>
            <a:xfrm flipH="1" flipV="1" rot="5400000">
              <a:off x="6436440" y="6054840"/>
              <a:ext cx="5086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A: Mobile Service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28600" y="1544760"/>
            <a:ext cx="86644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uma aplicação MID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ui uma classe Java que extende a class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MIDl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controla o ciclo de vida da aplicação, implementando os método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ause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gerenciado pelo Java Application Manager (JA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licação que acompanha a implementação do MIDP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a instalação, execução e remoção de MIDle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 erros ocorridos durante instalação e execu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1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ntrodução a Java Micro Ed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clo de Vida de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30400" y="2527200"/>
            <a:ext cx="190512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535720" y="3654360"/>
            <a:ext cx="190476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30400" y="4721400"/>
            <a:ext cx="1905120" cy="53316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35520" y="502596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6450120" y="41878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3935520" y="28162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6450120" y="28162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V="1">
            <a:off x="2992320" y="1676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26398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33256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2424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pause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695480" y="23590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695480" y="5102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111456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start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097080" y="182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ne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let 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arquivos empacotados num 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 possuir pelo menos um MID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 contém arquivos .class, recursos e manif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va Application Descriptor (JA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quivo texto que descreve um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do pela JAM para fazer verificações antes de baixar 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ém usado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r proprieda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let Suite e Descrit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427640" y="4869000"/>
            <a:ext cx="4537080" cy="1584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1: AloMundo, ,br.ufpe.cin.j2me.MyMID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Name: Alo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ndor: CIn UF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URL: HelloWorld.j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SE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acle.com/technetwork/java/javase/downloads/jdk6-jsp-13663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ME SDK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javame/downloads/sdk30-jsp-139759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Wireless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index-jsp-13716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lipse + Eclipse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clipse.org/downloads/index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eclipseme.org/docs/installation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DKs dos fabric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bbe0e3"/>
                </a:solidFill>
                <a:latin typeface="Arial"/>
              </a:rPr>
              <a:t>http://forum.nokia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motorola.com/docstools/sdk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yEricss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sonyericsson.com/site/global/home/p_home.js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de Desenvolvi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nha a API sempre por per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ttp://java.sun.com/javame/reference/apis/jsr118/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[WTKdir]\docs\api\midp\index.htm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1: Hello Wor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C:\Users\Scholz\Desktop\API.png"/>
          <p:cNvPicPr/>
          <p:nvPr/>
        </p:nvPicPr>
        <p:blipFill>
          <a:blip r:embed="rId1"/>
          <a:stretch/>
        </p:blipFill>
        <p:spPr>
          <a:xfrm>
            <a:off x="755640" y="2781360"/>
            <a:ext cx="77072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r 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llo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eitos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Graphic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suas funçõe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ntes embarcad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exibição de um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ow-Level Displayab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mento de tecl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renderização de image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2: Usando UI de Baixo Ní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apas na concepção de um jog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em emulador (emulaçã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no dispositivo real (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eplo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ia de 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rimeir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7571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2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senvolvimento de Jogos em J2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me Desig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/ Concep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o mercado/público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a categ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c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zz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ção, Esportes, RPG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ari, Mega Drive, Nintendo 8 bits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lay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le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arelhos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 de um bom jogo para ce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egação e aprendizagem inicial fác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tar uso de muit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ftke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 pressionamento de tec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aprendizagem: desafiador, mas não impossível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gos casuais ou com opção de salv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games_02"/>
          <p:cNvPicPr/>
          <p:nvPr/>
        </p:nvPicPr>
        <p:blipFill>
          <a:blip r:embed="rId1"/>
          <a:stretch/>
        </p:blipFill>
        <p:spPr>
          <a:xfrm>
            <a:off x="34920" y="1125360"/>
            <a:ext cx="9036000" cy="5319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5867280" y="4497480"/>
            <a:ext cx="3060720" cy="1584360"/>
          </a:xfrm>
          <a:prstGeom prst="roundRect">
            <a:avLst>
              <a:gd name="adj" fmla="val 13806"/>
            </a:avLst>
          </a:prstGeom>
          <a:solidFill>
            <a:srgbClr val="99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obre a Mean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12000" y="4653000"/>
            <a:ext cx="27716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 base dos conhecimentos em sistemas mobile da Meantime (processos e ferramentas) vieram da longa experiência com o desenvolvimento de jogos para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24000" y="434196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+ 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de</a:t>
            </a: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24000" y="506268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4 e 7 pesso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disciplinar: artistas gráficos, músicos, engenheiros de software, engenheiros de testes, game designers, ger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gências do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ting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00+ aparel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clo de desenvolvimento curto: 15 dias a 2 m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ç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R$ 10 mil e R$ 60 m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is Limit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 volátil e capacidade de process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amos tudo o que foi falado 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t’em up game simplificadííííííssimo! </a:t>
            </a:r>
            <a:r>
              <a:rPr b="0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s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490840" cy="293400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6"/>
          <p:cNvSpPr/>
          <p:nvPr/>
        </p:nvSpPr>
        <p:spPr>
          <a:xfrm>
            <a:off x="468360" y="3500280"/>
            <a:ext cx="532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fc000"/>
                </a:solidFill>
                <a:latin typeface="Arial"/>
              </a:rPr>
              <a:t>Star Hero</a:t>
            </a:r>
            <a:r>
              <a:rPr b="0" i="1" lang="pt-BR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é um jogo singleplayer, no estilo shoot’em up . O jogo consiste em uma espaçonave controlada pelo jogador que trafega pelo espaço, atirando em inimigos. Essas ações resultam em pontos para o jogador. O objetivo do jogo é acumular o máximo de pontos possíveis e salvar a galáxi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: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cisamos 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MIDlet (claro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trata os comandos alto-nível e possui o loop principal do jog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ê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estado do mini-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ta 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representa um elemento animado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n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os inimi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s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com todas as constantes (para facilitar o acesso e regulagem dos parâme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á temos o conceito… mãos à obr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65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8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2603520" y="3139920"/>
            <a:ext cx="1366560" cy="1055880"/>
            <a:chOff x="2603520" y="3139920"/>
            <a:chExt cx="1366560" cy="1055880"/>
          </a:xfrm>
        </p:grpSpPr>
        <p:grpSp>
          <p:nvGrpSpPr>
            <p:cNvPr id="172" name="Group 21"/>
            <p:cNvGrpSpPr/>
            <p:nvPr/>
          </p:nvGrpSpPr>
          <p:grpSpPr>
            <a:xfrm>
              <a:off x="2603520" y="3139920"/>
              <a:ext cx="1366560" cy="1055880"/>
              <a:chOff x="2603520" y="3139920"/>
              <a:chExt cx="1366560" cy="105588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260352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0"/>
              <p:cNvSpPr/>
              <p:nvPr/>
            </p:nvSpPr>
            <p:spPr>
              <a:xfrm>
                <a:off x="260352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13"/>
            <p:cNvSpPr/>
            <p:nvPr/>
          </p:nvSpPr>
          <p:spPr>
            <a:xfrm>
              <a:off x="2762280" y="31399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704960" y="5213520"/>
            <a:ext cx="1611360" cy="1055520"/>
            <a:chOff x="1704960" y="5213520"/>
            <a:chExt cx="1611360" cy="1055520"/>
          </a:xfrm>
        </p:grpSpPr>
        <p:grpSp>
          <p:nvGrpSpPr>
            <p:cNvPr id="177" name="Group 22"/>
            <p:cNvGrpSpPr/>
            <p:nvPr/>
          </p:nvGrpSpPr>
          <p:grpSpPr>
            <a:xfrm>
              <a:off x="1704960" y="5213520"/>
              <a:ext cx="1532520" cy="1055520"/>
              <a:chOff x="1704960" y="5213520"/>
              <a:chExt cx="1532520" cy="1055520"/>
            </a:xfrm>
          </p:grpSpPr>
          <p:sp>
            <p:nvSpPr>
              <p:cNvPr id="178" name="Rectangle 23"/>
              <p:cNvSpPr/>
              <p:nvPr/>
            </p:nvSpPr>
            <p:spPr>
              <a:xfrm>
                <a:off x="1704960" y="5213520"/>
                <a:ext cx="153252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4"/>
              <p:cNvSpPr/>
              <p:nvPr/>
            </p:nvSpPr>
            <p:spPr>
              <a:xfrm>
                <a:off x="1704960" y="5476680"/>
                <a:ext cx="15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 Box 25"/>
            <p:cNvSpPr/>
            <p:nvPr/>
          </p:nvSpPr>
          <p:spPr>
            <a:xfrm>
              <a:off x="1855440" y="52135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3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182" name="Group 29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183" name="Rectangle 30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31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32"/>
            <p:cNvSpPr/>
            <p:nvPr/>
          </p:nvSpPr>
          <p:spPr>
            <a:xfrm>
              <a:off x="6026760" y="1125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4"/>
          <p:cNvGrpSpPr/>
          <p:nvPr/>
        </p:nvGrpSpPr>
        <p:grpSpPr>
          <a:xfrm>
            <a:off x="5869080" y="3284640"/>
            <a:ext cx="1366560" cy="1055520"/>
            <a:chOff x="5869080" y="3284640"/>
            <a:chExt cx="1366560" cy="1055520"/>
          </a:xfrm>
        </p:grpSpPr>
        <p:grpSp>
          <p:nvGrpSpPr>
            <p:cNvPr id="187" name="Group 33"/>
            <p:cNvGrpSpPr/>
            <p:nvPr/>
          </p:nvGrpSpPr>
          <p:grpSpPr>
            <a:xfrm>
              <a:off x="5869080" y="3284640"/>
              <a:ext cx="1366560" cy="1055520"/>
              <a:chOff x="5869080" y="3284640"/>
              <a:chExt cx="1366560" cy="1055520"/>
            </a:xfrm>
          </p:grpSpPr>
          <p:sp>
            <p:nvSpPr>
              <p:cNvPr id="188" name="Rectangle 34"/>
              <p:cNvSpPr/>
              <p:nvPr/>
            </p:nvSpPr>
            <p:spPr>
              <a:xfrm>
                <a:off x="586908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586908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36"/>
            <p:cNvSpPr/>
            <p:nvPr/>
          </p:nvSpPr>
          <p:spPr>
            <a:xfrm>
              <a:off x="6300000" y="328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58"/>
          <p:cNvGrpSpPr/>
          <p:nvPr/>
        </p:nvGrpSpPr>
        <p:grpSpPr>
          <a:xfrm>
            <a:off x="7283520" y="3933720"/>
            <a:ext cx="1366560" cy="1055520"/>
            <a:chOff x="7283520" y="3933720"/>
            <a:chExt cx="1366560" cy="1055520"/>
          </a:xfrm>
        </p:grpSpPr>
        <p:grpSp>
          <p:nvGrpSpPr>
            <p:cNvPr id="192" name="Group 37"/>
            <p:cNvGrpSpPr/>
            <p:nvPr/>
          </p:nvGrpSpPr>
          <p:grpSpPr>
            <a:xfrm>
              <a:off x="7283520" y="3933720"/>
              <a:ext cx="1366560" cy="1055520"/>
              <a:chOff x="7283520" y="3933720"/>
              <a:chExt cx="1366560" cy="1055520"/>
            </a:xfrm>
          </p:grpSpPr>
          <p:sp>
            <p:nvSpPr>
              <p:cNvPr id="193" name="Rectangle 38"/>
              <p:cNvSpPr/>
              <p:nvPr/>
            </p:nvSpPr>
            <p:spPr>
              <a:xfrm>
                <a:off x="72835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9"/>
              <p:cNvSpPr/>
              <p:nvPr/>
            </p:nvSpPr>
            <p:spPr>
              <a:xfrm>
                <a:off x="72835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40"/>
            <p:cNvSpPr/>
            <p:nvPr/>
          </p:nvSpPr>
          <p:spPr>
            <a:xfrm>
              <a:off x="7720560" y="39337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7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197" name="Group 41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198" name="Rectangle 42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44"/>
            <p:cNvSpPr/>
            <p:nvPr/>
          </p:nvSpPr>
          <p:spPr>
            <a:xfrm>
              <a:off x="4782600" y="2852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3476520" y="5227560"/>
            <a:ext cx="1566360" cy="1055520"/>
            <a:chOff x="3476520" y="5227560"/>
            <a:chExt cx="1566360" cy="1055520"/>
          </a:xfrm>
        </p:grpSpPr>
        <p:grpSp>
          <p:nvGrpSpPr>
            <p:cNvPr id="202" name="Group 45"/>
            <p:cNvGrpSpPr/>
            <p:nvPr/>
          </p:nvGrpSpPr>
          <p:grpSpPr>
            <a:xfrm>
              <a:off x="3476520" y="5227560"/>
              <a:ext cx="1566360" cy="1055520"/>
              <a:chOff x="3476520" y="5227560"/>
              <a:chExt cx="1566360" cy="1055520"/>
            </a:xfrm>
          </p:grpSpPr>
          <p:sp>
            <p:nvSpPr>
              <p:cNvPr id="203" name="Rectangle 46"/>
              <p:cNvSpPr/>
              <p:nvPr/>
            </p:nvSpPr>
            <p:spPr>
              <a:xfrm>
                <a:off x="3476520" y="5227560"/>
                <a:ext cx="15663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3476520" y="5490720"/>
                <a:ext cx="156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 Box 48"/>
            <p:cNvSpPr/>
            <p:nvPr/>
          </p:nvSpPr>
          <p:spPr>
            <a:xfrm>
              <a:off x="3491280" y="5227560"/>
              <a:ext cx="151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07" name="Group 49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08" name="Rectangle 50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51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52"/>
            <p:cNvSpPr/>
            <p:nvPr/>
          </p:nvSpPr>
          <p:spPr>
            <a:xfrm>
              <a:off x="7526520" y="530064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60"/>
          <p:cNvSpPr/>
          <p:nvPr/>
        </p:nvSpPr>
        <p:spPr>
          <a:xfrm flipV="1">
            <a:off x="5208480" y="2204640"/>
            <a:ext cx="8762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2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3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4"/>
          <p:cNvSpPr/>
          <p:nvPr/>
        </p:nvSpPr>
        <p:spPr>
          <a:xfrm>
            <a:off x="3289320" y="4219560"/>
            <a:ext cx="995400" cy="100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6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7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1692360" y="5492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492360" y="5516640"/>
            <a:ext cx="15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5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6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9"/>
          <p:cNvGrpSpPr/>
          <p:nvPr/>
        </p:nvGrpSpPr>
        <p:grpSpPr>
          <a:xfrm>
            <a:off x="2687760" y="1916280"/>
            <a:ext cx="1209600" cy="720720"/>
            <a:chOff x="2687760" y="1916280"/>
            <a:chExt cx="1209600" cy="720720"/>
          </a:xfrm>
        </p:grpSpPr>
        <p:sp>
          <p:nvSpPr>
            <p:cNvPr id="225" name="Rectangle 80"/>
            <p:cNvSpPr/>
            <p:nvPr/>
          </p:nvSpPr>
          <p:spPr>
            <a:xfrm>
              <a:off x="268776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1"/>
            <p:cNvSpPr/>
            <p:nvPr/>
          </p:nvSpPr>
          <p:spPr>
            <a:xfrm>
              <a:off x="268776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82"/>
          <p:cNvSpPr/>
          <p:nvPr/>
        </p:nvSpPr>
        <p:spPr>
          <a:xfrm>
            <a:off x="2951640" y="1878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 flipV="1">
            <a:off x="327672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4"/>
          <p:cNvSpPr/>
          <p:nvPr/>
        </p:nvSpPr>
        <p:spPr>
          <a:xfrm>
            <a:off x="7125120" y="267480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5"/>
          <p:cNvSpPr/>
          <p:nvPr/>
        </p:nvSpPr>
        <p:spPr>
          <a:xfrm>
            <a:off x="2443680" y="276084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4764600" y="234936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6333120" y="292428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8"/>
          <p:cNvSpPr/>
          <p:nvPr/>
        </p:nvSpPr>
        <p:spPr>
          <a:xfrm>
            <a:off x="1390680" y="352584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339840" y="449568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3"/>
          <p:cNvSpPr/>
          <p:nvPr/>
        </p:nvSpPr>
        <p:spPr>
          <a:xfrm>
            <a:off x="828000" y="32385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4"/>
          <p:cNvSpPr/>
          <p:nvPr/>
        </p:nvSpPr>
        <p:spPr>
          <a:xfrm>
            <a:off x="78480" y="4187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5"/>
          <p:cNvSpPr/>
          <p:nvPr/>
        </p:nvSpPr>
        <p:spPr>
          <a:xfrm flipH="1" flipV="1">
            <a:off x="684360" y="486864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6"/>
          <p:cNvSpPr/>
          <p:nvPr/>
        </p:nvSpPr>
        <p:spPr>
          <a:xfrm>
            <a:off x="223200" y="531324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7"/>
          <p:cNvSpPr/>
          <p:nvPr/>
        </p:nvSpPr>
        <p:spPr>
          <a:xfrm>
            <a:off x="936720" y="451008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8"/>
          <p:cNvSpPr/>
          <p:nvPr/>
        </p:nvSpPr>
        <p:spPr>
          <a:xfrm flipH="1" flipV="1">
            <a:off x="1692360" y="3933720"/>
            <a:ext cx="50472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9"/>
          <p:cNvSpPr/>
          <p:nvPr/>
        </p:nvSpPr>
        <p:spPr>
          <a:xfrm>
            <a:off x="4647240" y="4005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0"/>
          <p:cNvSpPr/>
          <p:nvPr/>
        </p:nvSpPr>
        <p:spPr>
          <a:xfrm>
            <a:off x="7023600" y="48690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andos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 aparelho (ex.: largura e altura da te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usadas pel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carregar as imagens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Images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MID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a tela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o controlador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s objetos acima no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 loop do jogo no control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ra a tela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que contém o loop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todos os comandos alto-níve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a máquina de estados do jogo (pause – resu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: NÃO CONFUNDIR com a máquina de estados do MIDlet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ção {X,Y} n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ura e largura de cada frame e do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ção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ção de coli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dades horizontal 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abstrato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um array de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 máquina de estados própria: FLY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ção das im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para mover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disparar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a imagem da bala (não possui anim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máquina de estados própria: WAIT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renciamento quando bala sai da 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posição, de acordo com a velocidad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comportamento ingênuo: randô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anim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Game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e possui todos os elementos do jogo: nave, inimigos e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 a atualização dos estados d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balas com inimig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inimigos com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todos 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e pinta todas as informações do jogo (pontuação, nível e vi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pressionamento das teclas (esquerda, direita e fire)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303516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BUILD &amp; RUN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3384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ver the Air” (O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ra verme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bo 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sgi_altix3700_1"/>
          <p:cNvPicPr/>
          <p:nvPr/>
        </p:nvPicPr>
        <p:blipFill>
          <a:blip r:embed="rId1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ony-ericsson_P800_01"/>
          <p:cNvPicPr/>
          <p:nvPr/>
        </p:nvPicPr>
        <p:blipFill>
          <a:blip r:embed="rId2"/>
          <a:stretch/>
        </p:blipFill>
        <p:spPr>
          <a:xfrm>
            <a:off x="2627280" y="25909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sony-ericsson_P800_01"/>
          <p:cNvPicPr/>
          <p:nvPr/>
        </p:nvPicPr>
        <p:blipFill>
          <a:blip r:embed="rId3"/>
          <a:stretch/>
        </p:blipFill>
        <p:spPr>
          <a:xfrm>
            <a:off x="2627280" y="4437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sony-ericsson_P800_01"/>
          <p:cNvPicPr/>
          <p:nvPr/>
        </p:nvPicPr>
        <p:blipFill>
          <a:blip r:embed="rId4"/>
          <a:stretch/>
        </p:blipFill>
        <p:spPr>
          <a:xfrm>
            <a:off x="3830760" y="53658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sony-ericsson_P800_01"/>
          <p:cNvPicPr/>
          <p:nvPr/>
        </p:nvPicPr>
        <p:blipFill>
          <a:blip r:embed="rId5"/>
          <a:stretch/>
        </p:blipFill>
        <p:spPr>
          <a:xfrm>
            <a:off x="5425920" y="53737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sony-ericsson_P800_01"/>
          <p:cNvPicPr/>
          <p:nvPr/>
        </p:nvPicPr>
        <p:blipFill>
          <a:blip r:embed="rId6"/>
          <a:stretch/>
        </p:blipFill>
        <p:spPr>
          <a:xfrm>
            <a:off x="7769160" y="53308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ony-ericsson_P800_01"/>
          <p:cNvPicPr/>
          <p:nvPr/>
        </p:nvPicPr>
        <p:blipFill>
          <a:blip r:embed="rId7"/>
          <a:stretch/>
        </p:blipFill>
        <p:spPr>
          <a:xfrm>
            <a:off x="7767720" y="34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sony-ericsson_P800_01"/>
          <p:cNvPicPr/>
          <p:nvPr/>
        </p:nvPicPr>
        <p:blipFill>
          <a:blip r:embed="rId8"/>
          <a:stretch/>
        </p:blipFill>
        <p:spPr>
          <a:xfrm>
            <a:off x="7740720" y="1989000"/>
            <a:ext cx="608040" cy="67500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 flipH="1">
            <a:off x="3347640" y="2852640"/>
            <a:ext cx="158436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H="1">
            <a:off x="3347640" y="3284640"/>
            <a:ext cx="165564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565740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227640" y="3645000"/>
            <a:ext cx="1440000" cy="20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6588000" y="306864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 flipH="1">
            <a:off x="4356000" y="3716280"/>
            <a:ext cx="936720" cy="144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414160" y="32432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2456640" y="50976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5253840" y="6021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 flipV="1">
            <a:off x="5802480" y="3933720"/>
            <a:ext cx="144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7553160" y="41241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7599600" y="16286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562200" y="60213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7582680" y="59878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2916360" y="3551400"/>
            <a:ext cx="0" cy="7920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3348000" y="4869000"/>
            <a:ext cx="720720" cy="477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538520" y="5732640"/>
            <a:ext cx="79236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6156360" y="5732640"/>
            <a:ext cx="144000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4"/>
          <p:cNvSpPr/>
          <p:nvPr/>
        </p:nvSpPr>
        <p:spPr>
          <a:xfrm flipV="1">
            <a:off x="8045280" y="4436640"/>
            <a:ext cx="0" cy="79236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5"/>
          <p:cNvSpPr/>
          <p:nvPr/>
        </p:nvSpPr>
        <p:spPr>
          <a:xfrm flipV="1">
            <a:off x="8040600" y="2695680"/>
            <a:ext cx="0" cy="720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4645080" y="4437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6880680" y="2997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l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045760" y="16812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MIDle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6232680" y="4508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71268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deia de Va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volvimento precisa se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ápi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orno do investimento é l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upo 41"/>
          <p:cNvGrpSpPr/>
          <p:nvPr/>
        </p:nvGrpSpPr>
        <p:grpSpPr>
          <a:xfrm>
            <a:off x="1332000" y="2276640"/>
            <a:ext cx="6480000" cy="1677240"/>
            <a:chOff x="1332000" y="2276640"/>
            <a:chExt cx="6480000" cy="1677240"/>
          </a:xfrm>
        </p:grpSpPr>
        <p:sp>
          <p:nvSpPr>
            <p:cNvPr id="59" name="AutoShape 8"/>
            <p:cNvSpPr/>
            <p:nvPr/>
          </p:nvSpPr>
          <p:spPr>
            <a:xfrm>
              <a:off x="2568600" y="2623680"/>
              <a:ext cx="1222200" cy="94608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0" y="0"/>
                  </a:lnTo>
                  <a:lnTo>
                    <a:pt x="21600" y="10800"/>
                  </a:lnTo>
                  <a:lnTo>
                    <a:pt x="19400" y="21600"/>
                  </a:lnTo>
                  <a:lnTo>
                    <a:pt x="0" y="21600"/>
                  </a:lnTo>
                  <a:lnTo>
                    <a:pt x="220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upo 39"/>
            <p:cNvGrpSpPr/>
            <p:nvPr/>
          </p:nvGrpSpPr>
          <p:grpSpPr>
            <a:xfrm>
              <a:off x="5605560" y="2623680"/>
              <a:ext cx="1157040" cy="946080"/>
              <a:chOff x="5605560" y="2623680"/>
              <a:chExt cx="1157040" cy="94608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5605560" y="2623680"/>
                <a:ext cx="1157040" cy="946080"/>
              </a:xfrm>
              <a:custGeom>
                <a:avLst/>
                <a:gdLst>
                  <a:gd name="textAreaLeft" fmla="*/ 0 w 1157040"/>
                  <a:gd name="textAreaRight" fmla="*/ 1157040 w 115704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"/>
              <p:cNvSpPr/>
              <p:nvPr/>
            </p:nvSpPr>
            <p:spPr>
              <a:xfrm>
                <a:off x="5845680" y="2911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rr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upo 40"/>
            <p:cNvGrpSpPr/>
            <p:nvPr/>
          </p:nvGrpSpPr>
          <p:grpSpPr>
            <a:xfrm>
              <a:off x="6648480" y="2617920"/>
              <a:ext cx="1163520" cy="946080"/>
              <a:chOff x="6648480" y="2617920"/>
              <a:chExt cx="1163520" cy="946080"/>
            </a:xfrm>
          </p:grpSpPr>
          <p:sp>
            <p:nvSpPr>
              <p:cNvPr id="64" name="AutoShape 14"/>
              <p:cNvSpPr/>
              <p:nvPr/>
            </p:nvSpPr>
            <p:spPr>
              <a:xfrm>
                <a:off x="6648480" y="2617920"/>
                <a:ext cx="1163520" cy="94608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57" y="0"/>
                    </a:lnTo>
                    <a:lnTo>
                      <a:pt x="21600" y="10800"/>
                    </a:lnTo>
                    <a:lnTo>
                      <a:pt x="19757" y="21600"/>
                    </a:lnTo>
                    <a:lnTo>
                      <a:pt x="0" y="21600"/>
                    </a:lnTo>
                    <a:lnTo>
                      <a:pt x="1843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5"/>
              <p:cNvSpPr/>
              <p:nvPr/>
            </p:nvSpPr>
            <p:spPr>
              <a:xfrm>
                <a:off x="6804000" y="2924640"/>
                <a:ext cx="95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-us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8"/>
            <p:cNvSpPr/>
            <p:nvPr/>
          </p:nvSpPr>
          <p:spPr>
            <a:xfrm>
              <a:off x="4656600" y="2623680"/>
              <a:ext cx="1096560" cy="946080"/>
            </a:xfrm>
            <a:custGeom>
              <a:avLst/>
              <a:gdLst>
                <a:gd name="textAreaLeft" fmla="*/ 0 w 1096560"/>
                <a:gd name="textAreaRight" fmla="*/ 1096920 w 109656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upo 38"/>
            <p:cNvGrpSpPr/>
            <p:nvPr/>
          </p:nvGrpSpPr>
          <p:grpSpPr>
            <a:xfrm>
              <a:off x="3657240" y="2623680"/>
              <a:ext cx="1134000" cy="947880"/>
              <a:chOff x="3657240" y="2623680"/>
              <a:chExt cx="1134000" cy="947880"/>
            </a:xfrm>
          </p:grpSpPr>
          <p:sp>
            <p:nvSpPr>
              <p:cNvPr id="68" name="AutoShape 17"/>
              <p:cNvSpPr/>
              <p:nvPr/>
            </p:nvSpPr>
            <p:spPr>
              <a:xfrm>
                <a:off x="3657240" y="2623680"/>
                <a:ext cx="1134000" cy="94788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107" y="0"/>
                    </a:lnTo>
                    <a:lnTo>
                      <a:pt x="21600" y="10800"/>
                    </a:lnTo>
                    <a:lnTo>
                      <a:pt x="19107" y="21600"/>
                    </a:lnTo>
                    <a:lnTo>
                      <a:pt x="0" y="21600"/>
                    </a:lnTo>
                    <a:lnTo>
                      <a:pt x="2493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3794400" y="292356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s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upo 37"/>
            <p:cNvGrpSpPr/>
            <p:nvPr/>
          </p:nvGrpSpPr>
          <p:grpSpPr>
            <a:xfrm>
              <a:off x="1348560" y="2630520"/>
              <a:ext cx="1372680" cy="946080"/>
              <a:chOff x="1348560" y="2630520"/>
              <a:chExt cx="1372680" cy="946080"/>
            </a:xfrm>
          </p:grpSpPr>
          <p:sp>
            <p:nvSpPr>
              <p:cNvPr id="71" name="AutoShape 4"/>
              <p:cNvSpPr/>
              <p:nvPr/>
            </p:nvSpPr>
            <p:spPr>
              <a:xfrm>
                <a:off x="1376640" y="2630520"/>
                <a:ext cx="1339560" cy="946080"/>
              </a:xfrm>
              <a:custGeom>
                <a:avLst/>
                <a:gdLst>
                  <a:gd name="textAreaLeft" fmla="*/ 0 w 1339560"/>
                  <a:gd name="textAreaRight" fmla="*/ 1339920 w 133956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5"/>
              <p:cNvSpPr/>
              <p:nvPr/>
            </p:nvSpPr>
            <p:spPr>
              <a:xfrm>
                <a:off x="1348560" y="316224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chnolog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6"/>
              <p:cNvSpPr/>
              <p:nvPr/>
            </p:nvSpPr>
            <p:spPr>
              <a:xfrm>
                <a:off x="1348560" y="269532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ran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1502280" y="312804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21"/>
            <p:cNvSpPr/>
            <p:nvPr/>
          </p:nvSpPr>
          <p:spPr>
            <a:xfrm>
              <a:off x="1332000" y="227664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Fluxo de produção &gt;&gt;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332000" y="361656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&lt;&lt;&lt; Fluxo de receita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ição de Splash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ção de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ar tela de game o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r tela de recordes (persistênc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ground com scrolling (efeito de parala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fe de f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eta de itens com diferentes funcionalida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pos diferentes de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A dos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oad de pontuação para servi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hor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fuscadores para diminuir tamanho de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uard, Retroguard, et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utela no uso de herança e excesso de cla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ite usar classes anônimas ou aninh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essos a variáveis estáticas e métodos estáticos é mai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ps de trás para frente (comparação com 0, null e false é mais rápid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 obje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idado no uso de Str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várias imagens em uma s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úmero de cores das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o de clip para pintu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is restriçõ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anho do JAR: a partir de 64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ória volátil: a partir de ~200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amento: 6 a 10 frames por seg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2411280" y="1700280"/>
          <a:ext cx="84456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219640" y="1916280"/>
          <a:ext cx="273204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91628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6"/>
          <p:cNvSpPr/>
          <p:nvPr/>
        </p:nvSpPr>
        <p:spPr>
          <a:xfrm>
            <a:off x="5931360" y="23479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magem P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23320" y="206064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Imagens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zer nosso Sprite herdar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ar a colisão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GameCanvas pa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tamento de teclas, vi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Stat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z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ckbuff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sando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Graphic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nar o jog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ull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cionar som (sugestão: MID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: Porting para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109872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sequenceDemo"/>
          <p:cNvPicPr/>
          <p:nvPr/>
        </p:nvPicPr>
        <p:blipFill>
          <a:blip r:embed="rId1"/>
          <a:stretch/>
        </p:blipFill>
        <p:spPr>
          <a:xfrm>
            <a:off x="3780000" y="6138720"/>
            <a:ext cx="914400" cy="34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826920" y="224964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561960" y="202248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7"/>
          <p:cNvGrpSpPr/>
          <p:nvPr/>
        </p:nvGrpSpPr>
        <p:grpSpPr>
          <a:xfrm>
            <a:off x="3635280" y="1890720"/>
            <a:ext cx="4997520" cy="4638600"/>
            <a:chOff x="3635280" y="1890720"/>
            <a:chExt cx="4997520" cy="4638600"/>
          </a:xfrm>
        </p:grpSpPr>
        <p:pic>
          <p:nvPicPr>
            <p:cNvPr id="308" name="Picture 8" descr=""/>
            <p:cNvPicPr/>
            <p:nvPr/>
          </p:nvPicPr>
          <p:blipFill>
            <a:blip r:embed="rId4"/>
            <a:stretch/>
          </p:blipFill>
          <p:spPr>
            <a:xfrm>
              <a:off x="5651640" y="189072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5"/>
            <a:stretch/>
          </p:blipFill>
          <p:spPr>
            <a:xfrm>
              <a:off x="3635280" y="361800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10"/>
          <p:cNvSpPr/>
          <p:nvPr/>
        </p:nvSpPr>
        <p:spPr>
          <a:xfrm>
            <a:off x="5580000" y="1890720"/>
            <a:ext cx="3095640" cy="57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986400" y="4915080"/>
            <a:ext cx="347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635280" y="5634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5049360" y="1506600"/>
            <a:ext cx="324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641760" y="563400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em vez de vetores de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classe Sprite para herdar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.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objetos que usam os Sprites atuais para se adaptarem à interface de 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ndo Sprite de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méto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.loadImages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ormar vetores de imagens e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r class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larar heranç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declaração de características herd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egar posicionamento a métodos do Sprite MIDP 2.0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interface do construtor para recebe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r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an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.paint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controlar animações nas classe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e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rter chamadas a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Image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m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rameSequenc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ici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s construtores e nas mudanças de estado das classe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métodos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u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inicialização das classes usando novo constr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GameScree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a pass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lugar do vetor de imagen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s de vari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process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memória volá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Is (ex.: so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ão MI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gs específicos da implementação da KV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ionalidades do j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io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la: 500+ aparel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r código único, usando pré-processam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enna: http://antenna.sourceforge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lipse ME: http://eclipseme.org/index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a de build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nt.apache.org/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ável pro gerar as várias versões 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é-processa código antes de com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encia recursos: seleciona arquivos (imagens, sons, etc) por v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cota tudo gerando JAR e J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is Jogado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A Mobile (Jamdat), Gameloft (Ubi Software), Glu 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 de Negócio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Revenue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 das operad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cipação ($) baixa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orno lento e sem possibilidade de audito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jas com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Sto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pple) estão tornando-se cada vez mais pop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ypa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s operado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or participação ($)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os sites interess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kia: http://www.forum.nokia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orola: http://www.motocod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n Dev: http://developers.sun.com/mo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let Review: http://www.midlet-review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úvid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cas Fin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is Tecnolo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Espaço Reservado para Conteúdo 2"/>
          <p:cNvSpPr/>
          <p:nvPr/>
        </p:nvSpPr>
        <p:spPr>
          <a:xfrm>
            <a:off x="457200" y="981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gos baseados em troca de mensagens de texto e multimídia (forca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uiz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enalty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otimizado para dispositivos com limi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be Flash 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ão leve do Adobe Flash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No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rta várias linguagens: C++, Symbian C++, Python, Rubi, .N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guagem OO utilizada nas aplicações e jogos para o iOS (SO do iPh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Google, baseado em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Community Proccess (JC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rganização aberta, liderada pela indust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iva a melhoria da plataforma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ova requisições de novas APIs ou component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Specification Request (JS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cumentação formal descrevendo tecnologias e especificações propostas para serem adicionadas à plataforma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resultados de uma JSR s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especificação que explica os detalhes e define os princípios da JS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implementação de refer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conjunto de testes que cada implementação deve passar para ser considerada compatível com a JS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ava ME é um conjunto de tecnologias e especificações para criar uma plataforma adequada às necessidades de dispositivos móve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s e especificações podem ser combinados para criar um ambiente de execução Java específico para um determinado disposi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54:57Z</dcterms:created>
  <dc:creator>dcc</dc:creator>
  <dc:description/>
  <dc:language>en-US</dc:language>
  <cp:lastModifiedBy>Scholz</cp:lastModifiedBy>
  <dcterms:modified xsi:type="dcterms:W3CDTF">2010-09-21T12:06:05Z</dcterms:modified>
  <cp:revision>359</cp:revision>
  <dc:subject/>
  <dc:title>Slide 1</dc:title>
</cp:coreProperties>
</file>