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736-93CB-4BD8-8427-26D238E5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5C6-DC8B-4E8D-856F-AFD5BCB7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1C7-4B12-41CA-8093-45564224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D51-48CC-45FD-A5C3-D164F98E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31B9-DCD8-46BE-BCDD-F1A45DBF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3D4-76EE-477C-9F9D-8F205DC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3110-1EC0-44EC-8938-3CA29112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C0C8-D51C-4174-A2D9-94C774F8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79BA-77B7-4DBD-B10E-BF0B0FE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AB09-9283-4595-B805-84CDC36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5744-E516-40A6-A67B-117F111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B3C-505A-445C-96F3-654BCEFF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01B1-5B1D-4C51-9A03-DA10FEA0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0F90-25A8-4E2A-B1B6-0BD98623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DFB1-6A8A-4B84-A5F2-31DB9E6C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6CB4-77AC-4BB5-BEB8-E32FCF4B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56F2-2CC8-4283-A11E-376CD571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54F-2144-4E6D-9E75-2C3F7511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886-0F01-4C15-B497-D156B8A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4D4-8B3A-4FF0-92E6-0D68B5C7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A57D-1216-4EE0-862C-54B1A817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74D1-5AC4-4257-9288-15BAFA7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209-0D90-4258-826C-C0CE2A83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82C-610F-42D5-A21A-E1C37FA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2005-71E5-4527-B83C-E7B4FA8EE1EC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7612-251A-463E-B4FA-3F9A70ADF63E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Projeto e Implementação de Jog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0" spc="-1" strike="noStrike">
                <a:solidFill>
                  <a:srgbClr val="00264c"/>
                </a:solidFill>
                <a:latin typeface="Monotype Corsiva"/>
              </a:rPr>
              <a:t>Os Cangaceiros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Equipe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Jean Charles Bulinck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Manoel Frederico Moreira Junio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Implementar um jog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Aprender Direct 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Visual C++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Conceitos de Game Desig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Problemas encontrados</a:t>
            </a: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razo curt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DirectX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oucos algoritmos de IA para jog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alta de textos de referênc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ão seguir o game design origina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roblemas de equip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ão adianta especificar o software se você alterar o Game Desig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azer qualquer joguinho exige MUITO trabalh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DirectX é uma bala pra desenhar e um c.n.c. pra programa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Nosso Jog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Estratégia + RPG (não implementada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Civilizatio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Pirates Gol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Master of Magic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Warcraf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Sinops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o sertão do Nordeste na década de 20 o jogador deve encarnar o líder de um bando de cangaceiros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Ele irá enfrentar volantes, coronéis e a caating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Diplomacia também será um ponto chave quando ele se encontrar NPC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33"/>
                </a:solidFill>
                <a:latin typeface="Times New Roman"/>
              </a:rPr>
              <a:t>Objetivos do jog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Aumentar o band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Acumular riqueza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ugir das vola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Ficar famoso até se tornar uma </a:t>
            </a:r>
            <a:r>
              <a:rPr b="0" lang="pt-BR" sz="3600" spc="-1" strike="noStrike">
                <a:solidFill>
                  <a:srgbClr val="00264c"/>
                </a:solidFill>
                <a:latin typeface="Times New Roman"/>
              </a:rPr>
              <a:t>LENDA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18:14:30Z</dcterms:created>
  <dc:creator>jcb</dc:creator>
  <dc:description/>
  <dc:language>en-US</dc:language>
  <cp:lastModifiedBy>jcb</cp:lastModifiedBy>
  <dcterms:modified xsi:type="dcterms:W3CDTF">2002-05-10T14:16:52Z</dcterms:modified>
  <cp:revision>11</cp:revision>
  <dc:subject/>
  <dc:title>Projeto de Jogos</dc:title>
</cp:coreProperties>
</file>