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E58-BE07-4737-9CFF-3D21F46B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74616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55C-68EB-43EB-933F-B87EEA36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723-762B-4C5D-B9C3-08C988D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76D-488D-42B5-87AA-0C2FC1E7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57C-2FC6-423C-87BD-693A68C3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DB6-C292-4097-ABF8-A7CA3C12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8DE-BB73-4DDB-B9F3-29C6B44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342-5115-4F0E-83AF-516307A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1CD-044B-4174-B5C3-671A8501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C61-1BCB-4AC3-8D23-7F9E50C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498-8B54-4748-A7FF-2ACB9FB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00E-52E0-4849-99ED-FC9BFFD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bertu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81E-E2EB-4528-9E2E-67A1C4D7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temp/ce/capitaoerico.ex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c7b9a"/>
                </a:solidFill>
                <a:latin typeface="Verdana"/>
              </a:rPr>
              <a:t>Capitão Érico – Na Batalha Contra os Zorgs</a:t>
            </a:r>
            <a:endParaRPr b="0" lang="en-US" sz="18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André Ne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Leopoldo Fran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Márcio Dah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Rodrigo Pedro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Wanderley Cansan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Game design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apitão Érico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Asteroids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Wing Commander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ncebido para os gamers dos anos 8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É um jogo de batalha espacial,com um toque de aventura,exigindo habilidade do jogad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 jogadores (Capitão Érico e Tenente J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Gráficos 2D com visão em 3a. Pesso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incipais decisões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mplementação de um motor para facilitar a implementação do jog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ototipagem inic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delagem Física do espaç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azer um jogo multiplayer “adiando” o uso de re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ificuldades encontradas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nstruir um “motor” independente de tecnolog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nderização de gráficos 2D com DirectX 8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ntegração com Flas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EMP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I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racterísticas do Motor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D (não baseado em til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ndependente de tecnologia (interfac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rawing aninhado (Câmera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delagem fís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A e Rede como entr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Level design baseado em XML (não concluíd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V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Características do Jog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Pa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Modelagem física leg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Se atirar muito descarrega a ar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Um herói pode atingir o out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m alta velocid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Resultados obtidos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tor quase totalmente implementa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go com todos os recursos implementados(som, input, IA, gráficos, detecção de colisão etc.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nas a primeira fase foi implement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Querem ve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Conclusões e Trabalhos futuros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azer um motor é complicado mas simplifica enormemente o trabalho de implementação do jog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É sempre bom orientar a objetos e usar padrões de proje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timizar basta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rawing e audio em OpenGL Ope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igrar o motor para Lin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Sugestões para a disciplina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enos foco em DirectX, mais foco em como se program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m jogo. Programar a lógica do jogo orientada a obj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é fácil. O problema surge quando se deseja integrar as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ógica com a interface tecnológica (nosso caso DirectX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lvez a pergunta mais importante para fazer aqui sej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mo criar um MVC (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model, view, controller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 para 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jogo? A aula do motor poderia ajudar bastante nes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refa, mas a foi muito rápi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utro ponto é a necessidade de uma uma aula sob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Debugging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sando DirectX. Achamos que todas a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quipes sentiram essa dificul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0:46:05Z</dcterms:created>
  <dc:creator>glr</dc:creator>
  <dc:description/>
  <dc:language>en-US</dc:language>
  <cp:lastModifiedBy>hps</cp:lastModifiedBy>
  <dcterms:modified xsi:type="dcterms:W3CDTF">2002-05-13T16:43:10Z</dcterms:modified>
  <cp:revision>21</cp:revision>
  <dc:subject/>
  <dc:title>Título do projeto</dc:title>
</cp:coreProperties>
</file>