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elula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-152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585144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MEN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5880" y="585144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143000" y="838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lluminaty Game Entertainment pre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0" y="22860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ourier New"/>
              </a:rPr>
              <a:t>Jelly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2767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the first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724280"/>
            <a:ext cx="502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Erico S. Teixe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Mardoqueu S. Vie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0" y="22860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ourier New"/>
              </a:rPr>
              <a:t>Jelly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2767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the first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8380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Motivação/Inspi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1337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riar uma aplicação para ambiente dif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Outros jo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Zelda, Super Mário, Aladin, Mickey, Peter Pa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O sonho do prof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76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2: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95480" y="10666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Game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 jo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ma geléia-ninja que participa de várias aventu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 po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ar, nadar, atirar, pular, jogar te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 vários amb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resta, caverna, oceano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76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3: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7621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blemas com Amb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146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ymbian 6.0 SDK da No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oblemas na instalação (+1 mê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ó funciona com o JDK 1.1.8 d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Jbuilder 6 com Mobil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oblemas de profile nas máquinas do 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ravamento do J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76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4: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5335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mplem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rmatos de arquivo de entrada não documen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ão foi pensado nem testado para jogos com mais de um 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ecessidade de alterar o código fonte para fazer Jelly gi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etecção de colisão in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ódigo do jogo fica muito grande se tiver mais de um nível. O nosso tem 7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0120" y="76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5: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6858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Resultados Obt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7524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2 estág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Jelly ca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Jelly Aventur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so de modelagem físic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ravidade, cinématica, detecção de col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em pon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76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6: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3049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76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7: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049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xten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75248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olocar pontu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o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ovos estág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m constru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Modelar outras propriedades fí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76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8: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3049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7524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O que se aprend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odelagem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sar o 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omo são os celulares que ainda não estão n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ão é nada fácil fazer um jogo b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76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9: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3:34:49Z</dcterms:created>
  <dc:creator>est</dc:creator>
  <dc:description/>
  <dc:language>en-US</dc:language>
  <cp:lastModifiedBy>est</cp:lastModifiedBy>
  <dcterms:modified xsi:type="dcterms:W3CDTF">2002-05-08T17:08:56Z</dcterms:modified>
  <cp:revision>11</cp:revision>
  <dc:subject/>
  <dc:title>Apresentação do PowerPoint</dc:title>
</cp:coreProperties>
</file>