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C533-84EB-4441-952F-600BE04A5F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vim aqui apresenta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mini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rigem do Nome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ender e não desc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a pessoa fique l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dado no computador.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sso unio elementos dos generos mais vic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combina esses d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estrategia onde um grupo de elite vai comb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crime em diferentes missoes. Ele vai estar dispo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versoes mono e mul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dois generos são viciantes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desenvolver jogos para que as pessoa fique l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dado no comput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is sáo os generos que fazem iss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hegamos em estrategia e RPG. Unimos os do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colhendo o que há de melhor em cada um de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afio a falar de algum jogo que esses dois n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nham jogado e saibam anali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 empresas de jogos tende para facilitar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envolvimento de seus prod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qui em recife, formacao do J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detalhar sig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publisher e responsavel p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mercializacao do prod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s temos um plan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cada um deles e podemos entra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alhes se necess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088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ender e não desc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a pessoa fique l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dado no computador.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sso unio elementos dos generos mais vic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combina esses d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estrategia onde um grupo de elite vai comb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crime em diferentes missoes. Ele vai estar dispo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versoes mono e mul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815-500A-4AB5-ABC6-034A8ACE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34E-76C2-4715-98B9-EDFEF00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F16-9445-409D-A19C-D2D0B190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9CA-E36B-4465-9410-10143989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7B73-3138-43B7-8730-B22A56CA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387C-F1D8-4CCA-924D-FCB914E9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4D4-5530-40B5-A225-5B8DE396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6FC8-12B8-4F5C-8B2A-12814428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C379-F702-4B7A-8231-7C98697A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69640" y="264456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C9B-F2F1-4550-8C71-653DD6A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066-68AD-466D-8DA2-B1FB0B4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958-ADBB-4074-AA18-4D651059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2971-5390-4EE6-8276-2F81E6F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2A62-F04A-48C9-A4A9-21A6C37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558A-A38A-443C-BD4A-EC3652C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8F1C-5B9D-44F4-9E63-E5C9933D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59BB-38C1-44E9-B4A4-25537395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04A-23C0-4EC3-A0EA-680A899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70A-67B6-4EF8-B8CE-4466713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B27-166B-4427-9534-B4E9EF9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69640" y="264456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87B-9C3B-401D-96D2-A745772F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43F-FC0F-454D-B076-27B7DDE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B2A-2C92-453A-8BF3-3297D04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3C6-37DD-42CD-947D-DBA37AC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3" marL="1342800" indent="-21456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4" marL="1665000" indent="-21456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8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8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8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4C24-68AF-4D1E-9FA6-F8760AE95565}" type="slidenum">
              <a:rPr b="0" lang="pt-BR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99"/>
                </a:solidFill>
                <a:latin typeface="Arial Black"/>
              </a:rPr>
              <a:t>Click to edit the title text format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435800" y="114480"/>
            <a:ext cx="138132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8080" y="609480"/>
            <a:ext cx="792504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808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264440" y="206280"/>
            <a:ext cx="1752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PT" sz="1200" spc="-1" strike="noStrike">
                <a:solidFill>
                  <a:srgbClr val="ffffff"/>
                </a:solidFill>
                <a:latin typeface="Arial Black"/>
              </a:rPr>
              <a:t>www.vixia.com.b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04A4-309D-4AC8-B1F7-BB3E426DC5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3017880" y="3732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8720" y="24732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3" marL="120024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Arial Black"/>
            </a:endParaRPr>
          </a:p>
          <a:p>
            <a:pPr lvl="4" marL="1542960" algn="ctr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006666"/>
              </a:solidFill>
              <a:latin typeface="Arial Black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006666"/>
              </a:solidFill>
              <a:latin typeface="Arial Black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0066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PT" sz="1400" spc="-1" strike="noStrike">
                <a:solidFill>
                  <a:srgbClr val="ffffff"/>
                </a:solidFill>
                <a:latin typeface="Arial Black"/>
              </a:rPr>
              <a:t>www.vixia.com.b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logo" descr=""/>
          <p:cNvPicPr/>
          <p:nvPr/>
        </p:nvPicPr>
        <p:blipFill>
          <a:blip r:embed="rId1"/>
          <a:stretch/>
        </p:blipFill>
        <p:spPr>
          <a:xfrm>
            <a:off x="3657600" y="2828880"/>
            <a:ext cx="2133720" cy="46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0585-FFFB-4362-A1A4-76E833569C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Agradecimento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Geber 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Borje Karlsson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Amigos da sala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Giordano e Bel (D’Accord)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Nossas família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0C4-0EC4-454D-A476-BEE3B63C13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PT" sz="1400" spc="-1" strike="noStrike">
                <a:solidFill>
                  <a:srgbClr val="ffffff"/>
                </a:solidFill>
                <a:latin typeface="Arial Black"/>
              </a:rPr>
              <a:t>www.vixia.com.b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3657600" y="2828880"/>
            <a:ext cx="2133720" cy="46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D3FF-CB0B-496A-8EB4-713EEB1970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Equipe de desenvolvimento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Hedlena Bezerra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Matheus Cabra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Paulo Gonçalve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Suzana Mesquita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193-C411-4B2D-9106-2EDD12700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rganized</a:t>
            </a:r>
            <a:r>
              <a:rPr b="0" lang="pt-BR" sz="6600" spc="-1" strike="noStrike">
                <a:solidFill>
                  <a:srgbClr val="006666"/>
                </a:solidFill>
                <a:latin typeface="Arial Black"/>
              </a:rPr>
              <a:t>      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rime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	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ombat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pt-BR" sz="40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rganization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62920" y="1828800"/>
          <a:ext cx="10206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1828800"/>
                    <a:ext cx="1020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92E-B754-4D63-8DF5-35DF1FD3BD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Game design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Num mundo corrompido pela violência, empresas fortes se juntam e criam a OCCO. O grupo de elite é designado a diversas regiões do mundo a fim de solucionar problemas locais.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Mistura de Estratégia, RPG e ação. A idéia consiste em fazer commandos (Gráfico fuderoso) com maior jogabilidade (ação) e elementos de RPG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4FE-CF3A-4047-9863-A4C962C077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Implementação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5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Dificuldade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Tempo de desenvolvimento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Processamento da entrada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(</a:t>
            </a:r>
            <a:r>
              <a:rPr b="0" i="1" lang="pt-BR" sz="2800" spc="-1" strike="noStrike">
                <a:solidFill>
                  <a:srgbClr val="006666"/>
                </a:solidFill>
                <a:latin typeface="Arial Black"/>
              </a:rPr>
              <a:t>mouse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Modelagem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Gerenciador gráfico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Ordenação dos objetos gráficos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Dificuldade de </a:t>
            </a:r>
            <a:r>
              <a:rPr b="0" i="1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debugging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DA0-9EDE-4A37-BC66-61906D3EF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Implementação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Principais decisões tomadas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rquitetura antes de implementar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Detalhamento maior do </a:t>
            </a:r>
            <a:r>
              <a:rPr b="0" i="1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Game Design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 ajudou no entendimento do conceito do jogo por cada membro da equipe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Implementação da IA mínima para sobreviver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O tipo de mapa de </a:t>
            </a:r>
            <a:r>
              <a:rPr b="0" i="1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tiles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 (</a:t>
            </a:r>
            <a:r>
              <a:rPr b="0" i="1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staggered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) foi o mais apropriado ao jogo uma vez que o recorte é mínimo em relação aos outros tipos.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DC2-0FA9-4225-ABE3-C55C7586D0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Resultados obtido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2,5D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Gráfico muito bom (eu acho)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Detecção de colisão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Inimigo um pouco inteligente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Interação com </a:t>
            </a:r>
            <a:r>
              <a:rPr b="0" i="1" lang="pt-BR" sz="3200" spc="-1" strike="noStrike">
                <a:solidFill>
                  <a:srgbClr val="006666"/>
                </a:solidFill>
                <a:latin typeface="Arial Black"/>
              </a:rPr>
              <a:t>mouse</a:t>
            </a: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 e teclado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Trilha e efeitos sonoro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ED7-D316-4189-8203-FF1742D7A1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Conclusõe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Fazer um jogo fuderoso necessita: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	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[(tempo + coragem + grupo)]</a:t>
            </a:r>
            <a:r>
              <a:rPr b="0" lang="pt-BR" sz="2800" spc="-1" strike="noStrike" baseline="30000">
                <a:solidFill>
                  <a:srgbClr val="006666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Impossível fazer um jogo sem dividir os problemas por especialidade de cada membro da equipe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66"/>
                </a:solidFill>
                <a:latin typeface="Arial Black"/>
              </a:rPr>
              <a:t>Game Design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é tudo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Para terminar, é necessário tempo e estudo no DirectX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9FE-30DA-48A9-9A7A-17F26AADC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Conclusõe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Engenharia de software e boa programação ajudam no desenvolvimento e manutenção do projeto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Alguns problemas relativos às aulas: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6666"/>
                </a:solidFill>
                <a:latin typeface="Arial Black"/>
              </a:rPr>
              <a:t>Clipping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 em directx não visto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ula de isométrico só no fim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Faltam exemplos de estrutura de projeto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lgumas aulas não eram claras, ou seja, pouco tempo para muito assunto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2BE-677C-491E-A629-E8AB71B33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2:11:26Z</dcterms:created>
  <dc:creator>mc</dc:creator>
  <dc:description/>
  <dc:language>en-US</dc:language>
  <cp:lastModifiedBy>smbm</cp:lastModifiedBy>
  <dcterms:modified xsi:type="dcterms:W3CDTF">2002-05-08T13:13:20Z</dcterms:modified>
  <cp:revision>73</cp:revision>
  <dc:subject/>
  <dc:title>Vixia</dc:title>
</cp:coreProperties>
</file>