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76C-F5FC-4DE2-9D9D-E76CB391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043-5992-42B7-996D-31BAE1A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613-A4E1-40FC-96C1-356A0D29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108-A568-4CF6-B019-E16DD6D5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91B-6855-4504-B755-8A1AF55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86F-8EA6-4C5D-917D-443B497A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003-0481-4F9D-ADBB-7FBEDE5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A5C-5469-4C29-8537-A2AD09C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F3F-4289-4EFA-8B25-F8F618C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C12-9546-4D23-99D8-FAE2986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26A-F328-4662-A95E-D06AF39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53B-57EC-4035-881C-E14CB41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EDE-921B-4E22-A1C0-C59F0FC2D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Book Antiqua"/>
              </a:rPr>
              <a:t>O</a:t>
            </a:r>
            <a:r>
              <a:rPr b="0" lang="pt-BR" sz="5400" spc="-1" strike="noStrike">
                <a:solidFill>
                  <a:srgbClr val="ffffff"/>
                </a:solidFill>
                <a:latin typeface="Book Antiqua"/>
              </a:rPr>
              <a:t>glond</a:t>
            </a:r>
            <a:br>
              <a:rPr sz="4400"/>
            </a:b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odisséia de Grum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uno Jami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ogo L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ancisco L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ustavo Bast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odrigo Avell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lanço Gera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rendizado Técnic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++, POO e programação para Window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rect 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licação prática de UM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nteligência artificial: Árvore de decisã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int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versã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svendar as técnicas para se fazer um bom jo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zer um jogo não é impossível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ssíveis extensões do proje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1: Terminar o que foi proposto..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personage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monstr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vos cenári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álogos e NPC’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2: Balanceamento do jog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sso 3: </a:t>
            </a:r>
            <a:r>
              <a:rPr b="0" lang="pt-BR" sz="4000" spc="-1" strike="noStrike">
                <a:solidFill>
                  <a:srgbClr val="ffff00"/>
                </a:solidFill>
                <a:latin typeface="Book Antiqua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Book Antiqua"/>
              </a:rPr>
              <a:t>glond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 3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rgunta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838080" y="3733920"/>
            <a:ext cx="7121520" cy="2732040"/>
            <a:chOff x="838080" y="3733920"/>
            <a:chExt cx="7121520" cy="2732040"/>
          </a:xfrm>
        </p:grpSpPr>
        <p:pic>
          <p:nvPicPr>
            <p:cNvPr id="45" name="ChronoShot" descr=""/>
            <p:cNvPicPr/>
            <p:nvPr/>
          </p:nvPicPr>
          <p:blipFill>
            <a:blip r:embed="rId1"/>
            <a:srcRect l="0" t="0" r="0" b="13279"/>
            <a:stretch/>
          </p:blipFill>
          <p:spPr>
            <a:xfrm>
              <a:off x="838080" y="3733920"/>
              <a:ext cx="3767400" cy="239220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pic>
          <p:nvPicPr>
            <p:cNvPr id="46" name="BofShot" descr=""/>
            <p:cNvPicPr/>
            <p:nvPr/>
          </p:nvPicPr>
          <p:blipFill>
            <a:blip r:embed="rId2"/>
            <a:srcRect l="9709" t="0" r="0" b="31227"/>
            <a:stretch/>
          </p:blipFill>
          <p:spPr>
            <a:xfrm>
              <a:off x="4038480" y="4114800"/>
              <a:ext cx="3921120" cy="235116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il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o jog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G Clássico SN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: Chrono Trigger, Breath of Fire, Final Fantasy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incipal elemento: A história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calizam as personalidades dos personage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oblema: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replay valu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pob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6720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crono" descr=""/>
          <p:cNvPicPr/>
          <p:nvPr/>
        </p:nvPicPr>
        <p:blipFill>
          <a:blip r:embed="rId4"/>
          <a:stretch/>
        </p:blipFill>
        <p:spPr>
          <a:xfrm>
            <a:off x="0" y="4162320"/>
            <a:ext cx="1800360" cy="2695680"/>
          </a:xfrm>
          <a:prstGeom prst="rect">
            <a:avLst/>
          </a:prstGeom>
          <a:ln w="0">
            <a:noFill/>
          </a:ln>
        </p:spPr>
      </p:pic>
      <p:pic>
        <p:nvPicPr>
          <p:cNvPr id="51" name="katt" descr=""/>
          <p:cNvPicPr/>
          <p:nvPr/>
        </p:nvPicPr>
        <p:blipFill>
          <a:blip r:embed="rId5"/>
          <a:stretch/>
        </p:blipFill>
        <p:spPr>
          <a:xfrm>
            <a:off x="6681960" y="3200400"/>
            <a:ext cx="24620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lhasgemeas" descr=""/>
          <p:cNvPicPr/>
          <p:nvPr/>
        </p:nvPicPr>
        <p:blipFill>
          <a:blip r:embed="rId1">
            <a:lum bright="20000"/>
          </a:blip>
          <a:srcRect l="17498" t="5876" r="6999" b="2938"/>
          <a:stretch/>
        </p:blipFill>
        <p:spPr>
          <a:xfrm>
            <a:off x="380880" y="1371600"/>
            <a:ext cx="3375000" cy="4856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57240" y="14479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undo onde se passa o jo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iginado por três divindades supre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aha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utralidade. Pai dos outros do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lysian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dem. Venerada pelos human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gnarok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os. Venerado pelos kobol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bolds e humanos vivem em guerra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enário: </a:t>
            </a:r>
            <a:r>
              <a:rPr b="0" lang="pt-BR" sz="4000" spc="-1" strike="noStrike">
                <a:solidFill>
                  <a:srgbClr val="ffffff"/>
                </a:solidFill>
                <a:latin typeface="Book Antiqua"/>
              </a:rPr>
              <a:t>Oglo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umsh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8268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osso herói: Grum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obolds: anatom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Humanóides baixinhos e reptilian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ele rox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hifres, caud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endência sádica e covar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rumsh é um herói da raça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grumshSmall" descr=""/>
          <p:cNvPicPr/>
          <p:nvPr/>
        </p:nvPicPr>
        <p:blipFill>
          <a:blip r:embed="rId4"/>
          <a:stretch/>
        </p:blipFill>
        <p:spPr>
          <a:xfrm>
            <a:off x="8077320" y="1523880"/>
            <a:ext cx="54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19320"/>
            <a:ext cx="8305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23360" y="1527120"/>
            <a:ext cx="1938960" cy="2825640"/>
            <a:chOff x="423360" y="1527120"/>
            <a:chExt cx="1938960" cy="2825640"/>
          </a:xfrm>
        </p:grpSpPr>
        <p:pic>
          <p:nvPicPr>
            <p:cNvPr id="61" name="grumshTrash" descr=""/>
            <p:cNvPicPr/>
            <p:nvPr/>
          </p:nvPicPr>
          <p:blipFill>
            <a:blip r:embed="rId1"/>
            <a:srcRect l="0" t="6489" r="0" b="0"/>
            <a:stretch/>
          </p:blipFill>
          <p:spPr>
            <a:xfrm>
              <a:off x="685800" y="2278080"/>
              <a:ext cx="1676520" cy="20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3360" y="152712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tor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Grums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626160" y="1601640"/>
            <a:ext cx="1908360" cy="2756160"/>
            <a:chOff x="6626160" y="1601640"/>
            <a:chExt cx="1908360" cy="2756160"/>
          </a:xfrm>
        </p:grpSpPr>
        <p:pic>
          <p:nvPicPr>
            <p:cNvPr id="64" name="princesaTrash" descr=""/>
            <p:cNvPicPr/>
            <p:nvPr/>
          </p:nvPicPr>
          <p:blipFill>
            <a:blip r:embed="rId2"/>
            <a:srcRect l="0" t="3245" r="0" b="3245"/>
            <a:stretch/>
          </p:blipFill>
          <p:spPr>
            <a:xfrm>
              <a:off x="6858000" y="2281320"/>
              <a:ext cx="167652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626160" y="160164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triz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incesa Zeld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rama: esquema trash-i*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7" name="grumshTrash2" descr=""/>
          <p:cNvPicPr/>
          <p:nvPr/>
        </p:nvPicPr>
        <p:blipFill>
          <a:blip r:embed="rId3"/>
          <a:srcRect l="0" t="6489" r="0" b="0"/>
          <a:stretch/>
        </p:blipFill>
        <p:spPr>
          <a:xfrm>
            <a:off x="685800" y="2276640"/>
            <a:ext cx="1676520" cy="2076120"/>
          </a:xfrm>
          <a:prstGeom prst="rect">
            <a:avLst/>
          </a:prstGeom>
          <a:ln w="0">
            <a:noFill/>
          </a:ln>
        </p:spPr>
      </p:pic>
      <p:pic>
        <p:nvPicPr>
          <p:cNvPr id="68" name="princesaTrash2" descr=""/>
          <p:cNvPicPr/>
          <p:nvPr/>
        </p:nvPicPr>
        <p:blipFill>
          <a:blip r:embed="rId4"/>
          <a:srcRect l="0" t="3245" r="0" b="3245"/>
          <a:stretch/>
        </p:blipFill>
        <p:spPr>
          <a:xfrm>
            <a:off x="6858000" y="2286000"/>
            <a:ext cx="1676520" cy="20764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2819520" y="3049560"/>
            <a:ext cx="3733560" cy="368280"/>
            <a:chOff x="2819520" y="3049560"/>
            <a:chExt cx="3733560" cy="368280"/>
          </a:xfrm>
        </p:grpSpPr>
        <p:sp>
          <p:nvSpPr>
            <p:cNvPr id="70" name=""/>
            <p:cNvSpPr/>
            <p:nvPr/>
          </p:nvSpPr>
          <p:spPr>
            <a:xfrm>
              <a:off x="2819520" y="3352680"/>
              <a:ext cx="3733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4640" y="3049560"/>
              <a:ext cx="20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questrar Zeld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514600" y="1676520"/>
            <a:ext cx="3124080" cy="1143000"/>
            <a:chOff x="2514600" y="1676520"/>
            <a:chExt cx="3124080" cy="1143000"/>
          </a:xfrm>
        </p:grpSpPr>
        <p:sp>
          <p:nvSpPr>
            <p:cNvPr id="73" name=""/>
            <p:cNvSpPr/>
            <p:nvPr/>
          </p:nvSpPr>
          <p:spPr>
            <a:xfrm flipV="1">
              <a:off x="2514600" y="2286000"/>
              <a:ext cx="838080" cy="533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1676520"/>
              <a:ext cx="2133360" cy="1066680"/>
            </a:xfrm>
            <a:prstGeom prst="flowChartAlternateProcess">
              <a:avLst/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Objetivos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ff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er 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erói da tri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05520" y="4572000"/>
            <a:ext cx="3429000" cy="1752480"/>
            <a:chOff x="5105520" y="4572000"/>
            <a:chExt cx="3429000" cy="1752480"/>
          </a:xfrm>
        </p:grpSpPr>
        <p:sp>
          <p:nvSpPr>
            <p:cNvPr id="76" name=""/>
            <p:cNvSpPr/>
            <p:nvPr/>
          </p:nvSpPr>
          <p:spPr>
            <a:xfrm flipV="1">
              <a:off x="685836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5520" y="5410080"/>
              <a:ext cx="3429000" cy="914400"/>
            </a:xfrm>
            <a:prstGeom prst="foldedCorner">
              <a:avLst>
                <a:gd name="adj" fmla="val 12500"/>
              </a:avLst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arâmetro desconhecid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princesa é uma BRUX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362320" y="3583080"/>
            <a:ext cx="4419360" cy="368280"/>
            <a:chOff x="2362320" y="3583080"/>
            <a:chExt cx="4419360" cy="368280"/>
          </a:xfrm>
        </p:grpSpPr>
        <p:sp>
          <p:nvSpPr>
            <p:cNvPr id="79" name=""/>
            <p:cNvSpPr/>
            <p:nvPr/>
          </p:nvSpPr>
          <p:spPr>
            <a:xfrm flipH="1">
              <a:off x="2362320" y="3886200"/>
              <a:ext cx="4419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7440" y="3583080"/>
              <a:ext cx="37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orma Grumsh em huma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4419720"/>
            <a:ext cx="3124080" cy="1980720"/>
            <a:chOff x="533520" y="4419720"/>
            <a:chExt cx="3124080" cy="1980720"/>
          </a:xfrm>
        </p:grpSpPr>
        <p:sp>
          <p:nvSpPr>
            <p:cNvPr id="82" name=""/>
            <p:cNvSpPr/>
            <p:nvPr/>
          </p:nvSpPr>
          <p:spPr>
            <a:xfrm>
              <a:off x="1828800" y="4419720"/>
              <a:ext cx="0" cy="9140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20" y="5410080"/>
              <a:ext cx="3124080" cy="990360"/>
            </a:xfrm>
            <a:prstGeom prst="flowChartAlternateProcess">
              <a:avLst/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Objetivos Corrigido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1.Voltar a sua fo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. Se vingar da bruxa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a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lots paralelo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gulho e preconceit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tástrofe Global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touro da guerra entre kobolds e human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bertação acidental dos Trom: Raça ancestral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losofia Grumsh: “o mundo está acabando. E quem se importa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ficuldades de implementaçã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ogramação C++ para o Window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ientação a Objeto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rte lógica – ok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rte gráfica – não..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dar com DirectX 7.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ficuldade de input: teclado x mou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ocumentação ru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bug no modo gráfic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udanças na especificaçã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mpo--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olhas importan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les como objeto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cilita na detecção de colisão e eventos tile – spr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ontagem dinâmica: 1 tile = 4 subtil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nomia de espaço no tileset: 8 tiles x 16 tiles cada transição entre 2 terren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ão uso do mouse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use não presente nos jogos em que 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glon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se base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ão é tão necessário assim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438280" cy="1866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ultados obtid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a de stat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ração personagem ambient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lisõ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ú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alha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stros inteligen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a de batalh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ibição dos mapas de entrada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4572000"/>
            <a:ext cx="4738680" cy="1838160"/>
            <a:chOff x="457200" y="4572000"/>
            <a:chExt cx="4738680" cy="1838160"/>
          </a:xfrm>
        </p:grpSpPr>
        <p:pic>
          <p:nvPicPr>
            <p:cNvPr id="94" name="mapaChar" descr=""/>
            <p:cNvPicPr/>
            <p:nvPr/>
          </p:nvPicPr>
          <p:blipFill>
            <a:blip r:embed="rId6"/>
            <a:stretch/>
          </p:blipFill>
          <p:spPr>
            <a:xfrm>
              <a:off x="457200" y="4572000"/>
              <a:ext cx="2438280" cy="18381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95" name=""/>
            <p:cNvSpPr/>
            <p:nvPr/>
          </p:nvSpPr>
          <p:spPr>
            <a:xfrm>
              <a:off x="3049200" y="51055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tiesetShot" descr=""/>
            <p:cNvPicPr/>
            <p:nvPr/>
          </p:nvPicPr>
          <p:blipFill>
            <a:blip r:embed="rId7"/>
            <a:stretch/>
          </p:blipFill>
          <p:spPr>
            <a:xfrm>
              <a:off x="3733560" y="4572000"/>
              <a:ext cx="1462320" cy="18288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5486400" y="4572000"/>
            <a:ext cx="3276720" cy="1903320"/>
            <a:chOff x="5486400" y="4572000"/>
            <a:chExt cx="3276720" cy="1903320"/>
          </a:xfrm>
        </p:grpSpPr>
        <p:sp>
          <p:nvSpPr>
            <p:cNvPr id="98" name=""/>
            <p:cNvSpPr/>
            <p:nvPr/>
          </p:nvSpPr>
          <p:spPr>
            <a:xfrm>
              <a:off x="5486400" y="5410080"/>
              <a:ext cx="6858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screenshot" descr=""/>
            <p:cNvPicPr/>
            <p:nvPr/>
          </p:nvPicPr>
          <p:blipFill>
            <a:blip r:embed="rId8"/>
            <a:stretch/>
          </p:blipFill>
          <p:spPr>
            <a:xfrm>
              <a:off x="6477120" y="4572000"/>
              <a:ext cx="2286000" cy="1903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00" name=""/>
          <p:cNvSpPr/>
          <p:nvPr/>
        </p:nvSpPr>
        <p:spPr>
          <a:xfrm>
            <a:off x="2581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0:46:05Z</dcterms:created>
  <dc:creator>glr</dc:creator>
  <dc:description/>
  <dc:language>en-US</dc:language>
  <cp:lastModifiedBy>bjs</cp:lastModifiedBy>
  <dcterms:modified xsi:type="dcterms:W3CDTF">2002-05-08T18:43:55Z</dcterms:modified>
  <cp:revision>18</cp:revision>
  <dc:subject/>
  <dc:title>Título do projeto</dc:title>
</cp:coreProperties>
</file>