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AB5-F3D3-45C8-BC48-545B8D34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438-FD23-4F32-B556-AF29C9DB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57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657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AF2-F852-4B81-A084-4D6FEF0D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497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140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497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140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C1E-0A01-4B7E-BFE9-1661FBB9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D7F-2345-4420-BF41-7E3EC8F7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560-7D90-4622-B6BF-DD19FC33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657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E14-B0E9-43E8-9E44-B5080674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6E8-D7DC-4AAE-9163-1B2F7E40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77A-8401-4485-90E6-54FE29F6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57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0A1-64D0-4CAB-9DB3-685BF4B7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57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657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EF9-6698-460E-A6AA-BC9E2B48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657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DA1-3E33-46C1-84CB-97F776A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9156600" cy="687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8D82-A309-4641-BB0B-CA51381A4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0"/>
            <a:ext cx="8229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PORTUNIDAD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DE COMÉRCIO NA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mpreco.com.br/" TargetMode="External"/><Relationship Id="rId2" Type="http://schemas.openxmlformats.org/officeDocument/2006/relationships/hyperlink" Target="http://www.bompreco.com.br/" TargetMode="External"/><Relationship Id="rId3" Type="http://schemas.openxmlformats.org/officeDocument/2006/relationships/hyperlink" Target="http://www.bompreco.com.br/" TargetMode="External"/><Relationship Id="rId4" Type="http://schemas.openxmlformats.org/officeDocument/2006/relationships/hyperlink" Target="http://www.bompreco.com.br/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omércio eletrônico: novos modelos de negócio na economia glob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ermano perrelli de mo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ttp://www.di.ufpe.br/~her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novo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existem fronteiras geográ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o grau de person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cerias da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$0,01 é muito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existem intermedi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o valor agregado em servi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ência de fronteiras político-econô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arketsp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 lugar para o espa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 físico para o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 tangível para o intang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rketplace + cyberspace = market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primeira ordem (fís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egunda ordem (vir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 milhões de endereç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orldWide Marketing Group is pleased to finally offer to the direct marketer, the culmination of its intensive 6 month long project in compiling the single largest e-mail address list available anywhere - over 30 million e-mail addresses free of duplicates, one per line and alphabetically sorted - for only US$149! This is for real... there is NO ca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(da inform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</a:t>
            </a:r>
            <a:r>
              <a:rPr b="0" lang="pt-BR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ompreco</a:t>
            </a:r>
            <a:r>
              <a:rPr b="0" lang="pt-BR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33cc"/>
                </a:solidFill>
                <a:uFillTx/>
                <a:latin typeface="Arial"/>
              </a:rPr>
              <a:t>www.mappin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33cc"/>
                </a:solidFill>
                <a:uFillTx/>
                <a:latin typeface="Arial"/>
              </a:rPr>
              <a:t>www.campus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33cc"/>
                </a:solidFill>
                <a:uFillTx/>
                <a:latin typeface="Arial"/>
              </a:rPr>
              <a:t>www.lojasparaiso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33cc"/>
                </a:solidFill>
                <a:uFillTx/>
                <a:latin typeface="Arial"/>
              </a:rPr>
              <a:t>www.arapua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33cc"/>
                </a:solidFill>
                <a:uFillTx/>
                <a:latin typeface="Arial"/>
              </a:rPr>
              <a:t>www.receita.fazenda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 plano d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 n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e os concor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e o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ção, análise da situação atual, problemas e oportunidades, estratégias de marketing, análise e pesquisa de mercado, orçamento, plano, avaliação, acompan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o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e o seu posic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umas perguntas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a empresa tem se capitalizado usando os benefícios potenciais do 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ções de competidores (ou de novas empresas) podem deixar você lutando pela sobrevivênc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ê pode tomar alguma providência no sentido de antecipar-se às ações dos competid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s perguntas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ê está ciente do poder da informação embebida nos seus produtos e serviços e que podem agregar valor aos clie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á que existem produtos e serviços da informação que podem ser oferecidos aos seus clie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inuando a reflexão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ê tem usado o benefício potencial da integração de canais eletrôn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ê tem usado CE para gerenciar a complexidade de mercado e produ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ndo canais intermedi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ndo e agilizando a entrega de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zindo dramaticamente cu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ércio eletrô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ércio eletrônico 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ércio eletrônico 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nov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plano 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mas per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e finalmen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nfra-estrutura técnica está pron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cê tem usado de forma equilibrada novas tecnologi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ção é a essência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209680" y="1828800"/>
            <a:ext cx="3657600" cy="3508200"/>
            <a:chOff x="2209680" y="1828800"/>
            <a:chExt cx="3657600" cy="3508200"/>
          </a:xfrm>
        </p:grpSpPr>
        <p:sp>
          <p:nvSpPr>
            <p:cNvPr id="85" name=""/>
            <p:cNvSpPr txBox="1"/>
            <p:nvPr/>
          </p:nvSpPr>
          <p:spPr>
            <a:xfrm>
              <a:off x="2209680" y="1828800"/>
              <a:ext cx="3657600" cy="350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Interne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191120" y="2514600"/>
              <a:ext cx="1531800" cy="2286000"/>
              <a:chOff x="4191120" y="2514600"/>
              <a:chExt cx="1531800" cy="2286000"/>
            </a:xfrm>
          </p:grpSpPr>
          <p:pic>
            <p:nvPicPr>
              <p:cNvPr id="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191120" y="2514600"/>
                <a:ext cx="15318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4952880" y="3657600"/>
                <a:ext cx="5331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ponto de v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ja, agência bancária,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ó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cate, home banking, UTI mó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ércio eletrônic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cesso de fazer negócios eletronicamente, envolvendo a automação de várias transações entre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 C Laudon &amp; J P Lau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ércio eletrônico e T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ção da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ntro das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entre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fora das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ércio eletrônico e T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cnolo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ef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emarketing (telefone + compu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ev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 (Electronic Data Inter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ções 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fonia vi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udio e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eb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 que as empresas estão usando a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ênci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ção de desp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 de novos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as dir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ícios da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ção dos custos de comun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 direta 1200 pessoas: US$ 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Internet: US$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rfeiçoamento da comunicação e coorde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leração da distribuição de 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o da competitividade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ércio eletrô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ércio eletrônico 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hor relação fornecedor-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, venda, pós-v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person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 ba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.000 mensagens/mê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: US$ 50.000 a US$ 1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: US$ 1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ão de parceiros 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lcul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0T14:22:14Z</dcterms:created>
  <dc:creator>BRA/92/019 - ProTeM-CC</dc:creator>
  <dc:description/>
  <dc:language>en-US</dc:language>
  <cp:lastModifiedBy>Fabio</cp:lastModifiedBy>
  <dcterms:modified xsi:type="dcterms:W3CDTF">1997-06-27T15:07:34Z</dcterms:modified>
  <cp:revision>14</cp:revision>
  <dc:subject/>
  <dc:title>Slide sem título </dc:title>
</cp:coreProperties>
</file>