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25F-AEB9-4797-A372-2E22B08F2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9848-CB09-4281-BFB9-D89F8AB2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C5E2-F187-4D4A-9F58-49C7B98E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95C-E687-465F-81A5-B34D58040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508-F861-4016-93AC-6A09B126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E415-F48D-4A92-95EE-916886C4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F4B7-70AB-47FE-B796-91BFB87B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D4B8-DF4D-494A-B642-287313F7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C497-9C7C-44CD-9119-1B012C69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A2D7-6AA2-44BB-AFEB-E0974E93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D51-2535-47E2-B54B-7872F15C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B55D-EB61-455A-8878-BF9F5412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269280" cy="141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269280" cy="14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25488-BBC4-4962-BD7C-E839615E9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umlnapratica.com.br/" TargetMode="External"/><Relationship Id="rId2" Type="http://schemas.openxmlformats.org/officeDocument/2006/relationships/hyperlink" Target="http://www.cin.ufpe.br/~if718" TargetMode="External"/><Relationship Id="rId3" Type="http://schemas.openxmlformats.org/officeDocument/2006/relationships/hyperlink" Target="http://www.cin.ufpe.br/~if718" TargetMode="External"/><Relationship Id="rId4" Type="http://schemas.openxmlformats.org/officeDocument/2006/relationships/hyperlink" Target="http://www.cin.ufpe.br/~if718" TargetMode="External"/><Relationship Id="rId5" Type="http://schemas.openxmlformats.org/officeDocument/2006/relationships/hyperlink" Target="http://www.cin.ufpe.br/~if718" TargetMode="External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ig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istema Gestor de Aluno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723920" y="510552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line Timót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Denise Narci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Flávia Falc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ara Falc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019920"/>
            <a:ext cx="4419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niversidade Federal de Pernambu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entro de Infor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64771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01/03/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ch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6392880" cy="45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49568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4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troladorInformac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886200" y="1747800"/>
            <a:ext cx="5638680" cy="527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4572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5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caoFil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-152280" y="2819520"/>
            <a:ext cx="4343400" cy="22413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429000" y="1828800"/>
            <a:ext cx="592452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6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caoFilial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341520" y="1752480"/>
            <a:ext cx="5802480" cy="53546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0880" y="3276720"/>
            <a:ext cx="525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7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unicacaoFilial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28960" y="1838160"/>
            <a:ext cx="5315040" cy="50198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48006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Estrutura das Cápsul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122400"/>
            <a:ext cx="7364520" cy="68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3276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Consultar Alunos por Disciplina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jeção do Caso de Us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Consultar Alunos por Disciplina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ste caso de uso permite listar os alunos que estão cursando ou cursaram uma discipli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mite exibir detalhe dos alunos list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Consultar Alunos por Disciplina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Consultar Alunos por Disciplina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468360" y="255600"/>
            <a:ext cx="9612360" cy="660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Índi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rição d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ultar Inadimpl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rojeção das Cápsu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iagramas de est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rutura das Cápsul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ultar Alunos por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ção do Cas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bsistema Vis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ção do Sub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ubsistema Visão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jeção do Subsistem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ubsistema Visão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ubsistema Inter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loca os dados que devem ser exibidos ao usuário nos formatos disponí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lató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Gráfi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Tabe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ubsistema Visão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agrama de seqüência para o fluxo principal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83348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2743200"/>
            <a:ext cx="7086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ubsistema Visão (3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iagrama de seqüência para o fluxo secundá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42416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ubsistema Visão (4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098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Diagrama de Cla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766880" y="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136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Subsistema Visão (5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4749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pendência de Paco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0667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Referênci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utorial sobre UML -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umlnapratica.com.br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oftware Engineering </a:t>
            </a: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an Sommervil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Disciplina de Analise e Projeto de Sistema </a:t>
            </a: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 Unicode MS"/>
              </a:rPr>
              <a:t>                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 Unicode MS"/>
                <a:hlinkClick r:id="rId3"/>
              </a:rPr>
              <a:t>cin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 Unicode MS"/>
                <a:hlinkClick r:id="rId4"/>
              </a:rPr>
              <a:t>.ufpe.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Arial Unicode MS"/>
                <a:hlinkClick r:id="rId5"/>
              </a:rPr>
              <a:t>br/~if71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escrição do Sistema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 SigA tem como objetivo principal fornecer informações sobre o rendimento escolar dos alunos da Universidad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instituição de ensino poderá oferecer um acompanhamento mais direcionado aos aluno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Gestor de Alu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escrição do Sistema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542960" y="-2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42960" y="-2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2960" y="-2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1268280"/>
          <a:ext cx="9144000" cy="558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68280"/>
                    <a:ext cx="914400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380988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Consultar Inadimplentes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Projeção das Cápsula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Consultar Inadimplent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ste caso de uso permite que o usuário pesquise os inadimplentes nas diversas filiais da instituição de ensino que utilizam o sistema SIG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Cápsul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80880" y="380880"/>
            <a:ext cx="9896400" cy="1128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1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Usuá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5410080" cy="3192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57200" y="3657600"/>
            <a:ext cx="3657600" cy="22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Diagrama de Estados das Cápsulas (2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elaInformac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365720" y="1905120"/>
            <a:ext cx="4778280" cy="4694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33520" y="3124080"/>
            <a:ext cx="4012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20:06:23Z</dcterms:created>
  <dc:creator>alt</dc:creator>
  <dc:description/>
  <dc:language>en-US</dc:language>
  <cp:lastModifiedBy>alt</cp:lastModifiedBy>
  <dcterms:modified xsi:type="dcterms:W3CDTF">2005-03-01T18:29:17Z</dcterms:modified>
  <cp:revision>62</cp:revision>
  <dc:subject/>
  <dc:title>sigA Sistema Gestor de Alunos</dc:title>
</cp:coreProperties>
</file>