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9023-119C-497D-B556-1B2CB11C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E92-EDC2-4B61-A1D7-AB1927D3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6A2-422A-460B-8D8A-8A3B3E70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E85-161C-43DE-9C61-2C364624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90E-750F-42A8-B0F3-3BB9F17E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B459-1C6F-4A4D-9C9C-D60907E3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DBB0-E0E9-4F48-B7CA-BA67296D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2936-DE77-4DE7-B4A3-35B02FD8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3AE9-4D68-4196-A56B-46F04A6B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A855-F298-47F8-9384-90BFE8FB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B1F8-7265-402C-86BD-6A433154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9F09-49F3-4216-ABCE-2A38BB10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5EF-417A-4FF1-9CE0-F59B0023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5EFF-A570-4CAE-A972-6A16E521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11BB-D141-41EB-87A4-7CED77F2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9EBC-54E5-424C-8019-7E7B9ABF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0866-A1A0-4D63-9771-85EC24EF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6976-886E-4CBE-A658-C614A844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707-3C07-4513-8B66-4D012B8B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FF6-F3DD-4067-82F3-1B6E0C5D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F4F-F759-4C2C-B194-D922482F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3F1-1FF2-451E-9C62-064F1996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8BF-478A-4892-AB5F-D7D152D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BD1-EB46-48FE-B5FD-64BE146C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F28-26F5-4B86-A8E3-5BBF7DC7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BC89-3FDB-48A4-85CF-DFD269DEE4C5}" type="datetime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F9F1-A34D-4A94-BA74-6BE99EA119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CDEB-DFC6-48F1-97AB-D1E676E6DA0D}" type="datetime">
              <a:rPr b="0" lang="pt-BR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389D-2FC9-453F-BE26-A31E2BF48E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ccf@cin.ufpe.b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mailto:bccf@cin.ufpe.br" TargetMode="External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06633"/>
                </a:solidFill>
                <a:latin typeface="Garamond"/>
              </a:rPr>
              <a:t>Gerenciamento de Múltiplos Projetos de Softwar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uno Freitas, P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bccf@cin.ufpe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o de Infor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versidade Federal de Pernambu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74B-ACDD-4CF3-BA9D-B17F6CB0F1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09C63-BA67-4AC1-9C92-F1D5820A25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Gestão de Portfólio x Gestão de Multiprojet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stão de Portfól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ividade de atribuir critérios para selecionar e priorizar projetos dentro de um conjunto de propostas que estejam alinhados com as estratégias organizacio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stão de Multipro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gerência de multiprojetos preocupa-se em como distribuir e controlar os recursos para os projetos, uma vez que estes tenham sido selecio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0AD-9AC4-46A5-BDED-18A14DCBFA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AA4B5-BF0E-4FEA-A087-BF6CC2E345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Gestão de Portfólio x Gestão de Multiprojetos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7939080" cy="232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37880" y="458136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daptada de [Dye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9C9-878C-4EDB-8DB3-5C5E81CF6E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7C915-B35A-4032-B98E-BC5A544719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7C5-23C9-4B39-ADC4-1BAE3091BD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4346D-E98C-45AF-8745-3420C8AFA3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Tipologia de Ambientes Multiprojetos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mbientes Multiprojetos Converg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indústrias de manufatura de carros e aeron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79640" y="2541600"/>
            <a:ext cx="5335560" cy="3479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19640" y="5932440"/>
            <a:ext cx="29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daptada de [Danilovic 200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377-2336-4855-8A59-4EA5382F7D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0334D-01E8-4CA4-8636-6F8C96FF26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Tipologia de Ambientes Multiprojetos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mbientes Multiprojetos Diverg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ústria automobilística, na qual diferentes modelos compartilham a mesma plataforma, motor ou chas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40000" y="2879640"/>
            <a:ext cx="4408560" cy="2997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19640" y="5932440"/>
            <a:ext cx="29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daptada de [Danilovic 200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D6B-37F0-4D76-9644-EE93CF551A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DA31B-9CA9-43FF-A5BF-44EFBFACAE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Tipologia de Ambientes Multiprojetos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bientes Multiprojetos Parale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472280" cy="294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9640" y="5589720"/>
            <a:ext cx="29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daptada de [Danilovic 200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225-7295-4096-89F8-EEB1CBA684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7CF5F-94BD-4FDD-996F-7A83C2B471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37C-C151-45D1-A477-21269F30DB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FE635-9BD7-43B7-BA3B-E953AC2C86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2924280"/>
            <a:ext cx="820872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2852640"/>
            <a:ext cx="8137440" cy="2521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Fábricas de Software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gundo [Fernandes 2004], uma fábrica de software pode ser definida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Um processo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estruturado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controlado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melhorado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de forma contínua, considerando abordagens de engenharia industrial, orientado para o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atendimento a múltiplas demandas de natureza e escopo distintas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, visando à geração de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produtos de software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, conforme os requisitos documentados dos usuários e/ou clientes, da forma mais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produtiva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econômica possível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9C8-0A66-44F7-9C71-D1869FF911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04555-FD3A-45E3-A3DE-11A74A14E6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Fábricas de Software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br>
              <a:rPr sz="3800"/>
            </a:b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ntre os vários atributos básicos destacados por [Fernandes 2004] para uma fábrica de software, podemos destac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ábrica deve ter rigoroso controle dos recursos em termos de sua alocação, disponibilidade, necessidade futura e produtividade (esta deve ser mensura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ábrica deve ter o controle do status das múltiplas demandas em seu processo e permitir o rastreamento dessas deman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ábrica deve ter o absoluto controle do andamento da execução de cad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odutos de software devem ser construídos de acordo com métodos, técnicas e ferramentas padron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B93-A686-4785-9BD5-6C56A5C23F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F8CCE-C747-420A-AF01-6DDDE63CD8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079-D753-4FA4-8156-5C028E5AC1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DAFB8-8D82-4C10-890E-27CB92EE9C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Fábricas de Software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o o recurso humano é o principal insumo para a produção, é necessário que um planejamento da operação de software possibili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 atual alocação dos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 futura alocação dos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 futura necessidade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 atual e futura disponibilização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s habilidades atuais dos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s habilidades futuras requeri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010-02ED-45D9-8288-F24FEDD1D5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523DA-6090-4D02-9234-58E78BC888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Fábricas de Software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br>
              <a:rPr sz="3800"/>
            </a:b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ramework do processo de software em uma fábrica de software [Fernandes 2004]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472000" cy="35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00B-56BB-4F05-BC31-1E9B279891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F3119-9333-451A-8188-E6B4C66316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C74-EF08-4711-8756-D198438346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E1425-BCFD-49B1-8114-2068D10CB1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projeto é composto por várias ativ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ralmente, o tempo necessário para cada atividade é estimado individu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o tempo de cada atividade acrescenta-se uma margem de seguranç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margem de segurança, às vezes, já embute um percentual de corte pela alta g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 final, temos um tempo de conclusão do projeto muito maior do que o necessá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ainda assim atrasam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7BA-AD2C-419C-A808-0CFE0C1AA7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B073A-BC6A-4A41-8576-E9F672E2E1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 por que atras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ei de Parkin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pessoas gastam todo o tempo que elas têm, mesmo que seja com coisas superfi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índrome do Estuda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ixar tudo para a última 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ultitaref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árias coisas para fazer ao mesmo tempo sem uma priorização entre as ativ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466-0070-4021-97F2-1BE14FBF5FA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C1F9D-41C7-45C8-8638-5BBB41593A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rrente crítica é sustentada pela utilização d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erenciamento dos buffers se assemelha a um semáfo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50920" y="4149720"/>
            <a:ext cx="4560840" cy="792000"/>
            <a:chOff x="2050920" y="4149720"/>
            <a:chExt cx="4560840" cy="792000"/>
          </a:xfrm>
        </p:grpSpPr>
        <p:sp>
          <p:nvSpPr>
            <p:cNvPr id="157" name=""/>
            <p:cNvSpPr/>
            <p:nvPr/>
          </p:nvSpPr>
          <p:spPr>
            <a:xfrm>
              <a:off x="2195640" y="4149720"/>
              <a:ext cx="1439640" cy="7920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0920" y="43668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35280" y="4149720"/>
              <a:ext cx="1440000" cy="79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48160" y="4222440"/>
              <a:ext cx="165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bservar e Planej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76720" y="4149720"/>
              <a:ext cx="1440000" cy="79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54680" y="4222440"/>
              <a:ext cx="165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gir com Urg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BF8-11F5-41A4-A05C-ABBEC42FFC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54E6A-AA4C-459F-A2E4-7E10EFF6C2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Buffer de Proje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duzindo o tempo de cada etapa, liberamos tempo suficiente para criarmos um </a:t>
            </a:r>
            <a:r>
              <a:rPr b="0" lang="pt-BR" sz="2600" spc="-1" strike="noStrike">
                <a:solidFill>
                  <a:srgbClr val="ff3300"/>
                </a:solidFill>
                <a:latin typeface="Arial"/>
              </a:rPr>
              <a:t>buffer de proj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3645000"/>
            <a:ext cx="158436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tapa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3645000"/>
            <a:ext cx="115092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tapa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3645000"/>
            <a:ext cx="223200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tapa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3645000"/>
            <a:ext cx="122400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tapa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637160"/>
            <a:ext cx="79200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4637160"/>
            <a:ext cx="5763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4637160"/>
            <a:ext cx="122400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7280" y="4637160"/>
            <a:ext cx="57600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16360" y="4653000"/>
            <a:ext cx="2951280" cy="288720"/>
          </a:xfrm>
          <a:custGeom>
            <a:avLst/>
            <a:gdLst>
              <a:gd name="textAreaLeft" fmla="*/ 649080 w 2951280"/>
              <a:gd name="textAreaRight" fmla="*/ 2302200 w 2951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87680" y="463716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uffer de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D23-7EA5-42DE-A8E5-F7C485D331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9298E-176B-487B-9DD6-6E66CD7BB5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3567240"/>
            <a:ext cx="79200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3567240"/>
            <a:ext cx="5763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3567240"/>
            <a:ext cx="122400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3567240"/>
            <a:ext cx="57600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3583080"/>
            <a:ext cx="2951280" cy="288720"/>
          </a:xfrm>
          <a:custGeom>
            <a:avLst/>
            <a:gdLst>
              <a:gd name="textAreaLeft" fmla="*/ 649080 w 2951280"/>
              <a:gd name="textAreaRight" fmla="*/ 2302200 w 2951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87680" y="356724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uffer de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2774880"/>
            <a:ext cx="576360" cy="337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#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9840" y="2774880"/>
            <a:ext cx="574920" cy="362160"/>
          </a:xfrm>
          <a:custGeom>
            <a:avLst/>
            <a:gdLst>
              <a:gd name="textAreaLeft" fmla="*/ 126360 w 574920"/>
              <a:gd name="textAreaRight" fmla="*/ 448560 w 574920"/>
              <a:gd name="textAreaTop" fmla="*/ 79560 h 362160"/>
              <a:gd name="textAreaBottom" fmla="*/ 2826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39960" y="27748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357800"/>
            <a:ext cx="57636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63840" y="4357800"/>
            <a:ext cx="574920" cy="361800"/>
          </a:xfrm>
          <a:custGeom>
            <a:avLst/>
            <a:gdLst>
              <a:gd name="textAreaLeft" fmla="*/ 126360 w 574920"/>
              <a:gd name="textAreaRight" fmla="*/ 448560 w 574920"/>
              <a:gd name="textAreaTop" fmla="*/ 79560 h 361800"/>
              <a:gd name="textAreaBottom" fmla="*/ 28224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019400" y="399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4359240"/>
            <a:ext cx="57636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471960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uffer de Converg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219384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uffer de Converg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287-F82B-412D-8BC0-2169DA5DA8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6564E-E6F7-4C05-837C-0548329991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minho Crí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4360" y="2519280"/>
            <a:ext cx="2016000" cy="1152720"/>
            <a:chOff x="684360" y="2519280"/>
            <a:chExt cx="2016000" cy="1152720"/>
          </a:xfrm>
        </p:grpSpPr>
        <p:sp>
          <p:nvSpPr>
            <p:cNvPr id="195" name=""/>
            <p:cNvSpPr/>
            <p:nvPr/>
          </p:nvSpPr>
          <p:spPr>
            <a:xfrm>
              <a:off x="723960" y="2519280"/>
              <a:ext cx="1944720" cy="1152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4360" y="2694240"/>
              <a:ext cx="2016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nstruir o préd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90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213080" y="2494080"/>
            <a:ext cx="2016000" cy="1152360"/>
            <a:chOff x="4213080" y="2494080"/>
            <a:chExt cx="2016000" cy="1152360"/>
          </a:xfrm>
        </p:grpSpPr>
        <p:sp>
          <p:nvSpPr>
            <p:cNvPr id="198" name=""/>
            <p:cNvSpPr/>
            <p:nvPr/>
          </p:nvSpPr>
          <p:spPr>
            <a:xfrm>
              <a:off x="4252680" y="2494080"/>
              <a:ext cx="1944720" cy="1152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13080" y="2668680"/>
              <a:ext cx="201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ornar o prédio fun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0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0" name=""/>
          <p:cNvCxnSpPr>
            <a:stCxn id="196" idx="3"/>
            <a:endCxn id="199" idx="1"/>
          </p:cNvCxnSpPr>
          <p:nvPr/>
        </p:nvCxnSpPr>
        <p:spPr>
          <a:xfrm>
            <a:off x="2700360" y="3084120"/>
            <a:ext cx="151344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" name=""/>
          <p:cNvGrpSpPr/>
          <p:nvPr/>
        </p:nvGrpSpPr>
        <p:grpSpPr>
          <a:xfrm>
            <a:off x="684360" y="3913200"/>
            <a:ext cx="2016000" cy="1152360"/>
            <a:chOff x="684360" y="3913200"/>
            <a:chExt cx="2016000" cy="1152360"/>
          </a:xfrm>
        </p:grpSpPr>
        <p:sp>
          <p:nvSpPr>
            <p:cNvPr id="202" name=""/>
            <p:cNvSpPr/>
            <p:nvPr/>
          </p:nvSpPr>
          <p:spPr>
            <a:xfrm>
              <a:off x="723960" y="3913200"/>
              <a:ext cx="1944720" cy="1152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4360" y="3976200"/>
              <a:ext cx="20160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scolher Fornec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5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213080" y="3887640"/>
            <a:ext cx="2016000" cy="1152720"/>
            <a:chOff x="4213080" y="3887640"/>
            <a:chExt cx="2016000" cy="1152720"/>
          </a:xfrm>
        </p:grpSpPr>
        <p:sp>
          <p:nvSpPr>
            <p:cNvPr id="205" name=""/>
            <p:cNvSpPr/>
            <p:nvPr/>
          </p:nvSpPr>
          <p:spPr>
            <a:xfrm>
              <a:off x="4252680" y="3887640"/>
              <a:ext cx="1944720" cy="1152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13080" y="4062600"/>
              <a:ext cx="201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nstruir as Máqu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90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7" name=""/>
          <p:cNvCxnSpPr>
            <a:stCxn id="203" idx="3"/>
            <a:endCxn id="206" idx="1"/>
          </p:cNvCxnSpPr>
          <p:nvPr/>
        </p:nvCxnSpPr>
        <p:spPr>
          <a:xfrm>
            <a:off x="2700360" y="4503240"/>
            <a:ext cx="151344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8" name=""/>
          <p:cNvGrpSpPr/>
          <p:nvPr/>
        </p:nvGrpSpPr>
        <p:grpSpPr>
          <a:xfrm>
            <a:off x="6732720" y="3238560"/>
            <a:ext cx="2016000" cy="1191240"/>
            <a:chOff x="6732720" y="3238560"/>
            <a:chExt cx="2016000" cy="1191240"/>
          </a:xfrm>
        </p:grpSpPr>
        <p:sp>
          <p:nvSpPr>
            <p:cNvPr id="209" name=""/>
            <p:cNvSpPr/>
            <p:nvPr/>
          </p:nvSpPr>
          <p:spPr>
            <a:xfrm>
              <a:off x="6772320" y="3276720"/>
              <a:ext cx="1944360" cy="1152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32720" y="3238560"/>
              <a:ext cx="201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nstalar as Máquinas no Préd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0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1" name=""/>
          <p:cNvCxnSpPr>
            <a:stCxn id="199" idx="3"/>
            <a:endCxn id="210" idx="1"/>
          </p:cNvCxnSpPr>
          <p:nvPr/>
        </p:nvCxnSpPr>
        <p:spPr>
          <a:xfrm>
            <a:off x="6229440" y="3127320"/>
            <a:ext cx="504000" cy="70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6" idx="3"/>
            <a:endCxn id="210" idx="1"/>
          </p:cNvCxnSpPr>
          <p:nvPr/>
        </p:nvCxnSpPr>
        <p:spPr>
          <a:xfrm flipV="1">
            <a:off x="6229440" y="3833640"/>
            <a:ext cx="5040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324000" y="5229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00"/>
                </a:solidFill>
                <a:latin typeface="Arial"/>
              </a:rPr>
              <a:t>O caminho crítico é a maior cadeia de etapas dependentes em termos de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2349360"/>
            <a:ext cx="6119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04000" y="3070080"/>
            <a:ext cx="1944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804000" y="234936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28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Caminho Cr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EB2-B23F-4313-A1B5-E1DC8C1C3B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9CAAC-3107-469B-A55A-188E18C678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gora vamos supor outra situaçã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3711600"/>
            <a:ext cx="792000" cy="376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46200" y="3711600"/>
            <a:ext cx="5763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3711600"/>
            <a:ext cx="1224000" cy="376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95640" y="3711600"/>
            <a:ext cx="576360" cy="376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9080" y="3727440"/>
            <a:ext cx="2950920" cy="289080"/>
          </a:xfrm>
          <a:custGeom>
            <a:avLst/>
            <a:gdLst>
              <a:gd name="textAreaLeft" fmla="*/ 648720 w 2950920"/>
              <a:gd name="textAreaRight" fmla="*/ 2302200 w 295092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08720" y="37116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uffer de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76360" y="2349360"/>
            <a:ext cx="576360" cy="346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08360" y="2349360"/>
            <a:ext cx="574560" cy="362160"/>
          </a:xfrm>
          <a:custGeom>
            <a:avLst/>
            <a:gdLst>
              <a:gd name="textAreaLeft" fmla="*/ 126360 w 574560"/>
              <a:gd name="textAreaRight" fmla="*/ 448200 w 574560"/>
              <a:gd name="textAreaTop" fmla="*/ 79560 h 362160"/>
              <a:gd name="textAreaBottom" fmla="*/ 2826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63800" y="23558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27280" y="2349360"/>
            <a:ext cx="576360" cy="337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6" idx="3"/>
            <a:endCxn id="229" idx="1"/>
          </p:cNvCxnSpPr>
          <p:nvPr/>
        </p:nvCxnSpPr>
        <p:spPr>
          <a:xfrm>
            <a:off x="2052720" y="252216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3"/>
            <a:endCxn id="227" idx="2"/>
          </p:cNvCxnSpPr>
          <p:nvPr/>
        </p:nvCxnSpPr>
        <p:spPr>
          <a:xfrm>
            <a:off x="3203280" y="2522520"/>
            <a:ext cx="5770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1476360" y="2995560"/>
            <a:ext cx="57636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08360" y="2995560"/>
            <a:ext cx="574560" cy="362160"/>
          </a:xfrm>
          <a:custGeom>
            <a:avLst/>
            <a:gdLst>
              <a:gd name="textAreaLeft" fmla="*/ 126360 w 574560"/>
              <a:gd name="textAreaRight" fmla="*/ 448200 w 574560"/>
              <a:gd name="textAreaTop" fmla="*/ 79560 h 362160"/>
              <a:gd name="textAreaBottom" fmla="*/ 2826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995560"/>
            <a:ext cx="57636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1"/>
          </p:cNvCxnSpPr>
          <p:nvPr/>
        </p:nvCxnSpPr>
        <p:spPr>
          <a:xfrm>
            <a:off x="2052720" y="316836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4" idx="3"/>
            <a:endCxn id="233" idx="2"/>
          </p:cNvCxnSpPr>
          <p:nvPr/>
        </p:nvCxnSpPr>
        <p:spPr>
          <a:xfrm>
            <a:off x="3203280" y="3168720"/>
            <a:ext cx="5770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859280" y="3716280"/>
            <a:ext cx="576360" cy="376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20" idx="3"/>
            <a:endCxn id="221" idx="1"/>
          </p:cNvCxnSpPr>
          <p:nvPr/>
        </p:nvCxnSpPr>
        <p:spPr>
          <a:xfrm>
            <a:off x="1186920" y="390024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1" idx="3"/>
            <a:endCxn id="222" idx="1"/>
          </p:cNvCxnSpPr>
          <p:nvPr/>
        </p:nvCxnSpPr>
        <p:spPr>
          <a:xfrm>
            <a:off x="2122200" y="390024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22" idx="3"/>
            <a:endCxn id="223" idx="1"/>
          </p:cNvCxnSpPr>
          <p:nvPr/>
        </p:nvCxnSpPr>
        <p:spPr>
          <a:xfrm>
            <a:off x="3706920" y="3900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23" idx="3"/>
            <a:endCxn id="237" idx="1"/>
          </p:cNvCxnSpPr>
          <p:nvPr/>
        </p:nvCxnSpPr>
        <p:spPr>
          <a:xfrm>
            <a:off x="4572000" y="3900240"/>
            <a:ext cx="2880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5580000" y="39085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3" idx="0"/>
            <a:endCxn id="237" idx="0"/>
          </p:cNvCxnSpPr>
          <p:nvPr/>
        </p:nvCxnSpPr>
        <p:spPr>
          <a:xfrm>
            <a:off x="4211640" y="3176280"/>
            <a:ext cx="93744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7" idx="0"/>
            <a:endCxn id="237" idx="0"/>
          </p:cNvCxnSpPr>
          <p:nvPr/>
        </p:nvCxnSpPr>
        <p:spPr>
          <a:xfrm>
            <a:off x="4211640" y="2530440"/>
            <a:ext cx="93744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1476360" y="4653000"/>
            <a:ext cx="576360" cy="345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4653000"/>
            <a:ext cx="574560" cy="361800"/>
          </a:xfrm>
          <a:custGeom>
            <a:avLst/>
            <a:gdLst>
              <a:gd name="textAreaLeft" fmla="*/ 126360 w 574560"/>
              <a:gd name="textAreaRight" fmla="*/ 448200 w 574560"/>
              <a:gd name="textAreaTop" fmla="*/ 79560 h 361800"/>
              <a:gd name="textAreaBottom" fmla="*/ 28224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27280" y="4653000"/>
            <a:ext cx="576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3"/>
            <a:endCxn id="247" idx="1"/>
          </p:cNvCxnSpPr>
          <p:nvPr/>
        </p:nvCxnSpPr>
        <p:spPr>
          <a:xfrm>
            <a:off x="2052720" y="482580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3"/>
            <a:endCxn id="246" idx="2"/>
          </p:cNvCxnSpPr>
          <p:nvPr/>
        </p:nvCxnSpPr>
        <p:spPr>
          <a:xfrm>
            <a:off x="3203280" y="4826160"/>
            <a:ext cx="5770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1476360" y="5299200"/>
            <a:ext cx="57636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5299200"/>
            <a:ext cx="574560" cy="361800"/>
          </a:xfrm>
          <a:custGeom>
            <a:avLst/>
            <a:gdLst>
              <a:gd name="textAreaLeft" fmla="*/ 126360 w 574560"/>
              <a:gd name="textAreaRight" fmla="*/ 448200 w 574560"/>
              <a:gd name="textAreaTop" fmla="*/ 79560 h 361800"/>
              <a:gd name="textAreaBottom" fmla="*/ 28224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7280" y="5299200"/>
            <a:ext cx="57636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50" idx="3"/>
            <a:endCxn id="252" idx="1"/>
          </p:cNvCxnSpPr>
          <p:nvPr/>
        </p:nvCxnSpPr>
        <p:spPr>
          <a:xfrm>
            <a:off x="2052720" y="547164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52" idx="3"/>
            <a:endCxn id="251" idx="2"/>
          </p:cNvCxnSpPr>
          <p:nvPr/>
        </p:nvCxnSpPr>
        <p:spPr>
          <a:xfrm>
            <a:off x="3203280" y="5472000"/>
            <a:ext cx="5770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6" idx="0"/>
            <a:endCxn id="237" idx="2"/>
          </p:cNvCxnSpPr>
          <p:nvPr/>
        </p:nvCxnSpPr>
        <p:spPr>
          <a:xfrm flipV="1">
            <a:off x="4211640" y="4092120"/>
            <a:ext cx="937440" cy="74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1" idx="0"/>
            <a:endCxn id="237" idx="2"/>
          </p:cNvCxnSpPr>
          <p:nvPr/>
        </p:nvCxnSpPr>
        <p:spPr>
          <a:xfrm flipV="1">
            <a:off x="4211640" y="4092120"/>
            <a:ext cx="937440" cy="138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893080" y="2997360"/>
            <a:ext cx="0" cy="158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63800" y="301140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55880" y="46609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63800" y="532440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8000" y="4676760"/>
            <a:ext cx="115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ta de Conclu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659640" y="2349360"/>
            <a:ext cx="17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tividades executadas pelo mesmo re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62" idx="1"/>
            <a:endCxn id="229" idx="3"/>
          </p:cNvCxnSpPr>
          <p:nvPr/>
        </p:nvCxnSpPr>
        <p:spPr>
          <a:xfrm flipH="1" flipV="1">
            <a:off x="3203280" y="2522160"/>
            <a:ext cx="3456720" cy="2404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62" idx="1"/>
            <a:endCxn id="234" idx="3"/>
          </p:cNvCxnSpPr>
          <p:nvPr/>
        </p:nvCxnSpPr>
        <p:spPr>
          <a:xfrm flipH="1">
            <a:off x="3203280" y="2761920"/>
            <a:ext cx="3456720" cy="40716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2" idx="1"/>
            <a:endCxn id="221" idx="3"/>
          </p:cNvCxnSpPr>
          <p:nvPr/>
        </p:nvCxnSpPr>
        <p:spPr>
          <a:xfrm flipH="1">
            <a:off x="2121840" y="2762280"/>
            <a:ext cx="4537800" cy="113904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2" idx="1"/>
            <a:endCxn id="247" idx="0"/>
          </p:cNvCxnSpPr>
          <p:nvPr/>
        </p:nvCxnSpPr>
        <p:spPr>
          <a:xfrm flipH="1">
            <a:off x="2916000" y="2762280"/>
            <a:ext cx="3744000" cy="189144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2" idx="1"/>
            <a:endCxn id="252" idx="0"/>
          </p:cNvCxnSpPr>
          <p:nvPr/>
        </p:nvCxnSpPr>
        <p:spPr>
          <a:xfrm flipH="1">
            <a:off x="2916000" y="2761920"/>
            <a:ext cx="3744000" cy="253764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395280" y="4292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-36360" y="425916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minho Crí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03640" y="4581360"/>
            <a:ext cx="2881440" cy="131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á muitas atividades para o recurso X, causando atraso nos caminhos não-críticos e a mudança do caminho crítico constantemen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AE4-69D2-42B2-BDEA-99E19BD710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16EF1-306E-411A-888F-89E91207BF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B33-BAE6-4845-A5A2-7AB297B9E6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A45DE-FD33-4297-B4B2-B49BC4A9AE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u seja, pode também existir dependência entre duas tarefas por conta dos recursos necessários para executá-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recurso não consegue fazer as duas atividades paralel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ogo, a definição tradicional de caminho crítico não se aplica, pois despreza estas dependê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pendências entre etapas podem ser um resultado de um caminho ou de um recurso em com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7DC-E922-40A7-B2A0-23F7F11150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84BBB-BE68-41F9-AF9C-E3460BC132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68360" y="2133720"/>
            <a:ext cx="8424720" cy="28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2060640"/>
            <a:ext cx="8424720" cy="2846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rrente Crít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aior cadeia de atividades dependentes entre si por pertencerem ao mesmo caminho ou dependentes por serem feitas pelo mesmo re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BC9-1AA8-4886-85F8-605BA78A44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BD5BC-73EC-459B-8A62-64EF6C65BA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em Ambientes Multiproje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proposta em ambientes multiprojetos é para trabalhar com os recursos comuns e de maior demanda de maneira </a:t>
            </a:r>
            <a:r>
              <a:rPr b="0" lang="pt-BR" sz="2600" spc="-1" strike="noStrike">
                <a:solidFill>
                  <a:srgbClr val="ff3300"/>
                </a:solidFill>
                <a:latin typeface="Arial"/>
              </a:rPr>
              <a:t>sincroniz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recursos sincronizados são então escalonados entre os diversos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primeiro passo para isso é montar a corrente crítica de todos os projetos de forma simultân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0E6-2C46-4839-B57D-F7EABF281C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B6C39-EE86-4C35-973A-16284F4D07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em Ambientes Multiprojetos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92000" y="1709640"/>
            <a:ext cx="7380360" cy="445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AB5-40C7-4CF0-A934-4F32495A7F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F55C5-8D6F-41A1-BFE7-363C968BA1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em Ambientes Multiprojetos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35840" cy="34081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26920" y="57340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strição identificada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0BF-8D83-417E-BED0-802BFC3287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755BD-96DC-434A-B3AA-57AD6DE6F3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em Ambientes Multiprojetos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763640" y="2557440"/>
            <a:ext cx="5614920" cy="23115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11280" y="1700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liminamos a contenção de recursos entre projetos de acordo com a priorização estabelec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e escalonamento pode não ser suficiente para proteger um projeto das variâncias de um outro proj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235-B07A-4E1D-9A93-3AF2E24AF1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ECCB4-AACB-45BE-9F9D-8B89D22F84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em Ambientes Multiprojetos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84464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riamos então um </a:t>
            </a:r>
            <a:r>
              <a:rPr b="0" lang="pt-BR" sz="2600" spc="-1" strike="noStrike">
                <a:solidFill>
                  <a:srgbClr val="ff3300"/>
                </a:solidFill>
                <a:latin typeface="Arial"/>
              </a:rPr>
              <a:t>buffer de re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porcional ao tamanho da soma das atividades do recurso restri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7148520" cy="27478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292720" y="3213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uffer de re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284360" y="3357720"/>
            <a:ext cx="143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219640" y="350028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59640" y="3500280"/>
            <a:ext cx="79200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403-729C-4711-B495-76DC9DEDEE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1DA04-863B-4E44-B3DC-16B384489D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em Ambientes Multiprojetos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184464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jetos escalonados pela sincronização do buffer de recur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93080" cy="34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F72-1EA4-402A-8003-791C9D80961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9B212-6613-41CE-8104-F39815B3F5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E5F-B653-42FA-96AC-8227B31C32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18FA5-5B78-4816-8318-14360C3812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Considerações Finais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gerenciamento de múltiplos projetos ainda é um desafio frente aos métodos e técnicas de gerenciamento de projetos tradicio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teratura é escassa e os conceitos são confu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há um ferramental que auxilie o GP plenamente para gerenciar múltiplos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 é tipicamente um ambiente multi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implica que precisamos pesquisar e amadurecer a forma como gerenciamos múltiplos projetos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C41-630D-4103-87E6-A2743BF1B1A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B980F-91CD-4335-B8E6-4912DED09A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Introd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organizações que trabalham com projetos buscam cada vez mais otimizarem a sua cadeia de produção sem aumentar seus custos de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tratar uma equipe por projeto nem sempre é uma boa solu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locação dos recursos existentes em detrimento da aquisição ou contratação de novos recursos para cada projeto é ess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retanto, a alocação destes recursos entre os diversos projetos existentes e com execução simultânea em uma organização é algo não triv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08B-85B2-4282-BF62-99FF2A0400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3CCA1-0180-4CC6-BCA7-9E478FF4C6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Dúvida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633760" cy="43210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608360" y="2637000"/>
            <a:ext cx="39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Bruno Fre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bccf@cin.ufpe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392-0BC3-42DD-AAE9-7E0D8E26A4A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21015-3BA4-4E0F-AAD4-155F3C63A0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404-01A1-40D3-A3CD-2CB8C396886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20188-9501-43A2-BB50-98DB8ECFA7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Referências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ernandes, A. &amp; Teixeira, D. (2004) “Fábrica de Software – Implantação e Gestão de Operações”. Ed. Atlas. ISBN: 852243690-8. 304 páginas. São Paulo – SP. Bras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rcaui, A &amp; Quelhas, O. (2004) “Corrente Crítica: Uma alternativa à gerência de projetos tradicional”. In: Revista Pesquisa e Desenvolvimento Engenharia de Produção, n. 2, p. 1-21, jul 2004, Bras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anilovic, M. and Börjesson, H. (2001) “Managing the MultiProject Environment”, In: The Third Dependence Structure Matrix (DSM) International Workshop, Proceedings, Massachusetts Institute of Technology (MIT), Massachusetts, Boston, Cambridge, U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BB2-7FDD-4445-BBF8-C85D8B5A51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41534-61FE-45B0-A251-F5F26E2A8A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Referências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anilovic, M. e Sandkull, B. (2005) “The use of dependence structure matrix and domain mapping matrix in managing uncertainty in multiple project situations”, in: International Journal of Project Management, No. 23, págs. 193 – 20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ye, L. and Pennypacker, J. (2000) “Project Portfolio Management and Managing Multiple Projects: Two Sides of the Same Coin?”, In: Proceedings of the Project Management Institute Annual Seminars &amp; Symposium, Houston,Texas,U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lonen, S e Artto, K. (2003) “Problems in managing internal development projects in multi-project environments”, in: International Journal of Project Management, No. 21, págs. 395 – 40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2C8-8000-43DD-849D-ADD50A693BA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E568A-9353-49CA-8648-9AC5B64F76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Referências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autiainen, K. et al (2000) “Improving Multi-Project Management in Two Product Development Organizations”, In: Proceedings of the Hawaii International Conference on System Sciences, Maui, Hawaii, E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oldratt, E. (1998) “Corrente Crítica”. 1ª edição. Ed. Nobel.     São Paulo – Bras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A31-60DC-4C12-996A-07E668D7816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92688-CE26-44DA-A2F0-E9EC08394C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06633"/>
                </a:solidFill>
                <a:latin typeface="Garamond"/>
              </a:rPr>
              <a:t>Gerenciamento de Múltiplos Projetos de Softwar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uno Freitas, P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bccf@cin.ufpe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o de Infor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versidade Federal de Pernambu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Introdução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grande maioria das organizações, principalmente as fábricas de software, não tem condições de manter uma equipe dedicada a cada um dos seus projetos, os seus funcionários vão sendo deslocados entre os projetos de acordo com a necessidade de cada um d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ambiente dinâmico no qual a alocação de recursos é peça-chave é conhecido como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mbiente multipro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[Danilovic 2001][Rautiainen 20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uco mais do qu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90% de todos os pro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conduzidos neste tipo de ambiente [Danilovic 200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8C0-88FD-447B-B165-7E2D3FE364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3545F-2ACE-41DE-9CF9-47A11B9E46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Introdução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ambiente multiprojetos, segundo [Barcaui 2004]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ência e a capacidade dos recursos podem ser interpretadas como principal fator restr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s critérios acabam por levar estes recursos a serem mais utilizados do que outros, degradando a performance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F08-0A4B-4D45-B2A3-115D9398B8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4476F-F3A6-414C-8976-1AB99C86B4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Introdução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problemas do ambiente multiprojetos [Elonen 2003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7053120" cy="3824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1280" y="4581360"/>
            <a:ext cx="115236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013360"/>
            <a:ext cx="93492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711-9FC8-41BD-A147-BB37A9AA81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8F8B9-D20F-49AE-9DB9-95A623A564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Introdução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comum que os projetos sejam lançados com falta de recursos e de uma programação bem defin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to acarreta a re-priorização entre os projetos, sub-projetos e tarefas, ou seja, no momento em que o prazo de algum dos projetos esteja vencendo, ele passa a ser o foco das aten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locação de recursos então deve ser feita no momento em que os projetos precisam e não através de um planejamento prév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resultado pode ser a ausência do recurso no momento em que o mesmo é necessário, recorrendo a soluções paliativas drásticas que comprometem o orçamento, a qualidade e o cronograma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D40-7389-4684-8AC3-4BDCDCEA13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C5EA5-E6CD-4CE0-A588-C9A73F9E97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Introdução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derando então a natureza mutável dos recursos entre os projetos, [Danilovic 2005] destaca que o problema da comunicação toma proporções ainda ma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gera conflitos, sentimento de insegurança, estresse e desconforto entre a equipe de desenvolvimento, pois a mobilidade das pessoas entre os projetos por muitas vezes não permite que elas tenham um conhecimento mais aprofundado do que estão desenvolv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D6D-DED7-408B-A5B7-0D48FF33A6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6278D-BBCD-4B22-B622-B5AFE2BB29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3:38:16Z</dcterms:created>
  <dc:creator>Bruno Freitas</dc:creator>
  <dc:description/>
  <dc:language>en-US</dc:language>
  <cp:lastModifiedBy>Bruno Freitas</cp:lastModifiedBy>
  <dcterms:modified xsi:type="dcterms:W3CDTF">2006-01-22T23:23:34Z</dcterms:modified>
  <cp:revision>31</cp:revision>
  <dc:subject/>
  <dc:title>Gerenciamento de Múltiplos Projetos de Software</dc:title>
</cp:coreProperties>
</file>