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0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DBD-A338-493C-9425-16227AD32A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3B7A-AEC2-4A0A-86AD-5A47E84330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D53-9E14-4D16-8BC0-02C1B6AA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AAA-76CE-4AC5-BCED-193A8C11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9A8-2F8A-4AD8-A634-5C602AEE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057-63F0-44FC-801F-6151E451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825-3EEA-42D5-AF86-50F70875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B1B-9D03-4B60-9ED4-13FBD9A6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8D0-E6BC-4D80-857E-09095E7F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F70-5484-4D63-B9A7-D7321F69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5DA-5F36-451F-8822-F63768A3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0DC-7827-40EB-82FE-9F94B2E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804-11FB-40A8-835D-12C8D7BF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608-84C7-4C98-891B-D726509B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6214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1561-21AC-427C-82D0-3579CC66E64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amedev.net/columns/books/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gushenr@gmail.com" TargetMode="External"/><Relationship Id="rId3" Type="http://schemas.openxmlformats.org/officeDocument/2006/relationships/hyperlink" Target="mailto:ghpc@cin.ufpe.br" TargetMode="External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Unreal Engin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5DA-53AC-4C36-9A13-62C746872B5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1211400"/>
            <a:ext cx="76327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oles 7</a:t>
            </a:r>
            <a:r>
              <a:rPr b="1" lang="en-US" sz="4000" spc="-1" strike="noStrike" u="sng" baseline="40000">
                <a:solidFill>
                  <a:srgbClr val="800000"/>
                </a:solidFill>
                <a:uFillTx/>
                <a:latin typeface="Arial"/>
              </a:rPr>
              <a:t>a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Ge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 p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ços mais a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ra para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, Sony e Nint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taformas v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içã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s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ve do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vers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spcBef>
                <a:spcPts val="451"/>
              </a:spcBef>
              <a:buClr>
                <a:srgbClr val="54a2e2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953-9A13-4574-97B2-DCF61608B37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2971800" cy="1639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651640" y="2819520"/>
            <a:ext cx="2981160" cy="1717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rcRect l="0" t="1436" r="0" b="0"/>
          <a:stretch/>
        </p:blipFill>
        <p:spPr>
          <a:xfrm>
            <a:off x="5651640" y="4508640"/>
            <a:ext cx="2979720" cy="1501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219320" y="4654440"/>
            <a:ext cx="2857320" cy="12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93080" y="11253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7480" y="45226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8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533440" y="11253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3440" y="27939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33440" y="4449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6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F92-7EE1-40A2-B6D0-D5404CC98F5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Perspec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atual do mercado de jogos par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ud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dificul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a serem anali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online, M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ribuição em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uta contra pira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para cons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indows 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oio 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93C5-AE62-4DBA-9548-ACA3C0C2310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923000" y="2982960"/>
            <a:ext cx="1304640" cy="733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3997" t="10575" r="3997" b="18951"/>
          <a:stretch/>
        </p:blipFill>
        <p:spPr>
          <a:xfrm>
            <a:off x="6372360" y="2852640"/>
            <a:ext cx="2209680" cy="960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932360" y="378936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419640" y="4581360"/>
            <a:ext cx="1201680" cy="1419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636000" y="417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9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F27-6131-4009-AC20-5DF6C22C116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conteú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s mais a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c-Ma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ari 26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program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os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US$ 100 m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lo 2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bo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90 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US$ 40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BD7C-FB85-4CA0-A028-4B27596BA8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268880" y="4508640"/>
            <a:ext cx="2286000" cy="144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699240" y="4508640"/>
            <a:ext cx="1905120" cy="142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716360" y="1197000"/>
          <a:ext cx="3924360" cy="26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197000"/>
                    <a:ext cx="392436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628000" y="4176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isodic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mento de valor cr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me Outsourcing Summit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ividade mais terceir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te (4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669-F8DD-4183-91DD-E69A492AE8A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429000" cy="15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1605" t="7090" r="55378" b="0"/>
          <a:stretch/>
        </p:blipFill>
        <p:spPr>
          <a:xfrm>
            <a:off x="5219640" y="3305160"/>
            <a:ext cx="3276720" cy="987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16360" y="4651200"/>
            <a:ext cx="3810240" cy="115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885800" y="12682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90040" y="38988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808-C9C6-4CF2-A9C9-02575CC0F2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Mercado de Con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as perspe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a geraçã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Mercado de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ribuição </a:t>
            </a: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gos cas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i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Mercado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D36-4948-4691-93CA-7BF25A53A1A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5880" y="1219320"/>
            <a:ext cx="1113120" cy="155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16383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A04-DC86-4673-909D-E334821A0FE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D1B3-0C54-4DEB-84F8-682CB3B18A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71600" y="1273320"/>
            <a:ext cx="2854440" cy="833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716360" y="1270080"/>
            <a:ext cx="2827440" cy="733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403280" y="3429000"/>
            <a:ext cx="1548000" cy="1090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169884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154560" y="4952880"/>
            <a:ext cx="1837080" cy="997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2895480" y="2206800"/>
            <a:ext cx="3200400" cy="725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3851280" y="3429000"/>
            <a:ext cx="1125360" cy="1125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3029040" y="5065560"/>
            <a:ext cx="2536560" cy="873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5796000" y="3716280"/>
            <a:ext cx="252108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CryENGIN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98D-6F6F-40AF-A0D6-FE7EC6D782B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2360" y="1268280"/>
            <a:ext cx="63183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1345-C9DB-455A-84C9-59868153FB5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medev.net/columns/book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8BA-D65F-472C-BA71-C3F283E3CEF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243080" y="2514600"/>
            <a:ext cx="1884240" cy="236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565440" y="2514600"/>
            <a:ext cx="1881360" cy="2362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815080" y="2514600"/>
            <a:ext cx="188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] Entertainment definition from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] MINSKY, M.. Game Developers Conference, Março de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] Game definition from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4] MALONE, T.. Toward a theory of intrinsically motivation instruction. 19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5] FALSTEIN, N.. Natural Funativity. Gamasutra article. Novembro de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6] IGDA Online Games White Paper. 2nd Edition. Março de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7] U.S. Census Bureau, Population Divi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8] BAKIE, R. T.. A Brief History of Video Games – Introduction to Game Development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9] The History of Video Game. Gamespot Artic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0] FLOPS definition from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1] Playstation 3 vs. Xbox 360: Tech Head-to-head. Gamespot Article. Maio de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2] Tecnologias de Visualização na Indústria de Jogos Digitais. Potencial econômico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nológico para a indústria brasileira de software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3] A Indústria de Desenvolvimento de Jogos Eletrônicos no Brasil. Estudo da Associ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sileira de Desenvolvedoras de Jogos Eletrônicos (ABRAGAMES)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4] NORMAND, R.. ColunaGame-Tal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5] Site oficial da Jynx Playw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6] Site oficial da Prelou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7] Secrets of the Game Business.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18]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SEN, J.. 2003 Game Development Salary Survey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amasutra Article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19] SLOPER, T.. Game Production and Project Management. Introduction to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.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20] Definição de Game Engine do Wikip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05F-2EE1-4E7E-BF37-783E12DDC5C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21] PriceWaterHouseCoopers –  Global Entertainment and Media Outlook: 2006 –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[22] ISTOÉ Dinheiro. Número 373. Não é brinquedo, não.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3] History of video game consoles (seventh generation)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4] Xbox 360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5] Playstation 3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6] Wii, Xbox 360 ou Playstation 3: qual dos novos consoles escolher?. IDG Now! 2006.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7] Analyst: Win, Place or Show: Does it Really Matter? Gamasutr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8] Analyze This: Handicapping the 2006 Holiday Gift-Buying Season. Gamasutr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29] Analyze This: The Current State of the PC Bame Business. Gamasutr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0] Wii. Wikipedia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1] REIMER, J.. Cross-platform Game Development and the Next Generation of Conso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onível em: http://arstechnica.com/articles/paedia/hardware/crossplatform.ars.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2] KRAFT. J., KWAK. C.. Episodic Gaming in the Age of Digital Distribution.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33] VENTURES, A.. Study Finds Mixed Response to Video Game Outsourcing. Gamasut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73F1-D553-48A5-8DC8-1818BB2189C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py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Conteúdo desta apresentação (Mercado de Jogos Digitais – Uma Visão Geral), de propriedade pessoal de Gustavo Carvalho, está sujeito a copyright. Os direitos de tradução, reprodução, reuso de figuras, citações, reprodução de qualquer forma, armazenamento em sistemas de informação (inclusive na Web), estão sujeitas à autorização prévia do au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©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6DB-2334-4660-9699-5F9EB60841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0" y="116064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ercado de Jogos Digit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2205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ma Visã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3352680"/>
            <a:ext cx="914400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ustavo Carv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shenr@gmail.com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hpc@cin.ufpe.br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vemb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7CD-2459-40BC-B563-36610E4AE0E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997440" y="2886120"/>
            <a:ext cx="11127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266-EEEB-42E7-A884-948E3A111E7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power_poin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CryENGIN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9FD3-9621-4771-8EBE-BCC64F6090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00120" y="1197000"/>
            <a:ext cx="6384960" cy="47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40000" y="4508640"/>
            <a:ext cx="1008000" cy="57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2133720"/>
            <a:ext cx="1008360" cy="57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CryENGIN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01D8-78D0-47D2-89B9-D8A6FFAEE7F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00120" y="1197000"/>
            <a:ext cx="63849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Jogos: Por Quê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Tipos de 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Breve História dos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ercad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Desenvolvimento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erspectivas do Mercado d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spectivas do Mercado de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afios da Indústria de 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tes Recomen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ibliografia Recomend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0EFC-0EF4-4C13-AB54-EA77BF6665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oles 7</a:t>
            </a:r>
            <a:r>
              <a:rPr b="1" lang="en-US" sz="4000" spc="-1" strike="noStrike" u="sng" baseline="40000">
                <a:solidFill>
                  <a:srgbClr val="800000"/>
                </a:solidFill>
                <a:uFillTx/>
                <a:latin typeface="Arial"/>
              </a:rPr>
              <a:t>a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 Ger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étima geração de cons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57C1-EA74-411E-B30B-D8FB69D80D8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2360" y="1808280"/>
            <a:ext cx="2135160" cy="3484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02120" y="1809720"/>
            <a:ext cx="2622240" cy="349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240600" y="1809720"/>
            <a:ext cx="2724120" cy="34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84120" y="551340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73480" y="544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$ 2.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200400" y="551340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89760" y="544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$ 2.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367320" y="5513400"/>
            <a:ext cx="209520" cy="14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557040" y="54450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$ 1.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4640" y="153972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2 de Novembro d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0440" y="153972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7 de Novembr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28240" y="1539720"/>
            <a:ext cx="19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 de Novembro d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2680" y="534024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,9 milhõ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dades ven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86360" y="534024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,7 milhõ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dades ven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81720" y="5340240"/>
            <a:ext cx="155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9 milhõe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dades vend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72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Xbox 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ção com IBM, ATI, Samsung e 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usto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$ 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enon-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Powe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entral de entreten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gos, Multimidia,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box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X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AC1-B405-437D-A2E3-B29B7D3DAAE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16009" b="0"/>
          <a:stretch/>
        </p:blipFill>
        <p:spPr>
          <a:xfrm>
            <a:off x="7315200" y="1066680"/>
            <a:ext cx="1616040" cy="256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093080" y="5300640"/>
            <a:ext cx="150804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427640" y="3429000"/>
            <a:ext cx="2971800" cy="150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456080" y="1736640"/>
            <a:ext cx="2867040" cy="1609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0108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Playsta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peração com IBM e Toshi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usto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$ 840,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S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2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VIDIA G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3 SIX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Blu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8F2-5BB7-4FEA-8C23-01453AB0528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36000" y="1268280"/>
            <a:ext cx="160308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54003" t="0" r="0" b="0"/>
          <a:stretch/>
        </p:blipFill>
        <p:spPr>
          <a:xfrm>
            <a:off x="4140360" y="468324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51280" y="1989000"/>
            <a:ext cx="3095640" cy="1741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156360" y="4149720"/>
            <a:ext cx="2416320" cy="181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1404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2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34880" y="357120"/>
            <a:ext cx="59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800000"/>
                </a:solidFill>
                <a:latin typeface="Arial"/>
              </a:rPr>
              <a:t>W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68360" y="107172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29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i 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i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7"/>
          <p:cNvSpPr/>
          <p:nvPr/>
        </p:nvSpPr>
        <p:spPr>
          <a:xfrm>
            <a:off x="5429160" y="6215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9726-033E-467D-B08B-586A33A4A6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16720" y="1206360"/>
            <a:ext cx="209232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681360" y="3933720"/>
            <a:ext cx="1611360" cy="200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2638440" cy="216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24360" y="4221000"/>
            <a:ext cx="3067200" cy="1657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720" y="4046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3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2:55:46Z</dcterms:created>
  <dc:creator>Usuario</dc:creator>
  <dc:description/>
  <dc:language>en-US</dc:language>
  <cp:lastModifiedBy>LuizJr</cp:lastModifiedBy>
  <dcterms:modified xsi:type="dcterms:W3CDTF">2007-12-02T15:21:45Z</dcterms:modified>
  <cp:revision>444</cp:revision>
  <dc:subject/>
  <dc:title>CIn Institucional (Portuguê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wner">
    <vt:lpwstr/>
  </property>
  <property fmtid="{D5CDD505-2E9C-101B-9397-08002B2CF9AE}" pid="4" name="SPSDescription">
    <vt:lpwstr/>
  </property>
  <property fmtid="{D5CDD505-2E9C-101B-9397-08002B2CF9AE}" pid="5" name="Status">
    <vt:lpwstr/>
  </property>
</Properties>
</file>