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0691813" cy="7556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8EB1-A91B-4914-BAB5-1530849C2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58600" y="631800"/>
            <a:ext cx="89722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58600" y="1959120"/>
            <a:ext cx="89722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58600" y="4314960"/>
            <a:ext cx="89722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3590-EFC7-4F4E-AC92-4E51B0C3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58600" y="631800"/>
            <a:ext cx="89722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58600" y="1959120"/>
            <a:ext cx="43783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6160" y="1959120"/>
            <a:ext cx="43783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58600" y="4314960"/>
            <a:ext cx="43783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56160" y="4314960"/>
            <a:ext cx="43783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1E4A-2334-4811-A531-C22BC7300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58600" y="631800"/>
            <a:ext cx="89722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58600" y="1959120"/>
            <a:ext cx="288900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2320" y="1959120"/>
            <a:ext cx="288900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26400" y="1959120"/>
            <a:ext cx="288900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58600" y="4314960"/>
            <a:ext cx="288900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2320" y="4314960"/>
            <a:ext cx="288900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26400" y="4314960"/>
            <a:ext cx="288900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5FB3-2424-4A98-A339-A39DB430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58600" y="631800"/>
            <a:ext cx="89722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58600" y="1959120"/>
            <a:ext cx="89722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88A7-CB81-4EE2-BAF1-FB309186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58600" y="631800"/>
            <a:ext cx="89722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58600" y="1959120"/>
            <a:ext cx="89722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F8C1-D692-4EA2-B478-548B9A74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58600" y="631800"/>
            <a:ext cx="89722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58600" y="1959120"/>
            <a:ext cx="43783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56160" y="1959120"/>
            <a:ext cx="43783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17D0-B15C-47DB-B2BF-537FDE70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58600" y="631800"/>
            <a:ext cx="89722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646B-EE3D-410F-B9FF-B4A6BADE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58600" y="631800"/>
            <a:ext cx="8972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0697-9811-452C-9FE8-322C0E37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58600" y="631800"/>
            <a:ext cx="89722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58600" y="1959120"/>
            <a:ext cx="43783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56160" y="1959120"/>
            <a:ext cx="43783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58600" y="4314960"/>
            <a:ext cx="43783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55FE-1682-49FF-8C5C-15C05039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58600" y="631800"/>
            <a:ext cx="89722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58600" y="1959120"/>
            <a:ext cx="43783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6160" y="1959120"/>
            <a:ext cx="43783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56160" y="4314960"/>
            <a:ext cx="43783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8D3D-F26C-4CCB-B229-4C0F1CE9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58600" y="631800"/>
            <a:ext cx="89722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58600" y="1959120"/>
            <a:ext cx="43783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6160" y="1959120"/>
            <a:ext cx="43783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58600" y="4314960"/>
            <a:ext cx="89722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532A-D59F-4764-9FAB-48F1E836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58600" y="631800"/>
            <a:ext cx="89722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8600" y="1959120"/>
            <a:ext cx="89722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8600" y="6586200"/>
            <a:ext cx="232092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69920" y="6586200"/>
            <a:ext cx="315900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08520" y="6586200"/>
            <a:ext cx="232092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77029-3656-431A-826C-BA8C19D3C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ida.liu.se/~her/JessTab/tutorial07/JessTabTutorial.ppt" TargetMode="External"/><Relationship Id="rId2" Type="http://schemas.openxmlformats.org/officeDocument/2006/relationships/hyperlink" Target="http://www.ida.liu.se/~her/JessTab/JessTab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809280"/>
            <a:ext cx="8974080" cy="2725560"/>
          </a:xfrm>
          <a:prstGeom prst="rect">
            <a:avLst/>
          </a:prstGeom>
          <a:noFill/>
          <a:ln w="0">
            <a:noFill/>
          </a:ln>
        </p:spPr>
        <p:txBody>
          <a:bodyPr lIns="0" rIns="0" tIns="846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Protégé-OWL e</a:t>
            </a:r>
            <a:br>
              <a:rPr sz="9600"/>
            </a:b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JessTa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58960" y="3959280"/>
            <a:ext cx="8974080" cy="246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riano M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ia Sistemas Intelig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. Fred Frei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8960" y="631440"/>
            <a:ext cx="89740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ção map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640" y="1959120"/>
            <a:ext cx="95392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b80047"/>
                </a:solidFill>
                <a:latin typeface="Arial"/>
              </a:rPr>
              <a:t>(mapclass &lt;class-name&gt; [nonreactive | reactive]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eia uma classe do Protégé para o J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a 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ftempl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 representa a cla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a fatos que corespondem às instâncias do protég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b80047"/>
                </a:solidFill>
                <a:latin typeface="Arial"/>
              </a:rPr>
              <a:t>[nonreactive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&gt; desabilita o mapeamento recursivo dos filhos da classe </a:t>
            </a:r>
            <a:r>
              <a:rPr b="0" lang="en-US" sz="3200" spc="-1" strike="noStrike">
                <a:solidFill>
                  <a:srgbClr val="b80047"/>
                </a:solidFill>
                <a:latin typeface="Arial"/>
              </a:rPr>
              <a:t>&lt;class-nam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58960" y="677520"/>
            <a:ext cx="897408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ção mapclass - 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58960" y="1959120"/>
            <a:ext cx="89740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950e"/>
                </a:solidFill>
                <a:latin typeface="Arial"/>
              </a:rPr>
              <a:t>(antes: abrir projeto pizza.owl.pprj) - [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apclass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http://www.co-ode.org/ontologies/pizza/2005/10/18/pizza.owl#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ainConcept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ac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8960" y="677520"/>
            <a:ext cx="897408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ção make-in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8960" y="1959120"/>
            <a:ext cx="89740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b80047"/>
                </a:solidFill>
                <a:latin typeface="Arial"/>
              </a:rPr>
              <a:t>(make-instance [&lt;instance-name&gt;] of &lt;class-name&gt; &lt;slot-override&gt;* [map]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a uma instância do Projégé a partir do J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b80047"/>
                </a:solidFill>
                <a:latin typeface="Arial"/>
              </a:rPr>
              <a:t>&lt;instance-name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nome da instância (opc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b80047"/>
                </a:solidFill>
                <a:latin typeface="Arial"/>
              </a:rPr>
              <a:t>&lt;class-name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lasse a ser instanci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b80047"/>
                </a:solidFill>
                <a:latin typeface="Arial"/>
              </a:rPr>
              <a:t>&lt;slot-override&gt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pares (slot valor) a serem atribuidos à instâ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58960" y="677520"/>
            <a:ext cx="897408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ção make-instance – exempl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58960" y="1959120"/>
            <a:ext cx="89740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ake-instance sorvete_1 of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http://www.co-ode.org/ontologies/pizza/2005/10/18/pizza.owl#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eCream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8960" y="677520"/>
            <a:ext cx="897408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ção make-instance – exemplo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0360" y="1959120"/>
            <a:ext cx="997272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69000"/>
          </a:bodyPr>
          <a:p>
            <a:pPr marL="297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ind ?m (make-instance massa-grossa of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http://www.co-ode.org/ontologies/pizza/2005/10/18/pizza.owl#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epPanBase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7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ind ?c (make-instance cobertura-mozzarella of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http://www.co-ode.org/ontologies/pizza/2005/10/18/pizza.owl#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zzarellaTopping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7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ake-instance pizza-queijo of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http://www.co-ode.org/ontologies/pizza/2005/10/18/pizza.owl#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eseyPiz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58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http://www.co-ode.org/ontologies/pizza/2005/10/18/pizza.owl#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58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58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http://www.co-ode.org/ontologies/pizza/2005/10/18/pizza.owl#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Topp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58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7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58960" y="677520"/>
            <a:ext cx="897408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ção unmake-in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58960" y="1959120"/>
            <a:ext cx="89740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b80047"/>
                </a:solidFill>
                <a:latin typeface="Arial"/>
              </a:rPr>
              <a:t>(unmake-instance &lt;instance-expression&gt;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a o indivíduo especifi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b80047"/>
                </a:solidFill>
                <a:latin typeface="Arial"/>
              </a:rPr>
              <a:t>&lt;instance-expression&gt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um ou mais ponteiros para instâncias ou nomes de indivíd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58960" y="677520"/>
            <a:ext cx="897408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ção unmake-instance - 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0360" y="1959120"/>
            <a:ext cx="997272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2000"/>
          </a:bodyPr>
          <a:p>
            <a:pPr marL="3538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frule nao-tem-ma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s-a http://www.co-ode.org/ontologies/pizza/2005/10/18/pizza.owl#Pizz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ttp://www.co-ode.org/ontologies/pizza/2005/10/18/pizza.owl#hasBase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BJECT ?o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intout t "a pizza " ?o " nao tem massa, será apagada" cr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make-instance ?o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58960" y="631440"/>
            <a:ext cx="89740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ção def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0360" y="1959120"/>
            <a:ext cx="997272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b80047"/>
                </a:solidFill>
                <a:latin typeface="Arial"/>
              </a:rPr>
              <a:t>(defclass &lt;name&gt; [&lt;comment&gt;] (is-a &lt;superclass&gt;+) [role] &lt;slot&gt;*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uma nova classe do Protég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b80047"/>
                </a:solidFill>
                <a:latin typeface="Arial"/>
              </a:rPr>
              <a:t>&lt;name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especifica o nome da nova cla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b80047"/>
                </a:solidFill>
                <a:latin typeface="Arial"/>
              </a:rPr>
              <a:t>&lt;superclass&gt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classes que a nova classe vai her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8960" y="677520"/>
            <a:ext cx="897408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ção defclass - 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0360" y="1959120"/>
            <a:ext cx="997272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5000"/>
          </a:bodyPr>
          <a:p>
            <a:pPr marL="3668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fclass Pesso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4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s-a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 http://www.co-ode.org/ontologies/pizza/2005/10/18/pizza.owl#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ainConcep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4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lot nome (type string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4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lot idade (type integer)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68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fclass PizzaQueijo (is-a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http://www.co-ode.org/ontologies/pizza/2005/10/18/pizza.owl#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zza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58960" y="677520"/>
            <a:ext cx="897408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– Pizza vs Ti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60360" y="1958760"/>
            <a:ext cx="9972720" cy="523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2000"/>
          </a:bodyPr>
          <a:p>
            <a:pPr marL="3538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frule tipo-de-ma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s-a </a:t>
            </a:r>
            <a:r>
              <a:rPr b="0" lang="en-US" sz="2800" spc="-1" strike="noStrike">
                <a:solidFill>
                  <a:srgbClr val="b3b3b3"/>
                </a:solidFill>
                <a:latin typeface="Arial"/>
              </a:rPr>
              <a:t>http://www.co-ode.org/ontologies/pizza/2005/10/18/pizza.owl#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zz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b3b3b3"/>
                </a:solidFill>
                <a:latin typeface="Arial"/>
              </a:rPr>
              <a:t>http://www.co-ode.org/ontologies/pizza/2005/10/18/pizza.owl#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Base ?b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BJECT ?o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66600"/>
                </a:solidFill>
                <a:latin typeface="Arial"/>
              </a:rPr>
              <a:t>(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66600"/>
                </a:solidFill>
                <a:latin typeface="Arial"/>
              </a:rPr>
              <a:t>(OBJECT ?b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66600"/>
                </a:solidFill>
                <a:latin typeface="Arial"/>
              </a:rPr>
              <a:t>(is-a ?tipomassa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intout t "a pizza " ?o " tem massa " ?base " e a massa é do tipo " ?tipomassa crlf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8960" y="631440"/>
            <a:ext cx="89740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00000" y="1979640"/>
            <a:ext cx="89740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l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ss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r Ontologia OW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ipular Elementos da Ontolo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58960" y="677520"/>
            <a:ext cx="897408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– Pizza do Usuá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58960" y="1959120"/>
            <a:ext cx="89740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1000"/>
          </a:bodyPr>
          <a:p>
            <a:pPr marL="392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frule inserir-piz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in &lt;- (inserir-massa-gros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2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intout t "digite um nome de pizza depois um de massa.."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ssert (inserir pizza (read) massa (read)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etract ?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2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2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ssert (inserir-massa-grossa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58960" y="677520"/>
            <a:ext cx="897408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– Pizza do Usuário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8920" y="1958760"/>
            <a:ext cx="10439640" cy="523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79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frule criar-piz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in &lt;- (inserir pizza ?pizza massa ?mas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9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ake-instance ?massa of </a:t>
            </a:r>
            <a:r>
              <a:rPr b="0" lang="en-US" sz="2800" spc="-1" strike="noStrike">
                <a:solidFill>
                  <a:srgbClr val="b3b3b3"/>
                </a:solidFill>
                <a:latin typeface="Arial"/>
              </a:rPr>
              <a:t>http://www.co-ode.org/ontologies/pizza/2005/10/18/pizza.owl#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PanB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ake-instance ?pizza of </a:t>
            </a:r>
            <a:r>
              <a:rPr b="0" lang="en-US" sz="2800" spc="-1" strike="noStrike">
                <a:solidFill>
                  <a:srgbClr val="b3b3b3"/>
                </a:solidFill>
                <a:latin typeface="Arial"/>
              </a:rPr>
              <a:t>http://www.co-ode.org/ontologies/pizza/2005/10/18/pizza.owl#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zza (</a:t>
            </a:r>
            <a:r>
              <a:rPr b="0" lang="en-US" sz="2800" spc="-1" strike="noStrike">
                <a:solidFill>
                  <a:srgbClr val="b3b3b3"/>
                </a:solidFill>
                <a:latin typeface="Arial"/>
              </a:rPr>
              <a:t>http://www.co-ode.org/ontologies/pizza/2005/10/18/pizza.owl#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Base ?massa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etract ?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9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58960" y="631440"/>
            <a:ext cx="89740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58960" y="1959120"/>
            <a:ext cx="89740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ssTab &amp; JessAgentTab Tutorial - [0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ida.liu.se/~her/JessTab/tutorial07/JessTabTutorial.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ssTab Documentation - [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ida.liu.se/~her/JessTab/JessTab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ologia de Pizzas - [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cin.ufpe.br/~astm/si/piz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58960" y="677520"/>
            <a:ext cx="897408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58960" y="1959120"/>
            <a:ext cx="89740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ologias são legais, mas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zinhas elas não podem fazer nad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Henrik Eriksson, Karl-Heinz Krempels) - [0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58960" y="677520"/>
            <a:ext cx="897408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20720" y="1958760"/>
            <a:ext cx="9360000" cy="487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s relacionados ao Protég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iculdade de integrar diretamente a resolução de problemas com a modelagem da ont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guagens/shells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precisam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de acesso direto ao protég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iculdade de administrar ontologias muito grandes/complex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ditores de ontologia poderiam ser programá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égé permite atravéz de sua API que motores de resolução de problemas sejam integrados a 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8960" y="677520"/>
            <a:ext cx="897408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 que Jess e JessTab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58960" y="1959120"/>
            <a:ext cx="89740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agem/shell pop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unidade de usuários 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do em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ss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g-in para rodar o Jess dentro do Protég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 os recursos do Jess e Protég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8960" y="677520"/>
            <a:ext cx="897408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os práticos do JessT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8960" y="1959120"/>
            <a:ext cx="89740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1000"/>
          </a:bodyPr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guag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94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a classes facil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94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 fazer grandes mudanças na ont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Motor de Inferenç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94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uperação de Inform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94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c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94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orte a decis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94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j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8960" y="677520"/>
            <a:ext cx="897408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8960" y="1959120"/>
            <a:ext cx="89740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égé-OWL 3.4 + J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adrianomelo.com/proteje-owl-jess.z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58960" y="631440"/>
            <a:ext cx="89740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Habilitand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JessT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58960" y="1959120"/>
            <a:ext cx="437976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u Project &gt;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gur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7000" y="1666800"/>
            <a:ext cx="4932360" cy="572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8960" y="69480"/>
            <a:ext cx="89740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ções  do jess com Protégé - [1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23640" y="1260360"/>
            <a:ext cx="2484360" cy="612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54000"/>
          </a:bodyPr>
          <a:p>
            <a:pPr marL="2329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 u="sng">
                <a:solidFill>
                  <a:srgbClr val="000080"/>
                </a:solidFill>
                <a:uFillTx/>
                <a:latin typeface="Arial"/>
              </a:rPr>
              <a:t>map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29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29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map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29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 u="sng">
                <a:solidFill>
                  <a:srgbClr val="000080"/>
                </a:solidFill>
                <a:uFillTx/>
                <a:latin typeface="Arial"/>
              </a:rPr>
              <a:t>def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29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 u="sng">
                <a:solidFill>
                  <a:srgbClr val="000080"/>
                </a:solidFill>
                <a:uFillTx/>
                <a:latin typeface="Arial"/>
              </a:rPr>
              <a:t>make-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29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itialize-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29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ify-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29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plicate-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29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29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 u="sng">
                <a:solidFill>
                  <a:srgbClr val="280099"/>
                </a:solidFill>
                <a:uFillTx/>
                <a:latin typeface="Arial"/>
              </a:rPr>
              <a:t>unmake-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29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ot-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29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ot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29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ot-replace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29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ot-insert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29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ot-delete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29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ot-fac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29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ot-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29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ot-cardi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52960" y="1260360"/>
            <a:ext cx="2579760" cy="612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54000"/>
          </a:bodyPr>
          <a:p>
            <a:pPr marL="2329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ot-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29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ot-allowed-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29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ot-allowed-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29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ot-allowed-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29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ot-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29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ot-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29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et-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29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et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29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29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-exis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29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-abstrac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29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-reactiv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29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clas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29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clas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29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-super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29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-sub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29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-defclass-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29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-s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20000" y="1260360"/>
            <a:ext cx="294012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-exis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-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-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-addres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-nam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ot-exis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ot-default-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-kb-s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-kb-s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ad-kb-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ad-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lude-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ve-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sstab-version-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sstab-version-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-knowledge-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-ta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8:55:13Z</dcterms:created>
  <dc:creator/>
  <dc:description/>
  <dc:language>en-US</dc:language>
  <cp:lastModifiedBy/>
  <dcterms:modified xsi:type="dcterms:W3CDTF">2009-05-26T14:11:23Z</dcterms:modified>
  <cp:revision>4</cp:revision>
  <dc:subject/>
  <dc:title/>
</cp:coreProperties>
</file>