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B937-2D5A-47A3-9D25-A018E0D529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O que é Shell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Programa que conecta e interpreta comand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D87C-82CA-4C80-BB47-BAE9DB898F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(?x) = tudo que tem um cam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(?x ?y) = tudo que tem dois camp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(restrito ?x ?y) tudo que o primeiro da lista é “restrito” e tem três campo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795D-B01D-408F-AA2D-DB9CB17F12C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olocar exemplo de reg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E7BA-C441-4F27-B9FA-B473B71C9C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arênteses são os delimitadores de jess, como em LI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Todo fato começa com um identificador f- em seguida de um número, que é o índice do fa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B6C7-25F8-4254-BC03-FDB3B582BC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2674-C3E9-441D-87EA-145E512E6F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2E7-E0BF-4D26-BE73-5BEBDE03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89F-074B-4588-AF1B-DBC3C09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963DD-C903-4D95-A2B8-657379F7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ED47C-3F14-4981-84C6-FD4D8F83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CC012-30C1-4C6C-ACF1-19805475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D66D2-0E4B-43B4-B91D-C78A0AD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DB4D5-1346-47F7-8FF7-16CFDB6C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19BF2-7F6A-437B-9C9B-26078B3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11D7B-546B-47E4-B902-4064C96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54110-CC1C-40DF-BFCE-FA185B67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6F3C0-5B56-484B-B24B-D8C437D7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4F21A-A418-45DA-AF59-38ED8137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2A8-6E8A-4C73-A665-FB7FBE2F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0F61A-1A64-4958-B8E2-60A4674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4F213-8F88-435F-AF71-5F95C121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151B8-CF51-430F-9849-C791196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8F016-05A3-46ED-96F6-1CE04B58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0D9E0-D060-4F9E-98F5-1DD8E5C0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507FF-F598-48C8-A0D8-D3ABF513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8FF6B-76A6-4D81-B486-AC8990A8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F4EE0-3542-4D33-B850-411E7B4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C4FEF-4B64-488D-823C-19B6D72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0413C-73EF-48CA-97AA-51A6E757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557-DFE4-470C-8506-F51E9855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D1EA1-4490-4134-A225-1D6B9CC4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A009-11B4-4F9B-A450-54FD66DF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1BA98-3610-44B4-BF3B-A311B4C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8A81F-1286-4591-A854-1FE2FC39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9D08E-C873-446A-B7FC-5172C241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A4B71-E080-410C-8C41-55FED9B8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1D300-4085-4157-A8E8-9604D167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1A4A4-C54B-4006-90F8-6587C552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E24EA-5473-434F-9C67-641F408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1A0B-9D88-454C-86ED-7D9B778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F390-1BCA-46DD-ADB7-0E571E99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08A96-C121-492C-A497-7B86F44C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33D20-7302-43CD-8DC3-C142844D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6241F-A5AE-4B48-BDFB-D8E6A0B9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08004-8151-403F-842A-3D15DD13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336FC-8FA0-4E8B-AFF8-CD4AC05E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406B3-50A4-4BA9-A268-6B9B63FA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5CCCA-733C-4BBB-9925-C7882260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583F0-2E58-4917-9E96-539CEF4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44FEA-EFCC-4044-AA1C-6FFFDF80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9CA3A-CD31-468C-B990-4AF2AEA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8BD3-9D37-4469-A12E-7B9D4AA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FCE1C-56A2-4B57-BA10-BFE81E0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7C5EF-2888-40E0-88A2-B7B6ED4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98DAC-46E0-495E-B165-425380C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AEAD9-9C41-400A-B338-09EFCA81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7861F-86AE-4F7B-BFD4-71E0B7CC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0FDF-C89D-4340-B360-11A020D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C08-F860-4928-AFED-84EDDB1C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2152-7839-4C99-8551-011495D1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F4B3-978A-4D75-A7DF-0AC6560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A2B1-0A93-471E-8EE7-0A257884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B9B-EAF7-4FF7-9CC1-5026692C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1A6-40AE-447B-A383-972771B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78D-3607-44AD-8994-BC705B73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353-DDA8-4602-B27D-06BE3961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3A06-F684-4076-BB1C-8FB2DD70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2865-A908-49A3-B312-FFDFAABA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E87B-FE3C-4C77-9B5F-98D4C21C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B635-2FE6-4908-A538-99B10C9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2D81-456B-4F7F-BAC7-D6FCD8C8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ECF9-EF32-4761-8D37-BE11914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E2DD-BD24-42AD-AD37-8DA83B9B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6C7-7475-40E0-A33B-DD68D52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5FD5-891F-4EE1-9F18-F77D61B4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8A9D-2D99-4362-96BA-D2E3F03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8D2E-A1BA-4160-9DBB-B3710FCB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EFFE-1301-4892-B38D-D686144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1810-0B5D-4D3E-AAB2-D603F16C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CEF6-5774-453D-8BA4-A866D306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82D5-A14C-4002-AD90-65295B2E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02AE-F338-40E5-8CCB-3C4F810A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3CE1-0C7B-4FED-9E91-F9E5ED20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DBB3-BB6F-4810-B8C4-789DA6B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DF7-F8F8-47A3-A02A-64FD9867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5587-CA22-4AB0-BF27-C91E22C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D05A-855A-499E-83B5-9239334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DA07-0778-4BFB-B153-3AABB1E7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7511-681D-41DD-A1C0-655E84D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4AAC-DCA7-45CB-AC2A-C8F24C56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F1818-E04D-4A26-9498-C63053C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2E4E-CAEA-4499-8582-C3972945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FFC0-A742-4F45-9F8C-C7FE7014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6EAD-8D39-44B3-AD7E-6354EC03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D5B8-61F3-4DE8-AF32-154979A5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F73-3741-4557-9F87-59704328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92EE0-1DA7-40FC-BB1B-A973FBF2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F71E7-DA0C-4DEE-A6B1-53CF3C97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61E5-AF45-4F45-B0C6-13B3A180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517F-8E4C-4ED8-B94F-EC108123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6951F-91FA-4E97-95BC-6415FBBD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F4F5E-6729-490B-B232-7E2BF42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72095-138E-4CA9-95D4-C180CB6B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4C46D-5F92-4C44-B092-3F27D6B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5DCCB-9CDA-4E5D-8EDB-33CCC37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BEC5-AACE-4964-BAD7-201F8BBD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683-461B-48B7-99F2-94104AB6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12B3-977E-4C66-9231-411CA1A0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7DEDB-4EB7-4FE9-A663-4CA11E63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C329-7453-4554-99B0-ED61D0B4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7B287-9604-4E8A-8EAB-592DA6E8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6CA7-E567-4102-8D55-DE92EF7D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36D7C-D0DE-416F-BE00-B615A13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412FD-2C34-4DE2-BE88-4823027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54F4-510B-4EC1-BF02-4D317FD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B76D4-3D29-49CE-AEDD-DDC660D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DA473-E84F-4C48-B407-A217EE2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845-6B3D-4324-8BF5-EC71CDA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5737-DC48-4C1C-B3DE-004F83DA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C9D11-890F-4CBC-A8C8-85752DFB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26370-6C3F-425B-93E1-E5357E4B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E4A7C-047B-4BED-818D-9C2FE3E6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2001-F51D-4F10-8130-66856AFF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26C3-5C03-41EB-AD41-BA237760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AD389-D268-489D-B1A1-1FC3BAAC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8E30-1C04-4CBE-82E5-66D1927D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5E81-BCD1-4317-B285-D915D0F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9729-51F0-4567-BA2A-6AF93CBD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456-620C-45D4-B264-6440E4B5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5EBD8-6B64-4DD0-A89B-2A421E4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43935-C2B9-4747-A9BC-7417ED24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5E3F2-BC9C-432A-A503-291DCE5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5DB57-15DD-4C1E-9358-69F06F0A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C65A-7A16-4D70-863F-B6EE3445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6B6A-CD75-43B9-8D85-E27B6695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8A79-2B37-477A-893B-33EE900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B1EA2-3E87-4F13-9F40-37433688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5209A-C723-4B9F-A17E-E04C1E73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ECD1E-B80B-480D-85E4-FB8D59F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8B0-5EE7-4B1B-AE07-5F4A454D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4ED6F-DCD7-4D95-ADD9-CA53257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BAC6-1B79-4A70-A29B-B0F8794D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DF2D0-16EC-49DB-BAB9-4B51A9EA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8B714-70EA-4D8C-8620-A90A188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42DBD-7522-482B-8EAE-538FF012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0FF4B-CFAD-4A07-A0C6-FBA1CDC7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F98E-94EB-4909-AAE9-BB7DAE7F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5C56F-5638-4E4D-A970-B6298F02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692D4-8B4D-4FC9-890E-EE0B9E11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FC5A2-CAEF-43A8-B663-0B79B1F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tângu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tângu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tângu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tângu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tângu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Conector reto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372C-50C2-47B8-88D1-F2A7783778FF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ector reto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tângu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tângulo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tângulo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tângulo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tângulo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tângulo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tângulo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tângulo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4620-D90E-46EC-9E75-DB81D84C87A3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tângu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tângu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tângu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tângu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tângu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tângu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Conector reto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66A-DCD4-4C09-94D2-106AB1AAF1FF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ângu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tângulo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tângulo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tângu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tângulo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tângulo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Conector reto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e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e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200-544C-435B-8F40-D05B59BD47E2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tângulo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tângulo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tângulo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tângulo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Conector reto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tângulo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e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e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C2B8-383A-4C17-AD34-28129605B8F9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ângu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tângu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tângu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tângu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tângu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tângu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Conector reto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CEA5-0E90-4D63-A0B2-93F60811FD9E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tângu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tângulo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tângulo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tângulo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tângulo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tângulo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tângulo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Conector reto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e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e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FCB5-24D4-4777-AD30-57C4279DB418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tângu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tângu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tângu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tângu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tângu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tângu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Conector reto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Conector reto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31B-1004-4138-951F-E46B5ECFFCEA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ector reto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tângulo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tângulo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tângu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tângulo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tângulo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tângulo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Conector reto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tângulo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e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e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D073-2B8D-422C-97BA-4EF5F7A0D12D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tângulo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tângulo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tângulo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tângulo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tângulo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tângulo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Conector reto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429F-97D4-40AF-A58F-CAC77BB2177D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tângulo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tângulo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tângulo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tângulo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tângulo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tângulo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8E9-9668-4A68-BA29-DFF741D1F01E}" type="slidenum"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tângulo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tângulo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tângulo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tângulo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tângulo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tângulo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tângulo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Conector reto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e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e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tângulo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AF0E-4761-4221-A5F5-3B0C0A796FD0}" type="slidenum">
              <a:rPr b="0" lang="pt-B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n.ufpe.br/~astm/si/jess-trial.zi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3499920" y="5072040"/>
            <a:ext cx="511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46b86"/>
                </a:solidFill>
                <a:latin typeface="Georgia"/>
              </a:rPr>
              <a:t>ADRIANO MEL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46b86"/>
                </a:solidFill>
                <a:latin typeface="Georgia"/>
              </a:rPr>
              <a:t>SISTEMAS INTELIGENTE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646b86"/>
                </a:solidFill>
                <a:latin typeface="Georgia"/>
              </a:rPr>
              <a:t>(ASTM@CIN.UFPE.BR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d16349"/>
                </a:solidFill>
                <a:latin typeface="Georgia"/>
              </a:rPr>
              <a:t>Tutorial de Jess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Fatos Orden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São simplesmente listas, onde o primeiro campo (</a:t>
            </a:r>
            <a:r>
              <a:rPr b="0" i="1" lang="pt-BR" sz="2700" spc="-1" strike="noStrike">
                <a:solidFill>
                  <a:srgbClr val="000000"/>
                </a:solidFill>
                <a:latin typeface="Georgia"/>
              </a:rPr>
              <a:t>head</a:t>
            </a: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) funciona como uma categori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Exemplo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ista-de-compras ovo leite pão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pessoa “Bob Marley" Masculino 34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pai-de joão biu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6d7a"/>
                </a:solidFill>
                <a:latin typeface="Courier New"/>
              </a:rPr>
              <a:t>No Jes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sser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i-de joão biu)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Fatos Desorden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Fatos ordenados são úteis, mas não são estruturado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Em linguagens orientadas à objeto, os objetos têm atributos onde ficam os dados. Fatos desordenados permitem esse recurs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46b86"/>
                </a:solidFill>
                <a:latin typeface="Georgia"/>
              </a:rPr>
              <a:t>Obs: Atributos no jess são chamados de slot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646b86"/>
                </a:solidFill>
                <a:latin typeface="Georgia"/>
              </a:rPr>
              <a:t>Exemplo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432b"/>
                </a:solidFill>
                <a:latin typeface="Courier New"/>
              </a:rPr>
              <a:t>(pessoa (nome "Bob Marley")(idade 34)(genero Masculino)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432b"/>
                </a:solidFill>
                <a:latin typeface="Courier New"/>
              </a:rPr>
              <a:t>(carro (fabricante Ford) (modelo Explorer) (ano 1999)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Fatos Desordenados (deftemplat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Para usar fatos desordenados, precisamos antes definir um deftemplat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a9432b"/>
                </a:solidFill>
                <a:latin typeface="Georgia"/>
              </a:rPr>
              <a:t>(deftemplate &lt;deftemplate-name&gt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695c54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695c54"/>
                </a:solidFill>
                <a:latin typeface="Georgia"/>
              </a:rPr>
              <a:t>[&lt;doc-comment&gt;]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998700"/>
                </a:solidFill>
                <a:latin typeface="Georgia"/>
              </a:rPr>
              <a:t>[extends &lt;classname&gt;]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415b5c"/>
                </a:solidFill>
                <a:latin typeface="Georgia"/>
              </a:rPr>
              <a:t>[(declar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415b5c"/>
                </a:solidFill>
                <a:latin typeface="Georgia"/>
              </a:rPr>
              <a:t>(from-class    java-class-name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415b5c"/>
                </a:solidFill>
                <a:latin typeface="Georgia"/>
              </a:rPr>
              <a:t>)]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a96d2b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a96d2b"/>
                </a:solidFill>
                <a:latin typeface="Georgia"/>
              </a:rPr>
              <a:t>[(slot | multislot &lt;slot-name&gt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a96d2b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a96d2b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a96d2b"/>
                </a:solidFill>
                <a:latin typeface="Georgia"/>
              </a:rPr>
              <a:t>[(default)]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a96d2b"/>
                </a:solidFill>
                <a:latin typeface="Georgia"/>
              </a:rPr>
              <a:t>)]*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a9432b"/>
                </a:solidFill>
                <a:latin typeface="Georg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Fatos desordenados (exemplos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Georgia"/>
              </a:rPr>
              <a:t>;cria um template carro com os slots fabricante, modelo e a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(deftemplate carro (slot fabricante) (slot modelo) (slot ano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Georgia"/>
              </a:rPr>
              <a:t>; cria um fato do modelo carr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(assert (carro (fabricante ford) (ano 99) (modelo fusion)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Georgia"/>
              </a:rPr>
              <a:t>; herda os slots de carro e adiciona o slot orig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(deftemplate carro-importado extends carro (slot origem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f7f7f"/>
                </a:solidFill>
                <a:latin typeface="Georgia"/>
              </a:rPr>
              <a:t>; cria um fato do modelo carro-importad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(assert (carro-importado (origem alabama) (ano 2000)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Fatos Desordenados (herdando de java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7f7f7f"/>
                </a:solidFill>
                <a:latin typeface="Georgia"/>
              </a:rPr>
              <a:t>//Classe em jav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import java.io.Serializable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ublic class Account implements Serializable {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private float balance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ublic float getBalance() { return balance; }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public void setBalance(float balance) {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this.balance = balance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300" spc="-1" strike="noStrike">
                <a:solidFill>
                  <a:srgbClr val="7f7f7f"/>
                </a:solidFill>
                <a:latin typeface="Georgia"/>
              </a:rPr>
              <a:t>// Other, more interesting method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546d7a"/>
                </a:solidFill>
                <a:latin typeface="Georgia"/>
              </a:rPr>
              <a:t>Jess&gt;</a:t>
            </a:r>
            <a:r>
              <a:rPr b="0" lang="pt-BR" sz="2300" spc="-1" strike="noStrike">
                <a:solidFill>
                  <a:srgbClr val="546d7a"/>
                </a:solidFill>
                <a:latin typeface="Georgia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Georgia"/>
              </a:rPr>
              <a:t>(deftemplate Account (declare (from-class Account))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1368000" y="36846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VARIÁVE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USO DO PO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VARIÁVEIS GLOBA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Georgia"/>
              </a:rPr>
              <a:t>comandos e sintax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Variávei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Identificadas por iniciar com 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“?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Pode-se atribuir valores usando a função 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(bin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46d7a"/>
                </a:solidFill>
                <a:latin typeface="Georgia"/>
              </a:rPr>
              <a:t>Exemplo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(bind ?a 123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(deftemplate box (slot location) (multislot contents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(bind ?id (assert (box (location kitchen)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(contents spatula sponge frying-pan))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Variáveis com pon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Variáveis com um ponto como em 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?x.y </a:t>
            </a: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o jess interpreta como sendo o slot 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y</a:t>
            </a: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 da variável 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x</a:t>
            </a: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(deftemplate box (slot location) (multislot contents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(bind ?id (assert (box (location kitchen)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(contents spatula sponge frying-pan))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?id.lo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?id.cont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Variáveis Globai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Variáveis globais são aquelas que não são apagadas depois de um </a:t>
            </a:r>
            <a:r>
              <a:rPr b="0" lang="pt-BR" sz="2700" spc="-1" strike="noStrike">
                <a:solidFill>
                  <a:srgbClr val="a9432b"/>
                </a:solidFill>
                <a:latin typeface="Georgia"/>
              </a:rPr>
              <a:t>(rese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Sintax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(defglobal </a:t>
            </a:r>
            <a:r>
              <a:rPr b="0" lang="pt-BR" sz="2200" spc="-1" strike="noStrike">
                <a:solidFill>
                  <a:srgbClr val="665a00"/>
                </a:solidFill>
                <a:latin typeface="Georgia"/>
              </a:rPr>
              <a:t>[?&lt;global-name&gt; = &lt;value&gt;]+</a:t>
            </a: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Exempl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(defglobal ?*x* = 3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(bind ?*x* 4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(reset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368000" y="34704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LOOP (WHI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DECISÃO (IF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Georgia"/>
              </a:rPr>
              <a:t>Controle de Fluxo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O que é o Jes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Acrônimo para </a:t>
            </a:r>
            <a:r>
              <a:rPr b="1" lang="pt-BR" sz="2700" spc="-1" strike="noStrike">
                <a:solidFill>
                  <a:srgbClr val="000000"/>
                </a:solidFill>
                <a:latin typeface="Georgia"/>
              </a:rPr>
              <a:t>Java Expert System She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Ferramenta especializada no desenvolvimento de </a:t>
            </a:r>
            <a:r>
              <a:rPr b="1" lang="pt-BR" sz="2700" spc="-1" strike="noStrike">
                <a:solidFill>
                  <a:srgbClr val="000000"/>
                </a:solidFill>
                <a:latin typeface="Georgia"/>
              </a:rPr>
              <a:t>Sistemas Especialistas </a:t>
            </a: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que usa um motor de inferênci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Loop Si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7f7f7f"/>
                </a:solidFill>
                <a:latin typeface="Georgia"/>
              </a:rPr>
              <a:t>; atribuindo um valor à variável ?i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bind ?i 3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7f7f7f"/>
                </a:solidFill>
                <a:latin typeface="Georgia"/>
              </a:rPr>
              <a:t>; loop executado enquanto ?i é maior que zero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while (&gt; ?i 0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printout t ?i crlf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-- ?i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a9432b"/>
                </a:solidFill>
                <a:latin typeface="Georgia"/>
              </a:rPr>
              <a:t>; obs: existe ainda for e foreach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Decisão (if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bind ?x 1) </a:t>
            </a:r>
            <a:r>
              <a:rPr b="0" lang="pt-BR" sz="2500" spc="-1" strike="noStrike">
                <a:solidFill>
                  <a:srgbClr val="a6a6a6"/>
                </a:solidFill>
                <a:latin typeface="Georgia"/>
              </a:rPr>
              <a:t>; atribui o valor 1 à variável ?x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if (&gt; ?x 100) then</a:t>
            </a:r>
            <a:r>
              <a:rPr b="0" lang="pt-BR" sz="2500" spc="-1" strike="noStrike">
                <a:solidFill>
                  <a:srgbClr val="a6a6a6"/>
                </a:solidFill>
                <a:latin typeface="Georgia"/>
              </a:rPr>
              <a:t> ; caso ?x seja maior que 10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printout t "X is big" crlf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elif (&gt; ?x 50) then </a:t>
            </a:r>
            <a:r>
              <a:rPr b="0" lang="pt-BR" sz="2500" spc="-1" strike="noStrike">
                <a:solidFill>
                  <a:srgbClr val="a6a6a6"/>
                </a:solidFill>
                <a:latin typeface="Georgia"/>
              </a:rPr>
              <a:t>; caso ?x seja maior que 5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printout t "X is medium" crlf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else </a:t>
            </a:r>
            <a:r>
              <a:rPr b="0" lang="pt-BR" sz="2500" spc="-1" strike="noStrike">
                <a:solidFill>
                  <a:srgbClr val="a6a6a6"/>
                </a:solidFill>
                <a:latin typeface="Georgia"/>
              </a:rPr>
              <a:t>; caso seja menor ou igual a 5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printout t "X is small" crlf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1368000" y="3612960"/>
            <a:ext cx="64803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DEFFUN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Georgia"/>
              </a:rPr>
              <a:t>Definindo funçõ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deffunc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Sintaxe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9432b"/>
                </a:solidFill>
                <a:latin typeface="Georgia"/>
              </a:rPr>
              <a:t>(deffunction &lt;function-name&gt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b050"/>
                </a:solidFill>
                <a:latin typeface="Georgia"/>
              </a:rPr>
              <a:t>[&lt;doc-comment&gt;]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600" spc="-1" strike="noStrike">
                <a:solidFill>
                  <a:srgbClr val="648c61"/>
                </a:solidFill>
                <a:latin typeface="Georgia"/>
              </a:rPr>
              <a:t>(&lt;parameter&gt;*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a0a5b8"/>
                </a:solidFill>
                <a:latin typeface="Georgia"/>
              </a:rPr>
              <a:t>&lt;expr&gt;*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546d7a"/>
                </a:solidFill>
                <a:latin typeface="Georgia"/>
              </a:rPr>
              <a:t>[&lt;return-specifier&gt;]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9432b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Cada</a:t>
            </a:r>
            <a:r>
              <a:rPr b="0" lang="pt-BR" sz="2600" spc="-1" strike="noStrike">
                <a:solidFill>
                  <a:srgbClr val="a9432b"/>
                </a:solidFill>
                <a:latin typeface="Georgia"/>
              </a:rPr>
              <a:t> </a:t>
            </a:r>
            <a:r>
              <a:rPr b="0" lang="pt-BR" sz="2600" spc="-1" strike="noStrike">
                <a:solidFill>
                  <a:srgbClr val="648c61"/>
                </a:solidFill>
                <a:latin typeface="Georgia"/>
              </a:rPr>
              <a:t>&lt;parameter&gt;</a:t>
            </a:r>
            <a:r>
              <a:rPr b="0" lang="pt-BR" sz="2600" spc="-1" strike="noStrike">
                <a:solidFill>
                  <a:srgbClr val="a9432b"/>
                </a:solidFill>
                <a:latin typeface="Georgi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deve ser uma variá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Pode ter um número arbitrário de </a:t>
            </a:r>
            <a:r>
              <a:rPr b="0" lang="pt-BR" sz="2600" spc="-1" strike="noStrike">
                <a:solidFill>
                  <a:srgbClr val="a0a5b8"/>
                </a:solidFill>
                <a:latin typeface="Georgia"/>
              </a:rPr>
              <a:t>&lt;expr&gt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546d7a"/>
                </a:solidFill>
                <a:latin typeface="Georgia"/>
              </a:rPr>
              <a:t>&lt;return-specifier&gt; 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dá o valor de retorno da funçã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deffunctions (exemplos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680" y="1371240"/>
            <a:ext cx="403848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(deffunction max (?a ?b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(if (&gt; ?a ?b) th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(return ?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	</a:t>
            </a: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(return ?b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432b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Georgia"/>
              </a:rPr>
              <a:t>(deffunction distancia(?x1 ?y1 ?x2 ?y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s-ES" sz="2400" spc="-1" strike="noStrike">
                <a:solidFill>
                  <a:srgbClr val="002060"/>
                </a:solidFill>
                <a:latin typeface="Georgia"/>
              </a:rPr>
              <a:t>(sqrt  (+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s-ES" sz="2400" spc="-1" strike="noStrike">
                <a:solidFill>
                  <a:srgbClr val="002060"/>
                </a:solidFill>
                <a:latin typeface="Georgia"/>
              </a:rPr>
              <a:t>(** (- ?x2 ?x1) 2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s-ES" sz="2400" spc="-1" strike="noStrike">
                <a:solidFill>
                  <a:srgbClr val="002060"/>
                </a:solidFill>
                <a:latin typeface="Georgia"/>
              </a:rPr>
              <a:t>(** (- ?y2 ?y1) 2))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1640" y="1371600"/>
            <a:ext cx="4357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(deffunction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varrer-lista ($?b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(if (&gt; (length$ ?b) 0) th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(printout t "elemento: " (first$ ?b) crlf 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(varrer-lista (rest$ ?b)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Comandos.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retract &lt;Fact-X&gt;) 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– remove o fato de índice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defrule nome-da-regr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..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=&gt;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</a:rPr>
              <a:t>) – </a:t>
            </a:r>
            <a:r>
              <a:rPr b="0" lang="pt-BR" sz="2200" spc="-1" strike="noStrike">
                <a:solidFill>
                  <a:srgbClr val="7f7f7f"/>
                </a:solidFill>
                <a:latin typeface="Georgia"/>
              </a:rPr>
              <a:t>define uma regra.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7f7f7f"/>
                </a:solidFill>
                <a:latin typeface="Georgia"/>
              </a:rPr>
              <a:t>Vindo primeiro o padrão de listas e depois do =&gt;, as açõ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/>
          <a:stretch/>
        </p:blipFill>
        <p:spPr>
          <a:xfrm>
            <a:off x="1390680" y="2143080"/>
            <a:ext cx="6362640" cy="10954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"/>
          <p:cNvPicPr/>
          <p:nvPr/>
        </p:nvPicPr>
        <p:blipFill>
          <a:blip r:embed="rId2"/>
          <a:stretch/>
        </p:blipFill>
        <p:spPr>
          <a:xfrm>
            <a:off x="3929040" y="4143240"/>
            <a:ext cx="42292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52560" y="428760"/>
            <a:ext cx="72388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7b9899"/>
                </a:solidFill>
                <a:latin typeface="Georgia"/>
              </a:rPr>
              <a:t>Regras (casamento de padrão)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499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(defrule nome-da-regr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(a ?y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... ; pega todos os fatos que têm 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“a”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 como o primeiro elemento da lis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(defrule nome-da-regr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	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(b c d ?x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... ; todos os fatos que têm 4 elementos, e os três primeiros são “</a:t>
            </a:r>
            <a:r>
              <a:rPr b="1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b c d</a:t>
            </a: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Georgia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Exempl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8572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Exemplo sala.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85480" y="1499760"/>
            <a:ext cx="850428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3680" indent="-1936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(assert (tempo segunda sol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93680" indent="-1936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(assert (tempo terça nublado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93680" indent="-1936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(assert (tempo quarta chuva)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93680" indent="-1936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(defrule clima-seman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388440" indent="-193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(tempo ?dia ?condicao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388440" indent="-193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=&gt;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388440" indent="-193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(printout t ?dia “ a condição climática estava assim: “ ?condicao crlf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388440" indent="-193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193680" indent="-1936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Courier New"/>
              </a:rPr>
              <a:t>(ru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Complicando exemplo anterior.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; Saber a variação climática da semana..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defrule clima-seman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tempo segunda ?condicao-seg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tempo terça ?condicao-ter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tempo quarta ?condicao-quar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=&gt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assert (tempo-semana ?condicao-seg ?condicao-ter ?condicao-quar)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Georgia"/>
              </a:rPr>
              <a:t>(run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Inferência no J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Para conseguir fazer inferências, o jess utiliza os seguintes elemento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Lista de fatos (e lista de instâncias)</a:t>
            </a: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6d7a"/>
                </a:solidFill>
                <a:latin typeface="Georgia"/>
              </a:rPr>
              <a:t>Memória global para dad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Base de conhecimento</a:t>
            </a: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6d7a"/>
                </a:solidFill>
                <a:latin typeface="Georgia"/>
              </a:rPr>
              <a:t>Contem todas as regr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Motor de inferência</a:t>
            </a: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6d7a"/>
                </a:solidFill>
                <a:latin typeface="Georgia"/>
              </a:rPr>
              <a:t>Controla a execução das regr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Removendo fatos (exemplo).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6760"/>
            <a:ext cx="8504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ess&gt;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ssert (solteiro joao "25 anos")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act-0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ess&gt;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ssert (solteira maria "23 anos")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act-1&gt;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ess&gt;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defrule get-marri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homem &lt;- (solteiro joao ?idad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mulher &lt;- (solteira maria ?idade2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printout t "joao se casou com maria..." crlf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retract ?homem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retract ?mulher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ssert (casados joao maria "25 anos" "23 anos")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ess&gt;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run)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oao se casou com maria..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Jess&gt; </a:t>
            </a:r>
            <a:r>
              <a:rPr b="1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facts)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-2   (MAIN::casados joao maria "25 anos" "23 anos")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 total of 1 facts in module MAIN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Coman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deffacts)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– define um corpo de fatos que são freqüentemente utilizados. São restaurados depois de um rese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(deffacts &lt;nome &gt;</a:t>
            </a:r>
            <a:r>
              <a:rPr b="0" lang="pt-BR" sz="2200" spc="-1" strike="noStrike">
                <a:solidFill>
                  <a:srgbClr val="998700"/>
                </a:solidFill>
                <a:latin typeface="Georgia"/>
              </a:rPr>
              <a:t> [(fato valor)]* </a:t>
            </a: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batch) 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– carrega um script com comandos do j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a9432b"/>
                </a:solidFill>
                <a:latin typeface="Georgia"/>
              </a:rPr>
              <a:t>(batch “url/para/o/arquivo.clp"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printout) 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– imprime no console do j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9432b"/>
                </a:solidFill>
                <a:latin typeface="Georgia"/>
              </a:rPr>
              <a:t>(printout t "Hello, World" cr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entários -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;</a:t>
            </a:r>
            <a:r>
              <a:rPr b="0" lang="en-US" sz="2700" spc="-1" strike="noStrike">
                <a:solidFill>
                  <a:srgbClr val="7f7f7f"/>
                </a:solidFill>
                <a:latin typeface="Georgia"/>
              </a:rPr>
              <a:t> para uma linha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/* </a:t>
            </a:r>
            <a:r>
              <a:rPr b="0" lang="en-US" sz="2700" spc="-1" strike="noStrike">
                <a:solidFill>
                  <a:srgbClr val="7f7f7f"/>
                </a:solidFill>
                <a:latin typeface="Georgia"/>
              </a:rPr>
              <a:t>para várias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*/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Trabalhando com listas.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nome-campo      $?a       ?nome       $?b      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162000" y="3357720"/>
            <a:ext cx="8820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Referênci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ess® The Rule Engine for the Java</a:t>
            </a: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™ Platfor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46b86"/>
                </a:solidFill>
                <a:latin typeface="Georgia"/>
              </a:rPr>
              <a:t>http://www.cin.ufpe.br/~astm/si/Jess71p2.pdf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Jess Tutori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46b86"/>
                </a:solidFill>
                <a:latin typeface="Georgia"/>
              </a:rPr>
              <a:t>http://www.cin.ufpe.br/~astm/si/jess-tutorial.pdf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7b9899"/>
                </a:solidFill>
                <a:latin typeface="Georgia"/>
              </a:rPr>
              <a:t>Há três formas de representar Conhecimento no jes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Regr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546d7a"/>
                </a:solidFill>
                <a:latin typeface="Georgia"/>
              </a:rPr>
              <a:t>Conhecimento</a:t>
            </a:r>
            <a:r>
              <a:rPr b="0" lang="pt-BR" sz="2200" spc="-1" strike="noStrike">
                <a:solidFill>
                  <a:srgbClr val="646b86"/>
                </a:solidFill>
                <a:latin typeface="Georgia"/>
              </a:rPr>
              <a:t> heurístico baseado em experiência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Funçõ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46b86"/>
                </a:solidFill>
                <a:latin typeface="Georgia"/>
              </a:rPr>
              <a:t>Conhecimento baseado em procediment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Programação orientada a objet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46b86"/>
                </a:solidFill>
                <a:latin typeface="Georgia"/>
              </a:rPr>
              <a:t>Classes, abstração, encapsulamento, herança, polimorfismo, handlers de mensagen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Começando.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Descompactar a versão trial do jess localizada em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cin.ufpe.br/~astm/si/jess-trial.zi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Executar o arquivo “</a:t>
            </a:r>
            <a:r>
              <a:rPr b="1" i="1" lang="pt-BR" sz="2700" spc="-1" strike="noStrike">
                <a:solidFill>
                  <a:srgbClr val="000000"/>
                </a:solidFill>
                <a:latin typeface="Georgia"/>
              </a:rPr>
              <a:t>Jess71p2/bin/jess.bat</a:t>
            </a: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4914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Comand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assert (X)) – 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colocar dado na lista de fat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facts) – 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mostrar a lista de fato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clear) – 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remove todos os fatos </a:t>
            </a:r>
            <a:r>
              <a:rPr b="1" lang="pt-BR" sz="2700" spc="-1" strike="noStrike">
                <a:solidFill>
                  <a:srgbClr val="000000"/>
                </a:solidFill>
                <a:latin typeface="Georgia"/>
              </a:rPr>
              <a:t>e regr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reset) – </a:t>
            </a:r>
            <a:r>
              <a:rPr b="0" lang="pt-BR" sz="2700" spc="-1" strike="noStrike">
                <a:solidFill>
                  <a:srgbClr val="7f7f7f"/>
                </a:solidFill>
                <a:latin typeface="Georgia"/>
              </a:rPr>
              <a:t>remove todos os fatos e adiciona um fato inici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1390680" y="2500200"/>
            <a:ext cx="6362640" cy="9813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"/>
          <p:cNvPicPr/>
          <p:nvPr/>
        </p:nvPicPr>
        <p:blipFill>
          <a:blip r:embed="rId2"/>
          <a:stretch/>
        </p:blipFill>
        <p:spPr>
          <a:xfrm>
            <a:off x="1390680" y="4919760"/>
            <a:ext cx="6362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Exemplos de fat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assert (nome “Sistemas Inteligentes”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assert (nome sistemas inteligentes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assert (digitos 0 1 2 3 4 5 6 7 8 9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(assert (cubo 1.0 1.0 1.0)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7b9899"/>
                </a:solidFill>
                <a:latin typeface="Georgia"/>
              </a:rPr>
              <a:t>Campos.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Um campo pode ser dos seguintes tipos: INTEGER, LONG, FLOAT, ATOM, STRING, LIST e EXTERNAL_ADDR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398520" y="3071880"/>
            <a:ext cx="834696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FATOS ORDENAD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FATOS DESORDENAD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46b86"/>
                </a:solidFill>
                <a:latin typeface="Georgia"/>
              </a:rPr>
              <a:t>FATOS </a:t>
            </a:r>
            <a:r>
              <a:rPr b="1" i="1" lang="pt-BR" sz="2000" spc="-1" strike="noStrike">
                <a:solidFill>
                  <a:srgbClr val="646b86"/>
                </a:solidFill>
                <a:latin typeface="Georgia"/>
              </a:rPr>
              <a:t>DEFINST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Georgia"/>
              </a:rPr>
              <a:t>Fato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14:41Z</dcterms:created>
  <dc:creator>Adriano Melo</dc:creator>
  <dc:description/>
  <dc:language>en-US</dc:language>
  <cp:lastModifiedBy>astm</cp:lastModifiedBy>
  <dcterms:modified xsi:type="dcterms:W3CDTF">2009-04-15T17:50:23Z</dcterms:modified>
  <cp:revision>67</cp:revision>
  <dc:subject/>
  <dc:title>Tutorial de Jess</dc:title>
</cp:coreProperties>
</file>