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E89-8813-4C03-B506-57B2835A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D8AF-01EF-4FCD-9B4F-466E2D30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7A6D-6E0A-48E1-A6A0-BC827FC8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3C1A-AC49-4F9C-90E9-D227E066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260F-6C52-444D-B8E2-72A09039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B614-3EB8-4667-ABE2-6BD3E8B9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0FB9-541D-42E4-B57E-9F6F8935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6074-26B7-4112-A339-522AFFC4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3899-4E45-47CD-A062-CC3BF97C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6940-F372-45F0-8931-14FCC377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3CB6-6D66-47EB-ADED-85064436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EC0-4CC0-4FDA-BAB2-19901980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520D-20B5-4F54-98C0-FA0CAA7D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E6A0-B523-4C5F-A9E2-E9B04507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17F9-A4EE-48EB-AB9C-5D332DE0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81B7-1C9B-4FA3-AE37-6399DD8D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3603-5AE7-46DC-B2EE-A17F5F61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21D9-8A46-43C2-9911-7DA5E98E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65F-D93C-4769-AFFC-4F70D68C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732-9F9A-4B6D-BA6C-D1E44D3E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431-AE25-477B-A349-76D985AB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663-2174-4271-8A9A-D899229A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2AD-B98E-486C-A341-396B247A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6E7B-D316-4638-A372-1FAA2BCD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8CD2-4D1A-4EE2-9500-FD2F4B101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58F7-2A8E-4872-9EBF-E8C1A6ACB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al A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ulo Abadie Gue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arcone Pereira de Alme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 algoritmo do bal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okens são produzidos periodic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cotes são armazenados em um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 pacote só prossegue se há um token para ser consum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blema: memória, processament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ar uma máquina apenas para modelagem de tráfego da re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de ser resolvido pelo cliente através d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buffer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: dados são armazenados e exib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otocolos para </a:t>
            </a:r>
            <a:r>
              <a:rPr b="0" i="1" lang="pt-BR" sz="4400" spc="-1" strike="noStrike">
                <a:solidFill>
                  <a:srgbClr val="000000"/>
                </a:solidFill>
                <a:latin typeface="Times New Roman"/>
              </a:rPr>
              <a:t>Stre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al Time Streaming Protocol (RT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trole remoto via re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abelecer e controlar fluxos de mídias contínu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ão depende da natureza do transporte (udp, t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source Reservation Setup Protocol (RSV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cursos reservados em cada nó da rota de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rientado a conex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lientes requisitam serviços c/ qualidade mínima para aplicações particulares à re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ublicando mú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pl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ol Edit, Real Audio player / enco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ravar um wave; sub-amostrar ; codif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rquivos .ra ou .rm =&gt; mídia para down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ram =&gt; arquivo texto para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tre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penas a lista das músicas a serem ou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a página, o link para o arquivo .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er:  http://jimhartley.com/ratutor.htm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ervi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al Audio SD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Kit de desenvolvimento para Real Audio (RealSystem G2 SD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www.realnetworks.com/devzone/tools/index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204.236.5.3/rma/g1/rsg2sdk_r4.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204.236.5.3/rma/g1/rsg2sdk_r4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204.236.5.3/rma/g1/rsg2sdk_r4.sit.hq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www.cin.ufpe.br/~musica/realA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al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jimhartley.com/ratutor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service.real.com/help/library/index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204.236.5.3/rma/g1/rsg2sdk_r4.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www.reelradio.com/rainfo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ultimí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www.cis.ohio-state.edu/~jain/refs/ mul_refs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home.sprynet.com/~cbagwell/audio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ernet e Stream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TSP e RSV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ttp://www.ietf.org/rfc/rfc2326.txt?number=23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ttp://www.ietf.org/rfc/rfc2205.txt?number=22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drew Tannembaum - Computer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www.library.ubc.ca/spcoll/ubc_arch/blaeser/avmain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istó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padrão Real Au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tre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7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empo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7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Áudio em re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tocolos para stre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sponibilizando mú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rvi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senvolvimento para Real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ferê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gressive Networks: 19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alAudio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alAudio client-serv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o. Real Player: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uários: aumento acima de 200.000 por dia, desde o início de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alJukeBox: maio de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is de 34 milhões de usu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ualmente: &gt; 85% da mídia em tempo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al Audio - 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ntage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cesso instantâneo à mídia (vs.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download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de ser executado em qualquer platafo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oa taxa de compres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quivos de tamanho relativamente pequeno (comparados a arquivos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wav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uporte atualmente muito b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entativa de proteção a direitos autor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ão ocupa espaço em disco do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de se adaptar à largura de banda atual para evitar interrupções na transmis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al Audio - 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svantage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ormato proprietário: ferramentas específicas (necessita de um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 edito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de necessitar de um servidor (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 próprio, à medida que a largura de banda necessária à reprodução aum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alidade do som não tão b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some/depende do acesso à rede: dados têm que chegar a tempo e em ord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onte: http://www.library.ubc.ca/spcoll/ ubc_arch/blaeser/avmain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0000"/>
                </a:solidFill>
                <a:latin typeface="Times New Roman"/>
              </a:rPr>
              <a:t>Stre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treaming Media is a method of making audio, video and other multimedia available in real-time over the Internet or corporate intranets, with no download wait and no file to take up space on your hard dis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mular um fluxo contínuo de algum tipo de mídia temporal (som, vídeo, etc.) sobre uma rede que suporta apenas transporte via chaveamento de pac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0000"/>
                </a:solidFill>
                <a:latin typeface="Times New Roman"/>
              </a:rPr>
              <a:t>Streaming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- Questõ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ote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raso/perda de pacotes / conten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jitter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h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argura de b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roadcast e multi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dificação - envio - decodif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É um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hack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e um desaf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5 anos atrás isso era literalmente impossí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istemas de Tempo R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empo real != ráp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alquer sistema com restrições de t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raso normalmente associado a falha crítica e/ou catastrófica (inutilidade/desast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tempo em que o processamento é executado importa e mu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empo mínimo/máximo aceitá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ransmissão de dados: consist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ransmissão de mídias: constâ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istemas de Tempo R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oft real-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de haver certa tolerância a atr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de ser melhor descartar do que retransmit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Hard real-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trasos não são tole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riação do atraso (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jitter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otas, tráfego e carga da rede leva a vari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ídias são muito mais sensíveis a variações do que a perda de dados ou mesmo de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ráfego pode ser modelado(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traffic shapping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8T14:26:07Z</dcterms:created>
  <dc:creator>pag</dc:creator>
  <dc:description/>
  <dc:language>en-US</dc:language>
  <cp:lastModifiedBy>Paulinho</cp:lastModifiedBy>
  <dcterms:modified xsi:type="dcterms:W3CDTF">2000-05-28T20:43:48Z</dcterms:modified>
  <cp:revision>109</cp:revision>
  <dc:subject/>
  <dc:title>Real Audio e streaming na internet</dc:title>
</cp:coreProperties>
</file>