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C01-1D34-4BEB-8525-01ED6E09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C89-F13F-47C6-BD2D-672D1532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A38-8AC1-4D08-9EC2-77A210D1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BE3-AD0A-4D7D-AF95-299DAFDE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09F-9180-49B4-87AB-D17BE89D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D21-FD6A-428F-8DBD-CACCC9EE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ECE3-C7F6-4948-A9D9-1582607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637-D1D6-4ACD-B905-DB01783D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ADF5-69B0-4ACB-BCC9-CC97B46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C6E-9E68-4D37-B055-4FD9B2A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8E42-064F-43DB-B59F-C3A58DA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8F7-9E2E-469D-91D1-FBAD88E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FDB-09BB-48C9-AC53-4793137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EF37-1AF9-4BEC-93C0-0CEE111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3E9-D91E-4094-87CA-41111101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B6B-75A1-4605-A665-1F89F5A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20D-155A-49D5-90CD-C65A6C95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0EC-3E99-4BD4-B46D-26FDEC6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FD3-D67D-49F2-9B13-AB5A08F7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384-645D-4C6C-9540-07A4151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E7B-E5E6-45F7-9122-6A6AD879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2D1-28D7-4D5A-9E1A-7371CC6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E2B-31D3-421A-873D-9E8E8CD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7DF-153E-4AF9-B1D8-CAF29EF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5C2-E42D-49D6-BAA2-3A3425DFECF9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C55-5734-471C-9383-1EA20655E0D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52C-2940-4A80-8A33-492EADDDE5CB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00B5-FA5B-4A30-8E4B-4A34B1450EC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runo Ab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uno Abr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eno Spind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gor Azev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ulo Gonça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33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ção musical e processamento de 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57560" y="1523880"/>
            <a:ext cx="3166920" cy="229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4568"/>
                    </a:gs>
                    <a:gs pos="100000">
                      <a:srgbClr val="151521"/>
                    </a:gs>
                  </a:gsLst>
                  <a:lin ang="5400000"/>
                </a:gradFill>
                <a:latin typeface="Impact"/>
              </a:rPr>
              <a:t>MP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4568"/>
                  </a:gs>
                  <a:gs pos="100000">
                    <a:srgbClr val="1515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ar1" descr=""/>
          <p:cNvPicPr/>
          <p:nvPr/>
        </p:nvPicPr>
        <p:blipFill>
          <a:blip r:embed="rId1"/>
          <a:stretch/>
        </p:blipFill>
        <p:spPr>
          <a:xfrm>
            <a:off x="685800" y="1558800"/>
            <a:ext cx="7924680" cy="4918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 Por que ocorr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93A-B475-4E3B-9719-1B3DC21A6B0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770B2-DC18-46E4-ACFB-C3DE17A29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Tempo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corre quanto tons são tocados próximo no tempo, mas não ao mesmo t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 mascarar outro que ocorre depo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 mascarar outro que ocorre antes (!!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scaramento simultâneo é mais forte que o mascaramento temp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279-603F-4472-AB89-3442DF307A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575FF-8D46-44ED-87E9-09DAE4799140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Temporal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Grafico2-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454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292-EFD9-4E77-BA40-D274C080792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A221D-9990-428F-908E-BE319DCB7AF9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ascaramento Temporal </a:t>
            </a:r>
            <a:br>
              <a:rPr sz="2800"/>
            </a:b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br>
              <a:rPr sz="2800"/>
            </a:b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imultane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grafico3-3" descr=""/>
          <p:cNvPicPr/>
          <p:nvPr/>
        </p:nvPicPr>
        <p:blipFill>
          <a:blip r:embed="rId1"/>
          <a:stretch/>
        </p:blipFill>
        <p:spPr>
          <a:xfrm>
            <a:off x="3205080" y="685800"/>
            <a:ext cx="52736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750-541C-4564-8369-2455D562AE6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AC77B-D958-4258-B12D-9C25C4FE534D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Codificação de Huffm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da por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David Huff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a na probabilidade de ocorrência dos 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ostras que acontecem com maior freqüência serão mapeadas para uma palavra de código me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decodificador contém o mapeamento in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: código M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  </a:t>
            </a:r>
            <a:r>
              <a:rPr b="1" i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 ‘.’ 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1" i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“--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a um sistema de prefixos não duplicados em que  palavras de códigos não podem pertencer ao começo de palavras de código gran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969-ACE5-464F-BE41-EC7979E217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427E5-BD20-4689-81B9-E8F0FA5A38CA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Compressão de d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se algoritmo não é adequado para música. Ele é usado para compressão junto com algoritmos perceptu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 após a compressão perceptu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ponsável por cerca de 20% da compact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lementa a compactação perceptu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de polifonia = Muito Mascaramento, Pouca repeti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ns puros = Pouco Mascaramento, Muita repeti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1D0-385B-43C9-A541-C5DCEA2ECB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5E89D-358A-4045-B6CA-DE6B7FEEE256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 – S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vidido em três camadas (layers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yer 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nos sofisticad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xa de dados ~192 Kbps/ca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ilps DCC (PAS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yer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aseado no Layer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ais complex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xa de dados 96-128 Kbps/ca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yer IIA (joint-stereo): 128 e 192 Kbps (pa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ureka 147 DAB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06D-0957-4A6E-9243-64D26D6389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02062-231D-472D-9C19-811E91C42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 - Layer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Mais sofistic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dados ~ 64Kbps/can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elo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raunhofer Instit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enas os decoders são especificad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berdade na implementação d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de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5BB-F420-40B9-9689-E1475E9BFC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DA650-0670-49D6-B0DF-0E5D8D58F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dificação em Sub-band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figuraadal1-0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49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E3C-AC41-4473-806D-A4932D3D0A3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A1D36-14B1-467D-B95D-5651B94FD1AA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ivisão em Sub-bandas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figuraadal1-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67480" cy="50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4A0-FEDF-4891-B4FD-101D7A2D028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16017-7F67-4665-A180-9AF8DDDD2BF8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Histór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final da década de 80, a ISO estabeleceu o Motion Pictures Expert Group (MPE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ivo: desenvolver um sistema de codificação de vídeo e áudio digit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inalizado em Novembro de 199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O/MPEG-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deo, Audio e Video e A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ídeo CD, CD-ROM, Vídeo, Videogam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1B-150E-4C25-9EBD-FC2EB0031E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4B95D-F828-45A9-BE08-6D5173FD16D6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Quantizaçã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figuraadal1-4" descr=""/>
          <p:cNvPicPr/>
          <p:nvPr/>
        </p:nvPicPr>
        <p:blipFill>
          <a:blip r:embed="rId1"/>
          <a:stretch/>
        </p:blipFill>
        <p:spPr>
          <a:xfrm>
            <a:off x="533520" y="1015920"/>
            <a:ext cx="807696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9FE-3355-48F1-9833-8EC5AA54DD2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B410B-D68A-4331-B3B6-465757348746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-band co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f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der não possui modelo psico-acú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bit rate x Constant bi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 poo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013-F85A-41BC-85CB-CEF023F609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691D3-9ECA-48E7-9763-C1C0B5DAF8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3 Enco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3E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iginal encoder from the Fraunhofer Institu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me Ain’t a Mp3 Enco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tent free audio compression code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ingMP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ido com a Re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C14-7C52-433D-9644-281A0DF4E8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B6299-E029-4B1C-B020-872F33124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t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unhofer 1989 Alemanha e 1996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O Encoder: L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coders gratis: L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coders vendidos: US$ 1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ardware decoders: US$ 2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ftware encoders US$ 25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usica vendida: US$ 0,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1B4-7A76-462A-96B0-F54977E8FC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2BBA8-99CB-4B9B-99D5-8ACA8272A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% mais compressão a taxas altas (C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AC (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dvanced Audio C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8 canais de au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or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Fraunhofer , Dol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 AT&amp;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dificação mais eficie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 menos dados, com qualidade melh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110-B8EE-441E-9ADB-AAB653285B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2D501-E2BF-4A09-94FC-1232C38B4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inVQ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ransform-domain Weighted Interleave Vector Quant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TT Human Interface Laboratories (Jap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dade e compressão equivalnte a MP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s CPU para codificar e decodifi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lby AC-3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(Audio Code number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uporta5 canais de A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nos cinemas (640 kb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no sistema TH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em laserdiscs e  DVDs (384 kbp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B83-D9E4-43DE-8EBB-24CB0113AE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1193D-DDAD-4754-9FA7-EB2BC8273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gg Vorb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ela “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iphophorus compa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mente patent-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s de 16 a 128 Kbps/canal (VBR ou C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C48-BADC-485B-9157-1CD2E636D5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C5EA-9B02-4C25-8800-ECBA98C68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3P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volvido pela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unhofer In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sma qualidade / metade da taxa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atível com players exist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B91-64F4-4D9D-B6FC-A68B5CC4B6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2426D-D3E1-4AF4-80C3-87C0DA5A1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encias On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oving Pictures Entertainment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cselt.it/mp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aunhofer Institute'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iis.fhg.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he LAME en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sulaco.org/m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Xing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xingtech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he Xiphophorus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xiph.or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ol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dolby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TT Human Interface Laborator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ntt.co.j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indos Media A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microsoft.com/windows/windowsmedia/en/WM8/audio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33A-E6F1-4A87-ABD0-0938126307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0ADED-8363-4EAA-84A8-2C07FCF02F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dificação de áudio e vídeo a uma taxa de  1.41 Mbps; (padrão dos CD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ção de Áudio é derivada do MUSIC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za para compres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ificação perceptu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per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dificação  Huffm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 perd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7B-6606-4BAC-A5F9-65611C3067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10D2E-0ADB-46F6-90EA-CB46EF59D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dificação Percep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EN00349_" descr=""/>
          <p:cNvPicPr/>
          <p:nvPr/>
        </p:nvPicPr>
        <p:blipFill>
          <a:blip r:embed="rId1"/>
          <a:stretch/>
        </p:blipFill>
        <p:spPr>
          <a:xfrm>
            <a:off x="0" y="2590920"/>
            <a:ext cx="243828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PE01753_" descr=""/>
          <p:cNvPicPr/>
          <p:nvPr/>
        </p:nvPicPr>
        <p:blipFill>
          <a:blip r:embed="rId2"/>
          <a:stretch/>
        </p:blipFill>
        <p:spPr>
          <a:xfrm>
            <a:off x="4056120" y="2895480"/>
            <a:ext cx="158256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91320" y="1600200"/>
            <a:ext cx="3276360" cy="1600200"/>
          </a:xfrm>
          <a:prstGeom prst="cloudCallout">
            <a:avLst>
              <a:gd name="adj1" fmla="val -56444"/>
              <a:gd name="adj2" fmla="val 623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866960"/>
            <a:ext cx="2209680" cy="1003320"/>
          </a:xfrm>
          <a:custGeom>
            <a:avLst/>
            <a:gdLst/>
            <a:ahLst/>
            <a:rect l="l" t="t" r="r" b="b"/>
            <a:pathLst>
              <a:path w="1392" h="632">
                <a:moveTo>
                  <a:pt x="0" y="552"/>
                </a:moveTo>
                <a:cubicBezTo>
                  <a:pt x="56" y="344"/>
                  <a:pt x="112" y="136"/>
                  <a:pt x="144" y="120"/>
                </a:cubicBezTo>
                <a:cubicBezTo>
                  <a:pt x="176" y="104"/>
                  <a:pt x="152" y="472"/>
                  <a:pt x="192" y="456"/>
                </a:cubicBezTo>
                <a:cubicBezTo>
                  <a:pt x="232" y="440"/>
                  <a:pt x="352" y="0"/>
                  <a:pt x="384" y="24"/>
                </a:cubicBezTo>
                <a:cubicBezTo>
                  <a:pt x="416" y="48"/>
                  <a:pt x="352" y="568"/>
                  <a:pt x="384" y="600"/>
                </a:cubicBezTo>
                <a:cubicBezTo>
                  <a:pt x="416" y="632"/>
                  <a:pt x="536" y="240"/>
                  <a:pt x="576" y="216"/>
                </a:cubicBezTo>
                <a:cubicBezTo>
                  <a:pt x="616" y="192"/>
                  <a:pt x="576" y="472"/>
                  <a:pt x="624" y="456"/>
                </a:cubicBezTo>
                <a:cubicBezTo>
                  <a:pt x="672" y="440"/>
                  <a:pt x="816" y="112"/>
                  <a:pt x="864" y="120"/>
                </a:cubicBezTo>
                <a:cubicBezTo>
                  <a:pt x="912" y="128"/>
                  <a:pt x="880" y="504"/>
                  <a:pt x="912" y="504"/>
                </a:cubicBezTo>
                <a:cubicBezTo>
                  <a:pt x="944" y="504"/>
                  <a:pt x="1024" y="136"/>
                  <a:pt x="1056" y="120"/>
                </a:cubicBezTo>
                <a:cubicBezTo>
                  <a:pt x="1088" y="104"/>
                  <a:pt x="1048" y="424"/>
                  <a:pt x="1104" y="408"/>
                </a:cubicBezTo>
                <a:cubicBezTo>
                  <a:pt x="1160" y="392"/>
                  <a:pt x="1276" y="208"/>
                  <a:pt x="1392" y="24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1943280"/>
            <a:ext cx="1676520" cy="2501640"/>
          </a:xfrm>
          <a:custGeom>
            <a:avLst/>
            <a:gdLst/>
            <a:ahLst/>
            <a:rect l="l" t="t" r="r" b="b"/>
            <a:pathLst>
              <a:path w="1056" h="1576">
                <a:moveTo>
                  <a:pt x="0" y="984"/>
                </a:moveTo>
                <a:cubicBezTo>
                  <a:pt x="56" y="492"/>
                  <a:pt x="112" y="0"/>
                  <a:pt x="144" y="24"/>
                </a:cubicBezTo>
                <a:cubicBezTo>
                  <a:pt x="176" y="48"/>
                  <a:pt x="168" y="1008"/>
                  <a:pt x="192" y="1128"/>
                </a:cubicBezTo>
                <a:cubicBezTo>
                  <a:pt x="216" y="1248"/>
                  <a:pt x="272" y="712"/>
                  <a:pt x="288" y="744"/>
                </a:cubicBezTo>
                <a:cubicBezTo>
                  <a:pt x="304" y="776"/>
                  <a:pt x="272" y="1400"/>
                  <a:pt x="288" y="1320"/>
                </a:cubicBezTo>
                <a:cubicBezTo>
                  <a:pt x="304" y="1240"/>
                  <a:pt x="360" y="240"/>
                  <a:pt x="384" y="264"/>
                </a:cubicBezTo>
                <a:cubicBezTo>
                  <a:pt x="408" y="288"/>
                  <a:pt x="400" y="1352"/>
                  <a:pt x="432" y="1464"/>
                </a:cubicBezTo>
                <a:cubicBezTo>
                  <a:pt x="464" y="1576"/>
                  <a:pt x="544" y="928"/>
                  <a:pt x="576" y="936"/>
                </a:cubicBezTo>
                <a:cubicBezTo>
                  <a:pt x="608" y="944"/>
                  <a:pt x="600" y="1568"/>
                  <a:pt x="624" y="1512"/>
                </a:cubicBezTo>
                <a:cubicBezTo>
                  <a:pt x="648" y="1456"/>
                  <a:pt x="704" y="656"/>
                  <a:pt x="720" y="600"/>
                </a:cubicBezTo>
                <a:cubicBezTo>
                  <a:pt x="736" y="544"/>
                  <a:pt x="696" y="1136"/>
                  <a:pt x="720" y="1176"/>
                </a:cubicBezTo>
                <a:cubicBezTo>
                  <a:pt x="744" y="1216"/>
                  <a:pt x="840" y="848"/>
                  <a:pt x="864" y="840"/>
                </a:cubicBezTo>
                <a:cubicBezTo>
                  <a:pt x="888" y="832"/>
                  <a:pt x="856" y="1120"/>
                  <a:pt x="864" y="1128"/>
                </a:cubicBezTo>
                <a:cubicBezTo>
                  <a:pt x="872" y="1136"/>
                  <a:pt x="904" y="872"/>
                  <a:pt x="912" y="888"/>
                </a:cubicBezTo>
                <a:cubicBezTo>
                  <a:pt x="920" y="904"/>
                  <a:pt x="888" y="1200"/>
                  <a:pt x="912" y="1224"/>
                </a:cubicBezTo>
                <a:cubicBezTo>
                  <a:pt x="936" y="1248"/>
                  <a:pt x="996" y="1140"/>
                  <a:pt x="1056" y="1032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776-4391-48DD-8A57-57E635EFDA5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430F0-BAA9-40BA-8BA1-E155B681E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Psico-acús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sico-acústica modela o sistema auditivo huma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ncipais fato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miar aud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scar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ultân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0DB-EE42-4AC4-9BC3-ABE615F8E9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BC44-5122-4067-851C-531FCBCFF7CD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Limiar auditiv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creve o menor nível ao qual o ouvido pode detectar um tom a uma determinada freqüê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codificador perceptual compara o sinal de entrada com o limiar de audição e descarta os sinais que estão abaixo do limi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71B-2DAF-4277-AD9F-D54D5D591B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39DEA-1B86-4435-8229-35D7FAAA51D6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Limiar auditiv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MP3_020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BB0-084A-442D-B75D-AC278EC350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3401D-20D4-4747-89DD-EF098D7C7E69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Simultâne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presença física de um som não garante audibilida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presença de um som pode causar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dibilidade de outr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n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limiar de mascaramento descreve o nível onde um som é audí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086-B306-4D27-BF9B-157A9BF80E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E516D-CF57-4980-BE8B-521F8B8986AC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Simultâne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grafico1-1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726-87AC-4FF7-951D-8C0DF6D67D4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B5ECF-5B02-4E4E-AEE8-1A95FD0BC38E}" type="datetime1">
              <a:rPr lang="en-US"/>
              <a:t>07/30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13:17:25Z</dcterms:created>
  <dc:creator>cesar</dc:creator>
  <dc:description/>
  <dc:language>en-US</dc:language>
  <cp:lastModifiedBy>bacm</cp:lastModifiedBy>
  <dcterms:modified xsi:type="dcterms:W3CDTF">2001-05-18T12:55:28Z</dcterms:modified>
  <cp:revision>142</cp:revision>
  <dc:subject/>
  <dc:title>A História do MP3</dc:title>
</cp:coreProperties>
</file>