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50F0-8B6A-40C5-99C7-243A290AF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4308840"/>
            <a:ext cx="7620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5624-260B-44E6-8AA7-04772310E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42640" y="243792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430884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42640" y="430884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70589-D54F-4875-B374-F043E8745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14240" y="243792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90760" y="243792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430884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14240" y="430884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90760" y="4308840"/>
            <a:ext cx="2453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87209-EBDE-48C4-89FF-9F18A8B25F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F46A-B313-4384-8AA6-B12542D14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2652-B6ED-4CB8-8571-7F8FA5B60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3718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2437920"/>
            <a:ext cx="3718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B89E6-0FF4-44E9-8D4A-EF847CD6B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FECF-78B4-4BC1-AD6F-3D7275C01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00913-26A9-4371-9824-7D22E2857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2437920"/>
            <a:ext cx="3718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430884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5B9A-3CD7-48FC-A0F7-7FC707CF4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3718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2640" y="243792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42640" y="430884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B5B5-C28C-470B-AA3C-18B98DB6F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2640" y="2437920"/>
            <a:ext cx="3718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8840"/>
            <a:ext cx="76201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1039-25CA-4CD3-B5C8-117D7D2C0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www" descr=""/>
          <p:cNvPicPr/>
          <p:nvPr/>
        </p:nvPicPr>
        <p:blipFill>
          <a:blip r:embed="rId2"/>
          <a:stretch/>
        </p:blipFill>
        <p:spPr>
          <a:xfrm>
            <a:off x="685800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" name="www" descr=""/>
          <p:cNvPicPr/>
          <p:nvPr/>
        </p:nvPicPr>
        <p:blipFill>
          <a:blip r:embed="rId3"/>
          <a:stretch/>
        </p:blipFill>
        <p:spPr>
          <a:xfrm>
            <a:off x="457200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" name="www" descr=""/>
          <p:cNvPicPr/>
          <p:nvPr/>
        </p:nvPicPr>
        <p:blipFill>
          <a:blip r:embed="rId4"/>
          <a:stretch/>
        </p:blipFill>
        <p:spPr>
          <a:xfrm>
            <a:off x="228600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" name="www" descr=""/>
          <p:cNvPicPr/>
          <p:nvPr/>
        </p:nvPicPr>
        <p:blipFill>
          <a:blip r:embed="rId5"/>
          <a:stretch/>
        </p:blipFill>
        <p:spPr>
          <a:xfrm>
            <a:off x="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" name="www" descr=""/>
          <p:cNvPicPr/>
          <p:nvPr/>
        </p:nvPicPr>
        <p:blipFill>
          <a:blip r:embed="rId6"/>
          <a:stretch/>
        </p:blipFill>
        <p:spPr>
          <a:xfrm>
            <a:off x="68580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" name="www" descr=""/>
          <p:cNvPicPr/>
          <p:nvPr/>
        </p:nvPicPr>
        <p:blipFill>
          <a:blip r:embed="rId7"/>
          <a:stretch/>
        </p:blipFill>
        <p:spPr>
          <a:xfrm>
            <a:off x="45720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" name="www" descr=""/>
          <p:cNvPicPr/>
          <p:nvPr/>
        </p:nvPicPr>
        <p:blipFill>
          <a:blip r:embed="rId8"/>
          <a:stretch/>
        </p:blipFill>
        <p:spPr>
          <a:xfrm>
            <a:off x="228600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www" descr=""/>
          <p:cNvPicPr/>
          <p:nvPr/>
        </p:nvPicPr>
        <p:blipFill>
          <a:blip r:embed="rId9"/>
          <a:stretch/>
        </p:blipFill>
        <p:spPr>
          <a:xfrm>
            <a:off x="0" y="2133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" name="www" descr=""/>
          <p:cNvPicPr/>
          <p:nvPr/>
        </p:nvPicPr>
        <p:blipFill>
          <a:blip r:embed="rId10"/>
          <a:stretch/>
        </p:blipFill>
        <p:spPr>
          <a:xfrm>
            <a:off x="685800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" name="www" descr=""/>
          <p:cNvPicPr/>
          <p:nvPr/>
        </p:nvPicPr>
        <p:blipFill>
          <a:blip r:embed="rId11"/>
          <a:stretch/>
        </p:blipFill>
        <p:spPr>
          <a:xfrm>
            <a:off x="457200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" name="www" descr=""/>
          <p:cNvPicPr/>
          <p:nvPr/>
        </p:nvPicPr>
        <p:blipFill>
          <a:blip r:embed="rId12"/>
          <a:stretch/>
        </p:blipFill>
        <p:spPr>
          <a:xfrm>
            <a:off x="228600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" name="www" descr=""/>
          <p:cNvPicPr/>
          <p:nvPr/>
        </p:nvPicPr>
        <p:blipFill>
          <a:blip r:embed="rId13"/>
          <a:stretch/>
        </p:blipFill>
        <p:spPr>
          <a:xfrm>
            <a:off x="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" name="cabo" descr=""/>
          <p:cNvPicPr/>
          <p:nvPr/>
        </p:nvPicPr>
        <p:blipFill>
          <a:blip r:embed="rId14"/>
          <a:stretch/>
        </p:blipFill>
        <p:spPr>
          <a:xfrm>
            <a:off x="228600" y="1371600"/>
            <a:ext cx="8001000" cy="247968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E689-D1FA-4426-B53B-AF0AA4BF987E}" type="slidenum">
              <a:rPr b="0" lang="pt-B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pt-PT" sz="1400" spc="-1" strike="noStrike">
                <a:solidFill>
                  <a:srgbClr val="000000"/>
                </a:solidFill>
                <a:latin typeface="Verdana"/>
              </a:rPr>
              <a:t>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14400" y="1523880"/>
            <a:ext cx="152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winamp.com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houtcast.com/download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houtcast.com/download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cin.ufpe.br/~musica/cmps.html" TargetMode="External"/><Relationship Id="rId2" Type="http://schemas.openxmlformats.org/officeDocument/2006/relationships/hyperlink" Target="http://www.cin.ufpe.br/~musica/cmps.html" TargetMode="External"/><Relationship Id="rId3" Type="http://schemas.openxmlformats.org/officeDocument/2006/relationships/hyperlink" Target="http://www.cin.ufpe.br/~musica/cmps.html" TargetMode="External"/><Relationship Id="rId4" Type="http://schemas.openxmlformats.org/officeDocument/2006/relationships/hyperlink" Target="http://www.cin.ufpe.br/~musica/cmps.html" TargetMode="External"/><Relationship Id="rId5" Type="http://schemas.openxmlformats.org/officeDocument/2006/relationships/hyperlink" Target="http://www.cin.ufpe.br/~musica/cmps.html" TargetMode="External"/><Relationship Id="rId6" Type="http://schemas.openxmlformats.org/officeDocument/2006/relationships/hyperlink" Target="http://www.cin.ufpe.br/~musica/cmps.html" TargetMode="External"/><Relationship Id="rId7" Type="http://schemas.openxmlformats.org/officeDocument/2006/relationships/hyperlink" Target="http://www.cin.ufpe.br/~musica/cmps.html" TargetMode="External"/><Relationship Id="rId8" Type="http://schemas.openxmlformats.org/officeDocument/2006/relationships/hyperlink" Target="http://www.cin.ufpe.br/~musica/cmps.html" TargetMode="External"/><Relationship Id="rId9" Type="http://schemas.openxmlformats.org/officeDocument/2006/relationships/hyperlink" Target="http://www.cin.ufpe.br/~musica/cmps.html" TargetMode="External"/><Relationship Id="rId10" Type="http://schemas.openxmlformats.org/officeDocument/2006/relationships/hyperlink" Target="http://www.music-center.com.br/internet.htm" TargetMode="External"/><Relationship Id="rId11" Type="http://schemas.openxmlformats.org/officeDocument/2006/relationships/hyperlink" Target="http://www.music-center.com.br/internet.htm" TargetMode="External"/><Relationship Id="rId12" Type="http://schemas.openxmlformats.org/officeDocument/2006/relationships/hyperlink" Target="http://www.music-center.com.br/internet.htm" TargetMode="External"/><Relationship Id="rId13" Type="http://schemas.openxmlformats.org/officeDocument/2006/relationships/hyperlink" Target="http://www.music-center.com.br/internet.htm" TargetMode="External"/><Relationship Id="rId14" Type="http://schemas.openxmlformats.org/officeDocument/2006/relationships/hyperlink" Target="http://www.music-center.com.br/internet.htm" TargetMode="External"/><Relationship Id="rId15" Type="http://schemas.openxmlformats.org/officeDocument/2006/relationships/hyperlink" Target="http://www.music-center.com.br/internet.htm" TargetMode="External"/><Relationship Id="rId16" Type="http://schemas.openxmlformats.org/officeDocument/2006/relationships/hyperlink" Target="http://www.music-center.com.br/internet.htm" TargetMode="External"/><Relationship Id="rId17" Type="http://schemas.openxmlformats.org/officeDocument/2006/relationships/hyperlink" Target="http://www.music-center.com.br/internet.htm" TargetMode="External"/><Relationship Id="rId18" Type="http://schemas.openxmlformats.org/officeDocument/2006/relationships/hyperlink" Target="http://www.music-center.com.br/internet.htm" TargetMode="External"/><Relationship Id="rId19" Type="http://schemas.openxmlformats.org/officeDocument/2006/relationships/hyperlink" Target="http://www.viewz.com/aol/shoppingguide/musicguide.shtml" TargetMode="External"/><Relationship Id="rId20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winamp.com/" TargetMode="External"/><Relationship Id="rId2" Type="http://schemas.openxmlformats.org/officeDocument/2006/relationships/hyperlink" Target="http://www.shoutcast.com/" TargetMode="External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iis.fhg.de/amm/techinf/layer3/index.html#Slide 3" TargetMode="External"/><Relationship Id="rId2" Type="http://schemas.openxmlformats.org/officeDocument/2006/relationships/hyperlink" Target="http://www.iis.fhg.de/amm/techinf/layer3/index.html#Slide 3" TargetMode="External"/><Relationship Id="rId3" Type="http://schemas.openxmlformats.org/officeDocument/2006/relationships/hyperlink" Target="http://www.iis.fhg.de/amm/techinf/layer3/index.html#Slide 3" TargetMode="External"/><Relationship Id="rId4" Type="http://schemas.openxmlformats.org/officeDocument/2006/relationships/hyperlink" Target="http://www.iis.fhg.de/amm/techinf/layer3/index.html#Slide 3" TargetMode="External"/><Relationship Id="rId5" Type="http://schemas.openxmlformats.org/officeDocument/2006/relationships/hyperlink" Target="http://www.iis.fhg.de/amm/techinf/layer3/index.html#Slide 3" TargetMode="External"/><Relationship Id="rId6" Type="http://schemas.openxmlformats.org/officeDocument/2006/relationships/hyperlink" Target="http://www.iis.fhg.de/amm/techinf/layer3/index.html#Slide 3" TargetMode="External"/><Relationship Id="rId7" Type="http://schemas.openxmlformats.org/officeDocument/2006/relationships/hyperlink" Target="http://www.iis.fhg.de/amm/techinf/layer3/index.html#Slide 3" TargetMode="External"/><Relationship Id="rId8" Type="http://schemas.openxmlformats.org/officeDocument/2006/relationships/hyperlink" Target="http://www.iis.fhg.de/amm/techinf/layer3/index.html#Slide 3" TargetMode="External"/><Relationship Id="rId9" Type="http://schemas.openxmlformats.org/officeDocument/2006/relationships/hyperlink" Target="http://www.iis.fhg.de/amm/techinf/layer3/index.html#Slide 3" TargetMode="External"/><Relationship Id="rId10" Type="http://schemas.openxmlformats.org/officeDocument/2006/relationships/hyperlink" Target="http://www.iis.fhg.de/amm/techinf/layer3/index.html#Slide 3" TargetMode="External"/><Relationship Id="rId11" Type="http://schemas.openxmlformats.org/officeDocument/2006/relationships/hyperlink" Target="http://www.iis.fhg.de/amm/techinf/layer3/index.html#Slide 3" TargetMode="External"/><Relationship Id="rId12" Type="http://schemas.openxmlformats.org/officeDocument/2006/relationships/hyperlink" Target="http://www.iis.fhg.de/amm/techinf/layer3/index.html#Slide 3" TargetMode="External"/><Relationship Id="rId13" Type="http://schemas.openxmlformats.org/officeDocument/2006/relationships/hyperlink" Target="http://www.iis.fhg.de/amm/techinf/layer3/index.html#Slide 3" TargetMode="External"/><Relationship Id="rId14" Type="http://schemas.openxmlformats.org/officeDocument/2006/relationships/hyperlink" Target="http://www.iis.fhg.de/amm/techinf/layer3/index.html#Slide 3" TargetMode="External"/><Relationship Id="rId15" Type="http://schemas.openxmlformats.org/officeDocument/2006/relationships/hyperlink" Target="http://www.oreilly.com/catalog/mp3/chapter/ch02.html" TargetMode="External"/><Relationship Id="rId16" Type="http://schemas.openxmlformats.org/officeDocument/2006/relationships/hyperlink" Target="http://www.oreilly.com/catalog/mp3/chapter/ch02.html" TargetMode="External"/><Relationship Id="rId17" Type="http://schemas.openxmlformats.org/officeDocument/2006/relationships/hyperlink" Target="http://www.oreilly.com/catalog/mp3/chapter/ch02.html" TargetMode="External"/><Relationship Id="rId18" Type="http://schemas.openxmlformats.org/officeDocument/2006/relationships/hyperlink" Target="http://www.oreilly.com/catalog/mp3/chapter/ch02.html" TargetMode="External"/><Relationship Id="rId19" Type="http://schemas.openxmlformats.org/officeDocument/2006/relationships/hyperlink" Target="http://www.oreilly.com/catalog/mp3/chapter/ch02.html" TargetMode="External"/><Relationship Id="rId20" Type="http://schemas.openxmlformats.org/officeDocument/2006/relationships/hyperlink" Target="http://www.oreilly.com/catalog/mp3/chapter/ch02.html" TargetMode="External"/><Relationship Id="rId21" Type="http://schemas.openxmlformats.org/officeDocument/2006/relationships/hyperlink" Target="http://www.oreilly.com/catalog/mp3/chapter/ch02.html" TargetMode="External"/><Relationship Id="rId22" Type="http://schemas.openxmlformats.org/officeDocument/2006/relationships/hyperlink" Target="http://www.oreilly.com/catalog/mp3/chapter/ch02.html" TargetMode="External"/><Relationship Id="rId23" Type="http://schemas.openxmlformats.org/officeDocument/2006/relationships/hyperlink" Target="http://www.oreilly.com/catalog/mp3/chapter/ch02.html" TargetMode="External"/><Relationship Id="rId24" Type="http://schemas.openxmlformats.org/officeDocument/2006/relationships/hyperlink" Target="http://maccentral.macworld.com/news/9901/27.mp4.shtml" TargetMode="External"/><Relationship Id="rId25" Type="http://schemas.openxmlformats.org/officeDocument/2006/relationships/hyperlink" Target="http://maccentral.macworld.com/news/9901/27.mp4.shtml" TargetMode="External"/><Relationship Id="rId26" Type="http://schemas.openxmlformats.org/officeDocument/2006/relationships/hyperlink" Target="http://maccentral.macworld.com/news/9901/27.mp4.shtml" TargetMode="External"/><Relationship Id="rId27" Type="http://schemas.openxmlformats.org/officeDocument/2006/relationships/hyperlink" Target="http://maccentral.macworld.com/news/9901/27.mp4.shtml" TargetMode="External"/><Relationship Id="rId28" Type="http://schemas.openxmlformats.org/officeDocument/2006/relationships/hyperlink" Target="http://maccentral.macworld.com/news/9901/27.mp4.shtml" TargetMode="External"/><Relationship Id="rId29" Type="http://schemas.openxmlformats.org/officeDocument/2006/relationships/hyperlink" Target="http://maccentral.macworld.com/news/9901/27.mp4.shtml" TargetMode="External"/><Relationship Id="rId30" Type="http://schemas.openxmlformats.org/officeDocument/2006/relationships/hyperlink" Target="http://www.chaosgroup.org/corporate/media_release_item.asp?newsItemID=177" TargetMode="External"/><Relationship Id="rId31" Type="http://schemas.openxmlformats.org/officeDocument/2006/relationships/hyperlink" Target="http://www.chaosgroup.org/corporate/media_release_item.asp?newsItemID=177" TargetMode="External"/><Relationship Id="rId32" Type="http://schemas.openxmlformats.org/officeDocument/2006/relationships/hyperlink" Target="http://www.chaosgroup.org/corporate/media_release_item.asp?newsItemID=177" TargetMode="External"/><Relationship Id="rId33" Type="http://schemas.openxmlformats.org/officeDocument/2006/relationships/hyperlink" Target="http://www.chaosgroup.org/corporate/media_release_item.asp?newsItemID=177" TargetMode="External"/><Relationship Id="rId34" Type="http://schemas.openxmlformats.org/officeDocument/2006/relationships/hyperlink" Target="http://www.chaosgroup.org/corporate/media_release_item.asp?newsItemID=177" TargetMode="External"/><Relationship Id="rId3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Áudio na Internet e MP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Ivo Frazã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Tiago Barr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Rafael Dona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Rodrigo Bor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www" descr=""/>
          <p:cNvPicPr/>
          <p:nvPr/>
        </p:nvPicPr>
        <p:blipFill>
          <a:blip r:embed="rId1"/>
          <a:stretch/>
        </p:blipFill>
        <p:spPr>
          <a:xfrm>
            <a:off x="0" y="45165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www" descr=""/>
          <p:cNvPicPr/>
          <p:nvPr/>
        </p:nvPicPr>
        <p:blipFill>
          <a:blip r:embed="rId2"/>
          <a:stretch/>
        </p:blipFill>
        <p:spPr>
          <a:xfrm>
            <a:off x="2286000" y="4527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www" descr=""/>
          <p:cNvPicPr/>
          <p:nvPr/>
        </p:nvPicPr>
        <p:blipFill>
          <a:blip r:embed="rId3"/>
          <a:stretch/>
        </p:blipFill>
        <p:spPr>
          <a:xfrm>
            <a:off x="4572000" y="4527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www" descr=""/>
          <p:cNvPicPr/>
          <p:nvPr/>
        </p:nvPicPr>
        <p:blipFill>
          <a:blip r:embed="rId4"/>
          <a:stretch/>
        </p:blipFill>
        <p:spPr>
          <a:xfrm>
            <a:off x="6858000" y="4527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E3AF-1FA2-42D3-A399-8E7D56D506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Soluções: Largura de Banda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mpactação e Codificação (representação alternativa) de d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elhor suporte de re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elhor suporte de sistemas operacion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9706-FD91-4530-AFBA-EA61668B59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Soluções: Largura de Band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Compactaçã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iminar redundâncias e otimizar forma de armazena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alAud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a das primeiras propostas para a transmissão de sons em tempo-real  pela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pendência das condições de transmissão dos d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mprometimento significativo da qualidade do á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26173-63D4-4666-9A65-14E7832418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Soluções: Largura de Band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Compactaçã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P3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oa compressão: até 11: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x. 4 min de música </a:t>
            </a:r>
            <a:r>
              <a:rPr b="0" lang="pt-BR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40MB (PCM) e 3,5MB (MP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oa qualidade, pois as perdas são pouco significativ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odificação não pode ser feita em tempo real, só a decodif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312E-1ABE-4EF2-B7FE-FA678DF540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Soluções: Largura de Band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ificaçã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D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mazenar informação como notas musicais ao invés de ondas son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ão há controle de qualidade, pois depende do sintetizador do receptor (pouquíssima informação sobre forma de on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uca disponibilidade de conteú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tativa de melhorar em relação ao MIDI, com informações sobre timbre do instru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raso, devido ao processamento pesado exig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CEF53-A5B1-4014-8405-C12FC19605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Soluções: Atras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lhorar o suporte de sistemas operaciona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goritmos especiais para aplicações de tempo 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role de Admiss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processo só é aceito para ser executado se houver recurs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erva de recur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cursos exclusivos para aplicações em tempo re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uf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rmazenagem temporária (bufferização) dos dados “no cliente” atrasando o início da execução por alguns segund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AB3E1-A439-4B44-BABF-920A4E12AD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ções Conjunt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oblema de ba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forço na estrutura física (Cabos e Rote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tilização de meios mais confiáveis (fibra-óti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oblema de “latência” e jitt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mprego de novos protocolos de rede e hard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8D3DF-7767-4A91-9F8F-2A8F282907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ções Conjunt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iciativ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des A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ervas de Recur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trole de Admiss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exões dedic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Pv6: suporte transmitir em tempo real dado que a banda, a latência e o jitter são conhec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E611-439E-4875-BBA3-6467869FFF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Verdana"/>
              </a:rPr>
              <a:t>Stream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9996E-9A32-4D94-AFDB-DF198075BD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Stream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Concei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Técnica de transferência de dados em um um fluxo (stream) contín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Os dados são processados a medida que vão chegando no cliente, sem precisar esperar que o arquivo inteiro seja transmiti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Utilizado para transmissões “ao vivo” ou para arquivos de mídia gran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BC165-CB5F-455B-873D-9469676757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Streaming na We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Servidores fazem broadcast de streams de áudio na interne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Shoutcast, Launchcast, Windows Media Server, Iceca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Clientes “sintonizam” os servidores e tocam as músicas a medida que estas são transmitid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Winamp, Sonique, Windows Media Player, XM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8C054-9059-452A-90C9-46AE54F82B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Áudio na Internet: Problemas e Soluçõ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tre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P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P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A5E00-03C8-406C-946C-72CBE36DF2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Criando seu servid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Shoutcast e Winam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143000" y="2971800"/>
            <a:ext cx="6934320" cy="3534120"/>
            <a:chOff x="1143000" y="2971800"/>
            <a:chExt cx="6934320" cy="3534120"/>
          </a:xfrm>
        </p:grpSpPr>
        <p:sp>
          <p:nvSpPr>
            <p:cNvPr id="133" name=""/>
            <p:cNvSpPr/>
            <p:nvPr/>
          </p:nvSpPr>
          <p:spPr>
            <a:xfrm>
              <a:off x="1143000" y="3121200"/>
              <a:ext cx="1981080" cy="1261800"/>
            </a:xfrm>
            <a:prstGeom prst="flowChartDocument">
              <a:avLst/>
            </a:prstGeom>
            <a:solidFill>
              <a:srgbClr val="969696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Verdana"/>
                </a:rPr>
                <a:t>Wina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76720" y="3193920"/>
              <a:ext cx="2743200" cy="1114560"/>
            </a:xfrm>
            <a:custGeom>
              <a:avLst/>
              <a:gdLst>
                <a:gd name="textAreaLeft" fmla="*/ 428400 w 2743200"/>
                <a:gd name="textAreaRight" fmla="*/ 2400480 w 2743200"/>
                <a:gd name="textAreaTop" fmla="*/ 278640 h 1114560"/>
                <a:gd name="textAreaBottom" fmla="*/ 835920 h 11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ffffff"/>
                  </a:solidFill>
                  <a:latin typeface="Verdana"/>
                </a:rPr>
                <a:t>Shoutcast plu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72200" y="2971800"/>
              <a:ext cx="1905120" cy="1486080"/>
            </a:xfrm>
            <a:prstGeom prst="flowChartPunchedCard">
              <a:avLst/>
            </a:prstGeom>
            <a:solidFill>
              <a:srgbClr val="969696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Verdana"/>
                </a:rPr>
                <a:t>Shoutca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Verdana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05320" y="4829040"/>
              <a:ext cx="2514600" cy="1409760"/>
            </a:xfrm>
            <a:prstGeom prst="irregularSeal1">
              <a:avLst/>
            </a:prstGeom>
            <a:solidFill>
              <a:srgbClr val="969696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400" spc="-1" strike="noStrike">
                  <a:solidFill>
                    <a:srgbClr val="ffffff"/>
                  </a:solidFill>
                  <a:latin typeface="Verdana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6248160" y="4605120"/>
              <a:ext cx="1447560" cy="133668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1336680"/>
                <a:gd name="textAreaBottom" fmla="*/ 1337040 h 133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4921" y="2900"/>
                  </a:lnTo>
                  <a:lnTo>
                    <a:pt x="14921" y="0"/>
                  </a:lnTo>
                  <a:lnTo>
                    <a:pt x="21600" y="6079"/>
                  </a:lnTo>
                  <a:lnTo>
                    <a:pt x="14921" y="12158"/>
                  </a:lnTo>
                  <a:lnTo>
                    <a:pt x="14921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53680" y="445788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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53680" y="549756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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4829040"/>
              <a:ext cx="533520" cy="222480"/>
            </a:xfrm>
            <a:prstGeom prst="leftArrow">
              <a:avLst>
                <a:gd name="adj1" fmla="val 50000"/>
                <a:gd name="adj2" fmla="val 59951"/>
              </a:avLst>
            </a:prstGeom>
            <a:solidFill>
              <a:srgbClr val="969696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5480" y="5867280"/>
              <a:ext cx="533520" cy="223920"/>
            </a:xfrm>
            <a:prstGeom prst="leftArrow">
              <a:avLst>
                <a:gd name="adj1" fmla="val 50000"/>
                <a:gd name="adj2" fmla="val 59566"/>
              </a:avLst>
            </a:prstGeom>
            <a:solidFill>
              <a:srgbClr val="969696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3DEF7-F4CE-40A3-8FEE-E30CD92296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Criando seu servid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Requisitos mínim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entium 200 Mhz com 64MB 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Windows, Winamp, Shoutcast plugin, Shoutcast 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Conexão com a Internet (velocidade ideal para 8 conexões a 24Kbps: 256 Kbp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DEA93-B49F-44AF-81DF-80EB061EFC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Criando seu servid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Passo 1: Instalando o MP3 Player (Winam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Como ainda não existe plugin do Shoutcast para o Winamp3, devemos instalar o Winamp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4d4d4d"/>
                </a:solidFill>
                <a:uFillTx/>
                <a:latin typeface="Verdana"/>
                <a:hlinkClick r:id="rId1"/>
              </a:rPr>
              <a:t>http://www.winamp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ECF6F-9A07-4E65-B07E-2145CA38B9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Criando seu servid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Passo 2: Instalando o plugin do Shoutcast para o Winam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Este plugin enviará a saída do Winamp para o servidor de strea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4d4d4d"/>
                </a:solidFill>
                <a:uFillTx/>
                <a:latin typeface="Verdana"/>
                <a:hlinkClick r:id="rId1"/>
              </a:rPr>
              <a:t>http://www.shoutcast.com/downl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Selecione “Be a DJ”, baixe e instale o plugin para Wina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2DCC5-1548-419F-8AA8-B3F9171909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Criando seu servid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Passo 3: Instalando o Shoutcast Ser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O servidor de streaming que será responsável por transmitir o áud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4d4d4d"/>
                </a:solidFill>
                <a:uFillTx/>
                <a:latin typeface="Verdana"/>
                <a:hlinkClick r:id="rId1"/>
              </a:rPr>
              <a:t>http://www.shoutcast.com/downl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Selecione “Be a Server”, baixe e instale o serv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89549-42D6-42CE-A996-0AC8EFF01B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Criando seu servid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Passo 4: Configurando o Shoutcast Ser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Selecione “Edit Config” na janela principal do serv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Configu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MaxUser: máximo de usuá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Password: senha de conexão ao serv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Reinicie o serv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4D428-08F8-4519-ABFD-E89EF7E9C0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Criando seu servid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Passo 5: Conectando o Winamp com o serv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No Winamp, abra a janela de “preferences” (Ctrl+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Selecione “DSP Effect” na coluna da esquerda e “Shoutcast Source for Winamp” na coluna da direi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Na janela que irá aparecer, configure o servidor e clique em “connec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Agora é só escolher as músicas e comandar sua rádio on-lin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D2BCB-E573-4BB2-A5D8-1280AD9667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Melhorando sua rád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O Winamp possui plugins para ligar microfone e plugins de mixer, conectando várias instâncias do Winam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Verdana"/>
              </a:rPr>
              <a:t>Sua imaginação é o limite! :-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62BCE-ECE0-4D53-9391-0A35F6095A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Verdana"/>
              </a:rPr>
              <a:t>MP3 e MP4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468EA-B50E-4C62-B9CA-662ADFED39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Sub-Band 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i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étodo poderoso e geral de codificar sinais de áudi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cionado com o conceito do sistema auditivo human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idéia do SBC é retirar informações que são mascarada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ado não é o mesmo que o sinal original, mas com a computação correta, o ouvido humano não consegue notar diferenç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áudio MPEG é o exemplo mais popular do SB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473E-1646-4E3F-A745-62D688F330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Verdana"/>
              </a:rPr>
              <a:t>Áudio na Intern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AF24-2323-4FE5-B9E6-CA12DC7D69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squema do SBC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78600" y="2438280"/>
            <a:ext cx="8047080" cy="3535200"/>
            <a:chOff x="678600" y="2438280"/>
            <a:chExt cx="8047080" cy="3535200"/>
          </a:xfrm>
        </p:grpSpPr>
        <p:sp>
          <p:nvSpPr>
            <p:cNvPr id="162" name=""/>
            <p:cNvSpPr/>
            <p:nvPr/>
          </p:nvSpPr>
          <p:spPr>
            <a:xfrm>
              <a:off x="741240" y="2438280"/>
              <a:ext cx="145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Digital Audio 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Signal (PC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0400" y="3125880"/>
              <a:ext cx="171684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Time/Frequency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Ma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77720" y="3125880"/>
              <a:ext cx="159336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Quantizer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Co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13880" y="3125880"/>
              <a:ext cx="92448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Pa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0320" y="4087800"/>
              <a:ext cx="162684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Psychoacoustic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96120" y="5392800"/>
              <a:ext cx="120024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Unpa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46240" y="5530680"/>
              <a:ext cx="1614960" cy="337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Reco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28920" y="5392800"/>
              <a:ext cx="171684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Frequency/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Ma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38200" y="2644920"/>
              <a:ext cx="1887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ISO/MPEG/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Bit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8600" y="4843440"/>
              <a:ext cx="1887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ISO/MPEG/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Bitstr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67320" y="4843440"/>
              <a:ext cx="145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Digital Audio </a:t>
              </a:r>
              <a:br>
                <a:rPr sz="1600"/>
              </a:b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Signal (PC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6160" y="3400560"/>
              <a:ext cx="73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54360" y="340056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70760" y="3400560"/>
              <a:ext cx="73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29400" y="340056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6240" y="5667480"/>
              <a:ext cx="73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37040" y="566748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16640" y="5667480"/>
              <a:ext cx="4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32880" y="5667480"/>
              <a:ext cx="73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82760" y="4498920"/>
              <a:ext cx="26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27440" y="4292640"/>
              <a:ext cx="31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27440" y="3400560"/>
              <a:ext cx="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82760" y="3400560"/>
              <a:ext cx="0" cy="10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827600" y="3733560"/>
              <a:ext cx="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21F00-8F59-450C-9610-2E731847BE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dificação em Sub-band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figuraadal1-0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01028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086CC-81CD-4422-8747-632687959270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antizaçã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figuraadal1-4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400800" cy="38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F9F2-0D88-48B7-ADA6-CDC55853829C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rquivos de áudio grandes. Ex: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No final da década de 80 (1988), a ISO criou o  Motion Pictures Expert Group (MPEG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Grupo de estudo cujo objetiv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envolver um sistema de codificação e compressão arquivos de vídeo e áud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9049C-5AC9-4D7C-A762-BF38B7C142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ter qualidade e diminuir tamanho dos arquiv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 MPEG produziu (Ex: MPEG-1, MPEG-2, etc...) e está produzindo atualmente outros padrões que se relacionam ao uso prático daqueles padrõ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B885-683D-4FB6-9512-B92C6D26D4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PE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PEG-1: Codificação a uma taxa de 1.5Mbps para áudio e víde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1.2 Mbps para vídeo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0.3 Mbps para o áud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PEG suporta freqüências de amostragens PCM de 32, 44.1 e 48 KHz codificando-as numa taxa de 32 a 192Kbps por canal de áudio (depende do layer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E5AA-1EC5-417B-A87E-0F16BF3836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ressão MPE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Tipos de codificação para compressã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1.  Codificação percept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m perda de informaç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2. Codificação Huffm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em perda de informaç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8AEC-2A9F-43AB-810A-315C07030C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dificação Perceptua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9" name="ear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1714680" cy="2320920"/>
          </a:xfrm>
          <a:prstGeom prst="rect">
            <a:avLst/>
          </a:prstGeom>
          <a:ln w="0">
            <a:noFill/>
          </a:ln>
        </p:spPr>
      </p:pic>
      <p:pic>
        <p:nvPicPr>
          <p:cNvPr id="200" name="onda1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2114640" cy="822240"/>
          </a:xfrm>
          <a:prstGeom prst="rect">
            <a:avLst/>
          </a:prstGeom>
          <a:ln w="0">
            <a:noFill/>
          </a:ln>
        </p:spPr>
      </p:pic>
      <p:pic>
        <p:nvPicPr>
          <p:cNvPr id="201" name="onda2" descr=""/>
          <p:cNvPicPr/>
          <p:nvPr/>
        </p:nvPicPr>
        <p:blipFill>
          <a:blip r:embed="rId3"/>
          <a:stretch/>
        </p:blipFill>
        <p:spPr>
          <a:xfrm>
            <a:off x="5181480" y="3200400"/>
            <a:ext cx="2114640" cy="85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6108-B6E6-40AE-A0E5-AAAD63435C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Psico-Acústic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 psico-acústica modela o sistema auditivo huma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incipais fator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imiar auditiv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ascaramen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imultâneo 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empo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DA733-3DC2-4EF8-9CFA-831EC9938C5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ar auditiv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eve o menor nível ao qual o ouvido humano pode detectar um som a uma determinada freqüê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 codificador perceptual compara o sinal de entrada com o limiar de audição e descarta os sinais que estão abaixo do limi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0AA5D-3D06-47FF-8B40-A90D71CBD0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Caminho do So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507000" y="2828880"/>
            <a:ext cx="1951200" cy="2639880"/>
            <a:chOff x="6507000" y="2828880"/>
            <a:chExt cx="1951200" cy="2639880"/>
          </a:xfrm>
        </p:grpSpPr>
        <p:sp>
          <p:nvSpPr>
            <p:cNvPr id="67" name=""/>
            <p:cNvSpPr/>
            <p:nvPr/>
          </p:nvSpPr>
          <p:spPr>
            <a:xfrm>
              <a:off x="6507000" y="2828880"/>
              <a:ext cx="1951200" cy="263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69720" y="3036960"/>
              <a:ext cx="163008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oc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imediatam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68560" y="3732120"/>
              <a:ext cx="183132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Armazenar e/ou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Tocar (down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77080" y="4775400"/>
              <a:ext cx="120960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Enviar p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e-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52640" y="4357080"/>
              <a:ext cx="259920" cy="347040"/>
            </a:xfrm>
            <a:prstGeom prst="downArrow">
              <a:avLst>
                <a:gd name="adj1" fmla="val 50000"/>
                <a:gd name="adj2" fmla="val 3338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686120" y="2967120"/>
            <a:ext cx="1625760" cy="2014560"/>
            <a:chOff x="4686120" y="2967120"/>
            <a:chExt cx="1625760" cy="2014560"/>
          </a:xfrm>
        </p:grpSpPr>
        <p:sp>
          <p:nvSpPr>
            <p:cNvPr id="73" name=""/>
            <p:cNvSpPr/>
            <p:nvPr/>
          </p:nvSpPr>
          <p:spPr>
            <a:xfrm>
              <a:off x="5007960" y="3174120"/>
              <a:ext cx="1168200" cy="337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Verdana"/>
                </a:rPr>
                <a:t>Stream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31120" y="3661920"/>
              <a:ext cx="153864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ransferência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ia HT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31120" y="4354920"/>
              <a:ext cx="153864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ransferênci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ia 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86120" y="2967120"/>
              <a:ext cx="1625760" cy="201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984960" y="2424240"/>
            <a:ext cx="1770120" cy="3646440"/>
            <a:chOff x="984960" y="2424240"/>
            <a:chExt cx="1770120" cy="3646440"/>
          </a:xfrm>
        </p:grpSpPr>
        <p:sp>
          <p:nvSpPr>
            <p:cNvPr id="78" name=""/>
            <p:cNvSpPr/>
            <p:nvPr/>
          </p:nvSpPr>
          <p:spPr>
            <a:xfrm>
              <a:off x="1143000" y="2702160"/>
              <a:ext cx="1451880" cy="580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rtista grav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 mús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72800" y="3670560"/>
              <a:ext cx="1596600" cy="337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versão A/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84960" y="4419000"/>
              <a:ext cx="1770120" cy="337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rmazen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90360" y="2424240"/>
              <a:ext cx="1756440" cy="364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10480" y="5167080"/>
              <a:ext cx="919800" cy="8240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ass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38440" y="4819680"/>
              <a:ext cx="260280" cy="277920"/>
            </a:xfrm>
            <a:prstGeom prst="downArrow">
              <a:avLst>
                <a:gd name="adj1" fmla="val 50000"/>
                <a:gd name="adj2" fmla="val 2669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38440" y="4055760"/>
              <a:ext cx="260280" cy="277560"/>
            </a:xfrm>
            <a:prstGeom prst="downArrow">
              <a:avLst>
                <a:gd name="adj1" fmla="val 50000"/>
                <a:gd name="adj2" fmla="val 2666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38440" y="3291120"/>
              <a:ext cx="260280" cy="347400"/>
            </a:xfrm>
            <a:prstGeom prst="downArrow">
              <a:avLst>
                <a:gd name="adj1" fmla="val 50000"/>
                <a:gd name="adj2" fmla="val 3336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059280" y="3106800"/>
            <a:ext cx="1417680" cy="1458720"/>
            <a:chOff x="3059280" y="3106800"/>
            <a:chExt cx="1417680" cy="1458720"/>
          </a:xfrm>
        </p:grpSpPr>
        <p:sp>
          <p:nvSpPr>
            <p:cNvPr id="87" name=""/>
            <p:cNvSpPr/>
            <p:nvPr/>
          </p:nvSpPr>
          <p:spPr>
            <a:xfrm>
              <a:off x="3383640" y="3313440"/>
              <a:ext cx="849600" cy="337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Lei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01840" y="4080240"/>
              <a:ext cx="1275120" cy="3373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dific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59280" y="3106800"/>
              <a:ext cx="1365840" cy="145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11880" y="3731760"/>
              <a:ext cx="260280" cy="277560"/>
            </a:xfrm>
            <a:prstGeom prst="downArrow">
              <a:avLst>
                <a:gd name="adj1" fmla="val 50000"/>
                <a:gd name="adj2" fmla="val 2666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248520" y="3276720"/>
            <a:ext cx="360360" cy="177840"/>
          </a:xfrm>
          <a:prstGeom prst="rightArrow">
            <a:avLst>
              <a:gd name="adj1" fmla="val 50000"/>
              <a:gd name="adj2" fmla="val 506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3886200"/>
            <a:ext cx="360360" cy="192240"/>
          </a:xfrm>
          <a:prstGeom prst="rightArrow">
            <a:avLst>
              <a:gd name="adj1" fmla="val 50000"/>
              <a:gd name="adj2" fmla="val 468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143000">
            <a:off x="6248160" y="4343400"/>
            <a:ext cx="436320" cy="146160"/>
          </a:xfrm>
          <a:prstGeom prst="rightArrow">
            <a:avLst>
              <a:gd name="adj1" fmla="val 50000"/>
              <a:gd name="adj2" fmla="val 746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11520" y="3559320"/>
            <a:ext cx="488880" cy="554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581280"/>
            <a:ext cx="428760" cy="584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16880" y="21337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57920" y="2759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dif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15440" y="26193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tribui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93360" y="24811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i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F7C85-92EF-476E-9990-6E161D468B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ar auditivo (cont.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14400" y="2475000"/>
            <a:ext cx="7543800" cy="354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77A5-7F6D-4957-825D-29F024A1BB7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Mascaramento Simultâne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 presença física de um som não garante audibilida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 presença de um som pode causar a não audibilidade de outros s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 limiar de mascaramento descreve o nível onde um som é audív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43BF0-5FD1-4475-8B95-AB544145162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Mascaramento Simultâne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5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4108-C566-47C5-B651-F1A96C65DE3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Mascaramento Tempora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Ocorre quanto tons são tocados próximo no tempo, mas não ao mesmo temp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Um som pode mascarar outro que ocorre depois como também um que ocorra 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Mascaramento simultâneo é mais forte que o mascaramento tempor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B4B8-BDF8-4179-A861-FEC8A5EE8FF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Mascaramento Tempora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5" name="Grafico2-2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239240" cy="36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02C7-0CE9-4F63-894E-BBA9462F742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Codificação de Huffm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riada por David Huffm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aseada na probabilidade de ocorrência dos ev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mostras que acontecem com maior freqüência serão mapeadas para uma palavra de código de tamanho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decodificador contém o mapeamento inver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x: código Mo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e  </a:t>
            </a: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‘.’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z </a:t>
            </a: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“--..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 um sistema de prefixos não duplicados em que  palavras de códigos menores não podem pertencer ao começo de palavras de código mai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A5F7-975C-4F8F-80CD-4676F9A44988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ressão de dad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se algoritmo não é adequado para música. Ele é usado para compressão junto com algoritmos perceptua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tua após a compressão perceptual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sponsável por cerca de 20% da compactaç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mplementa a compactação perceptua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rande polifonia = Muito Mascaramento, Pouca repeti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ons puros = Pouco Mascaramento, Muita repeti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D7D2-F2F9-47AA-ADBA-5F021B8D4E7E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PEG – So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ividido em três camadas (layer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ayer 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enos sofisticad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axa de dados ~192 Kbps/ca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ps DCC (PAS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ayer 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Baseado no Layer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ais complex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axa de dados 96-128 Kbps/ca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er IIA (joint-stereo): 128 e 192 Kbps (par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ureka 147 DAB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46076-1C3E-47F9-9F3C-4B51A133352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PEG - Layer I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yer I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Mais sofisticad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xa de dados ~ 64Kbps/canal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ido pelo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raunhofer Institu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penas os decoders são especificados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á 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liberdade na implementação d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der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0D71-9338-4830-A3A2-E5FF31A0E54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visão em Sub-bandas(cont.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5" name="figuraadal1-3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705360" cy="37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F663B-37D9-45BE-8FAE-FECD69FBB494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Onde está o problema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 exig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plicações musicais e sonoras exigem alta performance da transmissão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 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ecanismos especiais de recuperação de inform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fra-estrutura e tecnologia ainda inadequ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fra-estrutura atual de rede e sistemas operacionais não responde satisfatoriamente à dema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oluções para recuperação de informação sonora não estão desenvolvidas de forma satisfató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448AB-A6DD-4A21-959C-CF9775C871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-band 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le fa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oder não possui modelo psico-acústic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able bit rate x Constant bit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t pool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38306-BEA6-4AB9-9905-B9363491E66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P3 En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P3En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riginal encoder from the Fraunhofer Institu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ME (Lame Ain’t a Mp3 Encod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tent free audio compression codec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ingMP3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dido com a Real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7675-CB29-437D-B9F1-F8A58DF1137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ten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raunhofer 1989 Alemanha e 1996 U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SO Encoder: Liv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coders gratis: Liv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coders vendidos: US$ 1,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ardware decoders: US$ 2,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ftware encoders US$ 25,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usica vendida: US$ 0,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FC6E6-0998-43AA-B89B-8D9F71060E3D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ros Format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% mais compressão a taxas altas (C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AC (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dvanced Audio Cod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8 canais de aud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ido por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raunhofer , Dolb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AT&amp;T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ificação mais eficient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0% menos dados, com qualidade melh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B4D11-48E1-4CAE-950B-F5E74712779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ros Format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inVQ 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ransform-domain Weighted Interleave Vector Quant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TT Human Interface Laboratories (Jap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dade e compressão equivalente a MP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s CPU para codificar e decodific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olby AC-3 (Audio Code number 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uporta 5 canais de Á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do nos cinemas (640 Kbp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do no sistema TH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sado em laserdiscs e  DVDs (384 Kbp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69B60-3504-48E6-A25E-57EFC050A71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ros Format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gg Vorb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nvolvido pela “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Xiphophorus compan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talmente patent-fr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xas de 16 a 128 Kbps/canal (VBR ou CB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78937-0944-46D3-9680-E9D2B4CF799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MP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formato de audio MP4 é um arquivo executável de musica criado pela Global Music Outlet (GMO) em 06/07/1999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requer tocador de instalação do usuário como um Winamp, Windows Media Player, etc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riado para legalizar a distribuição de arquivos de música MP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suem uma ótima qualidade digital, além de mostrar mensagens de texto, capa do albúm do artista e links do produto em questã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B1F5-1121-44DF-9029-52B408E63CA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Vantagens do MP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lidade de som muito boa com tamanho de arquivo menor que o MP3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layer já está incluído no arquivo de áudi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odas as músicas são distribuídas somente com permissão dos produtor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passar MP4 é gratuito, entretanto cada MP4 contém um link direto para o artista da música ou copyright avisando do repass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8E52-0673-418E-BCB8-71CADA9BA47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Vantagens do MP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imples de anexar e enviar junto com o  email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sui marca-d’água da Solana Technology que permite a execução mesmo em broadcast nas rádios AM/F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sui um gráfico colorido, web links e mensagens de tex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sui um gerenciador de música que permite compilar o arquivo sem limi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F399A-611F-465A-9ADC-7D99C0242EC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MP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Configurações mínim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cessador Pentium 133 Mh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und Card 16 bi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istema Operacional Window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Arquivo não é compatível para Macintosh 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22B93-A503-44E9-A5F6-66450C8E839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Problemas decorren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blema 1: Largura de band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dio com qualidade de C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anais de 16bits e taxa de amostragem de 44.1k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argura de banda necessária:  1411.2 Kb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Áudio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 com qualidade de DV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2 canais de 24 bits e taxa de amostragem de 96 k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argura de banda necessária:  4608.0 Kb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EEC2-737C-4FC0-8CCD-744B1E053C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mputação Musical e Processamento do So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"/>
              </a:rPr>
              <a:t>http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2"/>
              </a:rPr>
              <a:t>://www.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3"/>
              </a:rPr>
              <a:t>cin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4"/>
              </a:rPr>
              <a:t>.ufpe.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5"/>
              </a:rPr>
              <a:t>br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6"/>
              </a:rPr>
              <a:t>/~musica/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7"/>
              </a:rPr>
              <a:t>cmps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8"/>
              </a:rPr>
              <a:t>.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9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Áudio na Interne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0"/>
              </a:rPr>
              <a:t>http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1"/>
              </a:rPr>
              <a:t>://www.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2"/>
              </a:rPr>
              <a:t>music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3"/>
              </a:rPr>
              <a:t>-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4"/>
              </a:rPr>
              <a:t>center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5"/>
              </a:rPr>
              <a:t>.com.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6"/>
              </a:rPr>
              <a:t>br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7"/>
              </a:rPr>
              <a:t>/internet.</a:t>
            </a: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8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usic formats and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4d4d4d"/>
                </a:solidFill>
                <a:uFillTx/>
                <a:latin typeface="Verdana"/>
                <a:hlinkClick r:id="rId19"/>
              </a:rPr>
              <a:t>http://www.viewz.com/aol/shoppingguide/musicguide.shtm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ADA3D-A3BB-467F-AEE3-A8129BD03E4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raunhofer Institute'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http://www.iis.fhg.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Winam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4d4d4d"/>
                </a:solidFill>
                <a:uFillTx/>
                <a:latin typeface="Verdana"/>
                <a:hlinkClick r:id="rId1"/>
              </a:rPr>
              <a:t>http://www.winamp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ShoutC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4d4d4d"/>
                </a:solidFill>
                <a:uFillTx/>
                <a:latin typeface="Verdana"/>
                <a:hlinkClick r:id="rId2"/>
              </a:rPr>
              <a:t>http://www.shoutcast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7041-E03C-40FD-AD06-98A2682C07A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P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"/>
              </a:rPr>
              <a:t>http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2"/>
              </a:rPr>
              <a:t>://www.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3"/>
              </a:rPr>
              <a:t>iis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4"/>
              </a:rPr>
              <a:t>.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5"/>
              </a:rPr>
              <a:t>fhg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6"/>
              </a:rPr>
              <a:t>.de/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7"/>
              </a:rPr>
              <a:t>amm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8"/>
              </a:rPr>
              <a:t>/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9"/>
              </a:rPr>
              <a:t>techinf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0"/>
              </a:rPr>
              <a:t>/layer3/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1"/>
              </a:rPr>
              <a:t>index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2"/>
              </a:rPr>
              <a:t>.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3"/>
              </a:rPr>
              <a:t>html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4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5"/>
              </a:rPr>
              <a:t>http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6"/>
              </a:rPr>
              <a:t>://www.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7"/>
              </a:rPr>
              <a:t>oreilly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8"/>
              </a:rPr>
              <a:t>.com/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19"/>
              </a:rPr>
              <a:t>catalog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20"/>
              </a:rPr>
              <a:t>/mp3/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21"/>
              </a:rPr>
              <a:t>chapter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22"/>
              </a:rPr>
              <a:t>/ch02.</a:t>
            </a:r>
            <a:r>
              <a:rPr b="0" lang="pt-BR" sz="1800" spc="-1" strike="noStrike" u="sng">
                <a:solidFill>
                  <a:srgbClr val="4d4d4d"/>
                </a:solidFill>
                <a:uFillTx/>
                <a:latin typeface="Verdana"/>
                <a:hlinkClick r:id="rId23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P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24"/>
              </a:rPr>
              <a:t>http://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25"/>
              </a:rPr>
              <a:t>maccentral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26"/>
              </a:rPr>
              <a:t>.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27"/>
              </a:rPr>
              <a:t>macworld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28"/>
              </a:rPr>
              <a:t>.com/news/9901/27.mp4.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29"/>
              </a:rPr>
              <a:t>s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30"/>
              </a:rPr>
              <a:t>http://www.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31"/>
              </a:rPr>
              <a:t>chaosgroup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32"/>
              </a:rPr>
              <a:t>.org/corporate/media_release_item.asp?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33"/>
              </a:rPr>
              <a:t>newsItemID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Verdana"/>
                <a:hlinkClick r:id="rId34"/>
              </a:rPr>
              <a:t>=17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ub-band co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http://www.otolith.com/pub/u/howitt/sbc.tutorial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19B98-236E-47D6-B523-EEC2A9484D5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8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Verdana"/>
              </a:rPr>
              <a:t>FI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305F-FED5-4E28-BC27-31FE381B1D5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Problemas decorren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roblema 2: Atra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atência” - diferença entre tempo de saída e chegada dos d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Jitter - variação de atra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terrupções na mús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mpossibilidade de interatividad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(em Vídeo Conferência, um atraso de 1s é tolerável, enquanto em música - atraso de 1s é inaceitáv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6E72-127C-49CC-BEED-CC99FF15C1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Problemas decorren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a 3: som é difícil de ser indexado e recuper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o fazer busca por peças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 harmonia modern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cada por orquestra de câmar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 uma sonoridade do tipo x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de tem um solo de saxofon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ja melodia é mais ou menos esta (assobio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7EBC6-2AAE-43B3-8243-07EECC7C9A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 Black"/>
              </a:rPr>
              <a:t>Infra-estrutur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blemas da infra-estrutura at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locidade e banda de transmiss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odems: 56Kbps, Cable Modems: 1,5Mbps (1411.2Kbps desejad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esmo que desse para enviar, </a:t>
            </a:r>
            <a:r>
              <a:rPr b="0" lang="pt-PT" sz="1800" spc="-1" strike="noStrike">
                <a:solidFill>
                  <a:srgbClr val="000000"/>
                </a:solidFill>
                <a:latin typeface="Verdana"/>
              </a:rPr>
              <a:t>poderia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conqestion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tocolos de Red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ojetados para troca de informação textual e transferência de arquivos. Não otimizados para grande quantidade de d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istemas operaciona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uportam um número qualquer de tarefas sem preocupação com a qualidade do serviço oferecido (Q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FPE - CIn - Computação Musical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A2E5-0532-4E03-BB9D-71910F2234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22:24:24Z</dcterms:created>
  <dc:creator>Bilbo Baggins</dc:creator>
  <dc:description/>
  <dc:language>en-US</dc:language>
  <cp:lastModifiedBy>RDAL</cp:lastModifiedBy>
  <dcterms:modified xsi:type="dcterms:W3CDTF">2002-09-04T18:58:22Z</dcterms:modified>
  <cp:revision>44</cp:revision>
  <dc:subject/>
  <dc:title>Audio Streaming</dc:title>
</cp:coreProperties>
</file>