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camera.wav" ContentType="audio/x-wav"/>
  <Override PartName="/ppt/media/image6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rbrake.wav" ContentType="audio/x-wav"/>
  <Override PartName="/ppt/media/image8.png" ContentType="image/pn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E391-8CAB-4734-84B8-15BC63BE8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D692-7502-42B0-B79A-BAF4C2B9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2605-F78E-454A-AD4C-58E85A980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67C3-5BB3-4B2B-A221-97529D9CE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A9ED1-F7C4-452D-B773-ED92F8198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DF599-64B2-4C2A-9587-416B9551A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D9B4-6E8C-40B9-898E-5973A330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3BC0-1476-49D5-8696-DD9828BE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A78B-4092-4E17-A200-8EEE12F4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EEB2-FA98-4AD8-8683-03F686EA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84C8-DC8A-47FA-9FC8-1D8C280F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2D4-D480-4AEF-B7DE-47AF181B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E492-EB22-4072-B27A-6E9CAFB4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CF284-2CD3-4E3A-AC13-4BB53ECA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3E22C-0B85-4F42-99DE-0228DD643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CDE4-72DE-4230-AB9C-3796842F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89A4-A346-4CA8-B1A8-1F3A1F82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B2BD-4A8C-49F3-8788-EB6B5A2FA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53BE-1653-4CC8-A0E2-DA99C2BE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B9C9-A706-4BA9-9BA6-FCA2F763D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5B1-84A8-4A3B-84C2-81E63F3B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9404-29D3-41E1-BF03-1D7AABD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A03D-95A2-4870-8B8B-C21DD291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953-D9BB-44BB-B56B-AC94659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27E52-1324-485B-B92D-98414EECA095}" type="datetime">
              <a:rPr b="0" lang="en-US" sz="1400" spc="-1" strike="noStrike">
                <a:solidFill>
                  <a:srgbClr val="003366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3B388-E227-462D-8BCE-E4869F6FDF65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3352680" y="0"/>
            <a:ext cx="556272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9F69-C167-41D8-AD87-4F3272181CC4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2B7B-260A-4A11-8E0C-A2ADEA9F04BB}" type="slidenum">
              <a:rPr b="1" lang="pt-BR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reve.xml" TargetMode="External"/><Relationship Id="rId2" Type="http://schemas.openxmlformats.org/officeDocument/2006/relationships/hyperlink" Target="file:///reve.xml" TargetMode="External"/><Relationship Id="rId3" Type="http://schemas.openxmlformats.org/officeDocument/2006/relationships/hyperlink" Target="file:///reve.mid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chord.xml" TargetMode="External"/><Relationship Id="rId2" Type="http://schemas.openxmlformats.org/officeDocument/2006/relationships/hyperlink" Target="file:///chord.xml" TargetMode="External"/><Relationship Id="rId3" Type="http://schemas.openxmlformats.org/officeDocument/2006/relationships/hyperlink" Target="file:///chord.xml" TargetMode="External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file:///syllabic.xml" TargetMode="External"/><Relationship Id="rId2" Type="http://schemas.openxmlformats.org/officeDocument/2006/relationships/hyperlink" Target="file:///syllabic.xml" TargetMode="External"/><Relationship Id="rId3" Type="http://schemas.openxmlformats.org/officeDocument/2006/relationships/hyperlink" Target="file:///syllabic.xml" TargetMode="External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file:///chopin20.mid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file:///multipart.xml" TargetMode="External"/><Relationship Id="rId2" Type="http://schemas.openxmlformats.org/officeDocument/2006/relationships/hyperlink" Target="file:///multipart.xml" TargetMode="External"/><Relationship Id="rId3" Type="http://schemas.openxmlformats.org/officeDocument/2006/relationships/hyperlink" Target="file:///multipart.xml" TargetMode="External"/><Relationship Id="rId4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musicxml.org/xml/midi/reve.mi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www.musicxml.org/xml/midi/reve.mid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hyperlink" Target="http://www.musicxml.org/" TargetMode="External"/><Relationship Id="rId2" Type="http://schemas.openxmlformats.org/officeDocument/2006/relationships/hyperlink" Target="http://www.musicxml.org/" TargetMode="External"/><Relationship Id="rId3" Type="http://schemas.openxmlformats.org/officeDocument/2006/relationships/hyperlink" Target="http://www.musicxml.org/" TargetMode="External"/><Relationship Id="rId4" Type="http://schemas.openxmlformats.org/officeDocument/2006/relationships/hyperlink" Target="http://www.musicxml.org/" TargetMode="External"/><Relationship Id="rId5" Type="http://schemas.openxmlformats.org/officeDocument/2006/relationships/hyperlink" Target="http://www.musicxml.org/" TargetMode="External"/><Relationship Id="rId6" Type="http://schemas.openxmlformats.org/officeDocument/2006/relationships/hyperlink" Target="http://www.musicxml.org/" TargetMode="External"/><Relationship Id="rId7" Type="http://schemas.openxmlformats.org/officeDocument/2006/relationships/hyperlink" Target="http://www.musedata.org/" TargetMode="External"/><Relationship Id="rId8" Type="http://schemas.openxmlformats.org/officeDocument/2006/relationships/hyperlink" Target="http://www.musedata.org/" TargetMode="External"/><Relationship Id="rId9" Type="http://schemas.openxmlformats.org/officeDocument/2006/relationships/hyperlink" Target="http://www.musedata.org/" TargetMode="External"/><Relationship Id="rId10" Type="http://schemas.openxmlformats.org/officeDocument/2006/relationships/hyperlink" Target="http://www.musedata.org/" TargetMode="External"/><Relationship Id="rId11" Type="http://schemas.openxmlformats.org/officeDocument/2006/relationships/hyperlink" Target="http://www.musedata.org/" TargetMode="External"/><Relationship Id="rId12" Type="http://schemas.openxmlformats.org/officeDocument/2006/relationships/hyperlink" Target="http://dactyl.som.ohio-state.edu/Humdrum/" TargetMode="External"/><Relationship Id="rId13" Type="http://schemas.openxmlformats.org/officeDocument/2006/relationships/hyperlink" Target="http://dactyl.som.ohio-state.edu/Humdrum/" TargetMode="External"/><Relationship Id="rId14" Type="http://schemas.openxmlformats.org/officeDocument/2006/relationships/hyperlink" Target="http://dactyl.som.ohio-state.edu/Humdrum/" TargetMode="External"/><Relationship Id="rId15" Type="http://schemas.openxmlformats.org/officeDocument/2006/relationships/hyperlink" Target="http://dactyl.som.ohio-state.edu/Humdrum/" TargetMode="External"/><Relationship Id="rId16" Type="http://schemas.openxmlformats.org/officeDocument/2006/relationships/hyperlink" Target="http://dactyl.som.ohio-state.edu/Humdrum/" TargetMode="External"/><Relationship Id="rId17" Type="http://schemas.openxmlformats.org/officeDocument/2006/relationships/hyperlink" Target="http://dactyl.som.ohio-state.edu/Humdrum/" TargetMode="External"/><Relationship Id="rId18" Type="http://schemas.openxmlformats.org/officeDocument/2006/relationships/hyperlink" Target="http://dactyl.som.ohio-state.edu/Humdrum/" TargetMode="External"/><Relationship Id="rId19" Type="http://schemas.openxmlformats.org/officeDocument/2006/relationships/hyperlink" Target="http://dactyl.som.ohio-state.edu/Humdrum/" TargetMode="External"/><Relationship Id="rId20" Type="http://schemas.openxmlformats.org/officeDocument/2006/relationships/hyperlink" Target="http://www.ccarh.org/publications/books/cm/12/08/" TargetMode="External"/><Relationship Id="rId21" Type="http://schemas.openxmlformats.org/officeDocument/2006/relationships/hyperlink" Target="http://www.ccarh.org/publications/books/cm/12/08/" TargetMode="External"/><Relationship Id="rId22" Type="http://schemas.openxmlformats.org/officeDocument/2006/relationships/hyperlink" Target="http://www.ccarh.org/publications/books/cm/12/08/" TargetMode="External"/><Relationship Id="rId23" Type="http://schemas.openxmlformats.org/officeDocument/2006/relationships/hyperlink" Target="http://www.ccarh.org/publications/books/cm/12/08/" TargetMode="External"/><Relationship Id="rId24" Type="http://schemas.openxmlformats.org/officeDocument/2006/relationships/hyperlink" Target="http://www.ccarh.org/publications/books/cm/12/08/" TargetMode="External"/><Relationship Id="rId25" Type="http://schemas.openxmlformats.org/officeDocument/2006/relationships/hyperlink" Target="http://www.ccarh.org/publications/books/cm/12/08/" TargetMode="External"/><Relationship Id="rId26" Type="http://schemas.openxmlformats.org/officeDocument/2006/relationships/hyperlink" Target="http://www.ccarh.org/publications/books/cm/12/08/" TargetMode="External"/><Relationship Id="rId27" Type="http://schemas.openxmlformats.org/officeDocument/2006/relationships/hyperlink" Target="http://www.ccarh.org/publications/books/cm/12/08/" TargetMode="External"/><Relationship Id="rId28" Type="http://schemas.openxmlformats.org/officeDocument/2006/relationships/hyperlink" Target="http://www.ccarh.org/publications/books/cm/12/08/" TargetMode="External"/><Relationship Id="rId29" Type="http://schemas.openxmlformats.org/officeDocument/2006/relationships/hyperlink" Target="http://www.ccarh.org/publications/books/cm/12/08/" TargetMode="External"/><Relationship Id="rId30" Type="http://schemas.openxmlformats.org/officeDocument/2006/relationships/hyperlink" Target="http://music-ir.org/" TargetMode="External"/><Relationship Id="rId31" Type="http://schemas.openxmlformats.org/officeDocument/2006/relationships/hyperlink" Target="http://music-ir.org/" TargetMode="External"/><Relationship Id="rId32" Type="http://schemas.openxmlformats.org/officeDocument/2006/relationships/hyperlink" Target="http://music-ir.org/" TargetMode="External"/><Relationship Id="rId33" Type="http://schemas.openxmlformats.org/officeDocument/2006/relationships/hyperlink" Target="http://music-ir.org/" TargetMode="External"/><Relationship Id="rId34" Type="http://schemas.openxmlformats.org/officeDocument/2006/relationships/hyperlink" Target="http://music-ir.org/" TargetMode="External"/><Relationship Id="rId35" Type="http://schemas.openxmlformats.org/officeDocument/2006/relationships/hyperlink" Target="http://music-ir.org/" TargetMode="External"/><Relationship Id="rId3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audio" Target="../media/carbrake.wav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MusicXML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84000" y="3068280"/>
            <a:ext cx="629604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66"/>
                </a:solidFill>
                <a:latin typeface="Arial"/>
              </a:rPr>
              <a:t>Equipe: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Douglas Mot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Luis André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Luiz Cláudi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Ricardo Neve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6666"/>
                </a:solidFill>
                <a:latin typeface="Arial"/>
              </a:rPr>
              <a:t>Ronaldo Boeira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39272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Em Formato 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</a:rPr>
              <a:t>Pars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Não há a necessidade de escrever um parser de baixo ní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istem muitos parsers de XML a disposiçã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E4A8-8B2B-4D69-B0A4-E2156C2339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26779-2D25-4379-A490-5B3A75FBE8D5}" type="datetime1">
              <a:rPr lang="en-US"/>
              <a:t>07/28/26</a:t>
            </a:fld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otivaçã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gundo Gino Robair,</a:t>
            </a:r>
            <a:r>
              <a:rPr b="0" i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número de formatos de arquivos universais estão sendo desenvolvidos para permitir o intercâmbio de músicas pela internet mais facilmente. No campo da notação musical, o mais excitante é o MusicXML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99F-31C2-43EC-B120-42D325E515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D93C9E-3C0C-4DEA-94D2-93EF82C96ADA}" type="datetime1">
              <a:rPr lang="en-US"/>
              <a:t>07/28/26</a:t>
            </a:fld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7617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presentando Música Computacionalment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2286000"/>
            <a:ext cx="777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uas formas principai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udio: gravação do som em si, como cds e MP3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imbólico: dados musicais fundamentais (pitches, rhythms) como em MIDI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é da forma simból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C24-CE2E-423A-819F-214884F601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A5EF5F-7FFE-4146-80B1-A1FDBF5799E6}" type="datetime1">
              <a:rPr lang="en-US"/>
              <a:t>07/28/26</a:t>
            </a:fld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ecessidade De Um Novo Formato Musical Compartilhad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438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mportância da publicação de notações musicais de forma amigável na intern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ada programa musical tem seu próprio format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úsicas são publicadas como imagens PDF, sem semântica musi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IDI é um formato compartilhado porém apresenta algumas limitaçõ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4640-D1EA-4209-AA97-562C9585FDF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BCB43-8648-4F5E-B7AE-0E364BED7468}" type="datetime1">
              <a:rPr lang="en-US"/>
              <a:t>07/28/26</a:t>
            </a:fld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rimeiras Tentativas De Superar M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IF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Representa notação melhor do que MID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as é pior do que MIDI para aplicações de performance e anális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MD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mato musical de propósito ge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pecificação formal para a mú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uito complexo; Nunca foi implementado comercialment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BBBA-421B-43E3-A4A4-4842C37836C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B3B4C-3135-4EBE-AE3E-16F04EDB13EE}" type="datetime1">
              <a:rPr lang="en-US"/>
              <a:t>07/28/26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500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bordagem De Music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entar fazer o mesmo que o MIDI (resolver o problema dos formatos proprietário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porte para notação, análise e recuperação de inform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presentação textual e não binári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ar suporte ao compartilhamento de dados entre aplicação e não substituir formatos proprietários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524A-B9FB-4AF8-AA1D-A02A68C9AB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54AE2-E987-4601-9EF7-0A8991A24F82}" type="datetime1">
              <a:rPr lang="en-US"/>
              <a:t>07/28/26</a:t>
            </a:fld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o Obter Sucesso Onde Muitos Falhara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tem uma vantagem “injusta”: </a:t>
            </a: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aseado em dois formatos musicais acadêmicos poderosos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useData e Humdr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finição desenvolvida iterativamente com o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F70A-4723-4D70-BE01-2934D5F196D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150409-D163-4894-A4AA-EE70D8E20EAA}" type="datetime1">
              <a:rPr lang="en-US"/>
              <a:t>07/28/26</a:t>
            </a:fld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 Está Funcionando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sponível sob licença sem royalty expedida pela W3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uportado por programas comerciais: Finale, SharpEye Music Reader, Dol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doção mais rápida de um formato desde MID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5FA2-2950-4DEE-AB75-A95BF4D393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7B6C9F-69AE-4E27-96CD-035D172EADDE}" type="datetime1">
              <a:rPr lang="en-US"/>
              <a:t>07/28/26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Intercâmbio Nos Softwares Hoj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908000" y="2421000"/>
            <a:ext cx="5543640" cy="27144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971640" y="4952880"/>
            <a:ext cx="799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dutos em verde são suportados por software disponíveis para venda hoje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Produtos em amarelo estão em desenvolvimento ou são protótipos de softwares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6DE-E1FA-4B55-A1CF-9B3F0469C01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202DED-141E-49F8-A853-5283466D2EE8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Liberdade De Escolha Para Os desenvolvedor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53008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ormatos anteriores limitam sua escolha de ferramenta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inale plug-ins requerem códigos C/C++ no windows e/ou mac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Humdrum requer conhecimento de Unix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erramentas do MuseData roda em um sistema especial (TenX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rometimento entre formatos e ferramentas tem efeito negativo na produtividade do desenvolved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430-CB0A-414C-B196-36C6171D3F5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484F96-D6F1-4DBE-AA1D-18918C857F40}" type="datetime1">
              <a:rPr lang="en-US"/>
              <a:t>07/28/26</a:t>
            </a:fld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oteir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Visão geral de 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– um formato aberto para notação mus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atibilidade com MI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Notações básicas de Music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monstração pr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nclusã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CB13-8973-4384-A275-E0A072D056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3C1B61-5CD7-45DC-922B-BB5C10CC6981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mbientes De Desenvolviment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XML permite desenvolvimento em vários ambien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ogramas desenvolvidos em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Visual Basic usando MSXML parser no windows (Recordare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Java usando Xerces parser no Linux, mac OS X e no windows (Xemus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 não utiliza parser no windows (Visiv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7B2-C0F8-4042-8D1A-07B9433768A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32D3F-BC03-461D-9E39-185F20B96E1B}" type="datetime1">
              <a:rPr lang="en-US"/>
              <a:t>07/28/26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vos Tipos De Uso Da Músi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670572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isplays portáteis de mús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ligência artificial na músic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Recuperação de informação music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Incluir semântica quando for fazer uma busca de uma músic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726320" y="2438280"/>
            <a:ext cx="141768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1E6E-38F5-4E96-A06E-FFB01450701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3C2F9D-C61B-4580-B23F-F0122C230AAD}" type="datetime1">
              <a:rPr lang="en-US"/>
              <a:t>07/28/26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Compatibilidade Com MIDI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contém 2 tipos de dad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um trecho de música deve ser ouvi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ndo arquivo MIDI a partir de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um trecho de música deve ser vis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riando arquivo Finale a partir de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486C-5171-4ED5-B33B-7CD74B656F6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DEF28C-91E1-4F1C-AB91-169C793C94A4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de Arquivo Music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s quatro primeiras barras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"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Après un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 rêv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"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Gabriel Fauré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reve2" descr="First four bars of Après un rêve by Fauré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429000"/>
            <a:ext cx="7304040" cy="242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641B-7310-40D1-9C8C-67A49E53C84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DDFCB-7176-4966-BBF4-C3D4EDF413A6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conversor Finale produziu os seguintes atribut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attribut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ivisions&gt;12&lt;/division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key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fifths&gt;-3&lt;/fifth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mode&gt;minor&lt;/mod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key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tim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beats&gt;3&lt;/beats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beat-type&gt;4&lt;/beat-typ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tim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attribut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66D-8A5A-4AD5-8407-DFCCDF5F41F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11967B-C040-4163-A1BF-430FFB4E7744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divisions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urações musicais são normalmente citadas como frações: colcheia, semicolcheia, etc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especifica o número de divisões por semicolcheia no início de uma pauta music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specifica a duração das notas em termos dessas divis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1EC-4157-4C1E-B2CA-2540A7FCAB9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120C6-0F79-460B-B1DD-634C2D9BA0C5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key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fifths&gt; especifica o número de bemóis ou sustenidos no elemento &lt;key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mode&gt; indica a modo do elemento &lt;key&gt;: major ou min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6B3-E9AC-4952-A8CD-8E6D77583F6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8D7B7-4A91-4013-BD51-2731A77B64F5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tim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representa de forma mais simples os elementos &lt;time&gt; padrõ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beats&gt; representa o numerador do elemento &lt;tim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beat-time&gt; representa o denominador do elemento &lt;tim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D385-F0E7-4228-B7FD-54C96C79175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6B3C20-BECD-4C31-A274-B0510F3E8AEF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transpos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transpose&gt; representa o que deve ser adicionado ao pitch escrito para se obter o som correto do pitch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elemento &lt;chromatic&gt; representa o número de passos cromáticos a serem adicionados ao pitch escri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&lt;diatonic&gt;, &lt;octave-change&gt; e &lt;double elements&gt; são opciona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325D-E3C7-44B9-B692-38F5A48B98D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C8373C-7308-4BD7-89B8-A5E899313ECA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com &lt;transpos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a pauta escrita para u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rumpete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 deve ser escrita em 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 um pian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soar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sta transposição é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pass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diat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ô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ic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)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 doi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half steps crom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á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c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(C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r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B-bemol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transpos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iatonic&gt;-1&lt;/diatonic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chromatic&gt;-2&lt;/chromatic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transpos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BF4E-2A8A-4500-8420-409AEF568CA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73530C-F6FB-44D2-A468-47C57CD455DD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3366"/>
                </a:solidFill>
                <a:latin typeface="Arial"/>
              </a:rPr>
              <a:t>Extensible Markup Language (XML) é linguagem de marcação de dados (meta-markup language) que provê um formato para descrever dados estruturados. Isso facilita declarações mais precisas do conteúdo e resultados mais significativos de busca através de múltiplas plataformas. O XML também permite o surgimento de uma nova geração de aplicações de manipulação e visualização de dados via internet.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B398-F0E1-4B95-880D-90A4FCE4F54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A54E38-AEF9-4B7C-9503-EA7C8158CEB2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Pitch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 MIDI, é representado por um núme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m MusicXML, se divide em 3 part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O elemento &lt;step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A,B,C,D,E,F,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opcional &lt;alter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-1 para bemol, 1 para sustenido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&lt;octav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(4 para a oitava começando com C central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77E-5B49-47EB-9C51-C32592C60B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6B1C1-9A41-4C3D-A6C2-539BC7C4E239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com &lt;pitch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note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pitch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step&gt;E&lt;/step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alter&gt;-1&lt;/alter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octave&gt;5&lt;/octave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pitch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duration&gt;12&lt;/duration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tie type="start"/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lyric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syllabic&gt;end&lt;/syllabic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text&gt;meil&lt;/text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lyric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2A8D-79FA-4E92-AEA3-ECC0CE01547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37B4B-7A40-4D42-B941-D3502A5A910F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rest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descansos, o elemento &lt;rest&gt; é usado no lugar do elemento &lt;pitch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 de descanso em ¾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rest/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duration&gt;36&lt;/duration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281E-C7AE-436A-B9C6-A82461DCC71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4B2D4-8CF1-4771-B139-BF5490C0009C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duration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Inteiro que representa a duração de uma nota em termos de divisões por semicolche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o o semicolcheia do nosso exemplo tem 12 divisões, a duração dela é 12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fusa do exemplo tem duração 6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semínima do exemplo tem duração 4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645-2094-498A-B555-EF33E1F272D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6FCCA5-D360-4EC1-B05D-7315F3830BC7}" type="datetime1">
              <a:rPr lang="en-US"/>
              <a:t>07/28/26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lemento &lt;tie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parte sonora de uma nota ligada é indicada pelo elemento &lt;ti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elemento &lt;note&gt; pode ter até 2 elementos &lt;tie&gt;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ie type=“start”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ie type=“stop”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4915-8FF7-4E36-868F-E8977FD9B6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754CBC-BAC2-486E-B716-466BFF3899EC}" type="datetime1">
              <a:rPr lang="en-US"/>
              <a:t>07/28/26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chord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tocar acordes, devemos indicar que uma nota deve começar ao mesmo tempo da nota anteri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Um elemento &lt;chord&gt; deve ser adicionado à nota logo após o início do elemento &lt;note&gt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hord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759-F636-41DB-8EDF-E2EDF765F97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0DD1A-CE88-401F-944D-35B31F5B8407}" type="datetime1">
              <a:rPr lang="en-US"/>
              <a:t>07/28/26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syllabic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MusicXML usa um elemento opcional &lt;syllabic&gt; indicando como uma sílaba se encaixa numa palavr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s valores de &lt;syllabic&gt; podem ser “single”, “begin”, “end” ou “middle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syllabic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496-4E84-49D6-B49E-A366786A73D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EDD1E-5D92-4EFA-B82E-BE5CC994BA3F}" type="datetime1">
              <a:rPr lang="en-US"/>
              <a:t>07/28/2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 &lt;lyric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eparação por ver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lyric number=“1”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lyric number=“2”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inais de linha e de parágra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end-line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&lt;end-paragraph&gt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para humming e laug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48FA-8EFF-4C59-8E79-5DDEEDBADB7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6D48A-68B7-4B9F-9688-9350BFC8160B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úsica Multi-Pau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nquanto instrumentos de sopro só podem ser tocados uma nota por vez, alguns instrumentos podem ter várias pautas simultâne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A partitura do piano tem uma pauta para cada mão, por 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E905-DCAC-4562-8C9E-F92B3F93333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F5A5A-341B-4DF6-A11D-023CC4CB6C5A}" type="datetime1">
              <a:rPr lang="en-US"/>
              <a:t>07/28/26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xemplo de Multi-Pau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rimeira barr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 Prelude,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or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rederic Chopin, Op. 28, No. 20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chopin20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09680" y="3505320"/>
            <a:ext cx="4480200" cy="283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2C1A-265F-4FB8-9256-7C119418F2D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96F91-BFAE-4499-B5B0-E1E0B2CA3F26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 XML permite a definição de um número infinito de tags. Enquanto no HTML, se as tags podem ser usadas para definir a formatação de caracteres e parágrafos, o XML provê um sistema para criar tags para dados estruturad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BD9C-9CD8-4921-89FA-8406598D27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32A6E-A0C1-4157-AC9C-6D086E500B2C}" type="datetime1">
              <a:rPr lang="en-US"/>
              <a:t>07/28/26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Elementos &lt;forward&gt; e &lt;backup&gt;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Para representar pautas paralelas, precisamos mover o contador de duração de forma independente para cada pau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lementos &lt;forward&gt; e &lt;backup&gt; foram feitos para implementar Multi-Pau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: 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multipart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.</a:t>
            </a:r>
            <a:r>
              <a:rPr b="0" lang="pt-BR" sz="28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xm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333-432B-4C40-B3C4-B95342F4F6B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D4AA81-8DA4-4706-B040-FC569B2CA0D9}" type="datetime1">
              <a:rPr lang="en-US"/>
              <a:t>07/28/26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tação Musical vs. S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 a notação de uma música é representada em Music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Como as cordas do piano são divididas entre as pauta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istinção entre elementos que representam o som da música versus o aspecto visual da mús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s da aparência musical, que são de grande uso para aplicações de notação music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100E-4E97-4C87-B4A6-2838A352408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EDF5C7-9C0A-4932-9E53-632D75EC43A6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Notação Musical vs. Som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mplo "Après un rêve" de Gabriel Fauré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5" name="reve2" descr="First four bars of Après un rêve by Faur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2971800"/>
            <a:ext cx="8839440" cy="29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A2DF-4641-4F07-A17A-C6B3EF72F30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84652B-3317-4DC4-A918-5ADC71A0A75C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ta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ves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indica o número de paut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xemplo: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2 pautas para pian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ves&gt;2&lt;/staves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5943600" y="3657600"/>
            <a:ext cx="476280" cy="1247760"/>
            <a:chOff x="5943600" y="3657600"/>
            <a:chExt cx="476280" cy="1247760"/>
          </a:xfrm>
        </p:grpSpPr>
        <p:graphicFrame>
          <p:nvGraphicFramePr>
            <p:cNvPr id="189" name=""/>
            <p:cNvGraphicFramePr/>
            <p:nvPr/>
          </p:nvGraphicFramePr>
          <p:xfrm>
            <a:off x="5943600" y="3676680"/>
            <a:ext cx="209520" cy="122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943600" y="3676680"/>
                      <a:ext cx="209520" cy="122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1" name=""/>
            <p:cNvGraphicFramePr/>
            <p:nvPr/>
          </p:nvGraphicFramePr>
          <p:xfrm>
            <a:off x="6153120" y="3657600"/>
            <a:ext cx="133560" cy="1152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9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3120" y="3657600"/>
                      <a:ext cx="13356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93" name=""/>
            <p:cNvGraphicFramePr/>
            <p:nvPr/>
          </p:nvGraphicFramePr>
          <p:xfrm>
            <a:off x="6286680" y="3657600"/>
            <a:ext cx="133200" cy="11527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4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286680" y="3657600"/>
                      <a:ext cx="133200" cy="11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FC0E-B401-4394-85F8-12AF2AE240F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16BAE-2F28-454F-827E-67563B4BC550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l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Indica clave para a pau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Atribu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numbe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Número da pauta, se existe mais de uma pa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ign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Nota representada na paut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lin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Linha da pauta a partir do fund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0C26-5931-4D1F-BEF0-CDB1D239A0E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90EF1-46A3-46A6-8948-D562A09F0763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tribut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le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clef number="1"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sign&gt;G&lt;/sig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line&gt;2&lt;/line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clef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clef number="2"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sign&gt;F&lt;/sig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line&gt;4&lt;/line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clef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5638680" y="3352680"/>
          <a:ext cx="781200" cy="13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3352680"/>
                    <a:ext cx="7812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EFD-32BD-4220-9296-874F9D0EF28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DAB299-E573-4A43-9BF4-E788D84DA194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ntidos Music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ão usados para expressões que não estão ligadas a uma cert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143000" y="3952800"/>
          <a:ext cx="61722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952800"/>
                    <a:ext cx="617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1752480" y="3876840"/>
            <a:ext cx="541044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99FB-5988-46F7-88DE-A3B087626BF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61F04D-FBCE-43BB-B23B-77F9814DF7C7}" type="datetime1">
              <a:rPr lang="en-US"/>
              <a:t>07/28/2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Sentidos Musica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3366"/>
                </a:solidFill>
                <a:latin typeface="Arial"/>
              </a:rPr>
              <a:t>dolc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aparecerá em acima da pauta, em itálico e um pouco antes da primeira no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direction placement="above"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direction-typ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words font-style="italic" relative-x="-12"&gt;dolce&lt;/words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/direction-type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3366"/>
                </a:solidFill>
                <a:latin typeface="Courier New"/>
              </a:rPr>
              <a:t>&lt;/direction&gt;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43000" y="2666880"/>
          <a:ext cx="617220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666880"/>
                    <a:ext cx="61722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2895480" y="2590920"/>
            <a:ext cx="457200" cy="304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DDA1-1520-4DCF-9DFD-2B63E51487A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96054-5F5C-4BCB-9900-2AA94B05EF36}" type="datetime1">
              <a:rPr lang="en-US"/>
              <a:t>07/28/26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ipos de notas simból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type&gt;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indica o símbolo da duração d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Semibreve, mínima, semínima, colcheia, semicolcheia, fusa, semifusa e quartifus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Image2" descr=""/>
          <p:cNvPicPr/>
          <p:nvPr/>
        </p:nvPicPr>
        <p:blipFill>
          <a:blip r:embed="rId1"/>
          <a:stretch/>
        </p:blipFill>
        <p:spPr>
          <a:xfrm>
            <a:off x="2438280" y="4572000"/>
            <a:ext cx="3429000" cy="642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109960" y="5295960"/>
            <a:ext cx="42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Monotype Corsiva"/>
              </a:rPr>
              <a:t>4     2     1   1/2  1/4  1/8  1/16  1/32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4A6B-1676-4687-8971-F8128B104A2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97D77-FBF9-46A9-A7E4-C343ED97F4BE}" type="datetime1">
              <a:rPr lang="en-US"/>
              <a:t>07/28/26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Tupl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time-modification&gt;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 é usado para facilitar o uso de tuple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baixo 3 notas ocupam o espaço de 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time-modification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actual-notes&gt;3&lt;/actual-notes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normal-notes&gt;2&lt;/normal-notes&gt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600" spc="-1" strike="noStrike">
                <a:solidFill>
                  <a:srgbClr val="003366"/>
                </a:solidFill>
                <a:latin typeface="Courier New"/>
              </a:rPr>
              <a:t>&lt;/time-modification&gt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0437-CBA6-44FD-8FFD-7EAE00BCE48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502BD5-A085-4928-A17B-D0EC8145C33F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75438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m elemento XML pode ter dados declarados como sendo taxas de preços, um título de livro ou qualquer outro tipo de elemento de da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o as tags XML são adotadas por intranets de organizações, e também via internet, há uma correspondente habilidade em manipular e procurar por dados independentemente das aplicações onde os quais são utilizad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4B45-4334-43FB-98F6-BA4DF30E5F2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8B8A85-CE18-46C9-BFC1-1A38FE505613}" type="datetime1">
              <a:rPr lang="en-US"/>
              <a:t>07/28/26</a:t>
            </a:fld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Aparência da not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Ste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Sentido da haste na no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em&gt;up&lt;/stem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Beam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Ligação entre not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beam number="1"&gt;begin&lt;/beam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6172200" y="2819520"/>
          <a:ext cx="257040" cy="55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8195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310440" y="4648320"/>
          <a:ext cx="257040" cy="552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10440" y="46483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"/>
          <p:cNvGraphicFramePr/>
          <p:nvPr/>
        </p:nvGraphicFramePr>
        <p:xfrm>
          <a:off x="6600960" y="4648320"/>
          <a:ext cx="257040" cy="55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00960" y="4648320"/>
                    <a:ext cx="257040" cy="55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477120" y="4724280"/>
            <a:ext cx="304560" cy="0"/>
          </a:xfrm>
          <a:prstGeom prst="line">
            <a:avLst/>
          </a:prstGeom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4D19-3604-4622-9A58-365AEDE4435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BD63E8-8BEB-4021-A6D9-5CDAD633903C}" type="datetime1">
              <a:rPr lang="en-US"/>
              <a:t>07/28/26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s para diferenciar o que ocorre na música com múltiplas par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voice&gt;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socia à pauta de vo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Elemento 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ff&gt; 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ve ser usado sempre que possível, sobretudo nas partes de pian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0147-AB2F-4089-A0B1-E6D3DBFACD7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9D3B9-4193-4FFC-9EF5-C4BBC9876F72}" type="datetime1">
              <a:rPr lang="en-US"/>
              <a:t>07/28/26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 nota abaixo aparecerá na pauta 2 de piano, juntamente com a pauta 1 da voz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voice&gt;1&lt;/voice&gt;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staff&gt;2&lt;/staff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66"/>
                </a:solidFill>
                <a:latin typeface="Courier New"/>
              </a:rPr>
              <a:t>&lt;/note&gt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6B5F-9E0D-45BB-8AA3-7444466ADF0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B511B6-AEF0-400E-ACA6-34802FFD179F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com múltiplas part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231" name="reve2" descr="First four bars of Après un rêve by Fauré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2666880"/>
            <a:ext cx="7304040" cy="2422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4605480" y="2743200"/>
            <a:ext cx="347400" cy="838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605480" y="4114800"/>
            <a:ext cx="347400" cy="990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9AD-046E-4FB9-B95A-6D114E2483B9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80505-EAB2-4C1C-974E-D5A0037E0466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harpEy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17520" indent="-317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Converte imagem em notação de música computadorizad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17520" indent="-317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alva arquivos MusicXM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EEF-19C3-4CD7-9A5F-32DEAEA95D6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F9DDCB-21E1-406C-9FEF-60DC74B270BA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aBaz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Lê e escreve arquivos MusicXML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É um editor de tablatura de 10 trilhas e um tocador de MID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2D1-EF32-46A6-B9EC-5B8DC6B5599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9868E-63A0-4FEA-8732-E194FFD35B27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6120" cy="11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Guita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mbiente para guitarristas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oda em Linux, Solaris e FreeBSD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431640" indent="-323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uporte básico a MusicXM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F32F-2970-442E-A5BD-D611E37BBB99}" type="slidenum">
              <a:t>5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BE5B4-E1F5-4299-B77A-BD03F30F8091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Direções Futur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Testar e refinar MusicXML com aplicações de recuperação de informação e análi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doção contínua pelas aplicações musicais para ampliar o mercado de softwares musica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Padronização, depois de uma maior experiência de implementação, especialmente em música popular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ssinaturas digitais XML para seguranç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Utilização na educação music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DF4-55EC-4E4C-BA99-32CC784B318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61718-86C0-4908-A256-488F53A4CE2B}" type="datetime1">
              <a:rPr lang="en-US"/>
              <a:t>07/28/26</a:t>
            </a:fld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Referênci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"/>
              </a:rPr>
              <a:t>musicxml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4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5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6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7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8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9"/>
              </a:rPr>
              <a:t>musedata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0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1"/>
              </a:rPr>
              <a:t>org</a:t>
            </a: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2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3"/>
              </a:rPr>
              <a:t>:/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4"/>
              </a:rPr>
              <a:t>dactyl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5"/>
              </a:rPr>
              <a:t>.Som.Ohio-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6"/>
              </a:rPr>
              <a:t>state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7"/>
              </a:rPr>
              <a:t>.Edu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8"/>
              </a:rPr>
              <a:t>Humdrum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19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0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1"/>
              </a:rPr>
              <a:t>://www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2"/>
              </a:rPr>
              <a:t>ccarh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3"/>
              </a:rPr>
              <a:t>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4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5"/>
              </a:rPr>
              <a:t>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6"/>
              </a:rPr>
              <a:t>publications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7"/>
              </a:rPr>
              <a:t>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8"/>
              </a:rPr>
              <a:t>books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29"/>
              </a:rPr>
              <a:t>/cm/12/08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0"/>
              </a:rPr>
              <a:t>http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1"/>
              </a:rPr>
              <a:t>://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2"/>
              </a:rPr>
              <a:t>music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3"/>
              </a:rPr>
              <a:t>-ir.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4"/>
              </a:rPr>
              <a:t>org</a:t>
            </a:r>
            <a:r>
              <a:rPr b="0" lang="pt-BR" sz="2400" spc="-1" strike="noStrike" u="sng">
                <a:solidFill>
                  <a:srgbClr val="003366"/>
                </a:solidFill>
                <a:uFillTx/>
                <a:latin typeface="Arial"/>
                <a:hlinkClick r:id="rId35"/>
              </a:rPr>
              <a:t>/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9FE1-F897-40D1-A00B-5F61932FCE17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C978B6-D27D-484B-88AB-93671ACE92CB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9250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3366"/>
                </a:solidFill>
                <a:latin typeface="Verdana"/>
              </a:rPr>
              <a:t>Esses dados podem ser distribuídos pela rede e apresentados em um browser como o Internet Explorer 5 de várias formas possíveis, ou então eles podem ser transferidos para outras aplicações para processamento futuro e/ou visualiz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66F3-3C03-4803-B0C6-E4E3B75BD8C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9D35C-0741-49B2-A7F5-5C677CEF7F30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6666"/>
                </a:solidFill>
                <a:latin typeface="Arial"/>
              </a:rPr>
              <a:t>XML</a:t>
            </a:r>
            <a:br>
              <a:rPr sz="4000"/>
            </a:b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Visão Ger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xml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 xmlns:o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urn:schemas-microsoft-com:office:office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&gt;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Main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../license.htm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image001.jpg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image002.jpg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header.htm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o:File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HRef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="</a:t>
            </a:r>
            <a:r>
              <a:rPr b="1" lang="pt-BR" sz="2000" spc="-1" strike="noStrike">
                <a:solidFill>
                  <a:srgbClr val="003366"/>
                </a:solidFill>
                <a:latin typeface="Arial"/>
              </a:rPr>
              <a:t>filelist.xml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" /&gt;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  <a:ea typeface="Courier New"/>
              </a:rPr>
              <a:t> 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lt;/</a:t>
            </a:r>
            <a:r>
              <a:rPr b="0" lang="pt-BR" sz="2000" spc="-1" strike="noStrike">
                <a:solidFill>
                  <a:srgbClr val="990000"/>
                </a:solidFill>
                <a:latin typeface="Arial"/>
              </a:rPr>
              <a:t>xml</a:t>
            </a:r>
            <a:r>
              <a:rPr b="0" lang="pt-BR" sz="2000" spc="-1" strike="noStrike">
                <a:solidFill>
                  <a:srgbClr val="0000ff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89E1-C605-4C3D-A5A5-079CF5F8C3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B0EEC-1704-4A9A-96DA-8A77661D5F6B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usicXML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Definiçã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Formato compartilhado para notação, análise e recuperação de informaçõ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Compartilhamento de músicas entre diversos program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Desenvolvido para criar método de publicação de partituras musicais na internet de forma amigáve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8E7D-3710-462C-A8F8-0E5D6847E7C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AE2B2-216F-4F5A-80B4-42DB47C7CCE3}" type="datetime1">
              <a:rPr lang="en-US"/>
              <a:t>07/28/26</a:t>
            </a:fld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6666"/>
                </a:solidFill>
                <a:latin typeface="Arial"/>
              </a:rPr>
              <a:t>Música Em Formato XM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2437920"/>
            <a:ext cx="76201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Compartilhamento entre vários program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MIDI: formato compartilhado mais conhecid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3366"/>
                </a:solidFill>
                <a:latin typeface="Arial"/>
              </a:rPr>
              <a:t>Facilidade de manipulaçã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66"/>
                </a:solidFill>
                <a:latin typeface="Arial"/>
              </a:rPr>
              <a:t>Arquivo texto é muito mais fácil de manipular que um arquivo proprietário de um determinado program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mputação Musical - 2002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990F-AEA2-4A96-943A-77247217E0A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6B23A-5EFD-46E0-83C7-AA465A20958D}" type="datetime1">
              <a:rPr lang="en-US"/>
              <a:t>07/28/2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7T16:47:22Z</dcterms:created>
  <dc:creator>rmb</dc:creator>
  <dc:description/>
  <dc:language>en-US</dc:language>
  <cp:lastModifiedBy>rmb</cp:lastModifiedBy>
  <dcterms:modified xsi:type="dcterms:W3CDTF">2002-09-12T17:34:13Z</dcterms:modified>
  <cp:revision>223</cp:revision>
  <dc:subject/>
  <dc:title>The MIDI-Compatible Part of MusicXML</dc:title>
</cp:coreProperties>
</file>