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rbrake.wav" ContentType="audio/x-wav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A22-BD77-445F-AE31-78EBD1BE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89C-8578-42D6-8C0D-0F9E9CFD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D63-D843-44C1-AE2C-3A743E30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C1A-AD23-403E-8B5A-3A066337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8D60-9CBA-4C7D-92E8-0AA1319D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0F3-A463-4FFC-9BB3-C2266F6A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49E-1DD0-4FDC-B417-360B6DAD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CB7-A69D-4273-BD11-B94CD7DE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42A-9138-4A1F-99BA-359F06D3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2BD3-2504-4F5A-A56D-E73EA8AC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DDDB-F507-44B7-ABC8-3C7734E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7A6-3909-44B0-9D5A-1A3A3BD4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192C-E7E6-4A6A-A9FD-417979E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4C72-AF9C-483B-865F-0DF0F0A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E9CB-0C93-4263-B640-1FE69E3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0EA-304A-4264-A831-423F7C33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B24C-2B64-4761-B502-06E7C522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22C-9111-45DC-8CFD-8D33B278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504-8BE0-4E70-9E07-79B2C4ED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B1F-70FA-4B0F-81AF-1C6272C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0DB-0E5D-4D48-B7F8-02B554D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1B8-4A13-435D-A707-B424C78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ABD-6296-4732-BB9F-40BBAC2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A82-2D60-46D7-B225-264A86B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FF8-9C5F-403D-8E63-237F05F43DE3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F6A3-FF27-4A93-9445-57AF8F62375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62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3D8D-18B6-4680-B722-02838028D39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BD6C-76FA-4E5F-BE52-80FD143E62E8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eve.xml" TargetMode="External"/><Relationship Id="rId2" Type="http://schemas.openxmlformats.org/officeDocument/2006/relationships/hyperlink" Target="file:///reve.xml" TargetMode="External"/><Relationship Id="rId3" Type="http://schemas.openxmlformats.org/officeDocument/2006/relationships/hyperlink" Target="file:///reve.mi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chord.xml" TargetMode="External"/><Relationship Id="rId2" Type="http://schemas.openxmlformats.org/officeDocument/2006/relationships/hyperlink" Target="file:///chord.xml" TargetMode="External"/><Relationship Id="rId3" Type="http://schemas.openxmlformats.org/officeDocument/2006/relationships/hyperlink" Target="file:///chord.xml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syllabic.xml" TargetMode="External"/><Relationship Id="rId2" Type="http://schemas.openxmlformats.org/officeDocument/2006/relationships/hyperlink" Target="file:///syllabic.xml" TargetMode="External"/><Relationship Id="rId3" Type="http://schemas.openxmlformats.org/officeDocument/2006/relationships/hyperlink" Target="file:///syllabic.xml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opin20.mi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multipart.xml" TargetMode="External"/><Relationship Id="rId2" Type="http://schemas.openxmlformats.org/officeDocument/2006/relationships/hyperlink" Target="file:///multipart.xml" TargetMode="External"/><Relationship Id="rId3" Type="http://schemas.openxmlformats.org/officeDocument/2006/relationships/hyperlink" Target="file:///multipart.xml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musicxml.org/" TargetMode="External"/><Relationship Id="rId2" Type="http://schemas.openxmlformats.org/officeDocument/2006/relationships/hyperlink" Target="http://www.musicxml.org/" TargetMode="External"/><Relationship Id="rId3" Type="http://schemas.openxmlformats.org/officeDocument/2006/relationships/hyperlink" Target="http://www.musicxml.org/" TargetMode="External"/><Relationship Id="rId4" Type="http://schemas.openxmlformats.org/officeDocument/2006/relationships/hyperlink" Target="http://www.musicxml.org/" TargetMode="External"/><Relationship Id="rId5" Type="http://schemas.openxmlformats.org/officeDocument/2006/relationships/hyperlink" Target="http://www.musicxml.org/" TargetMode="External"/><Relationship Id="rId6" Type="http://schemas.openxmlformats.org/officeDocument/2006/relationships/hyperlink" Target="http://www.musicxml.org/" TargetMode="External"/><Relationship Id="rId7" Type="http://schemas.openxmlformats.org/officeDocument/2006/relationships/hyperlink" Target="http://www.musedata.org/" TargetMode="External"/><Relationship Id="rId8" Type="http://schemas.openxmlformats.org/officeDocument/2006/relationships/hyperlink" Target="http://www.musedata.org/" TargetMode="External"/><Relationship Id="rId9" Type="http://schemas.openxmlformats.org/officeDocument/2006/relationships/hyperlink" Target="http://www.musedata.org/" TargetMode="External"/><Relationship Id="rId10" Type="http://schemas.openxmlformats.org/officeDocument/2006/relationships/hyperlink" Target="http://www.musedata.org/" TargetMode="External"/><Relationship Id="rId11" Type="http://schemas.openxmlformats.org/officeDocument/2006/relationships/hyperlink" Target="http://www.musedata.org/" TargetMode="External"/><Relationship Id="rId12" Type="http://schemas.openxmlformats.org/officeDocument/2006/relationships/hyperlink" Target="http://dactyl.som.ohio-state.edu/Humdrum/" TargetMode="External"/><Relationship Id="rId13" Type="http://schemas.openxmlformats.org/officeDocument/2006/relationships/hyperlink" Target="http://dactyl.som.ohio-state.edu/Humdrum/" TargetMode="External"/><Relationship Id="rId14" Type="http://schemas.openxmlformats.org/officeDocument/2006/relationships/hyperlink" Target="http://dactyl.som.ohio-state.edu/Humdrum/" TargetMode="External"/><Relationship Id="rId15" Type="http://schemas.openxmlformats.org/officeDocument/2006/relationships/hyperlink" Target="http://dactyl.som.ohio-state.edu/Humdrum/" TargetMode="External"/><Relationship Id="rId16" Type="http://schemas.openxmlformats.org/officeDocument/2006/relationships/hyperlink" Target="http://dactyl.som.ohio-state.edu/Humdrum/" TargetMode="External"/><Relationship Id="rId17" Type="http://schemas.openxmlformats.org/officeDocument/2006/relationships/hyperlink" Target="http://dactyl.som.ohio-state.edu/Humdrum/" TargetMode="External"/><Relationship Id="rId18" Type="http://schemas.openxmlformats.org/officeDocument/2006/relationships/hyperlink" Target="http://dactyl.som.ohio-state.edu/Humdrum/" TargetMode="External"/><Relationship Id="rId19" Type="http://schemas.openxmlformats.org/officeDocument/2006/relationships/hyperlink" Target="http://dactyl.som.ohio-state.edu/Humdrum/" TargetMode="External"/><Relationship Id="rId20" Type="http://schemas.openxmlformats.org/officeDocument/2006/relationships/hyperlink" Target="http://www.ccarh.org/publications/books/cm/12/08/" TargetMode="External"/><Relationship Id="rId21" Type="http://schemas.openxmlformats.org/officeDocument/2006/relationships/hyperlink" Target="http://www.ccarh.org/publications/books/cm/12/08/" TargetMode="External"/><Relationship Id="rId22" Type="http://schemas.openxmlformats.org/officeDocument/2006/relationships/hyperlink" Target="http://www.ccarh.org/publications/books/cm/12/08/" TargetMode="External"/><Relationship Id="rId23" Type="http://schemas.openxmlformats.org/officeDocument/2006/relationships/hyperlink" Target="http://www.ccarh.org/publications/books/cm/12/08/" TargetMode="External"/><Relationship Id="rId24" Type="http://schemas.openxmlformats.org/officeDocument/2006/relationships/hyperlink" Target="http://www.ccarh.org/publications/books/cm/12/08/" TargetMode="External"/><Relationship Id="rId25" Type="http://schemas.openxmlformats.org/officeDocument/2006/relationships/hyperlink" Target="http://www.ccarh.org/publications/books/cm/12/08/" TargetMode="External"/><Relationship Id="rId26" Type="http://schemas.openxmlformats.org/officeDocument/2006/relationships/hyperlink" Target="http://www.ccarh.org/publications/books/cm/12/08/" TargetMode="External"/><Relationship Id="rId27" Type="http://schemas.openxmlformats.org/officeDocument/2006/relationships/hyperlink" Target="http://www.ccarh.org/publications/books/cm/12/08/" TargetMode="External"/><Relationship Id="rId28" Type="http://schemas.openxmlformats.org/officeDocument/2006/relationships/hyperlink" Target="http://www.ccarh.org/publications/books/cm/12/08/" TargetMode="External"/><Relationship Id="rId29" Type="http://schemas.openxmlformats.org/officeDocument/2006/relationships/hyperlink" Target="http://www.ccarh.org/publications/books/cm/12/08/" TargetMode="External"/><Relationship Id="rId30" Type="http://schemas.openxmlformats.org/officeDocument/2006/relationships/hyperlink" Target="http://music-ir.org/" TargetMode="External"/><Relationship Id="rId31" Type="http://schemas.openxmlformats.org/officeDocument/2006/relationships/hyperlink" Target="http://music-ir.org/" TargetMode="External"/><Relationship Id="rId32" Type="http://schemas.openxmlformats.org/officeDocument/2006/relationships/hyperlink" Target="http://music-ir.org/" TargetMode="External"/><Relationship Id="rId33" Type="http://schemas.openxmlformats.org/officeDocument/2006/relationships/hyperlink" Target="http://music-ir.org/" TargetMode="External"/><Relationship Id="rId34" Type="http://schemas.openxmlformats.org/officeDocument/2006/relationships/hyperlink" Target="http://music-ir.org/" TargetMode="External"/><Relationship Id="rId35" Type="http://schemas.openxmlformats.org/officeDocument/2006/relationships/hyperlink" Target="http://music-ir.org/" TargetMode="External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usicXM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068280"/>
            <a:ext cx="62960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Arial"/>
              </a:rPr>
              <a:t>Equipe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Douglas Mot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s André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z Cláudi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icardo Nev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onaldo Boei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</a:rPr>
              <a:t>Par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há a necessidade de escrever um parser de baixo ní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istem muitos parsers de XML a disposi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290-50B1-4774-BBC5-FBFAFC3BD2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6464C-7173-4FB3-A598-1883AAB13CB2}" type="datetime1">
              <a:rPr lang="en-US"/>
              <a:t>07/29/2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otiv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gundo Gino Robair,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número de formatos de arquivos universais estão sendo desenvolvidos para permitir o intercâmbio de músicas pela internet mais facilmente. No campo da notação musical, o mais excitante é o MusicXML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CD5-8399-4F77-B516-9908C18B57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8EE14-23FA-4363-8E8D-25D1F333F79A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presentando Música Computacionalm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77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as formas princip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udio: gravação do som em si, como cds e MP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mbólico: dados musicais fundamentais (pitches, rhythms) como em MI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é da forma simból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937-C95B-4FB3-91D7-499398EBBE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CC912-8BB1-457A-A5A6-31B8467BD67E}" type="datetime1">
              <a:rPr lang="en-US"/>
              <a:t>07/29/26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ecessidade De Um Novo Formato Musical Compartilh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mportância da publicação de notações musicais de forma amigável na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da programa musical tem seu próprio forma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úsicas são publicadas como imagens PDF, sem semântica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IDI é um formato compartilhado porém apresenta algumas limitaçõ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BD3-8FD5-4AFA-914F-9BC81DD1CD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4F583-56B8-4E57-88E3-302C0AC6E32A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meiras Tentativas De Superar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presenta notação melhor do que MI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s é pior do que MIDI para aplicações de performance e anál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MD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musical de propósito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ação formal para 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ito complexo; Nunca foi implementado comercial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8A5-16BF-49B1-B465-0C5DD7F43C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B70D9-AFE1-43E4-A837-8E99C64E5D78}" type="datetime1">
              <a:rPr lang="en-US"/>
              <a:t>07/29/26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bordagem De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entar fazer o mesmo que o MIDI (resolver o problema dos formatos proprietário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e para notação, análise e recuperação de inform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presentação textual e não biná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r suporte ao compartilhamento de dados entre aplicação e não substituir formatos proprietário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D30-D697-48DF-8CD3-87E9DE1EC2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1D842-725E-4061-A791-6F40E3C63201}" type="datetime1">
              <a:rPr lang="en-US"/>
              <a:t>07/29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Obter Sucesso Onde Muitos Falha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tem uma vantagem “injusta”: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ado em dois formatos musicais acadêmicos poderoso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seData e Humd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 desenvolvida iterativamente com o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F19-6470-4904-9C03-4F08B90383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F10CE-F553-4A2E-BBCA-1F3270656916}" type="datetime1">
              <a:rPr lang="en-US"/>
              <a:t>07/29/2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 Está Funcionand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onível sob licença sem royalty expedida pela W3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ado por programas comerciais: Finale, SharpEye Music Reader, Dol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doção mais rápida de um formato des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BF8-6A93-4BFA-92A2-029BE256BE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D0065-7FD0-48BE-8618-6F30CBE93E65}" type="datetime1">
              <a:rPr lang="en-US"/>
              <a:t>07/29/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tercâmbio Nos Softwares H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543640" cy="271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49528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verde são suportados por software disponíveis para venda hoj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amarelo estão em desenvolvimento ou são protótipos de softwar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D3D-3DAF-4507-80F0-AB3CE7DB7A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CA5A6-5411-405C-8B5C-42F3F2E5DC14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berdade De Escolha Para Os desenvolve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3008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matos anteriores limitam sua escolha de ferrament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inale plug-ins requerem códigos C/C++ no windows e/ou ma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umdrum requer conhecimento de Uni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erramentas do MuseData roda em um sistema especial (TenX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rometimento entre formatos e ferramentas tem efeito negativo na produtividade do desenvolved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8E9-6B41-4D83-8199-818143458B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45E15-A7F7-4598-9537-DA07F198FC34}" type="datetime1">
              <a:rPr lang="en-US"/>
              <a:t>07/29/26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isão geral de 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– um formato aberto para notação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tibilidade com MI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otações básicas de Music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monstração pr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61C-EDFF-47AC-835D-897D86457C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1AC53-6C2E-4707-A239-490DE29B0422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mbientes De Desenvolv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XML permite desenvolvimento em vários amb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gramas desenvolvidos 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isual Basic usando MSXML parser no windows (Recordar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Java usando Xerces parser no Linux, mac OS X e no windows (Xemu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 não utiliza parser no windows (Visi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F9C-BB61-452D-8550-B64C62838B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4A49E-C038-418C-A486-65B2E9AED4A3}" type="datetime1">
              <a:rPr lang="en-US"/>
              <a:t>07/29/26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vos Tipos De Uso Da Mús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705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lays portáteis de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ligência artificial na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cuperação de informação mus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cluir semântica quando for fazer uma busca de uma mús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26320" y="2438280"/>
            <a:ext cx="14176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BDF-0293-4E6B-AC05-6F211013A4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01862-4EFB-43A7-B329-EEC73E10C43F}" type="datetime1">
              <a:rPr lang="en-US"/>
              <a:t>07/29/26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atibilidade Com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contém 2 tipos de dad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ouv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MIDI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vi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Finale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EEB-4477-4DB4-9B85-E216F67CE7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1A74B-4966-4D3E-AB5B-B1777A2C50AA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Arquivo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quatro primeiras barras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près un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rê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abriel Faur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reve2" descr="First four bars of Après un rêve by Fauré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429000"/>
            <a:ext cx="7304040" cy="24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4EE-2BED-47C5-A8EF-02E9178A78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8F881-2005-443E-8E61-0625B2765EA5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conversor Finale produziu os seguintes atribu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visions&gt;12&lt;/division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fifths&gt;-3&lt;/fifth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mode&gt;minor&lt;/mod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s&gt;3&lt;/beats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-type&gt;4&lt;/beat-typ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2A4-46E3-4A55-BBD4-6739804FF8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E8C43-A37A-4CC6-BDC8-F132B9FFE04E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ivisions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rações musicais são normalmente citadas como frações: colcheia, semicolcheia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especifica o número de divisões por semicolcheia no início de uma pauta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pecifica a duração das notas em termos dessas divis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C2E-BA16-4D97-958E-58660CBB47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9037D-F3CA-4702-9C0F-A88BC426D51F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key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fifths&gt; especifica o número de bemóis ou sustenidos no elemento &lt;key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mode&gt; indica a modo do elemento &lt;key&gt;: major ou min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AF-88D6-49A1-B325-FB3B045094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AB464-6615-47F0-BDCB-8262D7E3E39D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im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representa de forma mais simples os elementos &lt;time&gt; padr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s&gt; representa o numer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-time&gt; representa o denomin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539-06B7-441E-ADD5-6815A469BC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142AC-4A6E-42F7-ACA6-89EF729BBA25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transpose&gt; representa o que deve ser adicionado ao pitch escrito para se obter o som correto do pi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chromatic&gt; representa o número de passos cromáticos a serem adicionados ao pitch escr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diatonic&gt;, &lt;octave-change&gt; e &lt;double elements&gt; são opcion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8AC-F8D5-47A9-B513-E731DF5A30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043E4-D519-4CD2-A3CB-1EF5A261053B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a pauta escrita para 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umpete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 deve ser escrita em 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 um pian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ar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a transposição é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pass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at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)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 do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lf steps crom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atonic&gt;-1&lt;/diaton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chromatic&gt;-2&lt;/chromat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54F-6AA4-44CB-ABCD-3E88CF89D5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7B198-097D-4970-881C-F5A1BA50948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3366"/>
                </a:solidFill>
                <a:latin typeface="Arial"/>
              </a:rPr>
              <a:t>Extensible Markup Language (XML) é linguagem de marcação de dados (meta-markup language) que provê um formato para descrever dados estruturados. Isso facilita declarações mais precisas do conteúdo e resultados mais significativos de busca através de múltiplas plataformas. O XML também permite o surgimento de uma nova geração de aplicações de manipulação e visualização de dados via interne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9F8-E168-4E70-916B-C3AE40A8B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A6590-2637-4A6B-9A66-A0D126CD8667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it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IDI, é representado por um nú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usicXML, se divide em 3 par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elemento &lt;step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A,B,C,D,E,F,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opcional &lt;alter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-1 para bemol, 1 para susteni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&lt;octav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4 para a oitava começando com C cen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FEB-FAF2-4D0D-AFE7-C79459B028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BE64E-CC6F-4FB5-8197-3CB3F4ADD3DA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pitch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not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tep&gt;E&lt;/step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alter&gt;-1&lt;/alter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octave&gt;5&lt;/octav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duration&gt;12&lt;/dur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ie type="start"/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yllabic&gt;end&lt;/syllabic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ext&gt;meil&lt;/text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032-85DE-4C36-BE83-989D4123C0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A31D2-BE94-40BF-AC09-90D594149B42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rest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descansos, o elemento &lt;rest&gt; é usado no lugar do elemento &lt;pitch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 de descanso em 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est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uration&gt;36&lt;/duration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9E1-5A52-47C6-BD1A-0E98021138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7CD0-ACC2-4192-A5FA-D3A73231B80B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uration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iro que representa a duração de uma nota em termos de divisões por semicolche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o semicolcheia do nosso exemplo tem 12 divisões, a duração dela é 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fusa do exemplo tem duração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semínima do exemplo tem duração 4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A28-8E76-4A47-90DF-BC4EF6F59F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37EE-4203-4B95-9497-B7ADD56F3F4A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mento &lt;ti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e sonora de uma nota ligada é indicada pelo elemento &lt;ti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note&gt; pode ter até 2 elementos &lt;tie&gt;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art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op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B3F-7DB9-4FBF-9195-DE69F2694E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81FD3-EC14-4F82-BE11-56ED05D129FE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chord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tocar acordes, devemos indicar que uma nota deve começar ao mesmo tempo da nota an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chord&gt; deve ser adicionado à nota logo após o início do elemento &lt;not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ord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473-73ED-462A-AC2F-582E118A95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8C658-2B4C-4EB4-97EB-2AAB3116C472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syllab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usa um elemento opcional &lt;syllabic&gt; indicando como uma sílaba se encaixa numa palav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s valores de &lt;syllabic&gt; podem ser “single”, “begin”, “end” ou “middl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yllabic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197-0CD4-4EEA-9414-8770AA8E41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38CB4-A9F2-4123-B205-52C54D1123A5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lyr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por ve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1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2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inais de linha e de parágra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lin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paragraph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para humming e laug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B52-1AF2-49F8-B31E-F88DFC09E1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9CF03-0409-4E25-A38C-17E6281FCBD0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úsica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nquanto instrumentos de sopro só podem ser tocados uma nota por vez, alguns instrumentos podem ter várias pautas simultân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itura do piano tem uma pauta para cada mão, por 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D6F-A0BB-4274-BC8B-D1705D869C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201DA-E5D6-4F9B-BF94-64715E238E60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imeira barr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Prelude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deric Chopin, Op. 28, No. 20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chopin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505320"/>
            <a:ext cx="4480200" cy="28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DA3-5010-4538-B5E4-7AA096C908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DEBF-497D-4F45-90FA-CA025759469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XML permite a definição de um número infinito de tags. Enquanto no HTML, se as tags podem ser usadas para definir a formatação de caracteres e parágrafos, o XML provê um sistema para criar tags para dados estrutu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881-C6B9-403F-B3CA-1B231A5989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0DA0E-F216-43D9-A92B-341DD9597B1D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s &lt;forward&gt; e &lt;backup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representar pautas paralelas, precisamos mover o contador de duração de forma independente para cada pau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forward&gt; e &lt;backup&gt; foram feitos para implementar Multi-Pau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ultipart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793-40C2-4AA5-BB40-00B790A90F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9DB64-2EC4-4F73-B6D4-4471DB941DBE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 notação de uma música é representada em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mo as cordas do piano são divididas entre as pauta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tinção entre elementos que representam o som da música versus o aspecto visual d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da aparência musical, que são de grande uso para aplicações de notação mus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C68-CC75-45B4-B6FF-2C7EDC62AC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37FB9-732C-4AED-84B9-28215C31D183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 "Après un rêve" de Gabriel Faur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971800"/>
            <a:ext cx="88394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78A-2B75-4614-9D5B-9012DBB815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45C62-77D6-4EDC-A462-950EDB310CB4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ta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indica o número de pau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2 pautas para p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2&lt;/stav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43600" y="3657600"/>
            <a:ext cx="476280" cy="1247760"/>
            <a:chOff x="5943600" y="3657600"/>
            <a:chExt cx="476280" cy="1247760"/>
          </a:xfrm>
        </p:grpSpPr>
        <p:graphicFrame>
          <p:nvGraphicFramePr>
            <p:cNvPr id="189" name=""/>
            <p:cNvGraphicFramePr/>
            <p:nvPr/>
          </p:nvGraphicFramePr>
          <p:xfrm>
            <a:off x="5943600" y="3676680"/>
            <a:ext cx="209520" cy="122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3600" y="3676680"/>
                      <a:ext cx="209520" cy="12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153120" y="3657600"/>
            <a:ext cx="133560" cy="115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3120" y="3657600"/>
                      <a:ext cx="13356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6286680" y="3657600"/>
            <a:ext cx="133200" cy="115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86680" y="3657600"/>
                      <a:ext cx="13320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70F-5A6B-424D-A681-467E75619D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7EE11-6D56-4A8B-B5DF-58F973F1BC94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dica clave para a pau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tribu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numb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úmero da pauta, se existe mais de um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ign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ota representada n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lin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inha da pauta a partir do fu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F8B-0A11-403F-B00D-E401BD37A8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F012D-9E30-4E81-A427-E3ACC97BD278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1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G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2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2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F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4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638680" y="3352680"/>
          <a:ext cx="78120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352680"/>
                    <a:ext cx="7812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8AB-ECB6-4F86-8D65-72ECC6A4B7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2CE9F-7D69-481D-90A1-768BF8D7D7FD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ão usados para expressões que não estão ligadas a uma cert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395280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5280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52480" y="3876840"/>
            <a:ext cx="541044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B89-3207-450B-9E55-15CD34455F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BE8F7-FA72-4A3A-A45C-3B30B909C978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olc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aparecerá em acima da pauta, em itálico e um pouco antes da primeira no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 placement="above"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words font-style="italic" relative-x="-12"&gt;dolce&lt;/words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266688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895480" y="2590920"/>
            <a:ext cx="4572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903-E8A9-4ED3-AB19-170B735C01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60841-7174-416F-9EF2-59EC3D242475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ipos de notas simból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ype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indica o símbolo da duração d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mibreve, mínima, semínima, colcheia, semicolcheia, fusa, semifusa e quartif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Image2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3429000" cy="642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09960" y="529596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Monotype Corsiva"/>
              </a:rPr>
              <a:t>4     2     1   1/2  1/4  1/8  1/16  1/3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823-4545-4464-9CE7-B916D335C8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C5400-935A-48C3-9F8C-F9C8FDA21583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upl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é usado para facilitar o uso de tu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 3 notas ocupam o espaço d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actual-notes&gt;3&lt;/actu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normal-notes&gt;2&lt;/norm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time-modific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D49-5093-4FC9-ABE2-29C2554212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EBE9-E5D4-4917-B781-A19DA5901C32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XML pode ter dados declarados como sendo taxas de preços, um título de livro ou qualquer outro tipo de elemento de d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s tags XML são adotadas por intranets de organizações, e também via internet, há uma correspondente habilidade em manipular e procurar por dados independentemente das aplicações onde os quais são utiliz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3AD-32B2-404A-8288-27C9CA8417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B3D63-86F8-4AA4-BDB2-92B6BDD2F366}" type="datetime1">
              <a:rPr lang="en-US"/>
              <a:t>07/29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ntido da haste n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em&gt;up&lt;/ste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igação entre not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beam number="1"&gt;begin&lt;/bea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172200" y="2819520"/>
          <a:ext cx="25704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8195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310440" y="4648320"/>
          <a:ext cx="25704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044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600960" y="4648320"/>
          <a:ext cx="25704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096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477120" y="4724280"/>
            <a:ext cx="3045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9A6-4F86-4B77-9626-539547494E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7A1F5-7DB9-4F11-BF01-D86CF45C4B33}" type="datetime1">
              <a:rPr lang="en-US"/>
              <a:t>07/29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para diferenciar o que ocorre na música com múltiplas par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ocia à pauta de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ve ser usado sempre que possível, sobretudo nas partes de p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217-9579-43ED-89B6-49ABC5D0C4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3B0EE-4044-44EF-9CA3-46809D4E62BF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nota abaixo aparecerá na pauta 2 de piano, juntamente com a pauta 1 da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1&lt;/voic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2&lt;/staff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8FC-FC0C-4838-9DA4-32C4D96766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E987D-2210-46CD-A5C2-FE6E60A4B9CA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666880"/>
            <a:ext cx="7304040" cy="2422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605480" y="2743200"/>
            <a:ext cx="3474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05480" y="4114800"/>
            <a:ext cx="3474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F3D-017F-4137-972A-9AE5212D95E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35635-7633-45D5-B6F4-3EF3A4CC09B9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rpEy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verte imagem em notação de música computadoriza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lva arquivos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8F3-CC08-49B2-AC7C-2864D174C9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33E65-12E5-4880-AD46-D502B7748790}" type="datetime1">
              <a:rPr lang="en-US"/>
              <a:t>07/29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aBa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ê e escreve arquivos MusicXM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É um editor de tablatura de 10 trilhas e um tocador 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AEC-B13E-4629-9192-B1AD2E9ABA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6540-7581-4E39-BA44-106BE5EFDE07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Guit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biente para guitarrist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oda em Linux, Solaris e FreeBS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porte básico a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AC7-EA28-477F-B1FF-7D5F10B48B48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35C42-3C66-47FD-9ADA-9BBEFF08C5E7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reções Futu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star e refinar MusicXML com aplicações de recuperação de informação e análi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doção contínua pelas aplicações musicais para ampliar o mercado de softwares music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dronização, depois de uma maior experiência de implementação, especialmente em música pop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inaturas digitais XML para seguranç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ção na educação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9AE-C468-4227-92A8-43366E53C0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C1722-0424-4742-BFDE-876EDB36F24A}" type="datetime1">
              <a:rPr lang="en-US"/>
              <a:t>07/29/26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usicxm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musedata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org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dacty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.Som.Ohio-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state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.Edu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Humdrum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ccarh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publication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book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/cm/12/08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music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-ir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469-8188-4886-83C0-E8F45CA967F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DC60-89FB-45B3-AC74-87B115A9A797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Verdana"/>
              </a:rPr>
              <a:t>Esses dados podem ser distribuídos pela rede e apresentados em um browser como o Internet Explorer 5 de várias formas possíveis, ou então eles podem ser transferidos para outras aplicações para processamento futuro e/ou visualiz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3AB-1FAC-4FDD-ACCA-8E248C6D2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EFBC8-5E9B-4A7D-BA32-C0906E9F3699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 xmlns:o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urn:schemas-microsoft-com:office:office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Main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../license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1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2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header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filelist.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681-B48F-49A8-97C7-7AF89FA1DA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03B59-530D-4A91-8B55-0FFCDFD9999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usicXM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compartilhado para notação, análise e recuperação de inform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artilhamento de músicas entre diversos progra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nvolvido para criar método de publicação de partituras musicais na internet de forma amigá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973-056E-4F15-A1E2-9A6ED18394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7210C-5DB1-4816-A758-3C2F7174AFBB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rtilhamento entre vários program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IDI: formato compartilhado mais conheci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acilidade de manipul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rquivo texto é muito mais fácil de manipular que um arquivo proprietário de um determinado progr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BE8-FCB1-40A1-8200-C6BF6677F2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AC6B8-A791-4A53-A522-D91DD18DAA00}" type="datetime1">
              <a:rPr lang="en-US"/>
              <a:t>07/29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16:47:22Z</dcterms:created>
  <dc:creator>rmb</dc:creator>
  <dc:description/>
  <dc:language>en-US</dc:language>
  <cp:lastModifiedBy>rmb</cp:lastModifiedBy>
  <dcterms:modified xsi:type="dcterms:W3CDTF">2002-09-12T17:34:13Z</dcterms:modified>
  <cp:revision>223</cp:revision>
  <dc:subject/>
  <dc:title>The MIDI-Compatible Part of MusicXML</dc:title>
</cp:coreProperties>
</file>