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EACC-545D-4ACF-A9BF-306ECACE0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usical Exper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617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5640" y="4802040"/>
            <a:ext cx="617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48240" y="388620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5640" y="480204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48240" y="480204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198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72560" y="3886200"/>
            <a:ext cx="198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59480" y="3886200"/>
            <a:ext cx="198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5640" y="4802040"/>
            <a:ext cx="198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72560" y="4802040"/>
            <a:ext cx="198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59480" y="4802040"/>
            <a:ext cx="198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285640" y="38862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3011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48240" y="3886200"/>
            <a:ext cx="3011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285640" y="228564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48240" y="3886200"/>
            <a:ext cx="3011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5640" y="480204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5640" y="38862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3011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48240" y="388620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48240" y="480204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48240" y="388620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5640" y="4802040"/>
            <a:ext cx="617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617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285640" y="4802040"/>
            <a:ext cx="617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48240" y="388620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5640" y="480204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48240" y="480204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198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72560" y="3886200"/>
            <a:ext cx="198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59480" y="3886200"/>
            <a:ext cx="198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285640" y="4802040"/>
            <a:ext cx="198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372560" y="4802040"/>
            <a:ext cx="198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59480" y="4802040"/>
            <a:ext cx="198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3011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48240" y="3886200"/>
            <a:ext cx="3011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5640" y="228564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48240" y="3886200"/>
            <a:ext cx="3011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5640" y="480204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3011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48240" y="388620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48240" y="480204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48240" y="3886200"/>
            <a:ext cx="3011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5640" y="4802040"/>
            <a:ext cx="617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091440" cy="304560"/>
          </a:xfrm>
          <a:custGeom>
            <a:avLst/>
            <a:gdLst/>
            <a:ahLst/>
            <a:rect l="l" t="t" r="r" b="b"/>
            <a:pathLst>
              <a:path w="4224" h="192">
                <a:moveTo>
                  <a:pt x="0" y="96"/>
                </a:moveTo>
                <a:lnTo>
                  <a:pt x="3264" y="96"/>
                </a:lnTo>
                <a:lnTo>
                  <a:pt x="3360" y="0"/>
                </a:lnTo>
                <a:lnTo>
                  <a:pt x="4224" y="0"/>
                </a:lnTo>
                <a:lnTo>
                  <a:pt x="4224" y="192"/>
                </a:lnTo>
                <a:lnTo>
                  <a:pt x="0" y="192"/>
                </a:lnTo>
                <a:lnTo>
                  <a:pt x="0" y="96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070760" y="648504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utação Mu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0800000">
            <a:off x="52560" y="75960"/>
            <a:ext cx="9091440" cy="304560"/>
          </a:xfrm>
          <a:custGeom>
            <a:avLst/>
            <a:gdLst/>
            <a:ahLst/>
            <a:rect l="l" t="t" r="r" b="b"/>
            <a:pathLst>
              <a:path w="4224" h="192">
                <a:moveTo>
                  <a:pt x="0" y="96"/>
                </a:moveTo>
                <a:lnTo>
                  <a:pt x="3264" y="96"/>
                </a:lnTo>
                <a:lnTo>
                  <a:pt x="3360" y="0"/>
                </a:lnTo>
                <a:lnTo>
                  <a:pt x="4224" y="0"/>
                </a:lnTo>
                <a:lnTo>
                  <a:pt x="4224" y="192"/>
                </a:lnTo>
                <a:lnTo>
                  <a:pt x="0" y="192"/>
                </a:lnTo>
                <a:lnTo>
                  <a:pt x="0" y="96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fig" descr=""/>
          <p:cNvPicPr/>
          <p:nvPr/>
        </p:nvPicPr>
        <p:blipFill>
          <a:blip r:embed="rId2"/>
          <a:stretch/>
        </p:blipFill>
        <p:spPr>
          <a:xfrm>
            <a:off x="76320" y="5562720"/>
            <a:ext cx="512640" cy="1095120"/>
          </a:xfrm>
          <a:prstGeom prst="rect">
            <a:avLst/>
          </a:prstGeom>
          <a:ln w="0">
            <a:noFill/>
          </a:ln>
        </p:spPr>
      </p:pic>
      <p:pic>
        <p:nvPicPr>
          <p:cNvPr id="4" name="nota1" descr=""/>
          <p:cNvPicPr/>
          <p:nvPr/>
        </p:nvPicPr>
        <p:blipFill>
          <a:blip r:embed="rId3"/>
          <a:stretch/>
        </p:blipFill>
        <p:spPr>
          <a:xfrm>
            <a:off x="2743200" y="1565280"/>
            <a:ext cx="5105520" cy="4454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-198000" y="10620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102E-8BF2-4EFD-AE79-6DC23D41142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477120"/>
            <a:ext cx="9091440" cy="304560"/>
          </a:xfrm>
          <a:custGeom>
            <a:avLst/>
            <a:gdLst/>
            <a:ahLst/>
            <a:rect l="l" t="t" r="r" b="b"/>
            <a:pathLst>
              <a:path w="4224" h="192">
                <a:moveTo>
                  <a:pt x="0" y="96"/>
                </a:moveTo>
                <a:lnTo>
                  <a:pt x="3264" y="96"/>
                </a:lnTo>
                <a:lnTo>
                  <a:pt x="3360" y="0"/>
                </a:lnTo>
                <a:lnTo>
                  <a:pt x="4224" y="0"/>
                </a:lnTo>
                <a:lnTo>
                  <a:pt x="4224" y="192"/>
                </a:lnTo>
                <a:lnTo>
                  <a:pt x="0" y="192"/>
                </a:lnTo>
                <a:lnTo>
                  <a:pt x="0" y="96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70760" y="648504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utação Mu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fig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1538280" cy="3352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10800000">
            <a:off x="52560" y="75600"/>
            <a:ext cx="9091440" cy="990360"/>
          </a:xfrm>
          <a:custGeom>
            <a:avLst/>
            <a:gdLst/>
            <a:ahLst/>
            <a:rect l="l" t="t" r="r" b="b"/>
            <a:pathLst>
              <a:path w="4224" h="192">
                <a:moveTo>
                  <a:pt x="0" y="96"/>
                </a:moveTo>
                <a:lnTo>
                  <a:pt x="3264" y="96"/>
                </a:lnTo>
                <a:lnTo>
                  <a:pt x="3360" y="0"/>
                </a:lnTo>
                <a:lnTo>
                  <a:pt x="4224" y="0"/>
                </a:lnTo>
                <a:lnTo>
                  <a:pt x="4224" y="192"/>
                </a:lnTo>
                <a:lnTo>
                  <a:pt x="0" y="192"/>
                </a:lnTo>
                <a:lnTo>
                  <a:pt x="0" y="96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152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Equipe Blue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nota1" descr=""/>
          <p:cNvPicPr/>
          <p:nvPr/>
        </p:nvPicPr>
        <p:blipFill>
          <a:blip r:embed="rId3"/>
          <a:stretch/>
        </p:blipFill>
        <p:spPr>
          <a:xfrm>
            <a:off x="2743200" y="1565280"/>
            <a:ext cx="5105520" cy="4454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3733920"/>
            <a:ext cx="57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3.jpe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jpe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jpe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jpeg"/><Relationship Id="rId5" Type="http://schemas.openxmlformats.org/officeDocument/2006/relationships/image" Target="../media/image7.png"/><Relationship Id="rId6" Type="http://schemas.openxmlformats.org/officeDocument/2006/relationships/image" Target="../media/image3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7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3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jpe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jpe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jpe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hyperlink" Target="http://www.cus.cam.ac.uk/~ssb22/project/dissertation.html#tth_chAp1" TargetMode="External"/><Relationship Id="rId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sonicartsnetwork.org/ARTICLES/article_robinson.html" TargetMode="External"/><Relationship Id="rId3" Type="http://schemas.openxmlformats.org/officeDocument/2006/relationships/hyperlink" Target="http://www.sonicartsnetwork.org/ARTICLES/article_robinson.html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alanr.www.media.mit.edu/people/alanr/phdthesiprop/thesisprop.html" TargetMode="External"/><Relationship Id="rId6" Type="http://schemas.openxmlformats.org/officeDocument/2006/relationships/hyperlink" Target="http://alanr.www.media.mit.edu/people/alanr/phdthesiprop/thesisprop.html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-poleia.lip6.fr/~fdp/MusES.html" TargetMode="External"/><Relationship Id="rId9" Type="http://schemas.openxmlformats.org/officeDocument/2006/relationships/hyperlink" Target="http://www-poleia.lip6.fr/~fdp/MusES.html" TargetMode="External"/><Relationship Id="rId10" Type="http://schemas.openxmlformats.org/officeDocument/2006/relationships/image" Target="../media/image3.jpeg"/><Relationship Id="rId11" Type="http://schemas.openxmlformats.org/officeDocument/2006/relationships/hyperlink" Target="http://www.geocities.com/mundodemerlin/renascenca.htm" TargetMode="External"/><Relationship Id="rId12" Type="http://schemas.openxmlformats.org/officeDocument/2006/relationships/hyperlink" Target="http://www.geocities.com/mundodemerlin/renascenca.htm" TargetMode="External"/><Relationship Id="rId1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presentação musical &amp; AP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285640" y="38862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minário de Computação Mus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1522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Bruno &amp; Erico &amp; Gustavo &amp; Luciano &amp; Re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to I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285640" y="38862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ção Mus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presentação Musica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undo Re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É uma experiência, não existe armazena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ús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artitu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Tablatu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ifr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artituras+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hecimento (conceit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495320" y="19051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undo Comput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Wave, PCM, Aiff, mp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Linguagens de Sínte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ús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ID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IDI+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1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Linguagens de Alto Ní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presentação Computaciona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303720" y="5486400"/>
            <a:ext cx="5383080" cy="608040"/>
            <a:chOff x="3303720" y="5486400"/>
            <a:chExt cx="5383080" cy="608040"/>
          </a:xfrm>
        </p:grpSpPr>
        <p:sp>
          <p:nvSpPr>
            <p:cNvPr id="133" name=""/>
            <p:cNvSpPr/>
            <p:nvPr/>
          </p:nvSpPr>
          <p:spPr>
            <a:xfrm>
              <a:off x="3303720" y="5486400"/>
              <a:ext cx="2411280" cy="6080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D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46800" y="5486400"/>
              <a:ext cx="2340000" cy="6080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Wa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303720" y="4648320"/>
            <a:ext cx="5383080" cy="608040"/>
            <a:chOff x="3303720" y="4648320"/>
            <a:chExt cx="5383080" cy="608040"/>
          </a:xfrm>
        </p:grpSpPr>
        <p:sp>
          <p:nvSpPr>
            <p:cNvPr id="136" name=""/>
            <p:cNvSpPr/>
            <p:nvPr/>
          </p:nvSpPr>
          <p:spPr>
            <a:xfrm>
              <a:off x="3303720" y="4648320"/>
              <a:ext cx="2411280" cy="6080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API de Manipul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(JavaSoun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46800" y="4648320"/>
              <a:ext cx="2340000" cy="6080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inguagens de Sínte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SOM-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303720" y="3809880"/>
            <a:ext cx="5383080" cy="608040"/>
            <a:chOff x="3303720" y="3809880"/>
            <a:chExt cx="5383080" cy="608040"/>
          </a:xfrm>
        </p:grpSpPr>
        <p:sp>
          <p:nvSpPr>
            <p:cNvPr id="139" name=""/>
            <p:cNvSpPr/>
            <p:nvPr/>
          </p:nvSpPr>
          <p:spPr>
            <a:xfrm>
              <a:off x="3303720" y="3809880"/>
              <a:ext cx="2411280" cy="6080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Representação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Conhecimento (Mus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6800" y="3809880"/>
              <a:ext cx="2340000" cy="6080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Manipulação Mu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via Wa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303720" y="2971800"/>
            <a:ext cx="2411280" cy="608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ftwares especí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PAC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5240" y="5486400"/>
            <a:ext cx="1601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m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á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5240" y="4649760"/>
            <a:ext cx="1601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m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str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5240" y="3809880"/>
            <a:ext cx="1601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guagen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to Ní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5240" y="2971800"/>
            <a:ext cx="1601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lic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10280" y="23018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43600" y="2133720"/>
            <a:ext cx="0" cy="4267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230184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ú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presentação Computaciona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ormas de representaçã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Áudio: 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presentação “Procedimental”: MID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oftwares editores de partitura e seqüenciadores (MIDI Extendid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inguagens específ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Áudi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ostragem do comportamento das ondas sonoras ao longo do tem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proveitamento de s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ag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trag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nhecimento de padrões mais difíc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to “matricia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Áudi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oftwa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C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eg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ound Fo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Wave labs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ID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sic Instrument Digital Interface”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oteiro (“log”) de como a máquina deve executar a mús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aproveitamento de s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ransposi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teração de and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teração de timb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ixagem, Filtragem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ID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conhecimento de padrões simplific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ormato “vetorial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tring Match” + “Know How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oftwares/AP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Java Sound: MI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he Jazz Guitarrist (play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Karaokê (.kar), SM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oftwares editores de partitura e seqüenciador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IDI Estendid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rmazenamento de posição e tempo de objetos music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ransiç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ventos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cilidade na representação da música em 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IDI Estendid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aproveitamento de so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aproveitamento de objetos music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ser Friendly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conhecimento de Padrõ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drões de objetos music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ssível comparação gráf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to 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5640" y="38862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IDI Estendid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oftwa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ditor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inale, Encore, Sibeliu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qüenciador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akewalk, Anvil, Protool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inguagens Específica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ntativa de representar não a música, mas o conhecimento mus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tos de alto nível para representar tais conhecimen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ção entre objetos gera a mús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inguagens Específica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aproveitamento music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uso de conhecimentos music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deal para um “compositor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conhecimento de Padrõ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drões representados pelos obje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oftwar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and in a B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Jamm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???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to II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2285640" y="38862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ção de Conhecimento Mus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o representar a músic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digma O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ção de alto nível do conhecimento mu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dade na implementação (materialização) de diferentes concei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nomia dos obje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rança e Deleg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us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stema desenvolvido na Univ. Paris V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. Pachet, G. Ramalho, P.-Y. Rolland, P. Roy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presenta o conhecimento musical e suas propriedades através do paradigma O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motiv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lataforma reutilizável em várias aplicações para representar, criar e manipular objetos musicai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mplementado em Small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Quanto ao temp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mpo possui papel importante na mús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os de represent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valo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empo de início + dur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nto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tas dispostas em uma linha tempo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o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ensagens de contro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ão temporai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ão dependem do te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ramente conceitu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divis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ão dependentes de oitava: Conteúdo relat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a, Intervalo, Acor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entes de oitava: Freqüências específic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cala, Nota dependente de oitava, acorde dependente de oita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bjeto Not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presenta a nota abstr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tendida p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ta Natural: D </a:t>
            </a:r>
            <a:r>
              <a:rPr b="0" lang="pt-B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R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ta Altera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ota Sustenida: D#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Ré susten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ota Bemol: Db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Ré bem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ota Sustenida dobrada: D##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Ré sustenido dobrad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ota Bemol dobrada: Dbb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Ré bemol dobr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bjeto Not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ribu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esso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en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m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T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2762280" y="1666800"/>
            <a:ext cx="61531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otivaçã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 que representar músic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ervar conhecimento mu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nar mús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ronizar os mús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r e edit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a comput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produzi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presentar conhecimento mu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ri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bjeto Interval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tribu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ip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Quantas notas serão enumera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x: segunda, terça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emit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epresentam a distância entre os semit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x: 1 (Dó), 2(Dó#/Réb), 3(Ré)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s semitons são restritos pelo ti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bjeto Escal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ção de seqüência dentro de um grupo definido de sete intervalos, a partir de uma rai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ribut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iz: no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o: maior, menor, menor harmônica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ota Dependente de Oita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ficação da Freqüência da No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ribut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a: Dó, Ré, Mi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itava: 1,2,3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bjeto Acor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junto de notas formado por uma estrutura aplicada sobre uma rai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tribut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aiz: No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trutura: 7M, dim5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7M </a:t>
            </a:r>
            <a:r>
              <a:rPr b="0" lang="pt-B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Dó+Mi+Sol+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dim5 </a:t>
            </a:r>
            <a:r>
              <a:rPr b="0" lang="pt-B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Ré+Fá+Lá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corde Dependente de Oita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eção de notas dependentes específ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ribu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a de Notas dependentes de oit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: Acorde C3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tas (Dó3, Mi3, Sol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mporai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erialização dos concei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eito de Lap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o tempo como dois atribu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íc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étodos para acesso e compar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etria com os Não Tempor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mporai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iferentes abordag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rientada à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Objetos temporais criados dinamicam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Lapso “fora” das notas – melhor modularid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xemplo: MODE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rientada à anál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anipulação e reconhecimento de padrões loca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Lapso associado às notas – autonomia dos obje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xemplo: PAC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mporai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tos Tempor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ção básica dos objetos que dependem do te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 Tempo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rde Tempo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lo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 Silêncio Musical não possui  uma equivalência não tempo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eção de Objetos Tempor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bjetos Temporai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as Tempor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 Dependente de Esca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rdes Tempor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rde Dependente de Esca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elodia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ribu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mad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s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as (instâncias de Coleção de Objetos Tempora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presentação Musical:Históri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úsic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empre existiu em diferentes povo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alta de forma de transcrição e perpetuação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récia (330 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imeiros a sistematizar o conceito de som e definir notas e escala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otas  baseadas no alfabeto grego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scalas divididas em mod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olio, locrio, jonico, dorico, frigio, lidio, mixoli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erança e Delegaçã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classe definida a partir de uma clas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: Notas Temporais herdam de Objeto Tempo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do uma classe possui características de duas classes distintas o que faze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ança Múltip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rdar de muitos objetos + estratégia de resolução de confli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g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ter como atributo uma instância de outra classe + árvore de herança sim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erança e Delegaçã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4343400" y="19810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1600" y="1981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es Tempor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3880" y="2666880"/>
            <a:ext cx="1905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tos Tempor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676520" y="4952880"/>
            <a:ext cx="2361960" cy="1371600"/>
            <a:chOff x="1676520" y="4952880"/>
            <a:chExt cx="2361960" cy="1371600"/>
          </a:xfrm>
        </p:grpSpPr>
        <p:sp>
          <p:nvSpPr>
            <p:cNvPr id="240" name=""/>
            <p:cNvSpPr/>
            <p:nvPr/>
          </p:nvSpPr>
          <p:spPr>
            <a:xfrm>
              <a:off x="1676520" y="4952880"/>
              <a:ext cx="99036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ta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empora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95480" y="5791320"/>
              <a:ext cx="11430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cord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empora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362320" y="4190760"/>
            <a:ext cx="1143000" cy="1600200"/>
            <a:chOff x="2362320" y="4190760"/>
            <a:chExt cx="1143000" cy="1600200"/>
          </a:xfrm>
        </p:grpSpPr>
        <p:sp>
          <p:nvSpPr>
            <p:cNvPr id="243" name=""/>
            <p:cNvSpPr/>
            <p:nvPr/>
          </p:nvSpPr>
          <p:spPr>
            <a:xfrm flipV="1">
              <a:off x="2362320" y="4191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505320" y="41907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85800" y="3048120"/>
            <a:ext cx="3200400" cy="1218960"/>
            <a:chOff x="685800" y="3048120"/>
            <a:chExt cx="3200400" cy="1218960"/>
          </a:xfrm>
        </p:grpSpPr>
        <p:sp>
          <p:nvSpPr>
            <p:cNvPr id="246" name=""/>
            <p:cNvSpPr/>
            <p:nvPr/>
          </p:nvSpPr>
          <p:spPr>
            <a:xfrm>
              <a:off x="1752480" y="3886200"/>
              <a:ext cx="21337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bjetos de Deleg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819520" y="30481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5800" y="3886200"/>
              <a:ext cx="8380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ilên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1295280" y="3048120"/>
              <a:ext cx="4572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5257800" y="1981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es Não Tempor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362320" y="3885840"/>
            <a:ext cx="2743200" cy="1905480"/>
            <a:chOff x="2362320" y="3885840"/>
            <a:chExt cx="2743200" cy="1905480"/>
          </a:xfrm>
        </p:grpSpPr>
        <p:sp>
          <p:nvSpPr>
            <p:cNvPr id="252" name=""/>
            <p:cNvSpPr/>
            <p:nvPr/>
          </p:nvSpPr>
          <p:spPr>
            <a:xfrm flipV="1">
              <a:off x="2362320" y="3885840"/>
              <a:ext cx="2209680" cy="1066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505320" y="5257800"/>
              <a:ext cx="1600200" cy="533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495680" y="2743200"/>
            <a:ext cx="3581640" cy="2743200"/>
            <a:chOff x="4495680" y="2743200"/>
            <a:chExt cx="3581640" cy="2743200"/>
          </a:xfrm>
        </p:grpSpPr>
        <p:sp>
          <p:nvSpPr>
            <p:cNvPr id="255" name=""/>
            <p:cNvSpPr/>
            <p:nvPr/>
          </p:nvSpPr>
          <p:spPr>
            <a:xfrm>
              <a:off x="5562720" y="2743200"/>
              <a:ext cx="761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t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95680" y="3581280"/>
              <a:ext cx="19051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tas Depende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05520" y="5181480"/>
              <a:ext cx="20574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cordes Depende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15200" y="3352680"/>
              <a:ext cx="7621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sca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10080" y="4267080"/>
              <a:ext cx="10670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cor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6019920" y="45716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ferência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ACHET, FRANÇOIS; RAMALHO, GEBER; CARRIVE, JEAN. 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Representing Temporal Musical Objects and Reasoning in the MusES System.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Journal of New Research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Vol. 25 (1996), pp. 252-27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AMODT, AGNAR; PLAZA, ENRIC. 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Case-Based Reasoning: Foundational Issues, Methodological Variations, and System Approache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. AI Communications. IOS Press, Vol. 7:1, pp 39-5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AMALHO, GEBER. 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Pattern Reuse in Tonal Music Improvisation and Accompaniment System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BROWN, SILAS S. 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A Representation and Conversion System for Musical Notation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  <a:hlinkClick r:id="rId5"/>
              </a:rPr>
              <a:t>http://www.cus.cam.ac.uk/~ssb22/project/dissertation.html#tth_chAp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Referê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ferência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SONICS ARTS ARTICLE. 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Composing with Computers by Martin Robinson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  <a:hlinkClick r:id="rId2"/>
              </a:rPr>
              <a:t>http://www.sonicartsnetwork.org/ARTICLES/article_robinson.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  <a:hlinkClick r:id="rId3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UTTENBERG, ALLAN. 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Memory Representation and Deployment in Musical Thinking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. 1994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  <a:hlinkClick r:id="rId5"/>
              </a:rPr>
              <a:t>http://alanr.www.media.mit.edu/people/alanr/phdthesiprop/thesisprop.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  <a:hlinkClick r:id="rId6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The MusES System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  <a:hlinkClick r:id="rId8"/>
              </a:rPr>
              <a:t>http://www-poleia.lip6.fr/~fdp/MusES.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  <a:hlinkClick r:id="rId9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O Mundo de Merlin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  <a:hlinkClick r:id="rId11"/>
              </a:rPr>
              <a:t>http://www.geocities.com/mundodemerlin/renascenca.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  <a:hlinkClick r:id="rId12"/>
              </a:rPr>
              <a:t>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Referê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5640" y="2285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presentação musical &amp; AP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2285640" y="38862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rigado 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plauso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3733920"/>
            <a:ext cx="571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8120" y="1522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Bruno &amp; Erico &amp; Gustavo &amp; Luciano &amp; Re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presentação Musical:Históri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ção Greg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104840" y="3124080"/>
            <a:ext cx="69343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presentação Musical:Históri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inal do Século 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imeiros manuscritos do cantoch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tação neumá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2000160" y="3629160"/>
            <a:ext cx="501012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presentação Musical:Históri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uido d´Arezzo (995 - 105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eu nome às notas a partir do hino a São João Batis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Ut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queant laxi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Re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ssonare fibr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Mi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ra gestor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Fa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muli tuor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So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lvi pollu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La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bii reatu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3300"/>
                </a:solidFill>
                <a:latin typeface="Tahoma"/>
              </a:rPr>
              <a:t>Sa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ncte loan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 o passar do tempo o Ut foi substituído pelo 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presentação Musical:Históri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nglo-Saxônic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presentação alfabética: C, D, E, F, G, A, 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laúde (Século XV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presentação baseada numa correlação de cordas e linhas (Tablatura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presentação Musical:Históri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tação atu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racterísticas extras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lissando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ons peculiares de cada instrumento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0620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to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406520" y="3848040"/>
            <a:ext cx="63054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5:24:51Z</dcterms:created>
  <dc:creator>est</dc:creator>
  <dc:description/>
  <dc:language>en-US</dc:language>
  <cp:lastModifiedBy>est</cp:lastModifiedBy>
  <dcterms:modified xsi:type="dcterms:W3CDTF">2002-09-14T17:43:22Z</dcterms:modified>
  <cp:revision>48</cp:revision>
  <dc:subject/>
  <dc:title>Representação musical &amp; API</dc:title>
</cp:coreProperties>
</file>