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CA7-5757-4C21-8DF0-DFF71026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FAC-61DA-4915-BC20-64BE347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3E8-F06D-4A6F-B0D9-95118E84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574-4A86-43D9-A207-D0B8F5AC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B95-9206-4740-A931-9441D3E3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9E4-3B27-45CA-A936-B6F3BE4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4F0F-7AF4-4F1A-A00C-2B86B63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D845-0749-4765-A9BB-4CE37E2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31B3-D98E-493A-B8DD-675F187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7BEC-6118-46D6-85D3-DFC5327A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027A-2056-43BE-8A7A-8F3EE54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189-AEC7-490F-A4C2-D18C4A65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0F9D-64E6-407B-8F86-3687DC3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FEE9-058B-4A07-8273-8435598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7B9B-106A-4957-9385-823D604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9AD9-E7E0-4270-8A32-443D49B8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5721-D06A-4250-8CAC-8A0939D2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4C6-8D5D-4AA7-95C7-6090E7A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742-C220-460F-9564-7578A1F4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526-0857-424B-B12D-426AF74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6A6-D378-4540-B167-DA2A722E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449-E853-47D2-93FC-5AF4D5C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7B5-2EC6-47AD-B42B-DF469AD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4D0-09A3-4A1A-B596-7FAF3818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49D1-14B0-4F3B-B5A4-059FEE1D702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8F5A-2520-4785-A21A-9D5CC3E51C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nálise Harmôni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2763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dro Henrique Luna de F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icardo Enrique Pereira Schol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tor Cavalcanti Da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n/UFPE  -  Ciência da Computaç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utação Musical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523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0880" y="2790720"/>
            <a:ext cx="8458200" cy="21542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362320" y="4847760"/>
            <a:ext cx="2867040" cy="1556280"/>
            <a:chOff x="2362320" y="4847760"/>
            <a:chExt cx="2867040" cy="1556280"/>
          </a:xfrm>
        </p:grpSpPr>
        <p:sp>
          <p:nvSpPr>
            <p:cNvPr id="124" name=""/>
            <p:cNvSpPr/>
            <p:nvPr/>
          </p:nvSpPr>
          <p:spPr>
            <a:xfrm>
              <a:off x="2805480" y="5578560"/>
              <a:ext cx="24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-Dominant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intermediári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362320" y="48477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38480" y="484776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472-E712-40B1-8F68-1F0F7F9AA7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2793960"/>
            <a:ext cx="8458200" cy="21542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638680" y="4775040"/>
            <a:ext cx="2133720" cy="1628640"/>
            <a:chOff x="5638680" y="4775040"/>
            <a:chExt cx="2133720" cy="1628640"/>
          </a:xfrm>
        </p:grpSpPr>
        <p:sp>
          <p:nvSpPr>
            <p:cNvPr id="132" name=""/>
            <p:cNvSpPr/>
            <p:nvPr/>
          </p:nvSpPr>
          <p:spPr>
            <a:xfrm>
              <a:off x="5762880" y="55782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omin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tensã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638680" y="4775040"/>
              <a:ext cx="9907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629400" y="477504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105-9024-454A-B5E1-1908816217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mplo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b-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Dominant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sub-dominante--dominante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200400" cy="30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685-66D6-4590-AF08-E412BC2EF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mplo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Tôni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dominante-tonica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786120" cy="316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5AE-8897-4AC2-9405-B1DE741D45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emplos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b-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Dominant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Tôni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sub-dominante-dominante-tonica" descr=""/>
          <p:cNvPicPr/>
          <p:nvPr/>
        </p:nvPicPr>
        <p:blipFill>
          <a:blip r:embed="rId2"/>
          <a:stretch/>
        </p:blipFill>
        <p:spPr>
          <a:xfrm>
            <a:off x="2590920" y="2225520"/>
            <a:ext cx="4114800" cy="323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C44-1658-4A29-A947-E8954D5E6F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 que é Análise Harmônica Funcional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639-8471-48B7-ADB5-11DB0A39B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ahoma"/>
              </a:rPr>
              <a:t>Para quê serve a Análise Harmônica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si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is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 escalas u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harmoniz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dança na Harmonia de uma música, mantendo a melodi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n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u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218-F8DA-40C9-AD9D-1727E5769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ossíveis Abordage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c Steed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Generative Grammar for Jazz Chord Sequenc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éia: Uma gramática que englobasse todo o B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7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m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7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m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9F1-F651-463B-947B-39D7CD75B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bordagem Escolhida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ferência e Propost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rançois Pach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põe a resolução do problema em três pass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de Padrões Pré-defin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liminação de Padrões Sobrep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ssificação dos Gaps (Lacun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AE9-62D8-4E0D-B785-E4E864756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Busca de Padrões Pré-definido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.: “Identifique um II-V Maio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todo (c1, c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c2 segue c1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c1 é menor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c1 não é meio-diminuto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c2 é dominante 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intervalo é 4ª ju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ão é criado um chunk “II-V Mai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929-A4ED-4374-A968-EE61E4F6FC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itos de Harmo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que serve a Análise Harmô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íveis Abordag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rdagem Escolh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17D-3328-437C-A104-3722D9540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Busca de Padrões Pré-definido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6294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876920"/>
            <a:ext cx="1905120" cy="53316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3124080"/>
            <a:ext cx="167616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124080"/>
            <a:ext cx="18288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4952880"/>
            <a:ext cx="167652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876920"/>
            <a:ext cx="2057400" cy="53316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523880" y="56383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4864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63868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54860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5627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495680" y="54100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580920" y="55627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295280" y="48002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48006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114800"/>
            <a:ext cx="5335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38A-7E2A-4FB2-8A16-3FD8EEC5A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liminação de Padrões Sobreposto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cisões empír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“II-V Menor” é preferido a “V-I Mai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unks maiores têm preferê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0E5-5B22-49FE-99B3-1ED7887E3C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liminação de Padrões Sobreposto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2448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4952880"/>
            <a:ext cx="32004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3124080"/>
            <a:ext cx="167616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3124080"/>
            <a:ext cx="18288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952880"/>
            <a:ext cx="167652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6FE-05C8-4AB6-879B-BE54B07B7F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000000"/>
                </a:solidFill>
                <a:latin typeface="Tahoma"/>
              </a:rPr>
              <a:t>Classificação dos Gap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acorde tiver um vizinho igual, im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vizinho estiver no mesmo campo harmônico, im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não, pode criar um chunk unitário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I Maior” ou “I Meno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49B-015D-4C7D-B0B5-C988EA0E4F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100" spc="-1" strike="noStrike">
                <a:solidFill>
                  <a:srgbClr val="000000"/>
                </a:solidFill>
                <a:latin typeface="Tahoma"/>
              </a:rPr>
              <a:t>Classificação dos Gaps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313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3244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029200"/>
            <a:ext cx="32004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3200400"/>
            <a:ext cx="167616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1981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200400"/>
            <a:ext cx="18288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029200"/>
            <a:ext cx="167652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I-V-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200400"/>
            <a:ext cx="914400" cy="533520"/>
          </a:xfrm>
          <a:prstGeom prst="rect">
            <a:avLst/>
          </a:prstGeom>
          <a:solidFill>
            <a:srgbClr val="ffcf0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981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 Ma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0D7-34EF-4C8D-AF1F-9636201D1F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rquitetura do Analisad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638320" y="3581280"/>
            <a:ext cx="762120" cy="0"/>
          </a:xfrm>
          <a:prstGeom prst="line">
            <a:avLst/>
          </a:prstGeom>
          <a:ln w="9360">
            <a:solidFill>
              <a:srgbClr val="99cc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068720"/>
            <a:ext cx="0" cy="76212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78200" y="4083120"/>
            <a:ext cx="0" cy="76176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73160" y="2757600"/>
            <a:ext cx="4680" cy="69984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2286000"/>
            <a:ext cx="1904760" cy="4572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3459240"/>
            <a:ext cx="1904760" cy="609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459240"/>
            <a:ext cx="1905120" cy="609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is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21400" y="4846680"/>
            <a:ext cx="1676520" cy="1219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Motor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nfer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(Jeo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876920"/>
            <a:ext cx="1904760" cy="7617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ado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ída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19520" y="5257800"/>
            <a:ext cx="91440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2514600"/>
            <a:ext cx="91440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H="1">
            <a:off x="5638320" y="3886200"/>
            <a:ext cx="762120" cy="0"/>
          </a:xfrm>
          <a:prstGeom prst="line">
            <a:avLst/>
          </a:prstGeom>
          <a:ln w="9360">
            <a:solidFill>
              <a:srgbClr val="99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4086360"/>
            <a:ext cx="0" cy="761760"/>
          </a:xfrm>
          <a:prstGeom prst="line">
            <a:avLst/>
          </a:prstGeom>
          <a:ln w="9360">
            <a:solidFill>
              <a:srgbClr val="99cc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18A-0613-4229-BA2E-9776E2EFAF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30481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Obrigad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7F4-4042-4972-AA62-6197690D3B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álise Harmôn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dro Henrique Luna de Farias &lt;phlf@cin.ufpe.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icardo Enrique Pereira Scholz &lt;reps@cin.ufpe.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tor Cavalcanti Dantas &lt;vcd2@cin.ufpe.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715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n/UFPE  -  Ciência da Computaç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utação Musical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eito de Harmon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onia é a arte de usar notas simultâneas na mús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pecto vertical da mús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lavra harmonia vem do grego e significa junção ou amarr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nte: Wikip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1ED-0B7F-4CF1-B6A8-17068D404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eito de Harmon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lues For Alice (Charlie Park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BluesForAlice-Intro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772400" cy="30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F76-CDD3-493C-AB6C-2AC86D8C4E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l do acorde em determinado contex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çõ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x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sã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á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C50-2D24-4F8C-8554-C23C6238B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676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8458200" cy="2154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2743200"/>
            <a:ext cx="8305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3200"/>
            <a:ext cx="8305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7FE-AC91-42AB-968A-9A67308C2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graus-intro-colorido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8458200" cy="215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2743200"/>
            <a:ext cx="8305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6F3-C03D-4314-A09C-6C8684E636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600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80880" y="2798640"/>
            <a:ext cx="845820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B8A-18EA-4C2D-8B80-1E35627A3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ções dos Acor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868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po Harmônico de Dó Ma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2782800"/>
            <a:ext cx="8458200" cy="21542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128520" y="4764240"/>
            <a:ext cx="6424560" cy="1639800"/>
            <a:chOff x="128520" y="4764240"/>
            <a:chExt cx="6424560" cy="1639800"/>
          </a:xfrm>
        </p:grpSpPr>
        <p:sp>
          <p:nvSpPr>
            <p:cNvPr id="115" name=""/>
            <p:cNvSpPr/>
            <p:nvPr/>
          </p:nvSpPr>
          <p:spPr>
            <a:xfrm>
              <a:off x="128520" y="5578560"/>
              <a:ext cx="218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ô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relaxament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143000" y="4916160"/>
              <a:ext cx="76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43000" y="476424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143000" y="4764240"/>
              <a:ext cx="5410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C37-E40E-4B20-AB9D-94FEE15EB1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3:19:56Z</dcterms:created>
  <dc:creator>Dantas</dc:creator>
  <dc:description/>
  <dc:language>en-US</dc:language>
  <cp:lastModifiedBy>Dantas</cp:lastModifiedBy>
  <dcterms:modified xsi:type="dcterms:W3CDTF">2004-08-18T10:28:34Z</dcterms:modified>
  <cp:revision>30</cp:revision>
  <dc:subject/>
  <dc:title>Análise Harmônica</dc:title>
</cp:coreProperties>
</file>