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E5B6-4306-4901-9F06-48D2D62A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DB9-A3CB-4041-BA1A-ED2E98DE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E0E-A3E4-41FC-9461-CE3CB307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4A0-B0EB-4D36-BB83-9244DA97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E7A-F35E-4666-963A-99AD228E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917-B12F-4E31-B709-5071C5B7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471-58C8-4CAC-B11B-37FA0184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2C6-6E49-40C7-A2B3-E043B453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A16-3172-48C7-BCED-3206DDE1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E66-8CA2-408C-9892-DA4567AF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776-6E3E-4018-A8A3-837684A6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712-853A-4BF8-9139-DCE5AED5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2D5D-3529-434D-BC26-014DA238A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s.columbia.edu/~hgs/rtp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udio sob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é Luiz de Sousa L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or Mesquita Barb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es José A. M. Jún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o Túlio C. F. Albuque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ente Vieira Fi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avizar entrada com a utilização de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uffer Elá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 é pré-carre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so ao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to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37160" y="4184640"/>
            <a:ext cx="4038480" cy="90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43280" y="1889280"/>
            <a:ext cx="4038840" cy="1755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476360" y="5291280"/>
            <a:ext cx="55515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Tecnolog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 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Protoc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S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urce Reservatio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rantir 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te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sse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erva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 de Admis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endamento de pac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g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SVP, conti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ientes iniciam reser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erva pode ser person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ervas podem ter estilos di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últiplo conteúdo em uma f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conteúdo, várias fo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teadores usam “soft st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do é colocado em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ualizado periódic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2914560"/>
            <a:ext cx="40384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 Tim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ver redes ponto-a-ponto na camada de transporte para aplicações em tempo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ualmente usa TCP ou 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garante QoS, diferente do RS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TCP – Real Time Control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nitora a entrega d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alável para redes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ver feedback da qualidade, possivelmento com iden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TP envia 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TCP monitora a qualidade do env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Tecnolog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 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toc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J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ava Media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I para áudio, vídeo e outras mídias baseadas em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licações e applets – tecnologia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tos suportados (AU, AVI, MIDI, MPEG, Quicktime, WAV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tura áudio (microfone) e vídeo (camera) e armazena em formato supor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mite mídia em formato stream através da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M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acterísticas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missão de áudio e vídeo em tempo real n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ádio e programas de televisão ao vivo (broadc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licação RTP e playback de biblioteca de áudio/vídeo sobre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P Multicast e Un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existe conexão na prai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fazer o retorno ao servidor, interativ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s Celular ainda ca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dade do á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ão da cod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ão 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cê gosta de ao acordar escutar o último repórter CBN. Depois colocando a meia você perde o comentário de Xexéu, então você clica num botão e ouve novamente... Pra tomar café você prefere escutar um jazz. Ao sair de casa continua a escutar a CBN no carro, exatamente de onde você parou pro café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s.columbia.edu/~hgs/rtp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n Bogue. “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Audio On Demand”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 Radio Academy, The Radio Fest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net Protocols for Multimedia. Scott Midkiff, Lecture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BD00028_" descr=""/>
          <p:cNvPicPr/>
          <p:nvPr/>
        </p:nvPicPr>
        <p:blipFill>
          <a:blip r:embed="rId1"/>
          <a:stretch/>
        </p:blipFill>
        <p:spPr>
          <a:xfrm>
            <a:off x="1627200" y="595440"/>
            <a:ext cx="55357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udio sob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é Luiz de Sousa L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or Mesquita Barb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es José A. M. Jún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o Túlio C. F. Albuque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ente Vieira Fi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cnolog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 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toc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s Multimí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tos de arquivos multi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quitetura de Serv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nda muito l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/O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Oper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vos tipos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rupções velo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alonamento em tempo real (on-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istemas Multimídia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maze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a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esso Ráp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tência baixa,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ação da latência baixa, j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udio sob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42920" y="3141720"/>
            <a:ext cx="1368360" cy="1722240"/>
            <a:chOff x="1042920" y="3141720"/>
            <a:chExt cx="1368360" cy="1722240"/>
          </a:xfrm>
        </p:grpSpPr>
        <p:sp>
          <p:nvSpPr>
            <p:cNvPr id="53" name=""/>
            <p:cNvSpPr/>
            <p:nvPr/>
          </p:nvSpPr>
          <p:spPr>
            <a:xfrm>
              <a:off x="1258920" y="3141720"/>
              <a:ext cx="86364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42920" y="422136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nco de Conteú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12000" y="3860640"/>
            <a:ext cx="857160" cy="75276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6156360" y="2205000"/>
            <a:ext cx="1295280" cy="1224720"/>
            <a:chOff x="6156360" y="2205000"/>
            <a:chExt cx="1295280" cy="12247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156360" y="2205000"/>
              <a:ext cx="129528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227640" y="306144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203640" y="1700280"/>
            <a:ext cx="1365120" cy="2225880"/>
            <a:chOff x="3203640" y="1700280"/>
            <a:chExt cx="1365120" cy="222588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3272760" y="1700280"/>
              <a:ext cx="895320" cy="15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03640" y="3283560"/>
              <a:ext cx="136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ervidor We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flipV="1">
            <a:off x="2195640" y="3068280"/>
            <a:ext cx="1008000" cy="64764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3716280"/>
            <a:ext cx="936360" cy="122544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276640"/>
            <a:ext cx="208764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940360" y="5661000"/>
            <a:ext cx="800280" cy="790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5003640" y="4221000"/>
            <a:ext cx="1008360" cy="64800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4869000"/>
            <a:ext cx="1008360" cy="100800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003640" y="2924280"/>
            <a:ext cx="1297080" cy="194472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Tecnolog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 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toc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al A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ante por seu pioneir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udio sob demanda em temp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PEG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T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 time stream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coder,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G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net Group Managemen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para roteadores montarem tabelas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48320" y="1849320"/>
            <a:ext cx="4038480" cy="858600"/>
            <a:chOff x="4648320" y="1849320"/>
            <a:chExt cx="4038480" cy="85860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4648320" y="2135160"/>
              <a:ext cx="403848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219640" y="184932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OTE 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637160" y="3284640"/>
            <a:ext cx="4038480" cy="2517840"/>
            <a:chOff x="4637160" y="3284640"/>
            <a:chExt cx="4038480" cy="251784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637160" y="3841920"/>
              <a:ext cx="4038480" cy="19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4781520" y="3284640"/>
              <a:ext cx="36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firmação periód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01:47:29Z</dcterms:created>
  <dc:creator>Túlio C.</dc:creator>
  <dc:description/>
  <dc:language>en-US</dc:language>
  <cp:lastModifiedBy>mtcfa</cp:lastModifiedBy>
  <dcterms:modified xsi:type="dcterms:W3CDTF">2004-08-02T12:50:01Z</dcterms:modified>
  <cp:revision>63</cp:revision>
  <dc:subject/>
  <dc:title>Áudio sob Demanda</dc:title>
</cp:coreProperties>
</file>