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바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7C7B-49BC-4F0B-87AA-CF70A3FDD5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erarquical music specificatio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ne of the Finnish pioneers in fractal-related music is Ville Pulkki, who took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ind of viewpoint. His work “Kuusi” is not based on pitch selection by fractal algorithm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ut making the self-similar structure of fractals clearly audible. He used the slightly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och island fractal (in visual form the snowflake-like image) to define the over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ructure of the work, while the musical intervals and the root pitch were selected 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mposer. This lead to meaningful harmonic passages due to slowly varying base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endless resolution of details in fractals was also well captured by the surfac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10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– formal pq relaçoes hierarquicas são formalizadas usando uma notaçao matematica de caracteres alfanumericos e st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B4B-3BB3-42D6-A86D-F58512CB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4FC-5CDB-4DB6-9BAF-24E1FD00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346-4E97-4A28-9039-78E22416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33E-2346-4334-9538-95641B4D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F7D-FBCC-4807-BE9B-87CC5095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707-2A4F-47B8-994C-3D47F693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6F4-FE61-4082-9FCA-DD47D096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3FC-EEDF-499F-BAD0-F063DFBE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6A0-326E-4D60-A78C-31205912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FC4-361C-429D-8E1A-0C7573DE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E81-7C9B-450F-996D-6A560D9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7E1-47CE-4C16-9F0E-9169B037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바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3/08/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usic.dartmouth.edu/~wowem/hardware/algorithmdefinition.html" TargetMode="External"/><Relationship Id="rId3" Type="http://schemas.openxmlformats.org/officeDocument/2006/relationships/hyperlink" Target="http://music.dartmouth.edu/~wowem/hardware/algorithmdefinition.html" TargetMode="External"/><Relationship Id="rId4" Type="http://schemas.openxmlformats.org/officeDocument/2006/relationships/hyperlink" Target="http://music.dartmouth.edu/~wowem/hardware/algorithmdefinition.html" TargetMode="External"/><Relationship Id="rId5" Type="http://schemas.openxmlformats.org/officeDocument/2006/relationships/hyperlink" Target="http://music.dartmouth.edu/~wowem/hardware/algorithmdefinition.html" TargetMode="External"/><Relationship Id="rId6" Type="http://schemas.openxmlformats.org/officeDocument/2006/relationships/hyperlink" Target="http://music.dartmouth.edu/~wowem/hardware/algorithmdefinition.html" TargetMode="External"/><Relationship Id="rId7" Type="http://schemas.openxmlformats.org/officeDocument/2006/relationships/hyperlink" Target="http://music.dartmouth.edu/~wowem/hardware/algorithmdefinition.html" TargetMode="External"/><Relationship Id="rId8" Type="http://schemas.openxmlformats.org/officeDocument/2006/relationships/hyperlink" Target="http://music.dartmouth.edu/~wowem/hardware/algorithmdefinition.html" TargetMode="External"/><Relationship Id="rId9" Type="http://schemas.openxmlformats.org/officeDocument/2006/relationships/hyperlink" Target="http://music.dartmouth.edu/~wowem/hardware/algorithmdefinition.html" TargetMode="External"/><Relationship Id="rId10" Type="http://schemas.openxmlformats.org/officeDocument/2006/relationships/hyperlink" Target="http://music.dartmouth.edu/~wowem/hardware/algorithmdefinition.html" TargetMode="External"/><Relationship Id="rId11" Type="http://schemas.openxmlformats.org/officeDocument/2006/relationships/hyperlink" Target="http://music.dartmouth.edu/~wowem/hardware/algorithmdefinition.html" TargetMode="External"/><Relationship Id="rId12" Type="http://schemas.openxmlformats.org/officeDocument/2006/relationships/hyperlink" Target="http://music.dartmouth.edu/~wowem/hardware/algorithmdefinition.html" TargetMode="External"/><Relationship Id="rId13" Type="http://schemas.openxmlformats.org/officeDocument/2006/relationships/hyperlink" Target="http://music.dartmouth.edu/~wowem/hardware/algorithmdefinition.html" TargetMode="External"/><Relationship Id="rId14" Type="http://schemas.openxmlformats.org/officeDocument/2006/relationships/hyperlink" Target="http://music.dartmouth.edu/~wowem/hardware/algorithmdefinition.html" TargetMode="External"/><Relationship Id="rId15" Type="http://schemas.openxmlformats.org/officeDocument/2006/relationships/hyperlink" Target="http://www.hybridsociety.net/publications/articles/cec99.pdf" TargetMode="External"/><Relationship Id="rId16" Type="http://schemas.openxmlformats.org/officeDocument/2006/relationships/hyperlink" Target="http://www.hybridsociety.net/publications/articles/cec99.pdf" TargetMode="External"/><Relationship Id="rId17" Type="http://schemas.openxmlformats.org/officeDocument/2006/relationships/hyperlink" Target="http://www.hybridsociety.net/publications/articles/cec99.pdf" TargetMode="External"/><Relationship Id="rId18" Type="http://schemas.openxmlformats.org/officeDocument/2006/relationships/hyperlink" Target="http://www.hybridsociety.net/publications/articles/cec99.pdf" TargetMode="External"/><Relationship Id="rId19" Type="http://schemas.openxmlformats.org/officeDocument/2006/relationships/hyperlink" Target="http://www.hybridsociety.net/publications/articles/cec99.pdf" TargetMode="External"/><Relationship Id="rId20" Type="http://schemas.openxmlformats.org/officeDocument/2006/relationships/hyperlink" Target="http://www.hybridsociety.net/publications/articles/cec99.pdf" TargetMode="External"/><Relationship Id="rId21" Type="http://schemas.openxmlformats.org/officeDocument/2006/relationships/hyperlink" Target="http://www.hybridsociety.net/publications/articles/cec99.pdf" TargetMode="External"/><Relationship Id="rId22" Type="http://schemas.openxmlformats.org/officeDocument/2006/relationships/hyperlink" Target="http://www.hybridsociety.net/publications/articles/cec99.pdf" TargetMode="External"/><Relationship Id="rId23" Type="http://schemas.openxmlformats.org/officeDocument/2006/relationships/hyperlink" Target="http://www.hybridsociety.net/publications/articles/cec99.pdf" TargetMode="External"/><Relationship Id="rId24" Type="http://schemas.openxmlformats.org/officeDocument/2006/relationships/hyperlink" Target="http://iaaa.nl/hh/brettonh.html" TargetMode="External"/><Relationship Id="rId25" Type="http://schemas.openxmlformats.org/officeDocument/2006/relationships/hyperlink" Target="http://iaaa.nl/hh/brettonh.html" TargetMode="External"/><Relationship Id="rId26" Type="http://schemas.openxmlformats.org/officeDocument/2006/relationships/hyperlink" Target="http://iaaa.nl/hh/brettonh.html" TargetMode="External"/><Relationship Id="rId27" Type="http://schemas.openxmlformats.org/officeDocument/2006/relationships/hyperlink" Target="http://iaaa.nl/hh/brettonh.html" TargetMode="External"/><Relationship Id="rId28" Type="http://schemas.openxmlformats.org/officeDocument/2006/relationships/hyperlink" Target="http://iaaa.nl/hh/brettonh.html" TargetMode="External"/><Relationship Id="rId29" Type="http://schemas.openxmlformats.org/officeDocument/2006/relationships/hyperlink" Target="http://iaaa.nl/hh/brettonh.html" TargetMode="External"/><Relationship Id="rId30" Type="http://schemas.openxmlformats.org/officeDocument/2006/relationships/hyperlink" Target="http://iaaa.nl/hh/brettonh.html" TargetMode="External"/><Relationship Id="rId31" Type="http://schemas.openxmlformats.org/officeDocument/2006/relationships/hyperlink" Target="http://iaaa.nl/hh/brettonh.html" TargetMode="External"/><Relationship Id="rId32" Type="http://schemas.openxmlformats.org/officeDocument/2006/relationships/hyperlink" Target="http://iaaa.nl/hh/brettonh.html" TargetMode="External"/><Relationship Id="rId33" Type="http://schemas.openxmlformats.org/officeDocument/2006/relationships/hyperlink" Target="http://iaaa.nl/hh/brettonh.html" TargetMode="External"/><Relationship Id="rId34" Type="http://schemas.openxmlformats.org/officeDocument/2006/relationships/hyperlink" Target="http://iaaa.nl/hh/brettonh.html" TargetMode="External"/><Relationship Id="rId35" Type="http://schemas.openxmlformats.org/officeDocument/2006/relationships/hyperlink" Target="http://arts.ucsc.edu/faculty/cope/index.htm" TargetMode="External"/><Relationship Id="rId36" Type="http://schemas.openxmlformats.org/officeDocument/2006/relationships/hyperlink" Target="http://arts.ucsc.edu/faculty/cope/index.htm" TargetMode="External"/><Relationship Id="rId37" Type="http://schemas.openxmlformats.org/officeDocument/2006/relationships/hyperlink" Target="http://arts.ucsc.edu/faculty/cope/index.htm" TargetMode="External"/><Relationship Id="rId38" Type="http://schemas.openxmlformats.org/officeDocument/2006/relationships/hyperlink" Target="http://arts.ucsc.edu/faculty/cope/index.htm" TargetMode="External"/><Relationship Id="rId39" Type="http://schemas.openxmlformats.org/officeDocument/2006/relationships/hyperlink" Target="http://arts.ucsc.edu/faculty/cope/index.htm" TargetMode="External"/><Relationship Id="rId40" Type="http://schemas.openxmlformats.org/officeDocument/2006/relationships/hyperlink" Target="http://arts.ucsc.edu/faculty/cope/index.htm" TargetMode="External"/><Relationship Id="rId41" Type="http://schemas.openxmlformats.org/officeDocument/2006/relationships/hyperlink" Target="http://arts.ucsc.edu/faculty/cope/index.htm" TargetMode="External"/><Relationship Id="rId42" Type="http://schemas.openxmlformats.org/officeDocument/2006/relationships/hyperlink" Target="http://arts.ucsc.edu/faculty/cope/index.htm" TargetMode="External"/><Relationship Id="rId43" Type="http://schemas.openxmlformats.org/officeDocument/2006/relationships/hyperlink" Target="http://arts.ucsc.edu/faculty/cope/index.htm" TargetMode="External"/><Relationship Id="rId44" Type="http://schemas.openxmlformats.org/officeDocument/2006/relationships/hyperlink" Target="http://arts.ucsc.edu/faculty/cope/index.htm" TargetMode="External"/><Relationship Id="rId45" Type="http://schemas.openxmlformats.org/officeDocument/2006/relationships/hyperlink" Target="http://arts.ucsc.edu/faculty/cope/index.htm" TargetMode="External"/><Relationship Id="rId46" Type="http://schemas.openxmlformats.org/officeDocument/2006/relationships/hyperlink" Target="http://arts.ucsc.edu/faculty/cope/index.htm" TargetMode="External"/><Relationship Id="rId47" Type="http://schemas.openxmlformats.org/officeDocument/2006/relationships/hyperlink" Target="http://arts.ucsc.edu/faculty/cope/index.htm" TargetMode="External"/><Relationship Id="rId48" Type="http://schemas.openxmlformats.org/officeDocument/2006/relationships/hyperlink" Target="http://www.midi-classics.com/p5530.htm" TargetMode="External"/><Relationship Id="rId49" Type="http://schemas.openxmlformats.org/officeDocument/2006/relationships/hyperlink" Target="http://www.midi-classics.com/p5530.htm" TargetMode="External"/><Relationship Id="rId50" Type="http://schemas.openxmlformats.org/officeDocument/2006/relationships/hyperlink" Target="http://www.midi-classics.com/p5530.htm" TargetMode="External"/><Relationship Id="rId51" Type="http://schemas.openxmlformats.org/officeDocument/2006/relationships/hyperlink" Target="http://www.midi-classics.com/p5530.htm" TargetMode="External"/><Relationship Id="rId52" Type="http://schemas.openxmlformats.org/officeDocument/2006/relationships/hyperlink" Target="http://www.midi-classics.com/p5530.htm" TargetMode="External"/><Relationship Id="rId53" Type="http://schemas.openxmlformats.org/officeDocument/2006/relationships/hyperlink" Target="http://arts.ucsc.edu/faculty/cope/mp3page.htm" TargetMode="External"/><Relationship Id="rId54" Type="http://schemas.openxmlformats.org/officeDocument/2006/relationships/hyperlink" Target="http://arts.ucsc.edu/faculty/cope/mp3page.htm" TargetMode="External"/><Relationship Id="rId55" Type="http://schemas.openxmlformats.org/officeDocument/2006/relationships/hyperlink" Target="http://arts.ucsc.edu/faculty/cope/mp3page.htm" TargetMode="External"/><Relationship Id="rId56" Type="http://schemas.openxmlformats.org/officeDocument/2006/relationships/hyperlink" Target="http://arts.ucsc.edu/faculty/cope/mp3page.htm" TargetMode="External"/><Relationship Id="rId57" Type="http://schemas.openxmlformats.org/officeDocument/2006/relationships/hyperlink" Target="http://arts.ucsc.edu/faculty/cope/mp3page.htm" TargetMode="External"/><Relationship Id="rId58" Type="http://schemas.openxmlformats.org/officeDocument/2006/relationships/hyperlink" Target="http://arts.ucsc.edu/faculty/cope/mp3page.htm" TargetMode="External"/><Relationship Id="rId59" Type="http://schemas.openxmlformats.org/officeDocument/2006/relationships/hyperlink" Target="http://arts.ucsc.edu/faculty/cope/mp3page.htm" TargetMode="External"/><Relationship Id="rId60" Type="http://schemas.openxmlformats.org/officeDocument/2006/relationships/hyperlink" Target="http://arts.ucsc.edu/faculty/cope/mp3page.htm" TargetMode="External"/><Relationship Id="rId61" Type="http://schemas.openxmlformats.org/officeDocument/2006/relationships/hyperlink" Target="http://arts.ucsc.edu/faculty/cope/mp3page.htm" TargetMode="External"/><Relationship Id="rId62" Type="http://schemas.openxmlformats.org/officeDocument/2006/relationships/hyperlink" Target="http://arts.ucsc.edu/faculty/cope/mp3page.htm" TargetMode="External"/><Relationship Id="rId63" Type="http://schemas.openxmlformats.org/officeDocument/2006/relationships/hyperlink" Target="http://arts.ucsc.edu/faculty/cope/mp3page.htm" TargetMode="External"/><Relationship Id="rId6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바탕"/>
              </a:rPr>
              <a:t>Composição Automática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657600"/>
            <a:ext cx="352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Alexsandro Farias (ajm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Fabrício Teles (f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Gustavo Câmara (gjc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Pedro Machado (pmm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Cadeia de Markov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Sistema de probabilidade onde a possibilidade de um evento no futuro ocorrer depende do estado de um ou mais eventos do passad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Cada cadeia tem uma ordem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Resultados  mostram que músicas interessantes possuem várias camadas de estrutur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95272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Técnicas avançadas de Markov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stender o conceito de estado de uma simples unidade para uma unidade complex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Tratar um grupo como acordes, frases e escalas como um estado simples (método usado por Mozart em </a:t>
            </a:r>
            <a:r>
              <a:rPr b="0" i="1" lang="pt-BR" sz="3200" spc="-1" strike="noStrike">
                <a:solidFill>
                  <a:srgbClr val="000000"/>
                </a:solidFill>
                <a:latin typeface="바탕"/>
              </a:rPr>
              <a:t>Musikalisches Würfelspiel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Cadeias hierárquicas (HMSL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White nois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Brownian nois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leatório e altamente correlacionad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Densidade espectral de 1/f</a:t>
            </a:r>
            <a:r>
              <a:rPr b="0" lang="pt-BR" sz="2800" spc="-1" strike="noStrike" baseline="30000">
                <a:solidFill>
                  <a:srgbClr val="000000"/>
                </a:solidFill>
                <a:latin typeface="바탕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Richard F. Voss e John Clark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Muitos estilos musicais mostram um comportamento 1/f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Correlação logarítmic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uto similaridad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6788160" cy="3538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28320" y="5445000"/>
            <a:ext cx="53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Forma de onda e espectro de um ruído 1/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J.S. Bach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xperimentos mostram que músicas baseadas em um ruído 1/f puro soa musicalmente mais natura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Além de seleção de notas, pode ser usado para seleção de tempos de ataque, dinâmica, canais MIDI..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Ville Pulkki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616720" cy="3876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732720" y="1916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612120" y="530064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Phil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4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Geradores de Ca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studos no anos 60 mostraram que equações matemáticas simples podem modelar sistemas com bits tão turbulentos como quedas d’águ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Muito sensíveis a mudanças nos parâmetros de entrad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stritamente determinístico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Geradores de Ca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4918320" cy="3493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48400" y="1560600"/>
            <a:ext cx="55832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Função Logíst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x X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x (1 - X</a:t>
            </a:r>
            <a:r>
              <a:rPr b="0" lang="pt-BR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), onde 0 &lt;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&lt;= 4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Gramática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Gramáticas formai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Duas categorias de aplicações: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Síntese de estruturas sintática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nálise de estruturas sintática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Regras definem uma classe de composiçõe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Semiótica, variação, estrutura, hierarqui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Gramática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718000" cy="402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Três regras encontradas em gramáticas musi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Em Bell(1992) e Bell e Kippen(1992) há uma descrição de um sistema baseado em gramáticas e integrado com M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Há  várias formas não hierárquicas de analisar uma m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Composição Algorítmic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Fractai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Geradores de Cao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Gramática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lgoritmos Genético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IA Estatístic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Referência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DNA and Protein Music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576108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2000" y="58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cohol Dehydroge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30872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683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Gené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sa um grupo de estruturas e uma série de mecanismos baseados em operadores genético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O algoritmo tem a fase inicial, a fase de geração e a fase de seleçã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Pesos são atribuídos a diferentes características de um element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 função de avaliação pode ser feita usando IA ou avaliada por um humano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Gené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Inicialmente um conjunto de “músicos” é criado aleatoriament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Depois, cada um individualmente é avaliado pelo usuário (ou por alguma função de avaliação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Depois uma nova geração é criada com o uso de operadores de </a:t>
            </a:r>
            <a:r>
              <a:rPr b="0" i="1" lang="pt-BR" sz="3200" spc="-1" strike="noStrike">
                <a:solidFill>
                  <a:srgbClr val="000000"/>
                </a:solidFill>
                <a:latin typeface="바탕"/>
              </a:rPr>
              <a:t>crossover 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e mutação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843280" y="3357720"/>
            <a:ext cx="936720" cy="1655640"/>
            <a:chOff x="2843280" y="3357720"/>
            <a:chExt cx="936720" cy="1655640"/>
          </a:xfrm>
        </p:grpSpPr>
        <p:sp>
          <p:nvSpPr>
            <p:cNvPr id="104" name=""/>
            <p:cNvSpPr/>
            <p:nvPr/>
          </p:nvSpPr>
          <p:spPr>
            <a:xfrm>
              <a:off x="320364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3280" y="405612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3280" y="3911760"/>
              <a:ext cx="1429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3640" y="398304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3640" y="3983040"/>
              <a:ext cx="1429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3280" y="335772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8360" y="3429000"/>
              <a:ext cx="6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rosso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43280" y="4363920"/>
              <a:ext cx="144360" cy="14472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43280" y="450864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3640" y="450864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3640" y="4437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35280" y="450864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64000" y="4437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43280" y="486900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43280" y="479592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3640" y="486900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62200" y="4795920"/>
              <a:ext cx="1447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35280" y="4869000"/>
              <a:ext cx="14472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92360" y="3933720"/>
              <a:ext cx="216000" cy="216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35280" y="402732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700360" y="2421000"/>
            <a:ext cx="1008000" cy="863280"/>
            <a:chOff x="2700360" y="2421000"/>
            <a:chExt cx="1008000" cy="863280"/>
          </a:xfrm>
        </p:grpSpPr>
        <p:sp>
          <p:nvSpPr>
            <p:cNvPr id="125" name=""/>
            <p:cNvSpPr/>
            <p:nvPr/>
          </p:nvSpPr>
          <p:spPr>
            <a:xfrm>
              <a:off x="2989080" y="3068640"/>
              <a:ext cx="6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utaçõ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16360" y="2637000"/>
              <a:ext cx="73080" cy="21564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32000" y="2637000"/>
              <a:ext cx="7164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700360" y="242100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6720" y="2781360"/>
              <a:ext cx="43164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24360" y="3860640"/>
            <a:ext cx="1512720" cy="1152720"/>
            <a:chOff x="3924360" y="3860640"/>
            <a:chExt cx="1512720" cy="1152720"/>
          </a:xfrm>
        </p:grpSpPr>
        <p:sp>
          <p:nvSpPr>
            <p:cNvPr id="131" name=""/>
            <p:cNvSpPr/>
            <p:nvPr/>
          </p:nvSpPr>
          <p:spPr>
            <a:xfrm flipV="1">
              <a:off x="3924360" y="400536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3080" y="3860640"/>
              <a:ext cx="142920" cy="14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716360" y="400536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3640" y="393372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40360" y="429264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11640" y="436572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0720" y="4437000"/>
              <a:ext cx="14256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6000" y="4508640"/>
              <a:ext cx="43200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76720" y="429264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6720" y="4437000"/>
              <a:ext cx="14472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40360" y="472428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40360" y="479736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27640" y="4941720"/>
              <a:ext cx="431640" cy="71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479736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8360" y="479736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9640" y="479736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924360" y="1989000"/>
            <a:ext cx="1559880" cy="1511280"/>
            <a:chOff x="3924360" y="1989000"/>
            <a:chExt cx="1559880" cy="1511280"/>
          </a:xfrm>
        </p:grpSpPr>
        <p:sp>
          <p:nvSpPr>
            <p:cNvPr id="148" name=""/>
            <p:cNvSpPr/>
            <p:nvPr/>
          </p:nvSpPr>
          <p:spPr>
            <a:xfrm>
              <a:off x="3997080" y="3141720"/>
              <a:ext cx="6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mutaçõ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3080" y="30686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60000" y="3141720"/>
              <a:ext cx="6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rosso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211640" y="278136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6000" y="2708280"/>
              <a:ext cx="43200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76720" y="2637000"/>
              <a:ext cx="7164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6720" y="249228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40360" y="2491560"/>
              <a:ext cx="720720" cy="7164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7640" y="220500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6720" y="2133720"/>
              <a:ext cx="73080" cy="21564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32360" y="2349360"/>
              <a:ext cx="431640" cy="71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14920" y="1989000"/>
              <a:ext cx="71280" cy="287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3280" y="1989000"/>
              <a:ext cx="432000" cy="71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Gené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92360" y="1557360"/>
            <a:ext cx="2546280" cy="2232000"/>
            <a:chOff x="1692360" y="1557360"/>
            <a:chExt cx="2546280" cy="2232000"/>
          </a:xfrm>
        </p:grpSpPr>
        <p:sp>
          <p:nvSpPr>
            <p:cNvPr id="164" name=""/>
            <p:cNvSpPr/>
            <p:nvPr/>
          </p:nvSpPr>
          <p:spPr>
            <a:xfrm>
              <a:off x="1692360" y="3645000"/>
              <a:ext cx="576000" cy="144360"/>
            </a:xfrm>
            <a:prstGeom prst="rightArrow">
              <a:avLst>
                <a:gd name="adj1" fmla="val 50000"/>
                <a:gd name="adj2" fmla="val 997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7240" y="1557360"/>
              <a:ext cx="67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566520" y="1557360"/>
            <a:ext cx="631440" cy="4098600"/>
            <a:chOff x="3566520" y="1557360"/>
            <a:chExt cx="631440" cy="4098600"/>
          </a:xfrm>
        </p:grpSpPr>
        <p:sp>
          <p:nvSpPr>
            <p:cNvPr id="167" name=""/>
            <p:cNvSpPr/>
            <p:nvPr/>
          </p:nvSpPr>
          <p:spPr>
            <a:xfrm>
              <a:off x="3637800" y="501336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6520" y="155736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843280" y="2349360"/>
            <a:ext cx="2360520" cy="2668320"/>
            <a:chOff x="2843280" y="2349360"/>
            <a:chExt cx="2360520" cy="2668320"/>
          </a:xfrm>
        </p:grpSpPr>
        <p:grpSp>
          <p:nvGrpSpPr>
            <p:cNvPr id="170" name=""/>
            <p:cNvGrpSpPr/>
            <p:nvPr/>
          </p:nvGrpSpPr>
          <p:grpSpPr>
            <a:xfrm>
              <a:off x="2843280" y="4797360"/>
              <a:ext cx="199080" cy="220320"/>
              <a:chOff x="2843280" y="4797360"/>
              <a:chExt cx="199080" cy="2203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854080" y="4797360"/>
                <a:ext cx="177120" cy="218880"/>
                <a:chOff x="2854080" y="4797360"/>
                <a:chExt cx="177120" cy="218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88720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88720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54080" y="4797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2854080" y="4797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865240" y="4798800"/>
                <a:ext cx="177120" cy="218880"/>
                <a:chOff x="2865240" y="4798800"/>
                <a:chExt cx="177120" cy="2188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898360" y="4800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898360" y="4800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6524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286524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843280" y="4797360"/>
                <a:ext cx="177120" cy="218880"/>
                <a:chOff x="2843280" y="4797360"/>
                <a:chExt cx="177120" cy="2188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87640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287640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43280" y="4797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2843280" y="4797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854080" y="4798800"/>
                <a:ext cx="177120" cy="218880"/>
                <a:chOff x="2854080" y="4798800"/>
                <a:chExt cx="177120" cy="2188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887200" y="4800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2887200" y="4800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5408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2854080" y="4798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2987280" y="2349360"/>
              <a:ext cx="200520" cy="220320"/>
              <a:chOff x="2987280" y="2349360"/>
              <a:chExt cx="200520" cy="2203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998440" y="2349360"/>
                <a:ext cx="178200" cy="218880"/>
                <a:chOff x="2998440" y="2349360"/>
                <a:chExt cx="178200" cy="2188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3228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303192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998800" y="2349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2998440" y="2349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009600" y="2350800"/>
                <a:ext cx="178200" cy="218880"/>
                <a:chOff x="3009600" y="2350800"/>
                <a:chExt cx="178200" cy="218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043440" y="2352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3043080" y="2352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00996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300960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987280" y="2349360"/>
                <a:ext cx="178200" cy="218880"/>
                <a:chOff x="2987280" y="2349360"/>
                <a:chExt cx="178200" cy="2188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02112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302076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987640" y="2349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2987280" y="2349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998440" y="2350800"/>
                <a:ext cx="178200" cy="218880"/>
                <a:chOff x="2998440" y="2350800"/>
                <a:chExt cx="178200" cy="218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2280" y="2352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3031920" y="2352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9880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2998440" y="2350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3419640" y="2708280"/>
              <a:ext cx="199080" cy="220320"/>
              <a:chOff x="3419640" y="2708280"/>
              <a:chExt cx="199080" cy="2203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3430440" y="2708280"/>
                <a:ext cx="177120" cy="218880"/>
                <a:chOff x="3430440" y="2708280"/>
                <a:chExt cx="177120" cy="2188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46356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346356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430440" y="27082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430440" y="27082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441600" y="2709720"/>
                <a:ext cx="177120" cy="218880"/>
                <a:chOff x="3441600" y="2709720"/>
                <a:chExt cx="177120" cy="2188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474720" y="2711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3474720" y="2711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44160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344160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419640" y="2708280"/>
                <a:ext cx="177120" cy="218880"/>
                <a:chOff x="3419640" y="2708280"/>
                <a:chExt cx="177120" cy="2188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45276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345276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419640" y="27082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3419640" y="27082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430440" y="2709720"/>
                <a:ext cx="177120" cy="218880"/>
                <a:chOff x="3430440" y="2709720"/>
                <a:chExt cx="177120" cy="218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463560" y="2711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463560" y="2711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43044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3430440" y="2709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3492000" y="3933720"/>
              <a:ext cx="200520" cy="220320"/>
              <a:chOff x="3492000" y="3933720"/>
              <a:chExt cx="200520" cy="2203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3503160" y="3933720"/>
                <a:ext cx="178200" cy="218880"/>
                <a:chOff x="3503160" y="3933720"/>
                <a:chExt cx="178200" cy="218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53700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353664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03520" y="39337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3503160" y="39337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514320" y="3935160"/>
                <a:ext cx="178200" cy="218880"/>
                <a:chOff x="3514320" y="3935160"/>
                <a:chExt cx="178200" cy="2188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548160" y="39366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3547800" y="39366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51468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351432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492000" y="3933720"/>
                <a:ext cx="178200" cy="218880"/>
                <a:chOff x="3492000" y="3933720"/>
                <a:chExt cx="178200" cy="2188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52584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352548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492360" y="39337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3492000" y="39337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503160" y="3935160"/>
                <a:ext cx="178200" cy="218880"/>
                <a:chOff x="3503160" y="3935160"/>
                <a:chExt cx="178200" cy="2188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537000" y="39366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3536640" y="39366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0352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3503160" y="39351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2843280" y="3933720"/>
              <a:ext cx="199080" cy="220320"/>
              <a:chOff x="2843280" y="3933720"/>
              <a:chExt cx="199080" cy="2203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854080" y="3933720"/>
                <a:ext cx="177120" cy="218880"/>
                <a:chOff x="2854080" y="3933720"/>
                <a:chExt cx="177120" cy="218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88720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288720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54080" y="3933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2854080" y="3933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865240" y="3935160"/>
                <a:ext cx="177120" cy="218880"/>
                <a:chOff x="2865240" y="3935160"/>
                <a:chExt cx="177120" cy="2188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898360" y="39366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2898360" y="39366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6524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286524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843280" y="3933720"/>
                <a:ext cx="177120" cy="218880"/>
                <a:chOff x="2843280" y="3933720"/>
                <a:chExt cx="177120" cy="2188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87640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287640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843280" y="3933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2843280" y="39337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854080" y="3935160"/>
                <a:ext cx="177120" cy="218880"/>
                <a:chOff x="2854080" y="3935160"/>
                <a:chExt cx="177120" cy="2188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887200" y="39366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887200" y="39366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5408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2854080" y="39351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3203640" y="4437000"/>
              <a:ext cx="199080" cy="220320"/>
              <a:chOff x="3203640" y="4437000"/>
              <a:chExt cx="199080" cy="22032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3214440" y="4437000"/>
                <a:ext cx="177120" cy="218880"/>
                <a:chOff x="3214440" y="4437000"/>
                <a:chExt cx="177120" cy="2188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24756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324756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214440" y="44370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3214440" y="44370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225600" y="4438440"/>
                <a:ext cx="177120" cy="218880"/>
                <a:chOff x="3225600" y="4438440"/>
                <a:chExt cx="177120" cy="2188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258720" y="44398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3258720" y="44398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2560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322560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03640" y="4437000"/>
                <a:ext cx="177120" cy="218880"/>
                <a:chOff x="3203640" y="4437000"/>
                <a:chExt cx="177120" cy="218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23676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323676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203640" y="44370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3203640" y="44370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14440" y="4438440"/>
                <a:ext cx="177120" cy="218880"/>
                <a:chOff x="3214440" y="4438440"/>
                <a:chExt cx="177120" cy="21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247560" y="44398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3247560" y="44398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1444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3214440" y="44384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4140360" y="4292640"/>
              <a:ext cx="199080" cy="220320"/>
              <a:chOff x="4140360" y="4292640"/>
              <a:chExt cx="199080" cy="2203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151160" y="4292640"/>
                <a:ext cx="177120" cy="218880"/>
                <a:chOff x="4151160" y="4292640"/>
                <a:chExt cx="177120" cy="21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18428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418428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51160" y="42926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4151160" y="42926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162320" y="4294080"/>
                <a:ext cx="177120" cy="218880"/>
                <a:chOff x="4162320" y="4294080"/>
                <a:chExt cx="177120" cy="2188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195440" y="42955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4195440" y="42955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16232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416232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140360" y="4292640"/>
                <a:ext cx="177120" cy="218880"/>
                <a:chOff x="4140360" y="4292640"/>
                <a:chExt cx="177120" cy="2188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17348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417348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140360" y="42926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4140360" y="42926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51160" y="4294080"/>
                <a:ext cx="177120" cy="218880"/>
                <a:chOff x="4151160" y="4294080"/>
                <a:chExt cx="177120" cy="2188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184280" y="42955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4184280" y="429552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15116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4151160" y="429408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4571640" y="4797360"/>
              <a:ext cx="200520" cy="220320"/>
              <a:chOff x="4571640" y="4797360"/>
              <a:chExt cx="200520" cy="22032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4582800" y="4797360"/>
                <a:ext cx="178200" cy="218880"/>
                <a:chOff x="4582800" y="4797360"/>
                <a:chExt cx="178200" cy="2188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61664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61628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583160" y="4797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4582800" y="4797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593960" y="4798800"/>
                <a:ext cx="178200" cy="218880"/>
                <a:chOff x="4593960" y="4798800"/>
                <a:chExt cx="178200" cy="2188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627800" y="4800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4627440" y="4800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59432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459396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571640" y="4797360"/>
                <a:ext cx="178200" cy="218880"/>
                <a:chOff x="4571640" y="4797360"/>
                <a:chExt cx="178200" cy="2188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60548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460512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72000" y="4797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4571640" y="479736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4582800" y="4798800"/>
                <a:ext cx="178200" cy="218880"/>
                <a:chOff x="4582800" y="4798800"/>
                <a:chExt cx="178200" cy="2188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616640" y="4800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4616280" y="48002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58316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4582800" y="47988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5003280" y="3860640"/>
              <a:ext cx="200520" cy="220320"/>
              <a:chOff x="5003280" y="3860640"/>
              <a:chExt cx="200520" cy="22032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5014440" y="3860640"/>
                <a:ext cx="178200" cy="218880"/>
                <a:chOff x="5014440" y="3860640"/>
                <a:chExt cx="178200" cy="2188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04828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504792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014800" y="38606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014440" y="38606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025600" y="3862080"/>
                <a:ext cx="178200" cy="218880"/>
                <a:chOff x="5025600" y="3862080"/>
                <a:chExt cx="178200" cy="2188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059440" y="38635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5059080" y="38635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02596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502560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003280" y="3860640"/>
                <a:ext cx="178200" cy="218880"/>
                <a:chOff x="5003280" y="3860640"/>
                <a:chExt cx="178200" cy="2188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03712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503676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003640" y="38606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5003280" y="38606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014440" y="3862080"/>
                <a:ext cx="178200" cy="218880"/>
                <a:chOff x="5014440" y="3862080"/>
                <a:chExt cx="178200" cy="2188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048280" y="38635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5047920" y="386352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01480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5014440" y="38620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5003280" y="2637000"/>
              <a:ext cx="200520" cy="220320"/>
              <a:chOff x="5003280" y="2637000"/>
              <a:chExt cx="200520" cy="22032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5014440" y="2637000"/>
                <a:ext cx="178200" cy="218880"/>
                <a:chOff x="5014440" y="2637000"/>
                <a:chExt cx="178200" cy="218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04828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504792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014800" y="26370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5014440" y="26370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025600" y="2638440"/>
                <a:ext cx="178200" cy="218880"/>
                <a:chOff x="5025600" y="2638440"/>
                <a:chExt cx="178200" cy="2188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059440" y="26398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5059080" y="26398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02596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502560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003280" y="2637000"/>
                <a:ext cx="178200" cy="218880"/>
                <a:chOff x="5003280" y="2637000"/>
                <a:chExt cx="178200" cy="2188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03712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503676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003640" y="26370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5003280" y="263700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5014440" y="2638440"/>
                <a:ext cx="178200" cy="218880"/>
                <a:chOff x="5014440" y="2638440"/>
                <a:chExt cx="178200" cy="2188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048280" y="26398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5047920" y="263988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01480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5014440" y="2638440"/>
                  <a:ext cx="14436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0" name=""/>
            <p:cNvGrpSpPr/>
            <p:nvPr/>
          </p:nvGrpSpPr>
          <p:grpSpPr>
            <a:xfrm>
              <a:off x="4427640" y="2349360"/>
              <a:ext cx="199080" cy="220320"/>
              <a:chOff x="4427640" y="2349360"/>
              <a:chExt cx="199080" cy="22032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4438440" y="2349360"/>
                <a:ext cx="177120" cy="218880"/>
                <a:chOff x="4438440" y="2349360"/>
                <a:chExt cx="177120" cy="21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47156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447156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438440" y="2349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4438440" y="2349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4449600" y="2350800"/>
                <a:ext cx="177120" cy="218880"/>
                <a:chOff x="4449600" y="2350800"/>
                <a:chExt cx="177120" cy="2188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482720" y="2352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4482720" y="2352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44960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444960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427640" y="2349360"/>
                <a:ext cx="177120" cy="218880"/>
                <a:chOff x="4427640" y="2349360"/>
                <a:chExt cx="177120" cy="2188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46076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446076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427640" y="2349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427640" y="234936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438440" y="2350800"/>
                <a:ext cx="177120" cy="218880"/>
                <a:chOff x="4438440" y="2350800"/>
                <a:chExt cx="177120" cy="2188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471560" y="2352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471560" y="235224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3844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>
                  <a:off x="4438440" y="2350800"/>
                  <a:ext cx="144000" cy="217440"/>
                </a:xfrm>
                <a:prstGeom prst="line">
                  <a:avLst/>
                </a:prstGeom>
                <a:ln w="9360">
                  <a:solidFill>
                    <a:srgbClr val="b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"/>
          <p:cNvGrpSpPr/>
          <p:nvPr/>
        </p:nvGrpSpPr>
        <p:grpSpPr>
          <a:xfrm>
            <a:off x="5508720" y="1484280"/>
            <a:ext cx="1655640" cy="2343600"/>
            <a:chOff x="5508720" y="1484280"/>
            <a:chExt cx="1655640" cy="2343600"/>
          </a:xfrm>
        </p:grpSpPr>
        <p:sp>
          <p:nvSpPr>
            <p:cNvPr id="402" name=""/>
            <p:cNvSpPr/>
            <p:nvPr/>
          </p:nvSpPr>
          <p:spPr>
            <a:xfrm>
              <a:off x="5508720" y="3645000"/>
              <a:ext cx="576000" cy="145800"/>
            </a:xfrm>
            <a:prstGeom prst="rightArrow">
              <a:avLst>
                <a:gd name="adj1" fmla="val 50000"/>
                <a:gd name="adj2" fmla="val 9876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27600" y="1484280"/>
              <a:ext cx="67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86160" y="342900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88000" y="3645000"/>
              <a:ext cx="576360" cy="144360"/>
            </a:xfrm>
            <a:prstGeom prst="rightArrow">
              <a:avLst>
                <a:gd name="adj1" fmla="val 50000"/>
                <a:gd name="adj2" fmla="val 9981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308960" y="5589720"/>
            <a:ext cx="61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aginem a variedade de formas que se pode criar com a notação musical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596360" y="1484280"/>
            <a:ext cx="1152360" cy="3672000"/>
            <a:chOff x="7596360" y="1484280"/>
            <a:chExt cx="1152360" cy="3672000"/>
          </a:xfrm>
        </p:grpSpPr>
        <p:sp>
          <p:nvSpPr>
            <p:cNvPr id="408" name=""/>
            <p:cNvSpPr/>
            <p:nvPr/>
          </p:nvSpPr>
          <p:spPr>
            <a:xfrm>
              <a:off x="7598880" y="1484280"/>
              <a:ext cx="68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Nª geraçã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96360" y="2708280"/>
              <a:ext cx="7272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96360" y="2852640"/>
              <a:ext cx="144360" cy="14472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67640" y="270828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8920" y="270828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67640" y="2635200"/>
              <a:ext cx="146160" cy="146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40720" y="2708280"/>
              <a:ext cx="146160" cy="1461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67640" y="328464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12000" y="3284640"/>
              <a:ext cx="7164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56720" y="328464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96360" y="3500280"/>
              <a:ext cx="431640" cy="71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6360" y="3284640"/>
              <a:ext cx="43164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7640" y="393228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67640" y="4076640"/>
              <a:ext cx="142920" cy="12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40720" y="3860640"/>
              <a:ext cx="144360" cy="144720"/>
            </a:xfrm>
            <a:prstGeom prst="ellipse">
              <a:avLst/>
            </a:prstGeom>
            <a:solidFill>
              <a:srgbClr val="b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40720" y="407664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0" y="3932280"/>
              <a:ext cx="14472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12000" y="4005360"/>
              <a:ext cx="144720" cy="144360"/>
            </a:xfrm>
            <a:prstGeom prst="ellipse">
              <a:avLst/>
            </a:prstGeom>
            <a:solidFill>
              <a:srgbClr val="b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67640" y="443700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12000" y="443700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40720" y="443700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85080" y="443700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6720" y="436392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96360" y="4363920"/>
              <a:ext cx="7128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9636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96360" y="5013360"/>
              <a:ext cx="14256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4072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40720" y="5013360"/>
              <a:ext cx="14292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5672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956720" y="5013360"/>
              <a:ext cx="14256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01080" y="486900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101080" y="501336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85080" y="494028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8028000" y="2997360"/>
              <a:ext cx="720720" cy="71280"/>
            </a:xfrm>
            <a:prstGeom prst="triangle">
              <a:avLst>
                <a:gd name="adj" fmla="val 50000"/>
              </a:avLst>
            </a:prstGeom>
            <a:solidFill>
              <a:srgbClr val="d8c6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72360" y="2924280"/>
              <a:ext cx="432000" cy="71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8360" y="2708280"/>
              <a:ext cx="73080" cy="21600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59640" y="450864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8360" y="4437000"/>
              <a:ext cx="14436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04360" y="443556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32720" y="4363920"/>
              <a:ext cx="144720" cy="14472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04360" y="4579920"/>
              <a:ext cx="14292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32720" y="4508640"/>
              <a:ext cx="14472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44000" y="3932280"/>
              <a:ext cx="288720" cy="26676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17080" y="3860640"/>
              <a:ext cx="288720" cy="266760"/>
            </a:xfrm>
            <a:prstGeom prst="plus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88360" y="3789360"/>
              <a:ext cx="289080" cy="26676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17080" y="3355920"/>
              <a:ext cx="144360" cy="14436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17080" y="335592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88360" y="3284640"/>
              <a:ext cx="289080" cy="266760"/>
            </a:xfrm>
            <a:prstGeom prst="plus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12720" y="22050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tc..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59640" y="486900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59640" y="4869000"/>
              <a:ext cx="1429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04360" y="4869000"/>
              <a:ext cx="142920" cy="122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04360" y="4869000"/>
              <a:ext cx="142920" cy="14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59640" y="5013360"/>
              <a:ext cx="289080" cy="142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54880" y="1628640"/>
            <a:ext cx="1175400" cy="3456000"/>
            <a:chOff x="254880" y="1628640"/>
            <a:chExt cx="1175400" cy="3456000"/>
          </a:xfrm>
        </p:grpSpPr>
        <p:sp>
          <p:nvSpPr>
            <p:cNvPr id="463" name=""/>
            <p:cNvSpPr/>
            <p:nvPr/>
          </p:nvSpPr>
          <p:spPr>
            <a:xfrm>
              <a:off x="900000" y="2347920"/>
              <a:ext cx="216000" cy="216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00000" y="3645000"/>
              <a:ext cx="216000" cy="195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0000" y="4869000"/>
              <a:ext cx="216000" cy="215640"/>
            </a:xfrm>
            <a:prstGeom prst="ellipse">
              <a:avLst/>
            </a:prstGeom>
            <a:solidFill>
              <a:srgbClr val="d3a1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4880" y="2637000"/>
              <a:ext cx="454680" cy="21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ncestrais Remo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8880" y="1628640"/>
              <a:ext cx="67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1ª geraçã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As redes neurais têm a funcionalidade de aprender (tentativa de simular um complexo de neurônio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O uso de redes neurais geralmente se faz em problemas onde um agente compositor desenvolve sua música de acordo com um dado estilo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Os resultados são bons, no entanto seria um processo criativo?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sualmente define-se como entrada as X´s (notas,tempo) de uma obra, e como saída as próximas Y´s (notas,tempo)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O critério de acerto é a quantidade de (notas,tempo) Y´s iguais a obra em questão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Quanto maior a razão X/Y, maior a dificuldade da rede convergir para uma solução razoável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Problema: Se Y está muito próximo de 1, ocorre o problema da</a:t>
            </a:r>
            <a:r>
              <a:rPr b="0" i="1" lang="pt-BR" sz="2800" spc="-1" strike="noStrike">
                <a:solidFill>
                  <a:srgbClr val="000000"/>
                </a:solidFill>
                <a:latin typeface="바탕"/>
              </a:rPr>
              <a:t> “analogia do livro”</a:t>
            </a: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47640" y="3357720"/>
            <a:ext cx="1008360" cy="2303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74" name=""/>
          <p:cNvSpPr/>
          <p:nvPr/>
        </p:nvSpPr>
        <p:spPr>
          <a:xfrm>
            <a:off x="2124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67680" y="2349360"/>
            <a:ext cx="19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Input  K  (nota,tempo)’s anteri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24000" y="263700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435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697040" y="1595520"/>
          <a:ext cx="6181560" cy="76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7040" y="1595520"/>
                    <a:ext cx="6181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5723280" y="2349360"/>
            <a:ext cx="14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utput  K* (nota,tempo)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53080" y="2637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651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2472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7964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7964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7964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7964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7964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20720" y="3573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20720" y="3789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20720" y="4100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66160" y="42940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20720" y="43052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20720" y="508644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1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20720" y="53020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1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36000" y="3357720"/>
            <a:ext cx="4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3357720"/>
            <a:ext cx="3313080" cy="2303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Ne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32720" y="3357720"/>
            <a:ext cx="1008000" cy="2303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6436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16436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164360" y="414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16436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6436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6436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05440" y="3573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5440" y="37893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05440" y="4100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50880" y="42940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5440" y="43052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5440" y="508644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X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5440" y="53020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Y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20720" y="3357720"/>
            <a:ext cx="4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11280" y="436572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d8c6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508720" y="436572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d8c6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908000" y="2637000"/>
            <a:ext cx="187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16720" y="263700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Será que não estaríamos adicionando “criatividade” aos resultados da rede se ao invés da rede neural aprender um estilo colocássemos dois ou mais??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2268360" y="4508640"/>
            <a:ext cx="365400" cy="431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90160" y="400536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ostra (uma de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6012000" y="4653000"/>
            <a:ext cx="366480" cy="3762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943960" y="4149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Ne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76720" y="4653000"/>
            <a:ext cx="1873080" cy="216000"/>
          </a:xfrm>
          <a:prstGeom prst="rightArrow">
            <a:avLst>
              <a:gd name="adj1" fmla="val 50000"/>
              <a:gd name="adj2" fmla="val 2167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6948360" y="46530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1853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569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8285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des Neurai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900000" y="1989000"/>
          <a:ext cx="7272360" cy="14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989000"/>
                    <a:ext cx="727236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829800" y="148428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itura de uma das amos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05760" y="3933720"/>
            <a:ext cx="52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itura de uma das composições da rede neu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71640" y="4437000"/>
          <a:ext cx="6624720" cy="15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4437000"/>
                    <a:ext cx="66247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IA Estatística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A IA estatística tem basicamente a mesma finalidade que Redes Neurais pra resolver o problema da composição (com estilo dado)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Nesse caso só as técnicas para convergência que variam das redes neurais.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No entanto, a IA Estatística tende a ser mais determinística que as Redes neurais, já que se controla melhor o resultado final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81040" y="2997360"/>
            <a:ext cx="619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. Existem MUITAS outras abordagens além das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mos mostrar aqui. Sendo essas nem menos e nem m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antes que as out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바탕"/>
              </a:rPr>
              <a:t>Compor: só é coisa de humano?</a:t>
            </a:r>
            <a:endParaRPr b="0" lang="en-US" sz="40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36" name=""/>
          <p:cNvSpPr/>
          <p:nvPr/>
        </p:nvSpPr>
        <p:spPr>
          <a:xfrm>
            <a:off x="3710880" y="15573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 de 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195640" y="2349360"/>
            <a:ext cx="4618080" cy="3745080"/>
            <a:chOff x="2195640" y="2349360"/>
            <a:chExt cx="4618080" cy="3745080"/>
          </a:xfrm>
        </p:grpSpPr>
        <p:sp>
          <p:nvSpPr>
            <p:cNvPr id="538" name=""/>
            <p:cNvSpPr/>
            <p:nvPr/>
          </p:nvSpPr>
          <p:spPr>
            <a:xfrm>
              <a:off x="4572000" y="2349360"/>
              <a:ext cx="0" cy="37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" descr=""/>
            <p:cNvPicPr/>
            <p:nvPr/>
          </p:nvPicPr>
          <p:blipFill>
            <a:blip r:embed="rId2"/>
            <a:stretch/>
          </p:blipFill>
          <p:spPr>
            <a:xfrm>
              <a:off x="2195640" y="342900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6084720" y="3429000"/>
              <a:ext cx="729000" cy="72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"/>
          <p:cNvGrpSpPr/>
          <p:nvPr/>
        </p:nvGrpSpPr>
        <p:grpSpPr>
          <a:xfrm>
            <a:off x="3348000" y="4076640"/>
            <a:ext cx="2637000" cy="2327400"/>
            <a:chOff x="3348000" y="4076640"/>
            <a:chExt cx="2637000" cy="2327400"/>
          </a:xfrm>
        </p:grpSpPr>
        <p:pic>
          <p:nvPicPr>
            <p:cNvPr id="542" name="" descr=""/>
            <p:cNvPicPr/>
            <p:nvPr/>
          </p:nvPicPr>
          <p:blipFill>
            <a:blip r:embed="rId4"/>
            <a:stretch/>
          </p:blipFill>
          <p:spPr>
            <a:xfrm>
              <a:off x="3348000" y="4076640"/>
              <a:ext cx="2637000" cy="23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3997800" y="602136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By Ivan Card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6569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71853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David Cope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2781360" cy="22096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575240" y="2060640"/>
            <a:ext cx="329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ou 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osição aut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har padrões em mú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har estilos entre padr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puters and Musical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9760" y="4437000"/>
            <a:ext cx="600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e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de 200 composições assistidas por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úmeras composições usando computador pra simular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e compositores famosos (Bach, Chopin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mple Analytic Recombinant Algorithm  (S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730872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5078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바탕"/>
              </a:rPr>
              <a:t>Música é uma prova de fogo pra qualquer algoritmo de inteligência que encare o desafio de compô-la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바탕"/>
              </a:rPr>
              <a:t>Ao invés de muitas conclusões, muitas discussões restam em torno desse tema. Sendo o conceito de criatividade e ética os principais impulsos para tal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Seria possível criar um algoritmo que construa um processo que um humano poderia chamar de criativo?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Considere que um humano tenha a tecnologia suficiente para construir outro humano, o novo humano criado não seria igualmente criativo?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Existe algum motivo para um humano se sentir indignado de não reconhecer que uma música não foi criada por outro humano?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바탕"/>
              </a:rPr>
              <a:t>Conceitos Gerais -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"/>
              </a:rPr>
              <a:t>http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3"/>
              </a:rPr>
              <a:t>:/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4"/>
              </a:rPr>
              <a:t>music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5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6"/>
              </a:rPr>
              <a:t>dartmouth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7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8"/>
              </a:rPr>
              <a:t>edu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9"/>
              </a:rPr>
              <a:t>/~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0"/>
              </a:rPr>
              <a:t>wowem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1"/>
              </a:rPr>
              <a:t>/hardware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2"/>
              </a:rPr>
              <a:t>algorithmdefinition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3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4"/>
              </a:rPr>
              <a:t>html</a:t>
            </a:r>
            <a:endParaRPr b="0" lang="en-US" sz="19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바탕"/>
              </a:rPr>
              <a:t>Genetic Music Compositor -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5"/>
              </a:rPr>
              <a:t>http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6"/>
              </a:rPr>
              <a:t>://www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7"/>
              </a:rPr>
              <a:t>hybridsociety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8"/>
              </a:rPr>
              <a:t>.net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19"/>
              </a:rPr>
              <a:t>publications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0"/>
              </a:rPr>
              <a:t>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1"/>
              </a:rPr>
              <a:t>articles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2"/>
              </a:rPr>
              <a:t>/cec99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바탕"/>
                <a:hlinkClick r:id="rId23"/>
              </a:rPr>
              <a:t>pdf</a:t>
            </a:r>
            <a:endParaRPr b="0" lang="en-US" sz="19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Georgia"/>
              </a:rPr>
              <a:t>A Computational Perspective on Twenty-First Century Music - 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4"/>
              </a:rPr>
              <a:t>http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5"/>
              </a:rPr>
              <a:t>:/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6"/>
              </a:rPr>
              <a:t>iaaa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7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8"/>
              </a:rPr>
              <a:t>nl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29"/>
              </a:rPr>
              <a:t>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0"/>
              </a:rPr>
              <a:t>hh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1"/>
              </a:rPr>
              <a:t>/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2"/>
              </a:rPr>
              <a:t>brettonh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3"/>
              </a:rPr>
              <a:t>.</a:t>
            </a:r>
            <a:r>
              <a:rPr b="0" lang="pt-BR" sz="1900" spc="-1" strike="noStrike" u="sng">
                <a:solidFill>
                  <a:srgbClr val="009999"/>
                </a:solidFill>
                <a:uFillTx/>
                <a:latin typeface="Georgia"/>
                <a:hlinkClick r:id="rId34"/>
              </a:rPr>
              <a:t>html</a:t>
            </a:r>
            <a:endParaRPr b="0" lang="en-US" sz="19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바탕"/>
              </a:rPr>
              <a:t>The Computer Music Tutorial – Curtis Roads</a:t>
            </a:r>
            <a:endParaRPr b="0" lang="en-US" sz="19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바탕"/>
              </a:rPr>
              <a:t>Music, syntax, and the meaning of “meaning” - Geraint A. Wiggins</a:t>
            </a:r>
            <a:r>
              <a:rPr b="0" lang="pt-BR" sz="2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5"/>
              </a:rPr>
              <a:t>http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6"/>
              </a:rPr>
              <a:t>://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7"/>
              </a:rPr>
              <a:t>arts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8"/>
              </a:rPr>
              <a:t>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39"/>
              </a:rPr>
              <a:t>ucsc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0"/>
              </a:rPr>
              <a:t>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1"/>
              </a:rPr>
              <a:t>edu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2"/>
              </a:rPr>
              <a:t>/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3"/>
              </a:rPr>
              <a:t>faculty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4"/>
              </a:rPr>
              <a:t>/cope/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5"/>
              </a:rPr>
              <a:t>index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6"/>
              </a:rPr>
              <a:t>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7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8"/>
              </a:rPr>
              <a:t>http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49"/>
              </a:rPr>
              <a:t>://www.midi-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50"/>
              </a:rPr>
              <a:t>classics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51"/>
              </a:rPr>
              <a:t>.com/p5530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바탕"/>
                <a:hlinkClick r:id="rId52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바탕"/>
              </a:rPr>
              <a:t>David Cope - 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3"/>
              </a:rPr>
              <a:t>http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4"/>
              </a:rPr>
              <a:t>://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5"/>
              </a:rPr>
              <a:t>arts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6"/>
              </a:rPr>
              <a:t>.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7"/>
              </a:rPr>
              <a:t>ucsc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8"/>
              </a:rPr>
              <a:t>.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59"/>
              </a:rPr>
              <a:t>edu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60"/>
              </a:rPr>
              <a:t>/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61"/>
              </a:rPr>
              <a:t>faculty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62"/>
              </a:rPr>
              <a:t>/cope/mp3page.</a:t>
            </a:r>
            <a:r>
              <a:rPr b="0" lang="pt-BR" sz="2100" spc="-1" strike="noStrike" u="sng">
                <a:solidFill>
                  <a:srgbClr val="009999"/>
                </a:solidFill>
                <a:uFillTx/>
                <a:latin typeface="바탕"/>
                <a:hlinkClick r:id="rId63"/>
              </a:rPr>
              <a:t>htm</a:t>
            </a:r>
            <a:endParaRPr b="0" lang="en-US" sz="21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http://www.speedy.co.il/composer/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Compositores sempre foram fascinados com conceitos matemáticos relacionados à músic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Music of spheres”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Guido d’Arezzo (1026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No século XX foram introduzidos procedimentos matemáticos para composição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Composição Algorítmica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Ron Pellegrino -&gt; </a:t>
            </a:r>
            <a:r>
              <a:rPr b="0" i="1" lang="pt-BR" sz="3200" spc="-1" strike="noStrike">
                <a:solidFill>
                  <a:srgbClr val="000000"/>
                </a:solidFill>
                <a:latin typeface="바탕"/>
              </a:rPr>
              <a:t>Metabiosi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Pauline Oliveros in the14th Annual Bowling Green Festival of New Music and Art (1993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Há várias abordagens de composição algorítmic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Processos estocásticos, fractais, geradores de caos, gramáticas, IA, Redes Neurai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Estocás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Primeiros experimentos em composição algorítmic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Iannis Xenakis foi um dos pioneiros, com a publicação de </a:t>
            </a:r>
            <a:r>
              <a:rPr b="0" i="1" lang="pt-BR" sz="3200" spc="-1" strike="noStrike">
                <a:solidFill>
                  <a:srgbClr val="000000"/>
                </a:solidFill>
                <a:latin typeface="바탕"/>
              </a:rPr>
              <a:t>Musiques Formelles</a:t>
            </a: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 (1963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Usam escolha aleatória no processo de tomada de decisõe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바탕"/>
              </a:rPr>
              <a:t>Lejaren Hiller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9236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01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Algoritmos Estocásticos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so de determinada distribuição estatística para determinar a probabilidade de um evento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Distribuição mais natural -&gt; bell-shaped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40012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Tabelas de Probabilidade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so de tabela de distribuição de probabilidade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Um algoritmo ingênuo seria comparar valores aleatórios com as probabilidades na tabela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36115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바탕"/>
              </a:rPr>
              <a:t>Tabelas de Probabilidade</a:t>
            </a:r>
            <a:endParaRPr b="0" lang="en-US" sz="44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43280" y="3213000"/>
            <a:ext cx="3438360" cy="286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1880" y="1628640"/>
            <a:ext cx="8070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Distribuição cumu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바탕"/>
              </a:rPr>
              <a:t>Tabelas podem também variar suas probabilidades com o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2:38:39Z</dcterms:created>
  <dc:creator>gjcc</dc:creator>
  <dc:description/>
  <dc:language>en-US</dc:language>
  <cp:lastModifiedBy>pmmc</cp:lastModifiedBy>
  <dcterms:modified xsi:type="dcterms:W3CDTF">2004-08-23T13:13:58Z</dcterms:modified>
  <cp:revision>59</cp:revision>
  <dc:subject/>
  <dc:title>Slide 1</dc:title>
</cp:coreProperties>
</file>