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Bk B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F2C8-6640-40B7-A7D2-02A63FF9A2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dos maiores instituto de pesquisa da Europa, sediado na Aleman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ssui mais de 12mil cientistas e orçamento anual de mais de 1 bilhão de Eu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lSystem G2 : servidores e ferramentas da RealNetworks que criam e servem conteúdo ao seu RealP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6DC0-1C4E-4ADF-89D4-231737FAD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2796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DCF1-A008-424D-99A4-CFC604C53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8BE8-FAFB-4CCB-9DF2-FEEFD3CB0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2796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2796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279680"/>
            <a:ext cx="250236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DCB1-D1D8-4DE2-B5BE-B1ED80F87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F499-5667-41B8-AE2D-CC42DFD0F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2F52-CB17-46DA-9EBB-1E8D9447E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AD1F-D94A-48AD-B2FC-6D15AD604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13F1-3384-4C99-ADE3-FFCD09CDA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0"/>
            <a:ext cx="88200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B427-5837-47B5-8305-11D64AA6A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931A-C1AC-4985-B94C-0518794EB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2796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0BC3-0139-4669-9595-7608C13B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79680"/>
            <a:ext cx="77724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D887-3A4C-48EE-BB61-0E085C4F9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4920" y="6480"/>
          <a:ext cx="9109080" cy="68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6480"/>
                    <a:ext cx="9109080" cy="68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1484280"/>
            <a:ext cx="8820000" cy="5373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1865160"/>
          <a:ext cx="8459640" cy="499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865160"/>
                    <a:ext cx="84596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vantGarde Bk B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vantGarde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vantGarde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vantGarde Bk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" name=""/>
          <p:cNvSpPr/>
          <p:nvPr/>
        </p:nvSpPr>
        <p:spPr>
          <a:xfrm>
            <a:off x="324000" y="0"/>
            <a:ext cx="0" cy="6858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51024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84720" y="630864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21360"/>
            <a:ext cx="1116000" cy="836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0" y="6199200"/>
          <a:ext cx="90000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199200"/>
                    <a:ext cx="900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-360" y="640080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0866-AD1B-4CE2-9291-E121B958F00B}" type="slidenum"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        </a:t>
            </a: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br>
              <a:rPr sz="4400"/>
            </a:b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e Computação Musical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6000" y="602100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vantGarde Bk BT"/>
              </a:rPr>
              <a:t>Seminário de Computação Musical e Processamento de Som</a:t>
            </a:r>
            <a:endParaRPr b="0" lang="en-US" sz="16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1844640"/>
            <a:ext cx="30956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César Fran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Eduardo Oliv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Leonardo Gest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Rafael Corre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F8EE-CE20-46A1-82CF-42447F7823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hilips e Sony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introduzem o formato de Audio Digital em CD e o CD-ROM com capacidade de 650Mbytes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ais de 1.000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hosts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n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82-8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220968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2080-9D60-451D-98CC-003087BD64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Formato DAT (Japão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Instituto Fraunhofer -&gt; MP3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ais de 10.000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hosts 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8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9572-FECD-4FD6-9FD8-4C7F3B3B3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US Robotics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Modem 14.4Kbp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Especificações do MPEG-1 e MP3 aprovada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1Milhão de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hosts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n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0628-CD8B-4F3F-8A64-79C37B80E1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etscape Navigator 1.0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VOSAIC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transmissão de áudio e vídeo em tempo real através da internet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 Audio 1.0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4-9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276F-9CCD-4FA7-8DCC-689C080E12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Encoding.com e MP3.com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icrosoft: Windows Media Player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mond: MP3 Player portátil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Networks: RealSystem G2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entium II Xeon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450MHz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7-9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18B7-50E3-49B1-BD32-C6D496DE05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apster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Networks adquire Xing Technology (MPEG Streamming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ealNetworks: RealJukeBox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AudioGalaxy, Kazaa, MusicCity (p2p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opularização do Telefone Celular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1999-20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9883-67F4-478B-ACB4-20BB098AE6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3828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4120" y="1484280"/>
            <a:ext cx="814860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3297240"/>
            <a:ext cx="807876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756B-1BBF-4284-B33F-1E2824BC33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opularização” da banda larga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ADSL: 63 milhões no mundo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Brasil: 1,5 milhão banda larga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20 milhões acesso a internet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0% dos internautas brasileiros costumam visitar páginas com conteúdo multimídia e rádios online</a:t>
            </a:r>
            <a:r>
              <a:rPr b="0" lang="pt-BR" sz="20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vantGarde Bk BT"/>
              </a:rPr>
              <a:t>Fonte: Ibope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Ratings</a:t>
            </a:r>
            <a:r>
              <a:rPr b="0" lang="pt-BR" sz="1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76F4-DD6F-474A-A9D8-5ED602730E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Sites de comercialização de música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vantGarde Bk BT"/>
              </a:rPr>
              <a:t>iTunes (acervo 700mil músicas / 100 milhões de faixas vendidas)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vantGarde Bk BT"/>
              </a:rPr>
              <a:t>iMúsica (acordo com mais de 50 gravadoras)</a:t>
            </a: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Rádios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on-line “</a:t>
            </a: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ersonalizáveis”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362320" y="4800600"/>
          <a:ext cx="210492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800600"/>
                    <a:ext cx="210492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095880" y="5013360"/>
          <a:ext cx="232884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5013360"/>
                    <a:ext cx="23288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5800" y="4665600"/>
          <a:ext cx="160020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65600"/>
                    <a:ext cx="16002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868320" y="5676840"/>
            <a:ext cx="1417680" cy="5716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495680" y="4800600"/>
            <a:ext cx="1524240" cy="1485720"/>
            <a:chOff x="4495680" y="4800600"/>
            <a:chExt cx="1524240" cy="1485720"/>
          </a:xfrm>
        </p:grpSpPr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4495680" y="4800600"/>
              <a:ext cx="1524240" cy="82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>
              <a:off x="4495680" y="5622480"/>
              <a:ext cx="1524240" cy="6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BFBA-6314-47BE-B8BC-E4FAE14270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Tocadores de MP3 portáteis e para automóvei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148360" y="321300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600200" y="3581280"/>
            <a:ext cx="169848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D965-E7BF-4428-82C8-E2B027A43B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4120" y="1484280"/>
            <a:ext cx="8148600" cy="43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42100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541F-CA58-4E2C-828A-84003EEAC0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Número de telefones Celulares maior do que o número de telefones fixo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elulares que compõem e tocam músicas mono e polifônica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332000" y="4724280"/>
          <a:ext cx="105732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724280"/>
                    <a:ext cx="10573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451640" y="4149720"/>
          <a:ext cx="90504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4149720"/>
                    <a:ext cx="9050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062F-E9EB-4563-B100-F8731597F3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mputação Music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ias Atuais..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Transmissão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de som “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quase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perfeita” na web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(Chamadas Telefônicas)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[20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300720" y="1989000"/>
          <a:ext cx="207648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989000"/>
                    <a:ext cx="207648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276720" y="4941720"/>
          <a:ext cx="29509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941720"/>
                    <a:ext cx="29509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8905-765B-462A-AD62-385627CC81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4120" y="1484280"/>
            <a:ext cx="814860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237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421000"/>
            <a:ext cx="807876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6770-0E75-4F04-8FE0-533973EB5F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Perspectivas Futurístic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Qosmio E15-AV101 notebook PC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Toshiba 4x1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TV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DVD Player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Virtual Surround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vantGarde Bk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3352680" cy="2847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Curt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86EA-D6F5-4BC1-8B52-707348BA25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Perspectivas Futurístic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reative Commons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Crédito] 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Uso Comercial] 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Derivações]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     [Compartilhe Igual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Curt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D24A-EC5D-488B-9D53-029E1EB9FB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Perspectivas Futurístic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omposição de música pela Web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vantGarde Bk BT"/>
              </a:rPr>
              <a:t>[Real-Time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Música </a:t>
            </a:r>
            <a:r>
              <a:rPr b="0" i="1" lang="pt-BR" sz="3200" spc="-1" strike="noStrike">
                <a:solidFill>
                  <a:srgbClr val="000000"/>
                </a:solidFill>
                <a:latin typeface="AvantGarde Bk BT"/>
              </a:rPr>
              <a:t>On Demand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[sem mídias como CD ou DVD]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Médi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BCD3-548B-4BB4-B966-7D9712DB5B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cin.ufpe.br/~music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Áudio na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music-center.com.br/internet.ht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Da Convergência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apagina.pt/arquivo/Artigo.asp?ID=264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A Casa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intel.com/portugues/personal/do_more/music/digital/index.ht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84246-00DD-4D82-A3A2-5CC3CD14D6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Usina do 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usinadosom.com.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Uma nova proteção aut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jc.uol.com.br/noticias/ler.php?codigo=68101&amp;canal=117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The Convergence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digital-convergence.org/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Nok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nokia.com.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Sam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samsung.com.b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CAD8-2D25-4E13-9B26-33D3EE202F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Sk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skype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vantGarde Bk BT"/>
              </a:rPr>
              <a:t>Qosm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vantGarde Bk BT"/>
              </a:rPr>
              <a:t>[http://www.qosmio.co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ED4D-432B-46B1-8117-D4C049AE21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vantGarde Bk BT"/>
              </a:rPr>
              <a:t>Capacidade da tecnologia digital unir produtos distintos, serviços e funcionalidades em um único produto / serviço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388620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9A5B-6DAD-4576-86EA-A6179AE97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5280" y="1484280"/>
          <a:ext cx="395928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395928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3280" y="3860640"/>
          <a:ext cx="4141800" cy="24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860640"/>
                    <a:ext cx="414180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V="1">
            <a:off x="2411280" y="4076640"/>
            <a:ext cx="2159280" cy="1052640"/>
          </a:xfrm>
          <a:custGeom>
            <a:avLst/>
            <a:gdLst>
              <a:gd name="textAreaLeft" fmla="*/ 0 w 2159280"/>
              <a:gd name="textAreaRight" fmla="*/ 2159640 w 2159280"/>
              <a:gd name="textAreaTop" fmla="*/ 360 h 1052640"/>
              <a:gd name="textAreaBottom" fmla="*/ 1053360 h 10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1BAB-619D-4C05-BA5A-1AA5307162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640" y="1844640"/>
            <a:ext cx="69091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Fusão de diferentes 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meios de 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84280"/>
            <a:ext cx="8820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vantGarde Bk BT"/>
              </a:rPr>
              <a:t>O encontro de vários camin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0" y="2852640"/>
            <a:ext cx="3816360" cy="3606840"/>
            <a:chOff x="4572000" y="2852640"/>
            <a:chExt cx="3816360" cy="3606840"/>
          </a:xfrm>
        </p:grpSpPr>
        <p:sp>
          <p:nvSpPr>
            <p:cNvPr id="81" name=""/>
            <p:cNvSpPr/>
            <p:nvPr/>
          </p:nvSpPr>
          <p:spPr>
            <a:xfrm>
              <a:off x="4932360" y="3645000"/>
              <a:ext cx="165744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357720"/>
              <a:ext cx="3600360" cy="27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64000" y="4797360"/>
              <a:ext cx="1800360" cy="122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88000" y="3933720"/>
              <a:ext cx="15145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4572000" y="2852640"/>
            <a:ext cx="3816360" cy="360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2852640"/>
                      <a:ext cx="3816360" cy="360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CA5D-942A-4B15-9689-1A1D7D38AE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Serviços múltiplos através do mesmo meio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vantGarde Bk BT"/>
              </a:rPr>
              <a:t>Interação entre diferentes serviços</a:t>
            </a:r>
            <a:endParaRPr b="0" lang="en-US" sz="2800" spc="-1" strike="noStrike">
              <a:solidFill>
                <a:srgbClr val="000000"/>
              </a:solidFill>
              <a:latin typeface="AvantGarde Bk B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vantGarde Bk BT"/>
              </a:rPr>
              <a:t>[Digitais e não-Digitais]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940A-A8BF-4F2D-895F-6999F5B120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O que é Convergência Digital?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vantGarde Bk BT"/>
              </a:rPr>
              <a:t>A convergência digital visa não somente dar ao indivíduo o acesso ao mundo via informação, mas também dar ao mundo o acesso ao indivíduo.</a:t>
            </a: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EE9D-5955-4927-B549-622B1411BD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Convergência Digital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7214" r="0" b="19590"/>
          <a:stretch/>
        </p:blipFill>
        <p:spPr>
          <a:xfrm>
            <a:off x="539640" y="1844640"/>
            <a:ext cx="7920000" cy="434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5520" y="617220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tand Samsung GITEX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8B23-E90A-4E68-8824-A8AB2C7F1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1484280"/>
            <a:ext cx="814860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14972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284640"/>
            <a:ext cx="8078760" cy="360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421000"/>
            <a:ext cx="8078760" cy="360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vantGarde Bk BT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é Convergência Digit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tem a ver com Computação Musical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O que já existe atualmente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vantGarde Bk BT"/>
              </a:rPr>
              <a:t>Perspectivas futurísticas: O que está por vir ?</a:t>
            </a:r>
            <a:endParaRPr b="0" lang="en-US" sz="2400" spc="-1" strike="noStrike">
              <a:solidFill>
                <a:srgbClr val="000000"/>
              </a:solidFill>
              <a:latin typeface="AvantGarde Bk BT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2257200" y="236520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vantGarde Bk BT"/>
              </a:rPr>
              <a:t>Computação Musical e Processamento de 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F2CD-2A56-47A0-BEA2-6BE3837C3D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r</cp:lastModifiedBy>
  <dcterms:modified xsi:type="dcterms:W3CDTF">2004-08-09T14:08:15Z</dcterms:modified>
  <cp:revision>65</cp:revision>
  <dc:subject/>
  <dc:title>PowerPoint Presentation</dc:title>
</cp:coreProperties>
</file>