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C23C-E1D4-487E-A05E-EF8514E9FA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á uma olhada mel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E15-6FF6-49CE-9D27-F5C3C42F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B1D-05A6-4D7F-88B3-FEFE5F86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55C-EA59-4D67-A774-24C3F403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3E2-2010-4094-BE21-C29B0C5E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7AAA-AE44-4C59-B08B-904AB27E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68C5-5DD2-439C-96CB-78608130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5C35-BB12-4EF9-A86E-075B91FB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3384-852C-4C49-A58C-427A2453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234F-8651-4C9F-9FA3-D46B67B3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B62E-13F9-4B2D-A2B6-A84542DD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E218-6A14-4B3D-8309-B46C1A3D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1D5-0D84-41DC-9742-FB71A4F4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86F1-66D4-4025-B031-44B8A0A9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7C75-53A3-479A-838C-287125BE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D8F0-DBEF-44C4-B0F8-FA39BEBB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0CBF-3346-4729-9FE7-9098A314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BD6D-29F5-4241-B99C-655CB1A2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ED5-F0C4-426A-A97F-8C84EF73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1EC-2F56-49CE-8FD9-D1EAE374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C15-42E1-482D-8D53-5B0ED8E9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511-F2E8-4851-8026-97C3E2F5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779-7B9C-40D2-BBA1-5AAE4CA2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1A7-0D92-48BE-AE3A-D6E9F9E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FB7-2D4B-45CE-ACAA-BD391573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{assc, ecgd, jjsn, tbas}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DCE1-9E3F-4B31-9C1B-61C57A690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667560" y="6095880"/>
            <a:ext cx="179064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55E0-002A-457F-9A0C-FF38BA7AE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Georgia"/>
              </a:rPr>
              <a:t>MusicXML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114440" y="41911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Andrino Coêlh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Eduardo Dominon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Jayro Sant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Thiago Arra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{assc, ecgd, jjsn, tbas}@cin.ufpe.b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uncionalidad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Indexação e Recuperaçã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Uso de semântica musica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dexação facilitada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Roemer: Professional music typesett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Next Modules: Gerador/Composito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Pae2xml: Conversor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libMusicXML: Biblioteca pra manipulação de MusicXML em C/C++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Demonstraçã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MusicXML é uma ótima idéia que precisa de maior divulgaç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As funcionalidades de indexação e recuperação são interessantíssima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Necessita ainda de uma afirmação maio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[1] http://www.musicxml.or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http://www.musicmarkup.info/scope/markuplanguages.htm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http://xml.coverpages.org/xmlMusic.html#MusicXM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http://www.xenoage.com/mxmlplay/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http://utopia.poly.edu/~esmole01/MusicXML.htm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 que é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o que se propõe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uncionalidad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monstraç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Potencial da publicação de partitura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eorgia"/>
              </a:rPr>
              <a:t>Pouca intercambialida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eorgia"/>
              </a:rPr>
              <a:t>Partituras em PDF (!!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Formato abert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MIDI é insuficient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 que é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"MusicXML is without question the most mature effort so far in using XML to encode music." - </a:t>
            </a:r>
            <a:r>
              <a:rPr b="0" i="1" lang="pt-BR" sz="3200" spc="-1" strike="noStrike">
                <a:solidFill>
                  <a:srgbClr val="000000"/>
                </a:solidFill>
                <a:latin typeface="Georgia"/>
              </a:rPr>
              <a:t>Darin Stewart [1]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 que é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Desenvolvido pela Recordare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eorgia"/>
              </a:rPr>
              <a:t>Um formato aberto, utilizável por diversas aplicaçõ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eorgia"/>
              </a:rPr>
              <a:t>Um tradutor universal para a notação popular da música Ocidenta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Baseada em MuseData e Hundrum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eorgia"/>
              </a:rPr>
              <a:t>Desenvolvidos em universidad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Uso aberto para portadores de </a:t>
            </a:r>
            <a:r>
              <a:rPr b="0" i="1" lang="pt-BR" sz="3200" spc="-1" strike="noStrike">
                <a:solidFill>
                  <a:srgbClr val="000000"/>
                </a:solidFill>
                <a:latin typeface="Georgia"/>
              </a:rPr>
              <a:t>royalty-free license</a:t>
            </a: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o que se propõe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esma idéia do MIDI, porém resolve um problema diferent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over formatos intercambiáveis para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açã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áli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cuperaçã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licações de performan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ão substitui os formatos proprietário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o que se propõe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or que não utilizar soluções anteriore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IFF: formato gráfic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DL: muito complex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DI: representação limitad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o que se propõe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5120" y="1828800"/>
          <a:ext cx="5648040" cy="37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564804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uncionalidad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dexaç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sca (inclusive por padrões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cuperaç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Validaç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positores automático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22:10:29Z</dcterms:created>
  <dc:creator>Andrino S S Coêlho</dc:creator>
  <dc:description/>
  <dc:language>en-US</dc:language>
  <cp:lastModifiedBy>Eduardo</cp:lastModifiedBy>
  <dcterms:modified xsi:type="dcterms:W3CDTF">2004-08-17T01:02:48Z</dcterms:modified>
  <cp:revision>19</cp:revision>
  <dc:subject/>
  <dc:title>MusicXML</dc:title>
</cp:coreProperties>
</file>