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6.xml" ContentType="application/vnd.openxmlformats-officedocument.presentationml.comments+xml"/>
  <Override PartName="/ppt/comments/comment7.xml" ContentType="application/vnd.openxmlformats-officedocument.presentationml.comments+xml"/>
  <Override PartName="/ppt/comments/comment11.xml" ContentType="application/vnd.openxmlformats-officedocument.presentationml.comments+xml"/>
  <Override PartName="/ppt/comments/comment16.xml" ContentType="application/vnd.openxmlformats-officedocument.presentationml.comments+xml"/>
  <Override PartName="/ppt/comments/comment20.xml" ContentType="application/vnd.openxmlformats-officedocument.presentationml.comments+xml"/>
  <Override PartName="/ppt/comments/comment21.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commentAuthors.xml><?xml version="1.0" encoding="utf-8"?>
<p:cmAuthorLst xmlns:p="http://schemas.openxmlformats.org/presentationml/2006/main">
  <p:cmAuthor id="1" name="mlcn" initials="m" lastIdx="1" clrIdx="1"/>
  <p:cmAuthor id="0" name="Mayerber Carvalho Neto" initials="MCN" lastIdx="1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1.xml><?xml version="1.0" encoding="utf-8"?>
<p:cmLst xmlns:p="http://schemas.openxmlformats.org/presentationml/2006/main">
  <p:cm authorId="0" dt="2004-08-07T10:57:47.301000000" idx="6">
    <p:pos x="1755" y="1339"/>
    <p:text>A phoneme is the smallest unit of speech in a language or dialect.</p:text>
  </p:cm>
  <p:cm authorId="0" dt="2004-08-07T11:44:44.272000000" idx="7">
    <p:pos x="2444" y="2524"/>
    <p:text>Figuring out the right sound
---------------------------------
If life were simple, each incoming frequency band would find the right phoneme in the database. The software would then collate these to form words, and your PC would understand you. Unfortunately, it isn’t that simple. There can be so many variations in sound due to how words are spoken that it’s almost impossible to exactly match an incoming sound to an entry in the database. For example, the "t" in "the" sounds different from the "t" in, say "table". Not only that, but different people would pronounce the same word differently. To make matters worse, the environment also adds its own share of noise. Therefore, the software has to use complex techniques to approximate the incoming sound and figure out which phonemes are being used. 
Training the software 
--------------------------
One way of identifying phonemes is to "train" the speech recognition software. In training, many variations of the same phoneme are given, and the software analyzes each of these through statistical methods. Let’s see how it recognizes one phoneme. 
Compared to the sampling frequency of 1/100th of a second, the duration of one phoneme is long. During this time, many frequency bands would actually pass the speech recognizer, and each would be assigned a feature number. So, the software uses statistics to figure out the probability of a particular feature number appearing in a phoneme. The feature number with the highest probability would correspond to the phoneme that you’ve spoken. This way, it gathers data of the hundreds of variations of the same phoneme passed to it, and approximates the right one.</p:text>
  </p:cm>
</p:cmLst>
</file>

<file path=ppt/comments/comment16.xml><?xml version="1.0" encoding="utf-8"?>
<p:cmLst xmlns:p="http://schemas.openxmlformats.org/presentationml/2006/main">
  <p:cm authorId="0" dt="2004-08-07T12:31:45.999000000" idx="8">
    <p:pos x="813" y="3561"/>
    <p:text>utiliza-se Bottom-up pois ela eh "pessimista" no sentido de que espera que haverá problemas durante o parsing.</p:text>
  </p:cm>
  <p:cm authorId="1" dt="2004-08-10T09:24:45.998000000" idx="1">
    <p:pos x="4893" y="2726"/>
    <p:text>Por isso, dá-se preferência por definir gramáticas curtas e pouco restritivas.</p:text>
  </p:cm>
</p:cmLst>
</file>

<file path=ppt/comments/comment20.xml><?xml version="1.0" encoding="utf-8"?>
<p:cmLst xmlns:p="http://schemas.openxmlformats.org/presentationml/2006/main">
  <p:cm authorId="0" dt="2004-08-07T21:57:25.066000000" idx="9">
    <p:pos x="202" y="2253"/>
    <p:text>Todos esses padrões são baseados em XML</p:text>
  </p:cm>
</p:cmLst>
</file>

<file path=ppt/comments/comment21.xml><?xml version="1.0" encoding="utf-8"?>
<p:cmLst xmlns:p="http://schemas.openxmlformats.org/presentationml/2006/main">
  <p:cm authorId="0" dt="2004-08-07T22:15:33.852000000" idx="10">
    <p:pos x="3894" y="1422"/>
    <p:text>Isso é bom porque o programador nao precisa aprender GRXML para poder começar a desenvolver aplicações speech-enabled.</p:text>
  </p:cm>
</p:cmLst>
</file>

<file path=ppt/comments/comment24.xml><?xml version="1.0" encoding="utf-8"?>
<p:cmLst xmlns:p="http://schemas.openxmlformats.org/presentationml/2006/main">
  <p:cm authorId="0" dt="2004-08-06T08:59:47.071000000" idx="11">
    <p:pos x="4395" y="206"/>
    <p:text>Funciona como nas centrais de atendimento das empresas de celular, porém ao invés de usar o teclado do aparalho o cliente usa a voz.</p:text>
  </p:cm>
</p:cmLst>
</file>

<file path=ppt/comments/comment6.xml><?xml version="1.0" encoding="utf-8"?>
<p:cmLst xmlns:p="http://schemas.openxmlformats.org/presentationml/2006/main">
  <p:cm authorId="0" dt="2004-08-06T10:39:04.046000000" idx="1">
    <p:pos x="4691" y="1770"/>
    <p:text>Alguns sistemas são treinados "de fábrica" com vários usuários.</p:text>
  </p:cm>
  <p:cm authorId="0" dt="2004-08-06T10:39:56.242000000" idx="2">
    <p:pos x="5324" y="2227"/>
    <p:text>Os que reconhecem palavras discretas exigem que o usuário faça pequenas pausas entre cada palavra.</p:text>
  </p:cm>
  <p:cm authorId="0" dt="2004-08-06T10:41:13.282000000" idx="3">
    <p:pos x="5373" y="2691"/>
    <p:text>pequeno -&gt; centenas de palavras
grande -&gt; milhares de palavras</p:text>
  </p:cm>
</p:cmLst>
</file>

<file path=ppt/comments/comment7.xml><?xml version="1.0" encoding="utf-8"?>
<p:cmLst xmlns:p="http://schemas.openxmlformats.org/presentationml/2006/main">
  <p:cm authorId="0" dt="2004-08-06T10:52:42.273000000" idx="4">
    <p:pos x="3292" y="3504"/>
    <p:text>é difícil para o computador inferir a pontuação</p:text>
  </p:cm>
  <p:cm authorId="0" dt="2004-08-06T11:27:01.327000000" idx="5">
    <p:pos x="1687" y="1653"/>
    <p:text>Pensar num comando AMBÍGUO</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1A636-28B4-4E67-A6C7-DB59C540C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55D60-A919-446E-BB60-F2DBD41D5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60F9E-99DC-43EC-9123-E5E78BDCE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7AEFD-3800-4FD1-A893-EB86DDF79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E4B13-FED0-4B7B-ACE2-AB49ECC63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503E8-B242-4A1C-99BB-FFEA58D5E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C4E18-B950-485F-95BA-37F28E4AF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0309F-A93B-495C-B0AE-F1AB17005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83CCF-D6E3-405C-B9F1-BD339350F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40EB9-117C-4AAA-9D99-3C5531DD4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F49A2-A6EA-4927-A268-4E80E74C6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A866-20A5-44DC-94EE-14CCF1373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F0133-400E-4B73-B96C-10A63C1A6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7DE68-52D0-4F29-B0C7-779CE5C51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6B00B-333E-4CFF-BD39-A342C0B23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81DBE-85BF-463E-894B-D4A3B6D22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ABF84-364D-4C2C-924D-F16F60224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4B433-4E80-4C3F-8F0C-CB0322554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6A1B8-10C7-4119-92B7-3B2FD96B7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44647-C2E1-4D9F-A3EE-1456761A6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C7463-B641-475D-B751-66250896B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9844B-96A9-44AC-846B-AFDCEFF22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F311A-9D2A-4B4B-9CF0-C24CBEC23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3B967-6C46-4A8D-91CC-DEA93FD33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47DE-24CB-4B8A-9363-CF55AB1204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C088-1E36-4F7E-A5E1-4A5A6D26E1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comments" Target="../comments/comment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calhost/Musical"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hyperlink" Target="http://www.speech.philips.com/" TargetMode="External"/><Relationship Id="rId2" Type="http://schemas.openxmlformats.org/officeDocument/2006/relationships/hyperlink" Target="http://www.speech.philips.com/" TargetMode="External"/><Relationship Id="rId3" Type="http://schemas.openxmlformats.org/officeDocument/2006/relationships/hyperlink" Target="http://www.gignews.com/fdlspeech1.htm" TargetMode="External"/><Relationship Id="rId4" Type="http://schemas.openxmlformats.org/officeDocument/2006/relationships/hyperlink" Target="http://research.samsung.ru/surveys/1999-11/05&#173;1.html" TargetMode="External"/><Relationship Id="rId5" Type="http://schemas.openxmlformats.org/officeDocument/2006/relationships/hyperlink" Target="http://www.guiadopc.com.br/testes/viavoice.htm" TargetMode="External"/><Relationship Id="rId6" Type="http://schemas.openxmlformats.org/officeDocument/2006/relationships/hyperlink" Target="http://www.guiadopc.com.br/testes/viavoice.htm"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conhecimento de Voz</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ção Musical</a:t>
            </a:r>
            <a:endParaRPr b="0" lang="en-US" sz="3200" spc="-1" strike="noStrike">
              <a:solidFill>
                <a:srgbClr val="000000"/>
              </a:solidFill>
              <a:latin typeface="Arial"/>
            </a:endParaRPr>
          </a:p>
        </p:txBody>
      </p:sp>
      <p:sp>
        <p:nvSpPr>
          <p:cNvPr id="151" name=""/>
          <p:cNvSpPr/>
          <p:nvPr/>
        </p:nvSpPr>
        <p:spPr>
          <a:xfrm>
            <a:off x="5076720" y="4797360"/>
            <a:ext cx="215928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up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yerber Carvalho N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afael Alves Araúj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afael Cavalcanti Ortol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odrigo “Bode” Cos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hiago Teixeira Araúj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 (cont.)</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O sinal do microfone (voz) é amostrado 16000 vezes por segundo pela placa de som.</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O sinal analógico é transformado em sinal digital através de PCM (Pulse Code Modulation).</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Em seguida, o sinal é novamente amostrado cem vezes por segundo e transformado num conjunto de </a:t>
            </a:r>
            <a:r>
              <a:rPr b="1" lang="pt-BR" sz="2700" spc="-1" strike="noStrike">
                <a:solidFill>
                  <a:srgbClr val="000000"/>
                </a:solidFill>
                <a:latin typeface="Arial"/>
              </a:rPr>
              <a:t>bandas de freqüência</a:t>
            </a:r>
            <a:r>
              <a:rPr b="0" lang="pt-BR" sz="2700" spc="-1" strike="noStrike">
                <a:solidFill>
                  <a:srgbClr val="000000"/>
                </a:solidFill>
                <a:latin typeface="Arial"/>
              </a:rPr>
              <a:t> discretas usando Windowed FFT (Fast Fourier Transform).</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 (cont.)</a:t>
            </a:r>
            <a:endParaRPr b="1" lang="en-US" sz="3900" spc="-1" strike="noStrike">
              <a:solidFill>
                <a:srgbClr val="330066"/>
              </a:solidFill>
              <a:latin typeface="Arial"/>
            </a:endParaRPr>
          </a:p>
        </p:txBody>
      </p:sp>
      <p:sp>
        <p:nvSpPr>
          <p:cNvPr id="172" name="PlaceHolder 2"/>
          <p:cNvSpPr>
            <a:spLocks noGrp="1"/>
          </p:cNvSpPr>
          <p:nvPr>
            <p:ph/>
          </p:nvPr>
        </p:nvSpPr>
        <p:spPr>
          <a:xfrm>
            <a:off x="456840" y="1599840"/>
            <a:ext cx="7859880" cy="4924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róximo passo: reconhecer as bandas de freqüênci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ara isso, o software de reconhecimento utiliza uma base de milhares de freqüências onde cada freqüência é identificada por um “</a:t>
            </a:r>
            <a:r>
              <a:rPr b="0" i="1" lang="pt-BR" sz="2600" spc="-1" strike="noStrike">
                <a:solidFill>
                  <a:srgbClr val="000000"/>
                </a:solidFill>
                <a:latin typeface="Arial"/>
              </a:rPr>
              <a:t>feature number</a:t>
            </a:r>
            <a:r>
              <a:rPr b="0" lang="pt-BR"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uponhamos que durante o reconhecimento, as bandas de freqüência ouvidas foram traduzidas nos seguintes </a:t>
            </a:r>
            <a:r>
              <a:rPr b="0" i="1" lang="pt-BR" sz="2600" spc="-1" strike="noStrike">
                <a:solidFill>
                  <a:srgbClr val="000000"/>
                </a:solidFill>
                <a:latin typeface="Arial"/>
              </a:rPr>
              <a:t>feature numbers</a:t>
            </a:r>
            <a:r>
              <a:rPr b="0" lang="pt-BR" sz="2600" spc="-1" strike="noStrike">
                <a:solidFill>
                  <a:srgbClr val="000000"/>
                </a:solidFill>
                <a:latin typeface="Arial"/>
              </a:rPr>
              <a:t>: #52, #52, #189, #53, #52, #52</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719360"/>
            <a:ext cx="8229600" cy="3395520"/>
          </a:xfrm>
          <a:prstGeom prst="rect">
            <a:avLst/>
          </a:prstGeom>
          <a:noFill/>
          <a:ln w="0">
            <a:noFill/>
          </a:ln>
        </p:spPr>
        <p:txBody>
          <a:bodyPr lIns="90000" rIns="90000" tIns="46800" bIns="46800" anchor="t">
            <a:normAutofit/>
          </a:bodyPr>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umindo que o software de reconhecimento foi previamente treinado e descobriu-se que:</a:t>
            </a:r>
            <a:endParaRPr b="0" lang="en-US" sz="19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o fonema “b”:</a:t>
            </a:r>
            <a:endParaRPr b="0" lang="en-US" sz="18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92280" indent="-347760">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a o fonema “m”:</a:t>
            </a:r>
            <a:endParaRPr b="0" lang="en-US" sz="1500" spc="-1" strike="noStrike">
              <a:solidFill>
                <a:srgbClr val="000000"/>
              </a:solidFill>
              <a:latin typeface="Arial"/>
            </a:endParaRPr>
          </a:p>
        </p:txBody>
      </p:sp>
      <p:sp>
        <p:nvSpPr>
          <p:cNvPr id="174"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 (cont.)</a:t>
            </a:r>
            <a:endParaRPr b="1" lang="en-US" sz="3900" spc="-1" strike="noStrike">
              <a:solidFill>
                <a:srgbClr val="330066"/>
              </a:solidFill>
              <a:latin typeface="Arial"/>
            </a:endParaRPr>
          </a:p>
        </p:txBody>
      </p:sp>
      <p:graphicFrame>
        <p:nvGraphicFramePr>
          <p:cNvPr id="175" name=""/>
          <p:cNvGraphicFramePr/>
          <p:nvPr/>
        </p:nvGraphicFramePr>
        <p:xfrm>
          <a:off x="3348000" y="2438280"/>
          <a:ext cx="3600360" cy="1035000"/>
        </p:xfrm>
        <a:graphic>
          <a:graphicData uri="http://schemas.openxmlformats.org/drawingml/2006/table">
            <a:tbl>
              <a:tblPr/>
              <a:tblGrid>
                <a:gridCol w="1801800"/>
                <a:gridCol w="179856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Feature Number</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babilidad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6" name=""/>
          <p:cNvGraphicFramePr/>
          <p:nvPr/>
        </p:nvGraphicFramePr>
        <p:xfrm>
          <a:off x="3348000" y="3645000"/>
          <a:ext cx="3598920" cy="1035000"/>
        </p:xfrm>
        <a:graphic>
          <a:graphicData uri="http://schemas.openxmlformats.org/drawingml/2006/table">
            <a:tbl>
              <a:tblPr/>
              <a:tblGrid>
                <a:gridCol w="1800360"/>
                <a:gridCol w="179856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Feature Number</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babilidad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324000" y="4724280"/>
            <a:ext cx="8208720" cy="14414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emos calcular a probabilidade da seqüência ouvida ser o fonema “b” ou “m”:</a:t>
            </a:r>
            <a:endParaRPr b="0" lang="en-US" sz="2000" spc="-1" strike="noStrike">
              <a:solidFill>
                <a:srgbClr val="000000"/>
              </a:solidFill>
              <a:latin typeface="Arial"/>
            </a:endParaRPr>
          </a:p>
          <a:p>
            <a:pPr lvl="1" marL="574560" indent="-2883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o fonema “b”: 55% * 55% * 30% * 15% * 55% * 55% = 0.41%</a:t>
            </a:r>
            <a:endParaRPr b="0" lang="en-US" sz="1800" spc="-1" strike="noStrike">
              <a:solidFill>
                <a:srgbClr val="000000"/>
              </a:solidFill>
              <a:latin typeface="Arial"/>
            </a:endParaRPr>
          </a:p>
          <a:p>
            <a:pPr lvl="1" marL="574560" indent="-2883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o “m”: 10% * 10% * 10% * 80% * 10% * 10% = 0.0008%</a:t>
            </a:r>
            <a:endParaRPr b="0" lang="en-US" sz="1800" spc="-1" strike="noStrike">
              <a:solidFill>
                <a:srgbClr val="000000"/>
              </a:solidFill>
              <a:latin typeface="Arial"/>
            </a:endParaRPr>
          </a:p>
          <a:p>
            <a:pPr marL="284400" indent="-2844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nto, o sistema conclui que a seqüência ouvida corresponde ao fonema “b”.</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 (cont.)</a:t>
            </a:r>
            <a:endParaRPr b="1" lang="en-US" sz="3900" spc="-1" strike="noStrike">
              <a:solidFill>
                <a:srgbClr val="330066"/>
              </a:solidFill>
              <a:latin typeface="Arial"/>
            </a:endParaRPr>
          </a:p>
        </p:txBody>
      </p:sp>
      <p:sp>
        <p:nvSpPr>
          <p:cNvPr id="179" name="PlaceHolder 2"/>
          <p:cNvSpPr>
            <a:spLocks noGrp="1"/>
          </p:cNvSpPr>
          <p:nvPr>
            <p:ph/>
          </p:nvPr>
        </p:nvSpPr>
        <p:spPr>
          <a:xfrm>
            <a:off x="457200" y="1719000"/>
            <a:ext cx="8229600" cy="2485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pois da etapa de identificação, o software precisa separar os fonemas. Para resolver esse problema, pode-se utilizar um modelo matemático conhecido como Hidden Markov Models (HMM).</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Modelos Lingüísticos</a:t>
            </a:r>
            <a:endParaRPr b="1" lang="en-US" sz="3900" spc="-1" strike="noStrike">
              <a:solidFill>
                <a:srgbClr val="330066"/>
              </a:solidFill>
              <a:latin typeface="Arial"/>
            </a:endParaRPr>
          </a:p>
        </p:txBody>
      </p:sp>
      <p:sp>
        <p:nvSpPr>
          <p:cNvPr id="181" name="PlaceHolder 2"/>
          <p:cNvSpPr>
            <a:spLocks noGrp="1"/>
          </p:cNvSpPr>
          <p:nvPr>
            <p:ph/>
          </p:nvPr>
        </p:nvSpPr>
        <p:spPr>
          <a:xfrm>
            <a:off x="685440" y="1545840"/>
            <a:ext cx="7924680" cy="490716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óxima etapa é juntar os fonemas em palavra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sa etapa, deve-se levar em consideração falhas nas etapas anteriores.</a:t>
            </a:r>
            <a:endParaRPr b="0" lang="en-US" sz="24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usuário pode enganar-se ao pronunciar uma palavra que não existe no dicionári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software pode errar na separação das palavras. Por exemplo, ao ouvir a palavra “comunicação” o software de reconhecimento poderia separar a palavra em duas: “comunica ação”.</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Modelos Lingüísticos</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resolver esses e outros problemas, são empregados modelos lingüísticos:</a:t>
            </a:r>
            <a:endParaRPr b="0" lang="en-US" sz="24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Utilizam um dicionári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odelo gramatical. Esse modelo é responsável por diferenciar “foi a três anos” e “foi há três anos”, por exempl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900" spc="-1" strike="noStrike">
                <a:solidFill>
                  <a:srgbClr val="330066"/>
                </a:solidFill>
                <a:latin typeface="Arial"/>
              </a:rPr>
              <a:t>Natural Language Understanding</a:t>
            </a:r>
            <a:r>
              <a:rPr b="1" lang="pt-BR" sz="3900" spc="-1" strike="noStrike">
                <a:solidFill>
                  <a:srgbClr val="330066"/>
                </a:solidFill>
                <a:latin typeface="Arial"/>
              </a:rPr>
              <a:t> (NLU)</a:t>
            </a:r>
            <a:endParaRPr b="1" lang="en-US" sz="3900" spc="-1" strike="noStrike">
              <a:solidFill>
                <a:srgbClr val="330066"/>
              </a:solidFill>
              <a:latin typeface="Arial"/>
            </a:endParaRPr>
          </a:p>
        </p:txBody>
      </p:sp>
      <p:sp>
        <p:nvSpPr>
          <p:cNvPr id="18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rocesso similar ao utilizado por compilador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bordagem </a:t>
            </a:r>
            <a:r>
              <a:rPr b="0" i="1" lang="pt-BR" sz="2600" spc="-1" strike="noStrike">
                <a:solidFill>
                  <a:srgbClr val="000000"/>
                </a:solidFill>
                <a:latin typeface="Arial"/>
              </a:rPr>
              <a:t>Bottom-up</a:t>
            </a:r>
            <a:endParaRPr b="0" lang="en-US" sz="26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grupar pequenos fragmentos para tentar compreender o </a:t>
            </a:r>
            <a:r>
              <a:rPr b="1" lang="pt-BR" sz="2400" spc="-1" strike="noStrike">
                <a:solidFill>
                  <a:srgbClr val="000000"/>
                </a:solidFill>
                <a:latin typeface="Arial"/>
              </a:rPr>
              <a:t>sentido geral</a:t>
            </a:r>
            <a:r>
              <a:rPr b="0" lang="pt-BR" sz="2400" spc="-1" strike="noStrike">
                <a:solidFill>
                  <a:srgbClr val="000000"/>
                </a:solidFill>
                <a:latin typeface="Arial"/>
              </a:rPr>
              <a:t> da frase.</a:t>
            </a:r>
            <a:endParaRPr b="0" lang="en-US" sz="24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É difícil definir uma gramática para a linguagem natural pois esta é inerentemente ambígu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or exemplo, a frase “Eu quero ir para Recife esta tard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NLU (cont.)</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Exemplo de gramática para um indicar uma viagem:</a:t>
            </a:r>
            <a:endParaRPr b="0" lang="en-US" sz="30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Cidade&gt; </a:t>
            </a:r>
            <a:r>
              <a:rPr b="0" lang="pt-BR" sz="2600" spc="-1" strike="noStrike">
                <a:solidFill>
                  <a:srgbClr val="000000"/>
                </a:solidFill>
                <a:latin typeface="Arial"/>
                <a:ea typeface="Arial"/>
              </a:rPr>
              <a:t>→</a:t>
            </a:r>
            <a:r>
              <a:rPr b="0" lang="pt-BR" sz="2600" spc="-1" strike="noStrike">
                <a:solidFill>
                  <a:srgbClr val="000000"/>
                </a:solidFill>
                <a:latin typeface="Arial"/>
              </a:rPr>
              <a:t> Fortaleza</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Cidade&gt; </a:t>
            </a:r>
            <a:r>
              <a:rPr b="0" lang="pt-BR" sz="2600" spc="-1" strike="noStrike">
                <a:solidFill>
                  <a:srgbClr val="000000"/>
                </a:solidFill>
                <a:latin typeface="Arial"/>
                <a:ea typeface="Arial"/>
              </a:rPr>
              <a:t>→</a:t>
            </a:r>
            <a:r>
              <a:rPr b="0" lang="pt-BR" sz="2600" spc="-1" strike="noStrike">
                <a:solidFill>
                  <a:srgbClr val="000000"/>
                </a:solidFill>
                <a:latin typeface="Arial"/>
              </a:rPr>
              <a:t> Recife</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Cidade&gt; </a:t>
            </a:r>
            <a:r>
              <a:rPr b="0" lang="pt-BR" sz="2600" spc="-1" strike="noStrike">
                <a:solidFill>
                  <a:srgbClr val="000000"/>
                </a:solidFill>
                <a:latin typeface="Arial"/>
                <a:ea typeface="Arial"/>
              </a:rPr>
              <a:t>→</a:t>
            </a:r>
            <a:r>
              <a:rPr b="0" lang="pt-BR" sz="2600" spc="-1" strike="noStrike">
                <a:solidFill>
                  <a:srgbClr val="000000"/>
                </a:solidFill>
                <a:latin typeface="Arial"/>
              </a:rPr>
              <a:t> Natal</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Chegada&gt; </a:t>
            </a:r>
            <a:r>
              <a:rPr b="0" lang="pt-BR" sz="2600" spc="-1" strike="noStrike">
                <a:solidFill>
                  <a:srgbClr val="000000"/>
                </a:solidFill>
                <a:latin typeface="Arial"/>
                <a:ea typeface="Arial"/>
              </a:rPr>
              <a:t>→ </a:t>
            </a:r>
            <a:r>
              <a:rPr b="0" lang="pt-BR" sz="2600" spc="-1" strike="noStrike">
                <a:solidFill>
                  <a:srgbClr val="000000"/>
                </a:solidFill>
                <a:latin typeface="Arial"/>
              </a:rPr>
              <a:t>[indo] para &lt;Cidade&gt;</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Partida&gt; </a:t>
            </a:r>
            <a:r>
              <a:rPr b="0" lang="pt-BR" sz="2600" spc="-1" strike="noStrike">
                <a:solidFill>
                  <a:srgbClr val="000000"/>
                </a:solidFill>
                <a:latin typeface="Arial"/>
                <a:ea typeface="Arial"/>
              </a:rPr>
              <a:t>→ </a:t>
            </a:r>
            <a:r>
              <a:rPr b="0" lang="pt-BR" sz="2600" spc="-1" strike="noStrike">
                <a:solidFill>
                  <a:srgbClr val="000000"/>
                </a:solidFill>
                <a:latin typeface="Arial"/>
              </a:rPr>
              <a:t>[a partir] de &lt;Cidade&gt;</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Viagem&gt; </a:t>
            </a:r>
            <a:r>
              <a:rPr b="0" lang="pt-BR" sz="2600" spc="-1" strike="noStrike">
                <a:solidFill>
                  <a:srgbClr val="000000"/>
                </a:solidFill>
                <a:latin typeface="Arial"/>
                <a:ea typeface="Arial"/>
              </a:rPr>
              <a:t>→</a:t>
            </a:r>
            <a:r>
              <a:rPr b="0" lang="pt-BR" sz="2600" spc="-1" strike="noStrike">
                <a:solidFill>
                  <a:srgbClr val="000000"/>
                </a:solidFill>
                <a:latin typeface="Arial"/>
              </a:rPr>
              <a:t> &lt;Partida&gt; &lt;Chegada&gt;</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Viagem&gt; </a:t>
            </a:r>
            <a:r>
              <a:rPr b="0" lang="pt-BR" sz="2600" spc="-1" strike="noStrike">
                <a:solidFill>
                  <a:srgbClr val="000000"/>
                </a:solidFill>
                <a:latin typeface="Arial"/>
                <a:ea typeface="Arial"/>
              </a:rPr>
              <a:t>→</a:t>
            </a:r>
            <a:r>
              <a:rPr b="0" lang="pt-BR" sz="2600" spc="-1" strike="noStrike">
                <a:solidFill>
                  <a:srgbClr val="000000"/>
                </a:solidFill>
                <a:latin typeface="Arial"/>
              </a:rPr>
              <a:t> &lt;Chegada&gt; &lt;Partida&gt;</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943600" y="1905120"/>
            <a:ext cx="2666880" cy="4114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dutos Existentes no Mercado</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53244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IBM ViaVoic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189,99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98% de precisã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ais confiável do mercado</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ragon NaturallySpeaking</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523,25</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95% de precisão </a:t>
            </a:r>
            <a:endParaRPr b="0" lang="en-US" sz="2600" spc="-1" strike="noStrike">
              <a:solidFill>
                <a:srgbClr val="000000"/>
              </a:solidFill>
              <a:latin typeface="Arial"/>
            </a:endParaRPr>
          </a:p>
        </p:txBody>
      </p:sp>
      <p:pic>
        <p:nvPicPr>
          <p:cNvPr id="191" name="" descr=""/>
          <p:cNvPicPr/>
          <p:nvPr/>
        </p:nvPicPr>
        <p:blipFill>
          <a:blip r:embed="rId1"/>
          <a:stretch/>
        </p:blipFill>
        <p:spPr>
          <a:xfrm>
            <a:off x="6400800" y="2057400"/>
            <a:ext cx="1828800" cy="1828800"/>
          </a:xfrm>
          <a:prstGeom prst="rect">
            <a:avLst/>
          </a:prstGeom>
          <a:ln w="0">
            <a:noFill/>
          </a:ln>
        </p:spPr>
      </p:pic>
      <p:sp>
        <p:nvSpPr>
          <p:cNvPr id="192" name=""/>
          <p:cNvSpPr/>
          <p:nvPr/>
        </p:nvSpPr>
        <p:spPr>
          <a:xfrm>
            <a:off x="6095880" y="39625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2"/>
          <a:stretch/>
        </p:blipFill>
        <p:spPr>
          <a:xfrm>
            <a:off x="6705720" y="4191120"/>
            <a:ext cx="1233360" cy="1542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dutos Existentes no Mercado</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Office XP</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Ferramenta integrada para dicção de textos e comando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Exemplo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Bold. Center. Font. Tahoma.</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File. Print. Current Page. OK.</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R$ 1.272,44 (Standard)</a:t>
            </a:r>
            <a:endParaRPr b="0" lang="en-US" sz="2600" spc="-1" strike="noStrike">
              <a:solidFill>
                <a:srgbClr val="000000"/>
              </a:solidFill>
              <a:latin typeface="Arial"/>
            </a:endParaRPr>
          </a:p>
        </p:txBody>
      </p:sp>
      <p:pic>
        <p:nvPicPr>
          <p:cNvPr id="196" name="" descr=""/>
          <p:cNvPicPr/>
          <p:nvPr/>
        </p:nvPicPr>
        <p:blipFill>
          <a:blip r:embed="rId1"/>
          <a:stretch/>
        </p:blipFill>
        <p:spPr>
          <a:xfrm>
            <a:off x="6172200" y="3276720"/>
            <a:ext cx="2365200" cy="3009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da</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çã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çã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licações</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ificaçã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ipais problemas</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ment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tos no mercad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ch SDK</a:t>
            </a:r>
            <a:endParaRPr b="0" lang="en-US" sz="3000" spc="-1" strike="noStrike">
              <a:solidFill>
                <a:srgbClr val="000000"/>
              </a:solidFill>
              <a:latin typeface="Arial"/>
            </a:endParaRPr>
          </a:p>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S Speech Application SDK</a:t>
            </a:r>
            <a:endParaRPr b="1" lang="en-US" sz="3900" spc="-1" strike="noStrike">
              <a:solidFill>
                <a:srgbClr val="330066"/>
              </a:solidFill>
              <a:latin typeface="Arial"/>
            </a:endParaRPr>
          </a:p>
        </p:txBody>
      </p:sp>
      <p:sp>
        <p:nvSpPr>
          <p:cNvPr id="198"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fontScale="99000"/>
          </a:bodyPr>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Baseado em padrões abertos definidos pelo W3C</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peech Recognition Grammar Specification (SRGS)</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peech Application Language Tags (SALT)</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emantic Markup Language (SML)</a:t>
            </a:r>
            <a:endParaRPr b="0" lang="en-US" sz="26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 </a:t>
            </a:r>
            <a:r>
              <a:rPr b="0" lang="pt-BR" sz="3000" spc="-1" strike="noStrike">
                <a:solidFill>
                  <a:srgbClr val="000000"/>
                </a:solidFill>
                <a:latin typeface="Arial"/>
              </a:rPr>
              <a:t>Dois tipos de aplicações</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omente voz</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ultimodais</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ech SDK (cont.)</a:t>
            </a:r>
            <a:endParaRPr b="1" lang="en-US" sz="3900" spc="-1" strike="noStrike">
              <a:solidFill>
                <a:srgbClr val="330066"/>
              </a:solidFill>
              <a:latin typeface="Arial"/>
            </a:endParaRPr>
          </a:p>
        </p:txBody>
      </p:sp>
      <p:sp>
        <p:nvSpPr>
          <p:cNvPr id="200" name="PlaceHolder 2"/>
          <p:cNvSpPr>
            <a:spLocks noGrp="1"/>
          </p:cNvSpPr>
          <p:nvPr>
            <p:ph/>
          </p:nvPr>
        </p:nvSpPr>
        <p:spPr>
          <a:xfrm>
            <a:off x="457200" y="1719000"/>
            <a:ext cx="8229600" cy="1500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O SDK integra-se com o Visual Studio .NET e inclui editores pa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Gramática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1" name="" descr=""/>
          <p:cNvPicPr/>
          <p:nvPr/>
        </p:nvPicPr>
        <p:blipFill>
          <a:blip r:embed="rId1"/>
          <a:stretch/>
        </p:blipFill>
        <p:spPr>
          <a:xfrm>
            <a:off x="1187280" y="3213000"/>
            <a:ext cx="6840720" cy="3397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ech SDK (cont.)</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65880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Diálogos (Prompt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4" name="" descr=""/>
          <p:cNvPicPr/>
          <p:nvPr/>
        </p:nvPicPr>
        <p:blipFill>
          <a:blip r:embed="rId1"/>
          <a:stretch/>
        </p:blipFill>
        <p:spPr>
          <a:xfrm>
            <a:off x="900000" y="2205000"/>
            <a:ext cx="7201080" cy="4417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ech SDK (co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licação exempl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ntral de Atendimento de uma Pizza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1"/>
              </a:rPr>
              <a:t>Ver exemplo</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enários</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Business-to-Customer</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t>
            </a:r>
            <a:r>
              <a:rPr b="0" lang="pt-BR" sz="2600" spc="-1" strike="noStrike">
                <a:solidFill>
                  <a:srgbClr val="000000"/>
                </a:solidFill>
                <a:latin typeface="Arial"/>
              </a:rPr>
              <a:t>O cliente liga para a central de atendimento da empresa e é recebido por uma saudação automática. Em seguida, o sistema faz uma série de perguntas ao cliente e, de acordo com as respostas recebidas, a ligação é automaticamente transferida para o departamento apropriado.”</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Referências</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Reconhecimento de Voz, Paulo Guilhoto e Susana Rosa, Univ. de Coimbr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1"/>
              </a:rPr>
              <a:t>http://</a:t>
            </a:r>
            <a:r>
              <a:rPr b="0" lang="en-US" sz="2600" spc="-1" strike="noStrike" u="sng">
                <a:solidFill>
                  <a:srgbClr val="7e9ce8"/>
                </a:solidFill>
                <a:uFillTx/>
                <a:latin typeface="Arial"/>
                <a:hlinkClick r:id="rId2"/>
              </a:rPr>
              <a:t>www.speech.philips.com</a:t>
            </a:r>
            <a:r>
              <a:rPr b="0" lang="en-US" sz="2600" spc="-1" strike="noStrike">
                <a:solidFill>
                  <a:srgbClr val="000000"/>
                </a:solidFill>
                <a:latin typeface="Arial"/>
              </a:rPr>
              <a:t>, Philips Speech Processing</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3"/>
              </a:rPr>
              <a:t>http://www.gignews.com/fdlspeech1.htm</a:t>
            </a:r>
            <a:r>
              <a:rPr b="0" lang="en-US" sz="2600" spc="-1" strike="noStrike">
                <a:solidFill>
                  <a:srgbClr val="000000"/>
                </a:solidFill>
                <a:latin typeface="Arial"/>
              </a:rPr>
              <a:t>, GIGNews.com ­ Speech Processing for Game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4"/>
              </a:rPr>
              <a:t>http://research.samsung.ru/surveys/1999-11/05­1.html</a:t>
            </a:r>
            <a:r>
              <a:rPr b="0" lang="en-US" sz="2600" spc="-1" strike="noStrike">
                <a:solidFill>
                  <a:srgbClr val="000000"/>
                </a:solidFill>
                <a:latin typeface="Arial"/>
              </a:rPr>
              <a:t>, Samsung Electronics Research Center in Russ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5"/>
              </a:rPr>
              <a:t>http://</a:t>
            </a:r>
            <a:r>
              <a:rPr b="0" lang="en-US" sz="2600" spc="-1" strike="noStrike" u="sng">
                <a:solidFill>
                  <a:srgbClr val="7e9ce8"/>
                </a:solidFill>
                <a:uFillTx/>
                <a:latin typeface="Arial"/>
                <a:hlinkClick r:id="rId6"/>
              </a:rPr>
              <a:t>www.guiadopc.com.br/testes/viavoice.htm</a:t>
            </a:r>
            <a:r>
              <a:rPr b="0" lang="en-US" sz="2600" spc="-1" strike="noStrike">
                <a:solidFill>
                  <a:srgbClr val="000000"/>
                </a:solidFill>
                <a:latin typeface="Arial"/>
              </a:rPr>
              <a:t>, Guia do PC</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soft Speech Application SDK</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tivação</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Sala de cirurgia inteligente</a:t>
            </a:r>
            <a:endParaRPr b="0" lang="en-US" sz="30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andar luzes, mesa, câmeras e até consultar outro especialista.</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elhor tempo de resposta, maior produtividade</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tryker (http://www.stryker.com)</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Casa do futuro</a:t>
            </a:r>
            <a:endParaRPr b="0" lang="en-US" sz="30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andos para controlar equipamentos da casa</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cesso pelo celular à casa</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icrosoft (Casa Microsoft, Redmond)</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rodução</a:t>
            </a:r>
            <a:endParaRPr b="1" lang="en-US" sz="3900" spc="-1" strike="noStrike">
              <a:solidFill>
                <a:srgbClr val="330066"/>
              </a:solidFill>
              <a:latin typeface="Arial"/>
            </a:endParaRPr>
          </a:p>
        </p:txBody>
      </p:sp>
      <p:sp>
        <p:nvSpPr>
          <p:cNvPr id="15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amento de Voz</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nhecimento de Voz</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íntese de Voz</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que são sistemas de reconhecimento de voz?</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ão sistemas que interpretam a voz humana e realizam uma tarefa específica. </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cção científica vs. realidad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xidade e evolução do hardwar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s atuais atingem 98% de acerto em condições ideai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Aplicações</a:t>
            </a:r>
            <a:endParaRPr b="1" lang="en-US" sz="3900" spc="-1" strike="noStrike">
              <a:solidFill>
                <a:srgbClr val="330066"/>
              </a:solidFill>
              <a:latin typeface="Arial"/>
            </a:endParaRPr>
          </a:p>
        </p:txBody>
      </p:sp>
      <p:sp>
        <p:nvSpPr>
          <p:cNvPr id="15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hecimento de palavras e comand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nhecer frases curtas e comando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lo: comandos de voz para discagem em tel. celulare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hecimento da fala natural</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crição de texto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olve frases longas com sentido semântico.</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enticaçã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enticação da pessoa pela voz</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lassificação</a:t>
            </a:r>
            <a:endParaRPr b="1" lang="en-US" sz="35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sistemas de reconhecimento de voz podem ser classificados em:</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s que precisam ser treinado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s que reconhecem fala contígua vs. sistemas que reconhecem palavras discret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manho do vocabulário (dicionário): pequeno ou grande</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incipais Problem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interpretação de fonemas, palavras e frases é muitas vezes sensível ao contex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onação e timbre influenciam na interpretação das frases. Exemplo: “João saiu”, “João saiu!” e “João saiu?”</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linguagem escrita possui regras rígidas de pontuação que não são claramente representadas na fala.</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Principais Problemas (cont.)</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Ruí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Fonemas com dicção diferentes quando colocados junto de outros. Exemplo: a letra “h” em “caminho” e “mol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cidir onde um fonema acaba e outro começa. O som de “comunicação” pode ser interpretado como “comunica ação”.</a:t>
            </a: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21319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Funciona como um </a:t>
            </a:r>
            <a:r>
              <a:rPr b="0" i="1" lang="pt-BR" sz="2600" spc="-1" strike="noStrike">
                <a:solidFill>
                  <a:srgbClr val="000000"/>
                </a:solidFill>
                <a:latin typeface="Arial"/>
              </a:rPr>
              <a:t>pipeline</a:t>
            </a:r>
            <a:r>
              <a:rPr b="0" lang="pt-BR" sz="2600" spc="-1" strike="noStrike">
                <a:solidFill>
                  <a:srgbClr val="000000"/>
                </a:solidFill>
                <a:latin typeface="Arial"/>
              </a:rPr>
              <a:t> onde são usadas diversas técnicas estatísticas e matemáticas para compreender o que está sendo ditado.</a:t>
            </a:r>
            <a:endParaRPr b="0" lang="en-US" sz="2600" spc="-1" strike="noStrike">
              <a:solidFill>
                <a:srgbClr val="000000"/>
              </a:solidFill>
              <a:latin typeface="Arial"/>
            </a:endParaRPr>
          </a:p>
        </p:txBody>
      </p:sp>
      <p:pic>
        <p:nvPicPr>
          <p:cNvPr id="168" name="" descr=""/>
          <p:cNvPicPr/>
          <p:nvPr/>
        </p:nvPicPr>
        <p:blipFill>
          <a:blip r:embed="rId1"/>
          <a:stretch/>
        </p:blipFill>
        <p:spPr>
          <a:xfrm>
            <a:off x="755640" y="3357720"/>
            <a:ext cx="7561440" cy="2304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11:58:17Z</dcterms:created>
  <dc:creator>Mayerber Carvalho Neto</dc:creator>
  <dc:description/>
  <dc:language>en-US</dc:language>
  <cp:lastModifiedBy>Mayerber Carvalho Neto</cp:lastModifiedBy>
  <dcterms:modified xsi:type="dcterms:W3CDTF">2004-08-10T22:51:54Z</dcterms:modified>
  <cp:revision>166</cp:revision>
  <dc:subject/>
  <dc:title>Reconhecimento de Voz</dc:title>
</cp:coreProperties>
</file>