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4CD6-16C4-4BB8-9FB2-1CF9E96F965B}" type="slidenum">
              <a:rPr b="0" lang="pt-B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sinar – Geralmente se aprende, vendo outros toca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Um SSA ruim para jazz, pode excelent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 pag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lteração: “critério subjetivo”, “acesso consciente a todo processo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E121-D345-4270-93DA-0A391CE94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3A93-0C8C-49BF-BDA9-1C4E0ED3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788E-769D-4351-9E6C-E0B38144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2064-DE75-418C-A7C0-B713F907B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137E-28C2-4A41-AAAA-3218F3BCC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F33A-3E7F-4680-8113-95C4F668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8642-3398-460A-80A6-E3689435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3CAE-807F-49BC-BC3C-F9069A41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4D70-5D22-4C91-AFE8-75BDD05F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A60C-9752-4643-A00F-2D7EC6DD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F605-EEE1-493D-8598-6594DFF1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BDA7-FEE7-485E-8865-483FC52E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445C-9E21-4DA0-96E8-3EB84585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5A15-6D72-42DE-A9BD-5EA70516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D2CB-8EC4-41B7-8C90-B77064A8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63CD-55D3-4C82-8B72-859C61BD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8A10-F66F-431C-BA4F-A84B24772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7504-D134-4BDB-8928-F03AD588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A548-FDB7-4104-8383-532C3689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393F-6750-4ECB-A61D-961259BD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6238-6D40-4C78-B872-13E9D2F2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DCC3-FC90-42E9-B67D-8B019AE3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1E8F-16C5-4C82-B640-71C74CF8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4856-4DEC-4B84-B4E5-97D85697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E818-5680-4693-AD37-572EA4046D9D}" type="slidenum">
              <a:rPr b="0" lang="pt-B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0" y="6308640"/>
            <a:ext cx="9144000" cy="53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4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5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60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5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47F6-328A-437A-B2F9-829559C07295}" type="slidenum">
              <a:rPr b="0" lang="pt-B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9144000" cy="5382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it.rit.edu/~jab/GenJam.html" TargetMode="External"/><Relationship Id="rId5" Type="http://schemas.openxmlformats.org/officeDocument/2006/relationships/hyperlink" Target="http://www.it.rit.edu/~jab/GenJam.html" TargetMode="External"/><Relationship Id="rId6" Type="http://schemas.openxmlformats.org/officeDocument/2006/relationships/hyperlink" Target="http://www.it.rit.edu/~jab/GenJam.html" TargetMode="External"/><Relationship Id="rId7" Type="http://schemas.openxmlformats.org/officeDocument/2006/relationships/hyperlink" Target="http://www.it.rit.edu/~jab/GenJam.html" TargetMode="External"/><Relationship Id="rId8" Type="http://schemas.openxmlformats.org/officeDocument/2006/relationships/hyperlink" Target="http://www.it.rit.edu/~jab/GenJam.html" TargetMode="External"/><Relationship Id="rId9" Type="http://schemas.openxmlformats.org/officeDocument/2006/relationships/hyperlink" Target="http://www.it.rit.edu/~jab/GenJam.html" TargetMode="External"/><Relationship Id="rId10" Type="http://schemas.openxmlformats.org/officeDocument/2006/relationships/hyperlink" Target="http://www.it.rit.edu/~jab/GenJam.html" TargetMode="External"/><Relationship Id="rId11" Type="http://schemas.openxmlformats.org/officeDocument/2006/relationships/hyperlink" Target="http://www.it.rit.edu/~jab/GenJam.html" TargetMode="External"/><Relationship Id="rId12" Type="http://schemas.openxmlformats.org/officeDocument/2006/relationships/hyperlink" Target="http://www.it.rit.edu/~jab/GenJam.html" TargetMode="External"/><Relationship Id="rId13" Type="http://schemas.openxmlformats.org/officeDocument/2006/relationships/hyperlink" Target="http://www.it.rit.edu/~jab/GenJam.html" TargetMode="External"/><Relationship Id="rId14" Type="http://schemas.openxmlformats.org/officeDocument/2006/relationships/hyperlink" Target="http://www.it.rit.edu/~jab/GenJam.html" TargetMode="External"/><Relationship Id="rId15" Type="http://schemas.openxmlformats.org/officeDocument/2006/relationships/hyperlink" Target="http://www.it.rit.edu/~jab/GenJam.html" TargetMode="External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Sistemas de Acompanhamento Automát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Itapajé Takegum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Ricardo Oliveir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Rodrigo Bacel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Genetic Jamm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Programa em tempo-real que produz frases a partir de uma anterior tocada por um ser human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Ouve o que o ser humano toca (pela entrada MIDI), e usa seus operadores de mutação para produzir sua própria linha music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GenJammer - Arquitetur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9134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Genetic Jamm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2" name="" descr="Tuesday at the Clock"/>
          <p:cNvPicPr/>
          <p:nvPr/>
        </p:nvPicPr>
        <p:blipFill>
          <a:blip r:embed="rId1"/>
          <a:stretch/>
        </p:blipFill>
        <p:spPr>
          <a:xfrm>
            <a:off x="1763640" y="1916280"/>
            <a:ext cx="5410440" cy="39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Gramátic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Aplicação de regras para gerar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Ritm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Seqüência de notas da melod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Seqüência de acor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Atribuição de probabilidade a cada regr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Gramática – Ritm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900000" y="2133720"/>
          <a:ext cx="4114800" cy="34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133720"/>
                    <a:ext cx="4114800" cy="34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219640" y="2060640"/>
            <a:ext cx="31971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Gramática – Melod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f – primeira not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d – repetir última not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s – próxima nota com intervalo pequen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i – próxima nota com intervalo curt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80880" y="1981080"/>
          <a:ext cx="3238560" cy="28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3238560" cy="28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3733920" y="2057400"/>
          <a:ext cx="5145120" cy="307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057400"/>
                    <a:ext cx="5145120" cy="30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Gramática - Problem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Várias possibilidades descartadas (subgeneralização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Várias possibilidades que não aconteceriam podem ser geradas (sobregeneralização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Reuso de Fragmen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Recupera e adapta fragmentos musicais e encadeia-os para compor novas linhas melódicas, harmônicas ou rítmica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752480" y="3276720"/>
          <a:ext cx="5695920" cy="319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3276720"/>
                    <a:ext cx="5695920" cy="31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Reuso de Fragmentos - Questõ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Granularidade do fragmen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Atributos dos fragmen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Recuperação de fragmen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Adaptação de fragmen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ImPac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Baseado na técnica de reuso de fragmen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Gera acompanhamento para contra-baixo no estilo de Jazz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Utiliza como base, 256 linhas de fragmen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Roteir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Motivaçã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SA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Técnicas de implementação de SA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Programa Band in a box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Cyber-Jo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SAA para estilo Bossa Nov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Inspirado no Impac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Jazz x Bossa Nov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Contra-Baixo x Violã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Fragmentos contendo padrões tocados por João Gilber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Band in a Bo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Programa de acompanhamento musical automát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Usuário define acordes e estil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Programa entra com o acompanhamento de baixo, guitarra, piano, percussã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Harmonizaçã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Band in a Bo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Solis e Melodist, as duas maiores inteligências do band in box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Solist – gera solos profissionais, de qualidade sobre qualquer progressão de acord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Melodist – gera musicas a partir do zero com acordes, melodias, introdução e sol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Band in Bo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2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762120" y="1676520"/>
            <a:ext cx="76960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Melodi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4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685800" y="1371600"/>
            <a:ext cx="7772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Soloi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6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Band in a box x Jamm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Band-in-a-Box mais fácil de ser usado, funcionamento é mais intuitivo. O Jammer, mas seus arranjos parecem ser mais sofisticados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Jammer permite que você importe músicas em Standard MIDI File e recrie partes dela; ele permite também que você grave sua execução em qualquer trilha (o Band-in-a-Box só permite gravar na trilha melodia)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2011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recurso de harmonização da melodia no Band-in-a-Box é muito bom. Mas o Jammer permite que você componha a música por partes (se um trecho não ficou bom, você pode mandar ele recriara somente aquele trecho)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20112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mbos permitem que você crie novos estilos, além dos diversos que já vêm com o softwar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Referênc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Geração Automática de Acompanhamento Rítmico para o violão: O estudo de caso Cyber-João – Márcio Leal de Melo Dah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Using Patterns to Generate Rhythmic Accompaniment fo Guitar – Márcio Dahia, </a:t>
            </a:r>
            <a:r>
              <a:rPr b="0" i="1" lang="pt-BR" sz="2400" spc="-1" strike="noStrike">
                <a:solidFill>
                  <a:srgbClr val="40458c"/>
                </a:solidFill>
                <a:latin typeface="Tahoma"/>
              </a:rPr>
              <a:t>et. 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GenJam Home Page - </a:t>
            </a:r>
            <a:r>
              <a:rPr b="0" lang="pt-BR" sz="24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http://</a:t>
            </a:r>
            <a:r>
              <a:rPr b="0" lang="pt-BR" sz="24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www</a:t>
            </a:r>
            <a:r>
              <a:rPr b="0" lang="pt-BR" sz="24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.it.</a:t>
            </a:r>
            <a:r>
              <a:rPr b="0" lang="pt-BR" sz="24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rit</a:t>
            </a:r>
            <a:r>
              <a:rPr b="0" lang="pt-BR" sz="24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.</a:t>
            </a:r>
            <a:r>
              <a:rPr b="0" lang="pt-BR" sz="24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edu</a:t>
            </a:r>
            <a:r>
              <a:rPr b="0" lang="pt-BR" sz="2400" spc="-1" strike="noStrike" u="sng">
                <a:solidFill>
                  <a:srgbClr val="6f89f7"/>
                </a:solidFill>
                <a:uFillTx/>
                <a:latin typeface="Tahoma"/>
                <a:hlinkClick r:id="rId10"/>
              </a:rPr>
              <a:t>/~</a:t>
            </a:r>
            <a:r>
              <a:rPr b="0" lang="pt-BR" sz="2400" spc="-1" strike="noStrike" u="sng">
                <a:solidFill>
                  <a:srgbClr val="6f89f7"/>
                </a:solidFill>
                <a:uFillTx/>
                <a:latin typeface="Tahoma"/>
                <a:hlinkClick r:id="rId11"/>
              </a:rPr>
              <a:t>jab</a:t>
            </a:r>
            <a:r>
              <a:rPr b="0" lang="pt-BR" sz="2400" spc="-1" strike="noStrike" u="sng">
                <a:solidFill>
                  <a:srgbClr val="6f89f7"/>
                </a:solidFill>
                <a:uFillTx/>
                <a:latin typeface="Tahoma"/>
                <a:hlinkClick r:id="rId12"/>
              </a:rPr>
              <a:t>/</a:t>
            </a:r>
            <a:r>
              <a:rPr b="0" lang="pt-BR" sz="2400" spc="-1" strike="noStrike" u="sng">
                <a:solidFill>
                  <a:srgbClr val="6f89f7"/>
                </a:solidFill>
                <a:uFillTx/>
                <a:latin typeface="Tahoma"/>
                <a:hlinkClick r:id="rId13"/>
              </a:rPr>
              <a:t>GenJam</a:t>
            </a:r>
            <a:r>
              <a:rPr b="0" lang="pt-BR" sz="2400" spc="-1" strike="noStrike" u="sng">
                <a:solidFill>
                  <a:srgbClr val="6f89f7"/>
                </a:solidFill>
                <a:uFillTx/>
                <a:latin typeface="Tahoma"/>
                <a:hlinkClick r:id="rId14"/>
              </a:rPr>
              <a:t>.</a:t>
            </a:r>
            <a:r>
              <a:rPr b="0" lang="pt-BR" sz="2400" spc="-1" strike="noStrike" u="sng">
                <a:solidFill>
                  <a:srgbClr val="6f89f7"/>
                </a:solidFill>
                <a:uFillTx/>
                <a:latin typeface="Tahoma"/>
                <a:hlinkClick r:id="rId15"/>
              </a:rPr>
              <a:t>htm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Jazz Improvisation: A Theory at the Computational Level – P. N. Johnson-Lair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Intelligent Jazz Accompanist: A Real-Time System for Recognizing and Accompanying Musical Improvisations – Petri Toiviain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Band in a Box - http://www.pgmusic.com/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Motiv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Composição de arranjos musica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Jog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Treinamen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Substituir um integrante do conjunto  (Zezo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Ensin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Motiv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63640" y="1523880"/>
            <a:ext cx="5767560" cy="4773600"/>
          </a:xfrm>
          <a:prstGeom prst="rect">
            <a:avLst/>
          </a:prstGeom>
          <a:ln w="0">
            <a:noFill/>
          </a:ln>
        </p:spPr>
      </p:pic>
      <p:grpSp>
        <p:nvGrpSpPr>
          <p:cNvPr id="225" name=""/>
          <p:cNvGrpSpPr/>
          <p:nvPr/>
        </p:nvGrpSpPr>
        <p:grpSpPr>
          <a:xfrm>
            <a:off x="2124000" y="1628640"/>
            <a:ext cx="5410440" cy="1657080"/>
            <a:chOff x="2124000" y="1628640"/>
            <a:chExt cx="5410440" cy="1657080"/>
          </a:xfrm>
        </p:grpSpPr>
        <p:pic>
          <p:nvPicPr>
            <p:cNvPr id="226" name="" descr=""/>
            <p:cNvPicPr/>
            <p:nvPr/>
          </p:nvPicPr>
          <p:blipFill>
            <a:blip r:embed="rId2"/>
            <a:stretch/>
          </p:blipFill>
          <p:spPr>
            <a:xfrm>
              <a:off x="2124000" y="2314440"/>
              <a:ext cx="106704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3"/>
            <a:stretch/>
          </p:blipFill>
          <p:spPr>
            <a:xfrm>
              <a:off x="3495600" y="1933200"/>
              <a:ext cx="106704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4"/>
            <a:stretch/>
          </p:blipFill>
          <p:spPr>
            <a:xfrm>
              <a:off x="4486320" y="1628640"/>
              <a:ext cx="106668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5"/>
            <a:stretch/>
          </p:blipFill>
          <p:spPr>
            <a:xfrm>
              <a:off x="6467400" y="1704600"/>
              <a:ext cx="1067040" cy="97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0" name=""/>
          <p:cNvGrpSpPr/>
          <p:nvPr/>
        </p:nvGrpSpPr>
        <p:grpSpPr>
          <a:xfrm>
            <a:off x="3492360" y="2421000"/>
            <a:ext cx="3276720" cy="2038320"/>
            <a:chOff x="3492360" y="2421000"/>
            <a:chExt cx="3276720" cy="2038320"/>
          </a:xfrm>
        </p:grpSpPr>
        <p:pic>
          <p:nvPicPr>
            <p:cNvPr id="231" name="" descr=""/>
            <p:cNvPicPr/>
            <p:nvPr/>
          </p:nvPicPr>
          <p:blipFill>
            <a:blip r:embed="rId6"/>
            <a:stretch/>
          </p:blipFill>
          <p:spPr>
            <a:xfrm>
              <a:off x="3492360" y="3487680"/>
              <a:ext cx="106704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7"/>
            <a:stretch/>
          </p:blipFill>
          <p:spPr>
            <a:xfrm>
              <a:off x="4406760" y="2878200"/>
              <a:ext cx="106704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8"/>
            <a:stretch/>
          </p:blipFill>
          <p:spPr>
            <a:xfrm>
              <a:off x="5321160" y="2421000"/>
              <a:ext cx="106704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9"/>
            <a:stretch/>
          </p:blipFill>
          <p:spPr>
            <a:xfrm>
              <a:off x="5702400" y="3487680"/>
              <a:ext cx="1066680" cy="971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SAA - Defini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São programas que geram linhas musicais para diversos tipos de instrumentos em tempo real ou nã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Pré-requisitos para um SA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Estilo music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Grade de acord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O que foi criado e tocado até o momento por ele própr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Percepção das outras linhas musicais em execução (músicos humanos ou não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Dificuldad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O músico não tem acesso consciente a todo processo de criação music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A habilidade de improvisar parece vir das pontas dos dedos” (David Sudnow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ficuldade de passar para o computador os critérios subjetivos do músico (se divertir e fazer um som “massa”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Área pouco explorada da computação music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SAA de tempo-re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Não há um critério objetivo para avaliar se uma música é bo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AA - Técn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goritmos Genétic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ramáti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uso de Fragmen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Algoritmos Genét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Explora soluções não triviais e inesperad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Bom para sistemas que buscam resultados criativ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Utilizado na Improvisaçã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Define operadores de mutaçã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Ex.: (Spector) REP, 8VA e EXTEN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3T11:48:47Z</dcterms:created>
  <dc:creator>rsbgb</dc:creator>
  <dc:description/>
  <dc:language>en-US</dc:language>
  <cp:lastModifiedBy>ifst</cp:lastModifiedBy>
  <dcterms:modified xsi:type="dcterms:W3CDTF">2004-08-18T11:02:13Z</dcterms:modified>
  <cp:revision>22</cp:revision>
  <dc:subject/>
  <dc:title>Sistemas de Acompanhamento Automático</dc:title>
</cp:coreProperties>
</file>