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EF8-C11D-475F-98A5-EAC1B850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8D8-A9A4-471C-95A1-2E65BEB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633-528B-4573-B4DD-CD9C7E9F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468-F5AB-48E8-B3FB-411653D7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5AC-64CA-43FF-9A97-C643DFD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583-4960-4CE5-A8F8-C7BBF71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263B-5B48-4C25-9609-B6534ABE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5C57-0A1B-4FAC-B212-D01A39FB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F9F-A914-4CC8-97E7-C7F6937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7258-A803-4A8E-8991-447E31F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1D3-DCC3-459B-BBBC-D02F0C1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C1E-9344-4F68-A065-29B8BBF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AE78-49F2-46EF-94E7-DC01E8E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AC6-9816-4D42-A6A4-BB25B2B7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1755-BCEA-43B7-B98C-A1212DC3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035-768A-4677-8A55-5D7AF855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572-75D6-412D-B69B-13C4622D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ABA-4B3F-4EB8-B2C0-B812080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A03-62A8-4686-9FAF-133A84C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E51-244F-4ED9-A48C-CF6F0C8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346-9ABF-4C17-AA2A-F62AAB79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98C-27C2-4EF3-8086-CB6C300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34A-CF13-4357-B386-6CDF540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395-71A9-4421-8BEF-9FBDBDA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5E1-11BD-4FD7-AAB1-D6F1DF5F9104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B93-CE9B-4AF5-81D3-8371594D7DEA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indworld.com/emi/articles/soundeffects.htm" TargetMode="External"/><Relationship Id="rId2" Type="http://schemas.openxmlformats.org/officeDocument/2006/relationships/hyperlink" Target="http://www.windworld.com/emi/articles/soundeffects.htm" TargetMode="External"/><Relationship Id="rId3" Type="http://schemas.openxmlformats.org/officeDocument/2006/relationships/hyperlink" Target="http://www.windworld.com/emi/articles/soundeffects.htm" TargetMode="External"/><Relationship Id="rId4" Type="http://schemas.openxmlformats.org/officeDocument/2006/relationships/hyperlink" Target="http://www.windworld.com/emi/articles/soundeffects.htm" TargetMode="External"/><Relationship Id="rId5" Type="http://schemas.openxmlformats.org/officeDocument/2006/relationships/hyperlink" Target="http://www.windworld.com/emi/articles/soundeffects.htm" TargetMode="External"/><Relationship Id="rId6" Type="http://schemas.openxmlformats.org/officeDocument/2006/relationships/hyperlink" Target="http://www.windworld.com/emi/articles/soundeffects.htm" TargetMode="External"/><Relationship Id="rId7" Type="http://schemas.openxmlformats.org/officeDocument/2006/relationships/hyperlink" Target="http://www.windworld.com/emi/articles/soundeffects.htm" TargetMode="External"/><Relationship Id="rId8" Type="http://schemas.openxmlformats.org/officeDocument/2006/relationships/hyperlink" Target="http://www.windworld.com/emi/articles/soundeffects.htm" TargetMode="External"/><Relationship Id="rId9" Type="http://schemas.openxmlformats.org/officeDocument/2006/relationships/hyperlink" Target="http://www.windworld.com/emi/articles/soundeffects.htm" TargetMode="External"/><Relationship Id="rId10" Type="http://schemas.openxmlformats.org/officeDocument/2006/relationships/hyperlink" Target="http://www.windworld.com/emi/articles/soundeffects.htm" TargetMode="External"/><Relationship Id="rId11" Type="http://schemas.openxmlformats.org/officeDocument/2006/relationships/hyperlink" Target="http://www.windworld.com/emi/articles/soundeffects.htm" TargetMode="External"/><Relationship Id="rId12" Type="http://schemas.openxmlformats.org/officeDocument/2006/relationships/hyperlink" Target="http://www.windworld.com/emi/articles/soundeffects.htm" TargetMode="External"/><Relationship Id="rId13" Type="http://schemas.openxmlformats.org/officeDocument/2006/relationships/hyperlink" Target="http://www.cinemanet.com.br/etapasproducao.htm" TargetMode="External"/><Relationship Id="rId14" Type="http://schemas.openxmlformats.org/officeDocument/2006/relationships/hyperlink" Target="http://www.cinemanet.com.br/etapasproducao.htm" TargetMode="External"/><Relationship Id="rId15" Type="http://schemas.openxmlformats.org/officeDocument/2006/relationships/hyperlink" Target="http://www.cinemanet.com.br/etapasproducao.htm" TargetMode="External"/><Relationship Id="rId16" Type="http://schemas.openxmlformats.org/officeDocument/2006/relationships/hyperlink" Target="http://www.cinemanet.com.br/etapasproducao.htm" TargetMode="External"/><Relationship Id="rId17" Type="http://schemas.openxmlformats.org/officeDocument/2006/relationships/hyperlink" Target="http://www.cinemanet.com.br/etapasproducao.htm" TargetMode="External"/><Relationship Id="rId18" Type="http://schemas.openxmlformats.org/officeDocument/2006/relationships/hyperlink" Target="http://www.cinemanet.com.br/etapasproducao.htm" TargetMode="External"/><Relationship Id="rId19" Type="http://schemas.openxmlformats.org/officeDocument/2006/relationships/hyperlink" Target="http://www.cinemanet.com.br/etapasproducao.htm" TargetMode="External"/><Relationship Id="rId20" Type="http://schemas.openxmlformats.org/officeDocument/2006/relationships/hyperlink" Target="http://www.cinemanet.com.br/etapasproducao.htm" TargetMode="External"/><Relationship Id="rId21" Type="http://schemas.openxmlformats.org/officeDocument/2006/relationships/hyperlink" Target="http://www.cinemanet.com.br/etapasproducao.htm" TargetMode="External"/><Relationship Id="rId22" Type="http://schemas.openxmlformats.org/officeDocument/2006/relationships/hyperlink" Target="http://www.cinemanet.com.br/etapasproducao.htm" TargetMode="External"/><Relationship Id="rId23" Type="http://schemas.openxmlformats.org/officeDocument/2006/relationships/hyperlink" Target="http://www.filmsound.org/articles/horrorsound/horrorsound.htm" TargetMode="External"/><Relationship Id="rId24" Type="http://schemas.openxmlformats.org/officeDocument/2006/relationships/hyperlink" Target="http://www.filmsound.org/articles/horrorsound/horrorsound.htm" TargetMode="External"/><Relationship Id="rId25" Type="http://schemas.openxmlformats.org/officeDocument/2006/relationships/hyperlink" Target="http://www.filmsound.org/articles/horrorsound/horrorsound.htm" TargetMode="External"/><Relationship Id="rId26" Type="http://schemas.openxmlformats.org/officeDocument/2006/relationships/hyperlink" Target="http://www.filmsound.org/articles/horrorsound/horrorsound.htm" TargetMode="External"/><Relationship Id="rId27" Type="http://schemas.openxmlformats.org/officeDocument/2006/relationships/hyperlink" Target="http://www.filmsound.org/articles/horrorsound/horrorsound.htm" TargetMode="External"/><Relationship Id="rId28" Type="http://schemas.openxmlformats.org/officeDocument/2006/relationships/hyperlink" Target="http://www.filmsound.org/articles/horrorsound/horrorsound.htm" TargetMode="External"/><Relationship Id="rId29" Type="http://schemas.openxmlformats.org/officeDocument/2006/relationships/hyperlink" Target="http://www.filmsound.org/articles/horrorsound/horrorsound.htm" TargetMode="External"/><Relationship Id="rId30" Type="http://schemas.openxmlformats.org/officeDocument/2006/relationships/hyperlink" Target="http://www.filmsound.org/articles/horrorsound/horrorsound.htm" TargetMode="External"/><Relationship Id="rId31" Type="http://schemas.openxmlformats.org/officeDocument/2006/relationships/hyperlink" Target="http://www.filmsound.org/articles/horrorsound/horrorsound.htm" TargetMode="External"/><Relationship Id="rId32" Type="http://schemas.openxmlformats.org/officeDocument/2006/relationships/hyperlink" Target="http://www.filmsound.org/articles/horrorsound/horrorsound.htm" TargetMode="External"/><Relationship Id="rId33" Type="http://schemas.openxmlformats.org/officeDocument/2006/relationships/hyperlink" Target="http://www.filmsound.org/articles/horrorsound/horrorsound.htm" TargetMode="External"/><Relationship Id="rId34" Type="http://schemas.openxmlformats.org/officeDocument/2006/relationships/hyperlink" Target="http://www.filmsound.org/articles/horrorsound/horrorsound.htm" TargetMode="External"/><Relationship Id="rId35" Type="http://schemas.openxmlformats.org/officeDocument/2006/relationships/hyperlink" Target="http://encyclopedia.thefreedictionary.com/sound%20effect" TargetMode="External"/><Relationship Id="rId36" Type="http://schemas.openxmlformats.org/officeDocument/2006/relationships/hyperlink" Target="http://encyclopedia.thefreedictionary.com/sound%20effect" TargetMode="External"/><Relationship Id="rId37" Type="http://schemas.openxmlformats.org/officeDocument/2006/relationships/hyperlink" Target="http://encyclopedia.thefreedictionary.com/sound%20effect" TargetMode="External"/><Relationship Id="rId38" Type="http://schemas.openxmlformats.org/officeDocument/2006/relationships/hyperlink" Target="http://encyclopedia.thefreedictionary.com/sound%20effect" TargetMode="External"/><Relationship Id="rId39" Type="http://schemas.openxmlformats.org/officeDocument/2006/relationships/hyperlink" Target="http://encyclopedia.thefreedictionary.com/sound%20effect" TargetMode="External"/><Relationship Id="rId40" Type="http://schemas.openxmlformats.org/officeDocument/2006/relationships/hyperlink" Target="http://encyclopedia.thefreedictionary.com/sound%20effect" TargetMode="External"/><Relationship Id="rId41" Type="http://schemas.openxmlformats.org/officeDocument/2006/relationships/hyperlink" Target="http://encyclopedia.thefreedictionary.com/sound%20effect" TargetMode="External"/><Relationship Id="rId42" Type="http://schemas.openxmlformats.org/officeDocument/2006/relationships/hyperlink" Target="http://encyclopedia.thefreedictionary.com/sound%20effect" TargetMode="External"/><Relationship Id="rId43" Type="http://schemas.openxmlformats.org/officeDocument/2006/relationships/hyperlink" Target="http://encyclopedia.thefreedictionary.com/sound%20effect" TargetMode="External"/><Relationship Id="rId44" Type="http://schemas.openxmlformats.org/officeDocument/2006/relationships/hyperlink" Target="http://encyclopedia.thefreedictionary.com/sound%20effect" TargetMode="External"/><Relationship Id="rId45" Type="http://schemas.openxmlformats.org/officeDocument/2006/relationships/hyperlink" Target="http://encyclopedia.thefreedictionary.com/sound%20effect" TargetMode="External"/><Relationship Id="rId46" Type="http://schemas.openxmlformats.org/officeDocument/2006/relationships/hyperlink" Target="http://encyclopedia.thefreedictionary.com/sound%20effect" TargetMode="External"/><Relationship Id="rId47" Type="http://schemas.openxmlformats.org/officeDocument/2006/relationships/hyperlink" Target="http://encyclopedia.thefreedictionary.com/sound%20effect" TargetMode="External"/><Relationship Id="rId48" Type="http://schemas.openxmlformats.org/officeDocument/2006/relationships/hyperlink" Target="http://encyclopedia.thefreedictionary.com/sound%20effect" TargetMode="External"/><Relationship Id="rId49" Type="http://schemas.openxmlformats.org/officeDocument/2006/relationships/hyperlink" Target="http://www.wordiq.com/definition/Sound_film" TargetMode="External"/><Relationship Id="rId50" Type="http://schemas.openxmlformats.org/officeDocument/2006/relationships/hyperlink" Target="http://www.wordiq.com/definition/Sound_film" TargetMode="External"/><Relationship Id="rId51" Type="http://schemas.openxmlformats.org/officeDocument/2006/relationships/hyperlink" Target="http://www.wordiq.com/definition/Sound_film" TargetMode="External"/><Relationship Id="rId52" Type="http://schemas.openxmlformats.org/officeDocument/2006/relationships/hyperlink" Target="http://www.wordiq.com/definition/Sound_film" TargetMode="External"/><Relationship Id="rId53" Type="http://schemas.openxmlformats.org/officeDocument/2006/relationships/hyperlink" Target="http://www.wordiq.com/definition/Sound_film" TargetMode="External"/><Relationship Id="rId54" Type="http://schemas.openxmlformats.org/officeDocument/2006/relationships/hyperlink" Target="http://www.wordiq.com/definition/Sound_film" TargetMode="External"/><Relationship Id="rId55" Type="http://schemas.openxmlformats.org/officeDocument/2006/relationships/hyperlink" Target="http://www.wordiq.com/definition/Sound_film" TargetMode="External"/><Relationship Id="rId56" Type="http://schemas.openxmlformats.org/officeDocument/2006/relationships/hyperlink" Target="http://www.wordiq.com/definition/Sound_film" TargetMode="External"/><Relationship Id="rId57" Type="http://schemas.openxmlformats.org/officeDocument/2006/relationships/hyperlink" Target="http://www.wordiq.com/definition/Sound_film" TargetMode="External"/><Relationship Id="rId58" Type="http://schemas.openxmlformats.org/officeDocument/2006/relationships/hyperlink" Target="http://www.wordiq.com/definition/Sound_film" TargetMode="External"/><Relationship Id="rId59" Type="http://schemas.openxmlformats.org/officeDocument/2006/relationships/hyperlink" Target="http://www.music-center.com.br/midi_11.htm" TargetMode="External"/><Relationship Id="rId60" Type="http://schemas.openxmlformats.org/officeDocument/2006/relationships/hyperlink" Target="http://www.music-center.com.br/midi_11.htm" TargetMode="External"/><Relationship Id="rId61" Type="http://schemas.openxmlformats.org/officeDocument/2006/relationships/hyperlink" Target="http://www.music-center.com.br/midi_11.htm" TargetMode="External"/><Relationship Id="rId62" Type="http://schemas.openxmlformats.org/officeDocument/2006/relationships/hyperlink" Target="http://www.music-center.com.br/midi_11.htm" TargetMode="External"/><Relationship Id="rId63" Type="http://schemas.openxmlformats.org/officeDocument/2006/relationships/hyperlink" Target="http://www.music-center.com.br/midi_11.htm" TargetMode="External"/><Relationship Id="rId64" Type="http://schemas.openxmlformats.org/officeDocument/2006/relationships/hyperlink" Target="http://www.music-center.com.br/midi_11.htm" TargetMode="External"/><Relationship Id="rId65" Type="http://schemas.openxmlformats.org/officeDocument/2006/relationships/hyperlink" Target="http://www.music-center.com.br/midi_11.htm" TargetMode="External"/><Relationship Id="rId66" Type="http://schemas.openxmlformats.org/officeDocument/2006/relationships/hyperlink" Target="http://www.music-center.com.br/midi_11.htm" TargetMode="External"/><Relationship Id="rId67" Type="http://schemas.openxmlformats.org/officeDocument/2006/relationships/hyperlink" Target="http://www.music-center.com.br/midi_11.htm" TargetMode="External"/><Relationship Id="rId68" Type="http://schemas.openxmlformats.org/officeDocument/2006/relationships/hyperlink" Target="http://www.music-center.com.br/midi_11.htm" TargetMode="External"/><Relationship Id="rId69" Type="http://schemas.openxmlformats.org/officeDocument/2006/relationships/hyperlink" Target="http://www.music-center.com.br/midi_11.htm" TargetMode="External"/><Relationship Id="rId70" Type="http://schemas.openxmlformats.org/officeDocument/2006/relationships/hyperlink" Target="http://www.music-center.com.br/midi_11.htm" TargetMode="External"/><Relationship Id="rId71" Type="http://schemas.openxmlformats.org/officeDocument/2006/relationships/hyperlink" Target="http://www.sobiografias.hpg.ig.com.br/LeeDeFor.html" TargetMode="External"/><Relationship Id="rId72" Type="http://schemas.openxmlformats.org/officeDocument/2006/relationships/hyperlink" Target="http://www.sobiografias.hpg.ig.com.br/LeeDeFor.html" TargetMode="External"/><Relationship Id="rId73" Type="http://schemas.openxmlformats.org/officeDocument/2006/relationships/hyperlink" Target="http://www.sobiografias.hpg.ig.com.br/LeeDeFor.html" TargetMode="External"/><Relationship Id="rId74" Type="http://schemas.openxmlformats.org/officeDocument/2006/relationships/hyperlink" Target="http://www.sobiografias.hpg.ig.com.br/LeeDeFor.html" TargetMode="External"/><Relationship Id="rId75" Type="http://schemas.openxmlformats.org/officeDocument/2006/relationships/hyperlink" Target="http://www.sobiografias.hpg.ig.com.br/LeeDeFor.html" TargetMode="External"/><Relationship Id="rId76" Type="http://schemas.openxmlformats.org/officeDocument/2006/relationships/hyperlink" Target="http://www.sobiografias.hpg.ig.com.br/LeeDeFor.html" TargetMode="External"/><Relationship Id="rId77" Type="http://schemas.openxmlformats.org/officeDocument/2006/relationships/hyperlink" Target="http://www.sobiografias.hpg.ig.com.br/LeeDeFor.html" TargetMode="External"/><Relationship Id="rId78" Type="http://schemas.openxmlformats.org/officeDocument/2006/relationships/hyperlink" Target="http://www.sobiografias.hpg.ig.com.br/LeeDeFor.html" TargetMode="External"/><Relationship Id="rId79" Type="http://schemas.openxmlformats.org/officeDocument/2006/relationships/hyperlink" Target="http://www.sobiografias.hpg.ig.com.br/LeeDeFor.html" TargetMode="External"/><Relationship Id="rId80" Type="http://schemas.openxmlformats.org/officeDocument/2006/relationships/hyperlink" Target="http://www.sobiografias.hpg.ig.com.br/LeeDeFor.html" TargetMode="External"/><Relationship Id="rId81" Type="http://schemas.openxmlformats.org/officeDocument/2006/relationships/hyperlink" Target="http://www.sobiografias.hpg.ig.com.br/LeeDeFor.html" TargetMode="External"/><Relationship Id="rId82" Type="http://schemas.openxmlformats.org/officeDocument/2006/relationships/hyperlink" Target="http://www.sobiografias.hpg.ig.com.br/LeeDeFor.html" TargetMode="External"/><Relationship Id="rId83" Type="http://schemas.openxmlformats.org/officeDocument/2006/relationships/hyperlink" Target="http://www.sobiografias.hpg.ig.com.br/LeeDeFor.html" TargetMode="External"/><Relationship Id="rId84" Type="http://schemas.openxmlformats.org/officeDocument/2006/relationships/hyperlink" Target="http://www.sobiografias.hpg.ig.com.br/LeeDeFor.html" TargetMode="External"/><Relationship Id="rId85" Type="http://schemas.openxmlformats.org/officeDocument/2006/relationships/hyperlink" Target="http://jbonline.terra.com.br/jseculo/1906.html" TargetMode="External"/><Relationship Id="rId86" Type="http://schemas.openxmlformats.org/officeDocument/2006/relationships/hyperlink" Target="http://jbonline.terra.com.br/jseculo/1906.html" TargetMode="External"/><Relationship Id="rId87" Type="http://schemas.openxmlformats.org/officeDocument/2006/relationships/hyperlink" Target="http://jbonline.terra.com.br/jseculo/1906.html" TargetMode="External"/><Relationship Id="rId88" Type="http://schemas.openxmlformats.org/officeDocument/2006/relationships/hyperlink" Target="http://jbonline.terra.com.br/jseculo/1906.html" TargetMode="External"/><Relationship Id="rId89" Type="http://schemas.openxmlformats.org/officeDocument/2006/relationships/hyperlink" Target="http://jbonline.terra.com.br/jseculo/1906.html" TargetMode="External"/><Relationship Id="rId90" Type="http://schemas.openxmlformats.org/officeDocument/2006/relationships/hyperlink" Target="http://jbonline.terra.com.br/jseculo/1906.html" TargetMode="External"/><Relationship Id="rId91" Type="http://schemas.openxmlformats.org/officeDocument/2006/relationships/hyperlink" Target="http://jbonline.terra.com.br/jseculo/1906.html" TargetMode="External"/><Relationship Id="rId92" Type="http://schemas.openxmlformats.org/officeDocument/2006/relationships/hyperlink" Target="http://jbonline.terra.com.br/jseculo/1906.html" TargetMode="External"/><Relationship Id="rId93" Type="http://schemas.openxmlformats.org/officeDocument/2006/relationships/hyperlink" Target="http://www.dvdcybercafe.com.br/cin_001a.jsp?publicacaoID=159" TargetMode="External"/><Relationship Id="rId94" Type="http://schemas.openxmlformats.org/officeDocument/2006/relationships/hyperlink" Target="http://www.dvdcybercafe.com.br/cin_001a.jsp?publicacaoID=159" TargetMode="External"/><Relationship Id="rId95" Type="http://schemas.openxmlformats.org/officeDocument/2006/relationships/hyperlink" Target="http://www.dvdcybercafe.com.br/cin_001a.jsp?publicacaoID=159" TargetMode="External"/><Relationship Id="rId96" Type="http://schemas.openxmlformats.org/officeDocument/2006/relationships/hyperlink" Target="http://www.dvdcybercafe.com.br/cin_001a.jsp?publicacaoID=159" TargetMode="External"/><Relationship Id="rId97" Type="http://schemas.openxmlformats.org/officeDocument/2006/relationships/hyperlink" Target="http://www.dvdcybercafe.com.br/cin_001a.jsp?publicacaoID=159" TargetMode="External"/><Relationship Id="rId98" Type="http://schemas.openxmlformats.org/officeDocument/2006/relationships/hyperlink" Target="http://www.dvdcybercafe.com.br/cin_001a.jsp?publicacaoID=159" TargetMode="External"/><Relationship Id="rId99" Type="http://schemas.openxmlformats.org/officeDocument/2006/relationships/hyperlink" Target="http://www.dvdcybercafe.com.br/cin_001a.jsp?publicacaoID=159" TargetMode="External"/><Relationship Id="rId100" Type="http://schemas.openxmlformats.org/officeDocument/2006/relationships/hyperlink" Target="http://www.dvdcybercafe.com.br/cin_001a.jsp?publicacaoID=159" TargetMode="External"/><Relationship Id="rId101" Type="http://schemas.openxmlformats.org/officeDocument/2006/relationships/hyperlink" Target="http://www.dvdcybercafe.com.br/cin_001a.jsp?publicacaoID=159" TargetMode="External"/><Relationship Id="rId102" Type="http://schemas.openxmlformats.org/officeDocument/2006/relationships/hyperlink" Target="http://www.dvdcybercafe.com.br/cin_001a.jsp?publicacaoID=159" TargetMode="External"/><Relationship Id="rId103" Type="http://schemas.openxmlformats.org/officeDocument/2006/relationships/hyperlink" Target="http://www.dvdcybercafe.com.br/cin_001a.jsp?publicacaoID=159" TargetMode="External"/><Relationship Id="rId104" Type="http://schemas.openxmlformats.org/officeDocument/2006/relationships/hyperlink" Target="http://www.dvdcybercafe.com.br/cin_001a.jsp?publicacaoID=159" TargetMode="External"/><Relationship Id="rId105" Type="http://schemas.openxmlformats.org/officeDocument/2006/relationships/hyperlink" Target="http://www.dvdcybercafe.com.br/cin_001a.jsp?publicacaoID=159" TargetMode="External"/><Relationship Id="rId106" Type="http://schemas.openxmlformats.org/officeDocument/2006/relationships/hyperlink" Target="http://www.mnemocine.com.br/cinema/somtextos/trilha.htm" TargetMode="External"/><Relationship Id="rId107" Type="http://schemas.openxmlformats.org/officeDocument/2006/relationships/hyperlink" Target="http://www.mnemocine.com.br/cinema/somtextos/trilha.htm" TargetMode="External"/><Relationship Id="rId108" Type="http://schemas.openxmlformats.org/officeDocument/2006/relationships/hyperlink" Target="http://www.mnemocine.com.br/cinema/somtextos/trilha.htm" TargetMode="External"/><Relationship Id="rId109" Type="http://schemas.openxmlformats.org/officeDocument/2006/relationships/hyperlink" Target="http://www.mnemocine.com.br/cinema/somtextos/trilha.htm" TargetMode="External"/><Relationship Id="rId110" Type="http://schemas.openxmlformats.org/officeDocument/2006/relationships/hyperlink" Target="http://www.mnemocine.com.br/cinema/somtextos/trilha.htm" TargetMode="External"/><Relationship Id="rId111" Type="http://schemas.openxmlformats.org/officeDocument/2006/relationships/hyperlink" Target="http://www.mnemocine.com.br/cinema/somtextos/trilha.htm" TargetMode="External"/><Relationship Id="rId112" Type="http://schemas.openxmlformats.org/officeDocument/2006/relationships/hyperlink" Target="http://www.mnemocine.com.br/cinema/somtextos/trilha.htm" TargetMode="External"/><Relationship Id="rId113" Type="http://schemas.openxmlformats.org/officeDocument/2006/relationships/hyperlink" Target="http://www.mnemocine.com.br/cinema/somtextos/trilha.htm" TargetMode="External"/><Relationship Id="rId114" Type="http://schemas.openxmlformats.org/officeDocument/2006/relationships/hyperlink" Target="http://www.mnemocine.com.br/cinema/somtextos/trilha.htm" TargetMode="External"/><Relationship Id="rId115" Type="http://schemas.openxmlformats.org/officeDocument/2006/relationships/hyperlink" Target="http://www.mnemocine.com.br/cinema/somtextos/trilha.htm" TargetMode="External"/><Relationship Id="rId116" Type="http://schemas.openxmlformats.org/officeDocument/2006/relationships/hyperlink" Target="http://www.cineplayers.com/index_especiais_importancia_som.htm" TargetMode="External"/><Relationship Id="rId117" Type="http://schemas.openxmlformats.org/officeDocument/2006/relationships/hyperlink" Target="http://www.cineplayers.com/index_especiais_importancia_som.htm" TargetMode="External"/><Relationship Id="rId118" Type="http://schemas.openxmlformats.org/officeDocument/2006/relationships/hyperlink" Target="http://www.cineplayers.com/index_especiais_importancia_som.htm" TargetMode="External"/><Relationship Id="rId119" Type="http://schemas.openxmlformats.org/officeDocument/2006/relationships/hyperlink" Target="http://www.cineplayers.com/index_especiais_importancia_som.htm" TargetMode="External"/><Relationship Id="rId120" Type="http://schemas.openxmlformats.org/officeDocument/2006/relationships/hyperlink" Target="http://www.cineplayers.com/index_especiais_importancia_som.htm" TargetMode="External"/><Relationship Id="rId121" Type="http://schemas.openxmlformats.org/officeDocument/2006/relationships/hyperlink" Target="http://www.cineplayers.com/index_especiais_importancia_som.htm" TargetMode="External"/><Relationship Id="rId122" Type="http://schemas.openxmlformats.org/officeDocument/2006/relationships/hyperlink" Target="http://www.cineplayers.com/index_especiais_importancia_som.htm" TargetMode="External"/><Relationship Id="rId123" Type="http://schemas.openxmlformats.org/officeDocument/2006/relationships/hyperlink" Target="http://www.cineplayers.com/index_especiais_importancia_som.htm" TargetMode="External"/><Relationship Id="rId124" Type="http://schemas.openxmlformats.org/officeDocument/2006/relationships/hyperlink" Target="http://www.cineplayers.com/index_especiais_importancia_som.htm" TargetMode="External"/><Relationship Id="rId125" Type="http://schemas.openxmlformats.org/officeDocument/2006/relationships/hyperlink" Target="http://www.cineplayers.com/index_especiais_importancia_som.htm" TargetMode="External"/><Relationship Id="rId126" Type="http://schemas.openxmlformats.org/officeDocument/2006/relationships/hyperlink" Target="http://www.bocc.ubi.pt/pag/penafria_som_e_doc.html" TargetMode="External"/><Relationship Id="rId127" Type="http://schemas.openxmlformats.org/officeDocument/2006/relationships/hyperlink" Target="http://www.bocc.ubi.pt/pag/penafria_som_e_doc.html" TargetMode="External"/><Relationship Id="rId128" Type="http://schemas.openxmlformats.org/officeDocument/2006/relationships/hyperlink" Target="http://www.bocc.ubi.pt/pag/penafria_som_e_doc.html" TargetMode="External"/><Relationship Id="rId129" Type="http://schemas.openxmlformats.org/officeDocument/2006/relationships/hyperlink" Target="http://www.bocc.ubi.pt/pag/penafria_som_e_doc.html" TargetMode="External"/><Relationship Id="rId130" Type="http://schemas.openxmlformats.org/officeDocument/2006/relationships/hyperlink" Target="http://www.bocc.ubi.pt/pag/penafria_som_e_doc.html" TargetMode="External"/><Relationship Id="rId131" Type="http://schemas.openxmlformats.org/officeDocument/2006/relationships/hyperlink" Target="http://www.bocc.ubi.pt/pag/penafria_som_e_doc.html" TargetMode="External"/><Relationship Id="rId132" Type="http://schemas.openxmlformats.org/officeDocument/2006/relationships/hyperlink" Target="http://www.bocc.ubi.pt/pag/penafria_som_e_doc.html" TargetMode="External"/><Relationship Id="rId133" Type="http://schemas.openxmlformats.org/officeDocument/2006/relationships/hyperlink" Target="http://www.bocc.ubi.pt/pag/penafria_som_e_doc.html" TargetMode="External"/><Relationship Id="rId134" Type="http://schemas.openxmlformats.org/officeDocument/2006/relationships/hyperlink" Target="http://www.bocc.ubi.pt/pag/penafria_som_e_doc.html" TargetMode="External"/><Relationship Id="rId135" Type="http://schemas.openxmlformats.org/officeDocument/2006/relationships/hyperlink" Target="http://www.bocc.ubi.pt/pag/penafria_som_e_doc.html" TargetMode="External"/><Relationship Id="rId136" Type="http://schemas.openxmlformats.org/officeDocument/2006/relationships/hyperlink" Target="http://www.bocc.ubi.pt/pag/penafria_som_e_doc.html" TargetMode="External"/><Relationship Id="rId137" Type="http://schemas.openxmlformats.org/officeDocument/2006/relationships/hyperlink" Target="http://www.bocc.ubi.pt/pag/penafria_som_e_doc.html" TargetMode="External"/><Relationship Id="rId138" Type="http://schemas.openxmlformats.org/officeDocument/2006/relationships/hyperlink" Target="http://www.bocc.ubi.pt/pag/penafria_som_e_doc.html" TargetMode="External"/><Relationship Id="rId139" Type="http://schemas.openxmlformats.org/officeDocument/2006/relationships/hyperlink" Target="http://www.bocc.ubi.pt/pag/penafria_som_e_doc.html" TargetMode="External"/><Relationship Id="rId14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Tahoma"/>
              </a:rPr>
              <a:t>Sonoplastia de Animações Gráfic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128760"/>
            <a:ext cx="693432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Emannuel Gomes Macêd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Fernando Raposo da Camara Silva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Marília Litwak Nev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{egm, frcs, mln2}@cin.ufpe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rofessor: Geber Ramalh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733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A tarefa de incluir os efeitos sonoros e música inicia-se após a montagem do filme (edição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Diálogos podem ou não ser gravados em tempo real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Os sons são gravados antes, durante ou após as tomadas de image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No acabamento final do filme (mixagem) obtém-se a equalização e sincronização audiovisual - imagem mais s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 Sonorização no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Breve histórico -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Os primeiros filmes foram realizados sem som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A projeção era acompanhada por pianistas, que improvisavam arranjos de músicas conhecidas conforme o andament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Breve Histórico -  Cinema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Nos primeiros filmes sonoros usava-se um gramofone para gravar o s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Desde 1928, a gravação sonora por procedimentos ópticos substituiu a gravação e reprodução em discos (vitafone)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A gravação direta na película denomina-se movieton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 em fil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Há uma classificação básica de elementos sonoro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Hard Sounds Effects (exs.: disparo de arma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Background (BG)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Foley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Design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Jogos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(gam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Essencialmente os mesmos efeitos utilizados nos fil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m projeto de som em games envolve duas etapa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Gravação dos sons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Incorporação dos sons de acordo com a interação no ambient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Diferença importante entre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games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 e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É muito difícil trabalhar o processo de sonorização da maneira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to-picture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em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Isso pode acarretar sérios problemas, pois as amostras individuais não são geradas diretamente no context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i="1" lang="pt-BR" sz="3200" spc="-1" strike="noStrike">
                <a:solidFill>
                  <a:srgbClr val="f8f8f8"/>
                </a:solidFill>
                <a:latin typeface="Verdana"/>
              </a:rPr>
              <a:t>The audio must fit the visuals</a:t>
            </a: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lgumas ferramentas usadas na sonoriz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WaveFra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Geralmente as ferramentas sonoras são uma plataforma completa, envolvendo um conjunto de hardware e softwar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Pro Tools - 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“Photoshop” de s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oderoso e premiado editor de Áudi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ossui uma versã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free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imitad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Normalmente a versão completa é vendida acoplada a um hardware especia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Pro Tools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Considerado “um estúdio completo no computado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Gravação, Edição e Mixagem de s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ada em vários filmes famosos, como “O Príncipe do Egito” (Disney), Matrix, dentre outr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WaveFr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mbiente que proporciona gravação, edição, mixagem, organização e armazenamento de áudio, com a promessa de alta qualidad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ado em pós-produções de áudio em animações gráfica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É quase que instintivo ao homem associar som à imagens e vice-versa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istoricamente, a associação entre música e imagem sempre fez parte do cotidiano das culturas mais divers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Estudaremos nesta apresentação como se dá o processo de sonorização de animações gráficas, em especial filmes e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games</a:t>
            </a: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studos de Caso: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OTR: The Two Towers (2002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HULK (2003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73320" y="3124080"/>
            <a:ext cx="3417840" cy="3007800"/>
            <a:chOff x="1273320" y="3124080"/>
            <a:chExt cx="3417840" cy="3007800"/>
          </a:xfrm>
        </p:grpSpPr>
        <p:pic>
          <p:nvPicPr>
            <p:cNvPr id="152" name="lotr2" descr=""/>
            <p:cNvPicPr/>
            <p:nvPr/>
          </p:nvPicPr>
          <p:blipFill>
            <a:blip r:embed="rId1"/>
            <a:stretch/>
          </p:blipFill>
          <p:spPr>
            <a:xfrm>
              <a:off x="1409760" y="3124080"/>
              <a:ext cx="304776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273320" y="567216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LOTR: The Two Towers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43360" y="3333600"/>
            <a:ext cx="3352680" cy="2436120"/>
            <a:chOff x="4743360" y="3333600"/>
            <a:chExt cx="3352680" cy="2436120"/>
          </a:xfrm>
        </p:grpSpPr>
        <p:pic>
          <p:nvPicPr>
            <p:cNvPr id="155" name="hulk1th" descr=""/>
            <p:cNvPicPr/>
            <p:nvPr/>
          </p:nvPicPr>
          <p:blipFill>
            <a:blip r:embed="rId2"/>
            <a:stretch/>
          </p:blipFill>
          <p:spPr>
            <a:xfrm>
              <a:off x="4743360" y="3333600"/>
              <a:ext cx="33526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823720" y="53100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HULK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he Two Tow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Vencedor do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Oscar 2003</a:t>
            </a: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 na categoria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Efeitos Sonor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Os efeitos de aúdio foram elaborados utilizando as descrições específicas dos livros de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 Tolki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Foi utilizado um “time” de poderosas plataformas para a pós-edição: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Euphonix System 5</a:t>
            </a: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,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Pro Tools</a:t>
            </a: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 e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Tascam MMR8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HUL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efeitos mais originais do filme foram construídos e editados foram feitos utilizand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Em algumas cenas como a cena da batalha no final, foram utilizados mais de 12 MMR8 (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  <a:ea typeface="Arial"/>
              </a:rPr>
              <a:t>Modular Multitrack Recorder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studos de Caso: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Ga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898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lanescape: Torm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OTR: Two To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91080" y="3276720"/>
            <a:ext cx="3409560" cy="2665800"/>
            <a:chOff x="4591080" y="3276720"/>
            <a:chExt cx="3409560" cy="26658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91080" y="3276720"/>
              <a:ext cx="340956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814280" y="5482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LOTR: Two Towers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19320" y="3219480"/>
            <a:ext cx="3246120" cy="2702880"/>
            <a:chOff x="1219320" y="3219480"/>
            <a:chExt cx="3246120" cy="2702880"/>
          </a:xfrm>
        </p:grpSpPr>
        <p:pic>
          <p:nvPicPr>
            <p:cNvPr id="167" name="Planescape_Torment" descr=""/>
            <p:cNvPicPr/>
            <p:nvPr/>
          </p:nvPicPr>
          <p:blipFill>
            <a:blip r:embed="rId2"/>
            <a:stretch/>
          </p:blipFill>
          <p:spPr>
            <a:xfrm>
              <a:off x="1219320" y="321948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68640" y="5462640"/>
              <a:ext cx="31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Planescape: Tormen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Planescape: Tor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Uma equipe de 12 designers e engenheiros de áudio participou deste proje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Aproximadamente 450 efeitos de ambiente em todo o jog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Cada cenário é imerso em sons de fundo e do ambiente, que se modificam a cada mudança no tempo do “dia” (looping ambient sound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Planetscape: Torment - Desenvolvim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so do ambiente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Mais de 1500 sons foram utilizados na pesquisa para criar bons efeit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Mixagem realizada na companhia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Interplay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, em </a:t>
            </a:r>
            <a:r>
              <a:rPr b="0" lang="pt-BR" sz="3200" spc="-1" strike="noStrike">
                <a:solidFill>
                  <a:srgbClr val="f8f8f8"/>
                </a:solidFill>
                <a:latin typeface="Arial"/>
                <a:ea typeface="Arial"/>
              </a:rPr>
              <a:t>Dolby Surround Sound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  <a:ea typeface="Arial"/>
              </a:rPr>
              <a:t>Cada criatura do jogo possui características sonoras únicas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wo Towers G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ou diversos efeitos sonoros, música e até mesmo vozes dos atores do próprio fil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m dos pontos mais difíceis é a música, pois ao contrário dos filmes, a trilha sonora de games é interativa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 sonorização deste game é adaptativa, de acordo com a ação do jog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wo Towers Game – Desenvolvimento da Sonoriz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Toda a trilha sonora d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foi editada no ambiente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Digital Performer 3.1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rodando em computadore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MAC G4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processamento dos sons utilizou o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lug-ins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RENAISSANCE EQUALIZER (EQ) e L1-ULTRAMAXIMIZ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nclusõ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Vimos nesta apresentação os principais conceitos do processo de sonorização de animações gráficas, com foco especial no cinema e nos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ga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Algumas ferramentas famosas foram mostradas, bem como a exibição de estudos de caso de sucesso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nclusõ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Os sons em animações gráficas fazem parte do clima direto na história, influenciando ou realçando os sentimentos que desejam ser passado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Porém não deve-se deixar que a obra musical seja tão grandiosa a ponto de obscurecer a obra visual, a história e os outros setores de uma animação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É preciso bastante bom senso e conhecimento do projeto em questão para realizar-se uma sonorização de qual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Uma visão psicológica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or definição, o som é um fenômeno físico que se transmite sob a forma de ondas, usualmente, através do ar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Mas é, também, um fenômeno psicofísico, pois essas ondas estimulam o nervo auditivo e são percepcionadas pelo córtex do cérebro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windworl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em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article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"/>
              </a:rPr>
              <a:t>soundeffect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6"/>
              </a:rPr>
              <a:t>cinemanet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7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0"/>
              </a:rPr>
              <a:t>etapasproducao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2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6"/>
              </a:rPr>
              <a:t>film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7"/>
              </a:rPr>
              <a:t>.org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8"/>
              </a:rPr>
              <a:t>article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0"/>
              </a:rPr>
              <a:t>horror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1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2"/>
              </a:rPr>
              <a:t>horror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4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5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6"/>
              </a:rPr>
              <a:t>encycloped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7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8"/>
              </a:rPr>
              <a:t>thefreedictionary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9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0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1"/>
              </a:rPr>
              <a:t>%20effect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2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3"/>
              </a:rPr>
              <a:t>encycloped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4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5"/>
              </a:rPr>
              <a:t>thefreedictionary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6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7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8"/>
              </a:rPr>
              <a:t>%20effect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glossário excelente sobre sonorização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9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0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2"/>
              </a:rPr>
              <a:t>wordiq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3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4"/>
              </a:rPr>
              <a:t>definition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5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6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7"/>
              </a:rPr>
              <a:t>_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8"/>
              </a:rPr>
              <a:t>fil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9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0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2"/>
              </a:rPr>
              <a:t>music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3"/>
              </a:rPr>
              <a:t>-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4"/>
              </a:rPr>
              <a:t>cente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5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6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7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8"/>
              </a:rPr>
              <a:t>mid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9"/>
              </a:rPr>
              <a:t>_11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0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1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2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4"/>
              </a:rPr>
              <a:t>sobiografia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6"/>
              </a:rPr>
              <a:t>hp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7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8"/>
              </a:rPr>
              <a:t>i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9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0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1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2"/>
              </a:rPr>
              <a:t>LeeDeFo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4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5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6"/>
              </a:rPr>
              <a:t>jbonlin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7"/>
              </a:rPr>
              <a:t>.terra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0"/>
              </a:rPr>
              <a:t>jseculo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1"/>
              </a:rPr>
              <a:t>/1906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2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6"/>
              </a:rPr>
              <a:t>dvdcybercaf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7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0"/>
              </a:rPr>
              <a:t>cin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1"/>
              </a:rPr>
              <a:t>_001a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2"/>
              </a:rPr>
              <a:t>jsp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3"/>
              </a:rPr>
              <a:t>?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4"/>
              </a:rPr>
              <a:t>publicacaoI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5"/>
              </a:rPr>
              <a:t>=159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 a origem do cinema falado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9"/>
              </a:rPr>
              <a:t>mnemocin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0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1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2"/>
              </a:rPr>
              <a:t>/cinema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3"/>
              </a:rPr>
              <a:t>somtexto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4"/>
              </a:rPr>
              <a:t>/trilha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5"/>
              </a:rPr>
              <a:t>htm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análise dos efeitos da trilha sonora nas pessoa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9"/>
              </a:rPr>
              <a:t>cineplayer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0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1"/>
              </a:rPr>
              <a:t>index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2"/>
              </a:rPr>
              <a:t>_especiais_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3"/>
              </a:rPr>
              <a:t>importanc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4"/>
              </a:rPr>
              <a:t>_s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5"/>
              </a:rPr>
              <a:t>htm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a importância do som no cinema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9"/>
              </a:rPr>
              <a:t>bocc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0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1"/>
              </a:rPr>
              <a:t>ub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2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3"/>
              </a:rPr>
              <a:t>pt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4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5"/>
              </a:rPr>
              <a:t>pa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6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7"/>
              </a:rPr>
              <a:t>penafr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8"/>
              </a:rPr>
              <a:t>_som_e_doc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9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gamasutra.com/features/19991220/clark_pfv.htm – o complicado processo de “casar” som e imagem  em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gam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filmsound.org/synctanks/ - processo de sonorização em film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mundorock.net/materias/coluna_henry/protools.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digidesign.com/ptfree/ - site do Pro Tools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free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waves.com/  - site da empresa responsável pelos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plug-ins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L1 e Renaissance EQ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music4games.net/f_twotowers_stormfrontstudios.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filmsound.org/game-audio/audio.html - Making Of do jogo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Planescape: Torment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llimeter.com/mag/video_hulk/index.html#sidebar (hulk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xonline.com/news/audio_sounds_behind_hulk/index.html (hulk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xonline.com/mag/audio_two_tow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lotr2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Uma visão psicológica...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312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O conjunto de sons de uma animação gráfica, se bem elaborado, colabora para a afinidade expectador-imagens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Exemplo: “O Chamado (The Ring)” - EUA, 2002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70040" y="5407200"/>
            <a:ext cx="7561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Porém uma sonorização inadequada quebra a interação entre a animação e quem a assiste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chamado" descr=""/>
          <p:cNvPicPr/>
          <p:nvPr/>
        </p:nvPicPr>
        <p:blipFill>
          <a:blip r:embed="rId1"/>
          <a:stretch/>
        </p:blipFill>
        <p:spPr>
          <a:xfrm>
            <a:off x="3738600" y="3429000"/>
            <a:ext cx="133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 Sonoplastia de Animações Gráf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 sonorização das animações gráficas é composta por três elementos: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Diálogos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Música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Efeitos sonor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três devem estar de acordo com o cenário no qual estão inseridos e em perfeito sincronism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Diálog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as falas dos personagens da animaçã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Mús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Compõe o que chamamo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trilha sonora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da animaçã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"O papel essencial da música é acentuar a emoção das imagens, é impressão sonora que reforça a impressão visual.“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Henri Colpi (compositor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riginados no teatro, Antiguidade Clássica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Também conhecidos como efeitos de áudi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sons artificialmente criados, aprimorados ou processad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usados em filmes,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s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, música e outras manifestações artística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Os efeitos sonoros devem constituir o acompanhamento normal das imagens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incronismo é imprescindível (ex.: chegada de um helicóptero sem o seu som característico e em seguida, com o som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1:17:59Z</dcterms:created>
  <dc:creator>mln2</dc:creator>
  <dc:description/>
  <dc:language>en-US</dc:language>
  <cp:lastModifiedBy>mln2</cp:lastModifiedBy>
  <dcterms:modified xsi:type="dcterms:W3CDTF">2004-08-20T12:59:33Z</dcterms:modified>
  <cp:revision>145</cp:revision>
  <dc:subject/>
  <dc:title>Sonoplastia de Animações Gráficas</dc:title>
</cp:coreProperties>
</file>