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6.png" ContentType="image/png"/>
  <Override PartName="/ppt/media/image7.jpeg" ContentType="image/jpe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0E989-0699-419F-B550-895F1C05F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84FA2-7362-44E4-98A9-BB0C11202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7C554-0E4B-43FE-97DE-6315526D2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18BB2-3443-486B-8522-4730B2595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DBAB8-4815-4EE9-BEA5-C9500946F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2C09F-5DFA-4C5D-B518-648973E84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6F191-7CD5-46DE-8443-B1ED437CF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C8EF0-8619-4705-AD1F-ABABE75E7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E9EF7-F95E-459C-B2C9-D4D2BEE64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76B70-1EA3-4242-9CF1-C8AEA2E05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854AA-5895-4228-A635-A20506F4E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DB544-78DE-4AED-8D27-C227731D5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257C5-57B5-46CB-A0C2-ACF2DB339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AA5A3-747D-4113-9571-6CA77C4A2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92292-38EA-4DC8-85DC-A5C703887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89831-BF4F-488A-B84C-2485A98A4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C7AD6-6EB9-4EF9-9C83-E6770E14E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7F964-A885-480B-9E95-89F23E3D6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78D0E-01A0-4CA1-9A7A-C6EFDC44A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FFD36-A74F-4FCE-B2DD-71AC03BBA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D03AC-DD94-402D-B3D8-E1A38CC8A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66F7F-F6D0-4F6E-8274-EDE504E84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7E03D-55A6-4F60-9E62-BB7150069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1057B-3F8F-443C-B6B2-5FB4793B9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17394-C97A-4D11-9300-D17FAB910DEB}" type="slidenum">
              <a:rPr b="0" lang="pt-BR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0C78D-F6BE-4D05-A821-46E02D83C660}" type="slidenum">
              <a:rPr b="0" lang="pt-BR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sandbox.parc.xerox.com/parctab/" TargetMode="External"/><Relationship Id="rId3" Type="http://schemas.openxmlformats.org/officeDocument/2006/relationships/hyperlink" Target="http://sandbox.parc.xerox.com/parctab/" TargetMode="External"/><Relationship Id="rId4" Type="http://schemas.openxmlformats.org/officeDocument/2006/relationships/hyperlink" Target="http://sandbox.parc.xerox.com/parctab/" TargetMode="External"/><Relationship Id="rId5" Type="http://schemas.openxmlformats.org/officeDocument/2006/relationships/hyperlink" Target="http://sandbox.parc.xerox.com/parctab/" TargetMode="External"/><Relationship Id="rId6" Type="http://schemas.openxmlformats.org/officeDocument/2006/relationships/hyperlink" Target="http://sandbox.parc.xerox.com/parctab/" TargetMode="External"/><Relationship Id="rId7" Type="http://schemas.openxmlformats.org/officeDocument/2006/relationships/hyperlink" Target="http://sandbox.parc.xerox.com/parctab/" TargetMode="External"/><Relationship Id="rId8" Type="http://schemas.openxmlformats.org/officeDocument/2006/relationships/hyperlink" Target="http://sandbox.parc.xerox.com/parctab/" TargetMode="External"/><Relationship Id="rId9" Type="http://schemas.openxmlformats.org/officeDocument/2006/relationships/image" Target="../media/image2.png"/><Relationship Id="rId10" Type="http://schemas.openxmlformats.org/officeDocument/2006/relationships/hyperlink" Target="http://www.ubiq.com/hypertext/weiser/UbiHome.html" TargetMode="External"/><Relationship Id="rId11" Type="http://schemas.openxmlformats.org/officeDocument/2006/relationships/hyperlink" Target="http://www.ubiq.com/hypertext/weiser/UbiHome.html" TargetMode="External"/><Relationship Id="rId12" Type="http://schemas.openxmlformats.org/officeDocument/2006/relationships/hyperlink" Target="http://www.ubiq.com/hypertext/weiser/UbiHome.html" TargetMode="External"/><Relationship Id="rId13" Type="http://schemas.openxmlformats.org/officeDocument/2006/relationships/hyperlink" Target="http://www.ubiq.com/hypertext/weiser/UbiHome.html" TargetMode="External"/><Relationship Id="rId14" Type="http://schemas.openxmlformats.org/officeDocument/2006/relationships/hyperlink" Target="http://www.ubiq.com/hypertext/weiser/UbiHome.html" TargetMode="External"/><Relationship Id="rId1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image" Target="../media/image4.wmf"/><Relationship Id="rId8" Type="http://schemas.openxmlformats.org/officeDocument/2006/relationships/image" Target="../media/image4.wmf"/><Relationship Id="rId9" Type="http://schemas.openxmlformats.org/officeDocument/2006/relationships/image" Target="../media/image4.wmf"/><Relationship Id="rId10" Type="http://schemas.openxmlformats.org/officeDocument/2006/relationships/image" Target="../media/image4.wmf"/><Relationship Id="rId1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image" Target="../media/image5.wmf"/><Relationship Id="rId7" Type="http://schemas.openxmlformats.org/officeDocument/2006/relationships/image" Target="../media/image5.wmf"/><Relationship Id="rId8" Type="http://schemas.openxmlformats.org/officeDocument/2006/relationships/image" Target="../media/image5.wmf"/><Relationship Id="rId9" Type="http://schemas.openxmlformats.org/officeDocument/2006/relationships/image" Target="../media/image5.wmf"/><Relationship Id="rId10" Type="http://schemas.openxmlformats.org/officeDocument/2006/relationships/image" Target="../media/image5.wmf"/><Relationship Id="rId1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image" Target="../media/image5.wmf"/><Relationship Id="rId7" Type="http://schemas.openxmlformats.org/officeDocument/2006/relationships/image" Target="../media/image5.wmf"/><Relationship Id="rId8" Type="http://schemas.openxmlformats.org/officeDocument/2006/relationships/image" Target="../media/image5.wmf"/><Relationship Id="rId9" Type="http://schemas.openxmlformats.org/officeDocument/2006/relationships/image" Target="../media/image5.wmf"/><Relationship Id="rId10" Type="http://schemas.openxmlformats.org/officeDocument/2006/relationships/image" Target="../media/image5.wmf"/><Relationship Id="rId1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Ubiqüida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762120" y="3885840"/>
            <a:ext cx="761976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André Paschoal (afsp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Josemando Sobral (jmtbs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Paulo Victor (pvsm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Vitor Guedes (vsg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555120"/>
            <a:ext cx="77724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660066"/>
                </a:solidFill>
                <a:latin typeface="Tahoma"/>
              </a:rPr>
              <a:t>Características da</a:t>
            </a:r>
            <a:br>
              <a:rPr sz="4000"/>
            </a:br>
            <a:r>
              <a:rPr b="0" lang="en-GB" sz="4000" spc="-1" strike="noStrike">
                <a:solidFill>
                  <a:srgbClr val="660066"/>
                </a:solidFill>
                <a:latin typeface="Tahoma"/>
              </a:rPr>
              <a:t>Computação Ubíqua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16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Acesso 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ahoma"/>
              </a:rPr>
              <a:t>Deve se ter acesso 24 horas por dia, 7 dias por semana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Mobilidad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ahoma"/>
              </a:rPr>
              <a:t>Disponível em qualquer lugar a qualquer hora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Universalidad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ahoma"/>
              </a:rPr>
              <a:t>Funcionalidades padrão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50784"/>
              <a:buBlip>
                <a:blip r:embed="rId4"/>
              </a:buBlip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Transparênci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ahoma"/>
              </a:rPr>
              <a:t>Não se deve perceber a presença dos computadore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50784"/>
              <a:buBlip>
                <a:blip r:embed="rId5"/>
              </a:buBlip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Personalizaçã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ahoma"/>
              </a:rPr>
              <a:t>Configuração pessoais devem estar disponívei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50784"/>
              <a:buBlip>
                <a:blip r:embed="rId6"/>
              </a:buBlip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Serviç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ahoma"/>
              </a:rPr>
              <a:t>Deve fornecer confiabilidade e segurança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555120"/>
            <a:ext cx="77724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660066"/>
                </a:solidFill>
                <a:latin typeface="Tahoma"/>
              </a:rPr>
              <a:t>Projetado para Atividades </a:t>
            </a:r>
            <a:br>
              <a:rPr sz="4000"/>
            </a:br>
            <a:r>
              <a:rPr b="0" lang="en-GB" sz="4000" spc="-1" strike="noStrike">
                <a:solidFill>
                  <a:srgbClr val="660066"/>
                </a:solidFill>
                <a:latin typeface="Tahoma"/>
              </a:rPr>
              <a:t>do Dia-a-Dia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37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Sem início ou fim claramente definido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Encerrar vs. flexibilidade e simplicidad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Interrupção é esperado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Projetado para continuar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Atividades Concorrent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Monitorar por uma oportunidad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Tempo é um importante discriminador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Interpretar eventos rapidament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29265"/>
              <a:buBlip>
                <a:blip r:embed="rId5"/>
              </a:buBlip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Necessidades de modelos associativo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Readquire informação de vários pontos de vist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7775640" cy="11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Tecnologias Wireles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457200" y="1684080"/>
            <a:ext cx="8224560" cy="4800600"/>
            <a:chOff x="457200" y="1684080"/>
            <a:chExt cx="8224560" cy="4800600"/>
          </a:xfrm>
        </p:grpSpPr>
        <p:sp>
          <p:nvSpPr>
            <p:cNvPr id="299" name=""/>
            <p:cNvSpPr/>
            <p:nvPr/>
          </p:nvSpPr>
          <p:spPr>
            <a:xfrm>
              <a:off x="457200" y="1687320"/>
              <a:ext cx="82234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57200" y="1992240"/>
              <a:ext cx="8223480" cy="1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57200" y="6481800"/>
              <a:ext cx="8223480" cy="1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380600" y="2450160"/>
              <a:ext cx="1440" cy="342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555280" y="1687320"/>
              <a:ext cx="1080" cy="479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57200" y="2450160"/>
              <a:ext cx="82234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380600" y="2752920"/>
              <a:ext cx="73011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1380600" y="3059280"/>
              <a:ext cx="7301160" cy="1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1380600" y="3404880"/>
              <a:ext cx="7301160" cy="1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380600" y="3665160"/>
              <a:ext cx="7301160" cy="1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380600" y="3971160"/>
              <a:ext cx="73011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380600" y="4275720"/>
              <a:ext cx="7301160" cy="1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1380600" y="4656240"/>
              <a:ext cx="73011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380600" y="4959000"/>
              <a:ext cx="73011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380600" y="5230080"/>
              <a:ext cx="73011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380600" y="5547240"/>
              <a:ext cx="73011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57200" y="5850360"/>
              <a:ext cx="8223480" cy="1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457200" y="6156360"/>
              <a:ext cx="8223480" cy="1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4401360" y="1687320"/>
              <a:ext cx="1440" cy="479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751800" y="1687320"/>
              <a:ext cx="1080" cy="479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V="1">
              <a:off x="457200" y="1684080"/>
              <a:ext cx="1080" cy="4800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8680680" y="1687320"/>
              <a:ext cx="1080" cy="479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321" name=""/>
          <p:cNvSpPr/>
          <p:nvPr/>
        </p:nvSpPr>
        <p:spPr>
          <a:xfrm>
            <a:off x="2557440" y="1689840"/>
            <a:ext cx="18464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3000"/>
              </a:lnSpc>
              <a:spcBef>
                <a:spcPts val="87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  <a:ea typeface="바탕"/>
              </a:rPr>
              <a:t>Bluetooth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403880" y="1689840"/>
            <a:ext cx="23508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3000"/>
              </a:lnSpc>
              <a:spcBef>
                <a:spcPts val="87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40458c"/>
                </a:solidFill>
                <a:latin typeface="Arial"/>
                <a:ea typeface="바탕"/>
              </a:rPr>
              <a:t>HomeRF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753240" y="1686960"/>
            <a:ext cx="19321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3000"/>
              </a:lnSpc>
              <a:spcBef>
                <a:spcPts val="87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  <a:ea typeface="바탕"/>
              </a:rPr>
              <a:t>IEEE 802.11(WLAN)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324" name=""/>
          <p:cNvGrpSpPr/>
          <p:nvPr/>
        </p:nvGrpSpPr>
        <p:grpSpPr>
          <a:xfrm>
            <a:off x="457200" y="1989000"/>
            <a:ext cx="2100240" cy="459000"/>
            <a:chOff x="457200" y="1989000"/>
            <a:chExt cx="2100240" cy="459000"/>
          </a:xfrm>
        </p:grpSpPr>
        <p:sp>
          <p:nvSpPr>
            <p:cNvPr id="325" name=""/>
            <p:cNvSpPr/>
            <p:nvPr/>
          </p:nvSpPr>
          <p:spPr>
            <a:xfrm>
              <a:off x="457200" y="1989000"/>
              <a:ext cx="2100240" cy="459000"/>
            </a:xfrm>
            <a:prstGeom prst="roundRect">
              <a:avLst>
                <a:gd name="adj" fmla="val 34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57200" y="2100960"/>
              <a:ext cx="2100240" cy="23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93000"/>
                </a:lnSpc>
                <a:spcBef>
                  <a:spcPts val="62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40458c"/>
                  </a:solidFill>
                  <a:latin typeface="Arial"/>
                  <a:ea typeface="바탕"/>
                </a:rPr>
                <a:t>Major Company</a:t>
              </a:r>
              <a:endParaRPr b="0" lang="en-US" sz="1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327" name=""/>
          <p:cNvGrpSpPr/>
          <p:nvPr/>
        </p:nvGrpSpPr>
        <p:grpSpPr>
          <a:xfrm>
            <a:off x="2738520" y="2065320"/>
            <a:ext cx="1496880" cy="355320"/>
            <a:chOff x="2738520" y="2065320"/>
            <a:chExt cx="1496880" cy="355320"/>
          </a:xfrm>
        </p:grpSpPr>
        <p:sp>
          <p:nvSpPr>
            <p:cNvPr id="328" name=""/>
            <p:cNvSpPr/>
            <p:nvPr/>
          </p:nvSpPr>
          <p:spPr>
            <a:xfrm>
              <a:off x="2738520" y="2065320"/>
              <a:ext cx="1496880" cy="353880"/>
            </a:xfrm>
            <a:prstGeom prst="roundRect">
              <a:avLst>
                <a:gd name="adj" fmla="val 449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38520" y="2065320"/>
              <a:ext cx="149544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40458c"/>
                  </a:solidFill>
                  <a:latin typeface="Arial"/>
                  <a:ea typeface="바탕"/>
                </a:rPr>
                <a:t>Ericsson, Intel, IBM</a:t>
              </a:r>
              <a:endParaRPr b="0" lang="en-US" sz="10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40458c"/>
                  </a:solidFill>
                  <a:latin typeface="Arial"/>
                  <a:ea typeface="바탕"/>
                </a:rPr>
                <a:t>Nokia, Toshiba</a:t>
              </a:r>
              <a:endParaRPr b="0" lang="en-US" sz="1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330" name=""/>
          <p:cNvGrpSpPr/>
          <p:nvPr/>
        </p:nvGrpSpPr>
        <p:grpSpPr>
          <a:xfrm>
            <a:off x="4572000" y="2021040"/>
            <a:ext cx="2095560" cy="426960"/>
            <a:chOff x="4572000" y="2021040"/>
            <a:chExt cx="2095560" cy="426960"/>
          </a:xfrm>
        </p:grpSpPr>
        <p:sp>
          <p:nvSpPr>
            <p:cNvPr id="331" name=""/>
            <p:cNvSpPr/>
            <p:nvPr/>
          </p:nvSpPr>
          <p:spPr>
            <a:xfrm>
              <a:off x="4572000" y="2021040"/>
              <a:ext cx="2095560" cy="426960"/>
            </a:xfrm>
            <a:prstGeom prst="roundRect">
              <a:avLst>
                <a:gd name="adj" fmla="val 370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4572000" y="2071080"/>
              <a:ext cx="2095560" cy="32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50000"/>
                </a:lnSpc>
                <a:spcBef>
                  <a:spcPts val="62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40458c"/>
                  </a:solidFill>
                  <a:latin typeface="Arial"/>
                  <a:ea typeface="바탕"/>
                </a:rPr>
                <a:t>Microsoft, Intel, IBM</a:t>
              </a:r>
              <a:endParaRPr b="0" lang="en-US" sz="10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50000"/>
                </a:lnSpc>
                <a:spcBef>
                  <a:spcPts val="62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40458c"/>
                  </a:solidFill>
                  <a:latin typeface="Arial"/>
                  <a:ea typeface="바탕"/>
                </a:rPr>
                <a:t>HP, Compaq</a:t>
              </a:r>
              <a:endParaRPr b="0" lang="en-US" sz="1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333" name=""/>
          <p:cNvSpPr/>
          <p:nvPr/>
        </p:nvSpPr>
        <p:spPr>
          <a:xfrm>
            <a:off x="6753240" y="2029320"/>
            <a:ext cx="1932120" cy="3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40458c"/>
                </a:solidFill>
                <a:latin typeface="Arial"/>
                <a:ea typeface="굴림"/>
              </a:rPr>
              <a:t>Harris,3COM,Lucent, Aironet,</a:t>
            </a: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57200" y="4007520"/>
            <a:ext cx="1008000" cy="2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3000"/>
              </a:lnSpc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40458c"/>
                </a:solidFill>
                <a:latin typeface="Arial"/>
                <a:ea typeface="바탕"/>
              </a:rPr>
              <a:t>Standard</a:t>
            </a: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1380960" y="2448000"/>
            <a:ext cx="1176480" cy="304560"/>
            <a:chOff x="1380960" y="2448000"/>
            <a:chExt cx="1176480" cy="304560"/>
          </a:xfrm>
        </p:grpSpPr>
        <p:sp>
          <p:nvSpPr>
            <p:cNvPr id="336" name=""/>
            <p:cNvSpPr/>
            <p:nvPr/>
          </p:nvSpPr>
          <p:spPr>
            <a:xfrm>
              <a:off x="1380960" y="2448000"/>
              <a:ext cx="1176480" cy="304560"/>
            </a:xfrm>
            <a:prstGeom prst="roundRect">
              <a:avLst>
                <a:gd name="adj" fmla="val 519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380960" y="2481840"/>
              <a:ext cx="1176480" cy="23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93000"/>
                </a:lnSpc>
                <a:spcBef>
                  <a:spcPts val="62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40458c"/>
                  </a:solidFill>
                  <a:latin typeface="Arial"/>
                  <a:ea typeface="바탕"/>
                </a:rPr>
                <a:t>Status</a:t>
              </a:r>
              <a:endParaRPr b="0" lang="en-US" sz="1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338" name=""/>
          <p:cNvGrpSpPr/>
          <p:nvPr/>
        </p:nvGrpSpPr>
        <p:grpSpPr>
          <a:xfrm>
            <a:off x="2903400" y="2508120"/>
            <a:ext cx="1106640" cy="244440"/>
            <a:chOff x="2903400" y="2508120"/>
            <a:chExt cx="1106640" cy="244440"/>
          </a:xfrm>
        </p:grpSpPr>
        <p:sp>
          <p:nvSpPr>
            <p:cNvPr id="339" name=""/>
            <p:cNvSpPr/>
            <p:nvPr/>
          </p:nvSpPr>
          <p:spPr>
            <a:xfrm>
              <a:off x="2903400" y="2508120"/>
              <a:ext cx="1106640" cy="244440"/>
            </a:xfrm>
            <a:prstGeom prst="roundRect">
              <a:avLst>
                <a:gd name="adj" fmla="val 64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903400" y="2512080"/>
              <a:ext cx="1106640" cy="23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93000"/>
                </a:lnSpc>
                <a:spcBef>
                  <a:spcPts val="62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40458c"/>
                  </a:solidFill>
                  <a:latin typeface="Arial"/>
                  <a:ea typeface="바탕"/>
                </a:rPr>
                <a:t>SIG 1.0b</a:t>
              </a:r>
              <a:endParaRPr b="0" lang="en-US" sz="1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341" name=""/>
          <p:cNvGrpSpPr/>
          <p:nvPr/>
        </p:nvGrpSpPr>
        <p:grpSpPr>
          <a:xfrm>
            <a:off x="4981680" y="2508120"/>
            <a:ext cx="1355760" cy="244440"/>
            <a:chOff x="4981680" y="2508120"/>
            <a:chExt cx="1355760" cy="244440"/>
          </a:xfrm>
        </p:grpSpPr>
        <p:sp>
          <p:nvSpPr>
            <p:cNvPr id="342" name=""/>
            <p:cNvSpPr/>
            <p:nvPr/>
          </p:nvSpPr>
          <p:spPr>
            <a:xfrm>
              <a:off x="4981680" y="2508120"/>
              <a:ext cx="1355760" cy="244440"/>
            </a:xfrm>
            <a:prstGeom prst="roundRect">
              <a:avLst>
                <a:gd name="adj" fmla="val 64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4981680" y="2512080"/>
              <a:ext cx="1355760" cy="23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93000"/>
                </a:lnSpc>
                <a:spcBef>
                  <a:spcPts val="62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40458c"/>
                  </a:solidFill>
                  <a:latin typeface="Arial"/>
                  <a:ea typeface="바탕"/>
                </a:rPr>
                <a:t>SWAP 1.11 (‘99.6)</a:t>
              </a:r>
              <a:endParaRPr b="0" lang="en-US" sz="1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344" name=""/>
          <p:cNvGrpSpPr/>
          <p:nvPr/>
        </p:nvGrpSpPr>
        <p:grpSpPr>
          <a:xfrm>
            <a:off x="7165800" y="2442240"/>
            <a:ext cx="984600" cy="376920"/>
            <a:chOff x="7165800" y="2442240"/>
            <a:chExt cx="984600" cy="376920"/>
          </a:xfrm>
        </p:grpSpPr>
        <p:sp>
          <p:nvSpPr>
            <p:cNvPr id="345" name=""/>
            <p:cNvSpPr/>
            <p:nvPr/>
          </p:nvSpPr>
          <p:spPr>
            <a:xfrm>
              <a:off x="7165800" y="2508120"/>
              <a:ext cx="982800" cy="244440"/>
            </a:xfrm>
            <a:prstGeom prst="roundRect">
              <a:avLst>
                <a:gd name="adj" fmla="val 64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167600" y="2442240"/>
              <a:ext cx="982800" cy="37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 algn="ctr">
                <a:lnSpc>
                  <a:spcPct val="93000"/>
                </a:lnSpc>
                <a:spcBef>
                  <a:spcPts val="62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40458c"/>
                  </a:solidFill>
                  <a:latin typeface="Arial"/>
                  <a:ea typeface="바탕"/>
                </a:rPr>
                <a:t>IEEE 802.11 Rev D10</a:t>
              </a:r>
              <a:endParaRPr b="0" lang="en-US" sz="1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347" name=""/>
          <p:cNvGrpSpPr/>
          <p:nvPr/>
        </p:nvGrpSpPr>
        <p:grpSpPr>
          <a:xfrm>
            <a:off x="1380960" y="2752560"/>
            <a:ext cx="1176480" cy="304920"/>
            <a:chOff x="1380960" y="2752560"/>
            <a:chExt cx="1176480" cy="304920"/>
          </a:xfrm>
        </p:grpSpPr>
        <p:sp>
          <p:nvSpPr>
            <p:cNvPr id="348" name=""/>
            <p:cNvSpPr/>
            <p:nvPr/>
          </p:nvSpPr>
          <p:spPr>
            <a:xfrm>
              <a:off x="1380960" y="2752560"/>
              <a:ext cx="1176480" cy="304920"/>
            </a:xfrm>
            <a:prstGeom prst="roundRect">
              <a:avLst>
                <a:gd name="adj" fmla="val 519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1380960" y="2786760"/>
              <a:ext cx="1176480" cy="23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93000"/>
                </a:lnSpc>
                <a:spcBef>
                  <a:spcPts val="62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40458c"/>
                  </a:solidFill>
                  <a:latin typeface="Arial"/>
                  <a:ea typeface="바탕"/>
                </a:rPr>
                <a:t>Technology</a:t>
              </a:r>
              <a:endParaRPr b="0" lang="en-US" sz="1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350" name=""/>
          <p:cNvGrpSpPr/>
          <p:nvPr/>
        </p:nvGrpSpPr>
        <p:grpSpPr>
          <a:xfrm>
            <a:off x="1380960" y="3071880"/>
            <a:ext cx="1176480" cy="291960"/>
            <a:chOff x="1380960" y="3071880"/>
            <a:chExt cx="1176480" cy="291960"/>
          </a:xfrm>
        </p:grpSpPr>
        <p:sp>
          <p:nvSpPr>
            <p:cNvPr id="351" name=""/>
            <p:cNvSpPr/>
            <p:nvPr/>
          </p:nvSpPr>
          <p:spPr>
            <a:xfrm>
              <a:off x="1380960" y="3071880"/>
              <a:ext cx="1176480" cy="291960"/>
            </a:xfrm>
            <a:prstGeom prst="roundRect">
              <a:avLst>
                <a:gd name="adj" fmla="val 54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1380960" y="3099240"/>
              <a:ext cx="1176480" cy="23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93000"/>
                </a:lnSpc>
                <a:spcBef>
                  <a:spcPts val="62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40458c"/>
                  </a:solidFill>
                  <a:latin typeface="Arial"/>
                  <a:ea typeface="바탕"/>
                </a:rPr>
                <a:t>Power</a:t>
              </a:r>
              <a:endParaRPr b="0" lang="en-US" sz="1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353" name=""/>
          <p:cNvGrpSpPr/>
          <p:nvPr/>
        </p:nvGrpSpPr>
        <p:grpSpPr>
          <a:xfrm>
            <a:off x="1380960" y="3434400"/>
            <a:ext cx="1176480" cy="235440"/>
            <a:chOff x="1380960" y="3434400"/>
            <a:chExt cx="1176480" cy="235440"/>
          </a:xfrm>
        </p:grpSpPr>
        <p:sp>
          <p:nvSpPr>
            <p:cNvPr id="354" name=""/>
            <p:cNvSpPr/>
            <p:nvPr/>
          </p:nvSpPr>
          <p:spPr>
            <a:xfrm>
              <a:off x="1380960" y="3436920"/>
              <a:ext cx="1176480" cy="230040"/>
            </a:xfrm>
            <a:prstGeom prst="roundRect">
              <a:avLst>
                <a:gd name="adj" fmla="val 694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380960" y="3434400"/>
              <a:ext cx="1176480" cy="23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93000"/>
                </a:lnSpc>
                <a:spcBef>
                  <a:spcPts val="62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40458c"/>
                  </a:solidFill>
                  <a:latin typeface="Arial"/>
                  <a:ea typeface="바탕"/>
                </a:rPr>
                <a:t>Symbol Rate</a:t>
              </a:r>
              <a:endParaRPr b="0" lang="en-US" sz="1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356" name=""/>
          <p:cNvGrpSpPr/>
          <p:nvPr/>
        </p:nvGrpSpPr>
        <p:grpSpPr>
          <a:xfrm>
            <a:off x="1380960" y="3665520"/>
            <a:ext cx="1090800" cy="304920"/>
            <a:chOff x="1380960" y="3665520"/>
            <a:chExt cx="1090800" cy="304920"/>
          </a:xfrm>
        </p:grpSpPr>
        <p:sp>
          <p:nvSpPr>
            <p:cNvPr id="357" name=""/>
            <p:cNvSpPr/>
            <p:nvPr/>
          </p:nvSpPr>
          <p:spPr>
            <a:xfrm>
              <a:off x="1380960" y="3665520"/>
              <a:ext cx="1090800" cy="304920"/>
            </a:xfrm>
            <a:prstGeom prst="roundRect">
              <a:avLst>
                <a:gd name="adj" fmla="val 519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380960" y="3701160"/>
              <a:ext cx="1090800" cy="23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93000"/>
                </a:lnSpc>
                <a:spcBef>
                  <a:spcPts val="62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40458c"/>
                  </a:solidFill>
                  <a:latin typeface="Arial"/>
                  <a:ea typeface="바탕"/>
                </a:rPr>
                <a:t>Range</a:t>
              </a:r>
              <a:endParaRPr b="0" lang="en-US" sz="1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359" name=""/>
          <p:cNvGrpSpPr/>
          <p:nvPr/>
        </p:nvGrpSpPr>
        <p:grpSpPr>
          <a:xfrm>
            <a:off x="1380960" y="3971880"/>
            <a:ext cx="1176480" cy="382680"/>
            <a:chOff x="1380960" y="3971880"/>
            <a:chExt cx="1176480" cy="382680"/>
          </a:xfrm>
        </p:grpSpPr>
        <p:sp>
          <p:nvSpPr>
            <p:cNvPr id="360" name=""/>
            <p:cNvSpPr/>
            <p:nvPr/>
          </p:nvSpPr>
          <p:spPr>
            <a:xfrm>
              <a:off x="1380960" y="3971880"/>
              <a:ext cx="1176480" cy="382680"/>
            </a:xfrm>
            <a:prstGeom prst="roundRect">
              <a:avLst>
                <a:gd name="adj" fmla="val 41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380960" y="4045680"/>
              <a:ext cx="1176480" cy="23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93000"/>
                </a:lnSpc>
                <a:spcBef>
                  <a:spcPts val="62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40458c"/>
                  </a:solidFill>
                  <a:latin typeface="Arial"/>
                  <a:ea typeface="바탕"/>
                </a:rPr>
                <a:t>Topology</a:t>
              </a:r>
              <a:endParaRPr b="0" lang="en-US" sz="1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362" name=""/>
          <p:cNvGrpSpPr/>
          <p:nvPr/>
        </p:nvGrpSpPr>
        <p:grpSpPr>
          <a:xfrm>
            <a:off x="1380960" y="4354560"/>
            <a:ext cx="1176480" cy="304920"/>
            <a:chOff x="1380960" y="4354560"/>
            <a:chExt cx="1176480" cy="304920"/>
          </a:xfrm>
        </p:grpSpPr>
        <p:sp>
          <p:nvSpPr>
            <p:cNvPr id="363" name=""/>
            <p:cNvSpPr/>
            <p:nvPr/>
          </p:nvSpPr>
          <p:spPr>
            <a:xfrm>
              <a:off x="1380960" y="4354560"/>
              <a:ext cx="1176480" cy="304920"/>
            </a:xfrm>
            <a:prstGeom prst="roundRect">
              <a:avLst>
                <a:gd name="adj" fmla="val 519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380960" y="4388400"/>
              <a:ext cx="1176480" cy="23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93000"/>
                </a:lnSpc>
                <a:spcBef>
                  <a:spcPts val="62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40458c"/>
                  </a:solidFill>
                  <a:latin typeface="Arial"/>
                  <a:ea typeface="바탕"/>
                </a:rPr>
                <a:t>Security</a:t>
              </a:r>
              <a:endParaRPr b="0" lang="en-US" sz="1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365" name=""/>
          <p:cNvGrpSpPr/>
          <p:nvPr/>
        </p:nvGrpSpPr>
        <p:grpSpPr>
          <a:xfrm>
            <a:off x="2840040" y="2811600"/>
            <a:ext cx="1349280" cy="245880"/>
            <a:chOff x="2840040" y="2811600"/>
            <a:chExt cx="1349280" cy="245880"/>
          </a:xfrm>
        </p:grpSpPr>
        <p:sp>
          <p:nvSpPr>
            <p:cNvPr id="366" name=""/>
            <p:cNvSpPr/>
            <p:nvPr/>
          </p:nvSpPr>
          <p:spPr>
            <a:xfrm>
              <a:off x="2840040" y="2811600"/>
              <a:ext cx="1349280" cy="245880"/>
            </a:xfrm>
            <a:prstGeom prst="roundRect">
              <a:avLst>
                <a:gd name="adj" fmla="val 64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2840040" y="2816640"/>
              <a:ext cx="1347840" cy="23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93000"/>
                </a:lnSpc>
                <a:spcBef>
                  <a:spcPts val="62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40458c"/>
                  </a:solidFill>
                  <a:latin typeface="Arial"/>
                  <a:ea typeface="바탕"/>
                </a:rPr>
                <a:t>RF 2.4GHz, FHSS</a:t>
              </a:r>
              <a:endParaRPr b="0" lang="en-US" sz="1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368" name=""/>
          <p:cNvGrpSpPr/>
          <p:nvPr/>
        </p:nvGrpSpPr>
        <p:grpSpPr>
          <a:xfrm>
            <a:off x="4915080" y="2811600"/>
            <a:ext cx="1350720" cy="245880"/>
            <a:chOff x="4915080" y="2811600"/>
            <a:chExt cx="1350720" cy="245880"/>
          </a:xfrm>
        </p:grpSpPr>
        <p:sp>
          <p:nvSpPr>
            <p:cNvPr id="369" name=""/>
            <p:cNvSpPr/>
            <p:nvPr/>
          </p:nvSpPr>
          <p:spPr>
            <a:xfrm>
              <a:off x="4915080" y="2811600"/>
              <a:ext cx="1350720" cy="245880"/>
            </a:xfrm>
            <a:prstGeom prst="roundRect">
              <a:avLst>
                <a:gd name="adj" fmla="val 64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915080" y="2816640"/>
              <a:ext cx="1349280" cy="23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93000"/>
                </a:lnSpc>
                <a:spcBef>
                  <a:spcPts val="62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40458c"/>
                  </a:solidFill>
                  <a:latin typeface="Arial"/>
                  <a:ea typeface="바탕"/>
                </a:rPr>
                <a:t>RF 2.4GHz, FHSS</a:t>
              </a:r>
              <a:endParaRPr b="0" lang="en-US" sz="1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371" name=""/>
          <p:cNvGrpSpPr/>
          <p:nvPr/>
        </p:nvGrpSpPr>
        <p:grpSpPr>
          <a:xfrm>
            <a:off x="6967440" y="2791080"/>
            <a:ext cx="1381320" cy="295200"/>
            <a:chOff x="6967440" y="2791080"/>
            <a:chExt cx="1381320" cy="295200"/>
          </a:xfrm>
        </p:grpSpPr>
        <p:sp>
          <p:nvSpPr>
            <p:cNvPr id="372" name=""/>
            <p:cNvSpPr/>
            <p:nvPr/>
          </p:nvSpPr>
          <p:spPr>
            <a:xfrm>
              <a:off x="6967440" y="2793960"/>
              <a:ext cx="1381320" cy="292320"/>
            </a:xfrm>
            <a:prstGeom prst="roundRect">
              <a:avLst>
                <a:gd name="adj" fmla="val 54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6969240" y="2791080"/>
              <a:ext cx="1379520" cy="29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40000"/>
                </a:lnSpc>
                <a:spcBef>
                  <a:spcPts val="62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40458c"/>
                  </a:solidFill>
                  <a:latin typeface="Arial"/>
                  <a:ea typeface="바탕"/>
                </a:rPr>
                <a:t>RF 2.4GHz</a:t>
              </a:r>
              <a:endParaRPr b="0" lang="en-US" sz="10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40000"/>
                </a:lnSpc>
                <a:spcBef>
                  <a:spcPts val="62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40458c"/>
                  </a:solidFill>
                  <a:latin typeface="Arial"/>
                  <a:ea typeface="바탕"/>
                </a:rPr>
                <a:t>FHSS, DSSS, irDA</a:t>
              </a:r>
              <a:endParaRPr b="0" lang="en-US" sz="1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374" name=""/>
          <p:cNvGrpSpPr/>
          <p:nvPr/>
        </p:nvGrpSpPr>
        <p:grpSpPr>
          <a:xfrm>
            <a:off x="2882880" y="3074400"/>
            <a:ext cx="1263600" cy="325080"/>
            <a:chOff x="2882880" y="3074400"/>
            <a:chExt cx="1263600" cy="325080"/>
          </a:xfrm>
        </p:grpSpPr>
        <p:sp>
          <p:nvSpPr>
            <p:cNvPr id="375" name=""/>
            <p:cNvSpPr/>
            <p:nvPr/>
          </p:nvSpPr>
          <p:spPr>
            <a:xfrm>
              <a:off x="2882880" y="3078000"/>
              <a:ext cx="1263600" cy="319320"/>
            </a:xfrm>
            <a:prstGeom prst="roundRect">
              <a:avLst>
                <a:gd name="adj" fmla="val 50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376" name=""/>
            <p:cNvGrpSpPr/>
            <p:nvPr/>
          </p:nvGrpSpPr>
          <p:grpSpPr>
            <a:xfrm>
              <a:off x="2882880" y="3074400"/>
              <a:ext cx="1263600" cy="325080"/>
              <a:chOff x="2882880" y="3074400"/>
              <a:chExt cx="1263600" cy="325080"/>
            </a:xfrm>
          </p:grpSpPr>
          <p:sp>
            <p:nvSpPr>
              <p:cNvPr id="377" name=""/>
              <p:cNvSpPr/>
              <p:nvPr/>
            </p:nvSpPr>
            <p:spPr>
              <a:xfrm>
                <a:off x="2882880" y="3078000"/>
                <a:ext cx="1263600" cy="319320"/>
              </a:xfrm>
              <a:prstGeom prst="roundRect">
                <a:avLst>
                  <a:gd name="adj" fmla="val 500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2882880" y="3074400"/>
                <a:ext cx="1263600" cy="325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50000"/>
                  </a:lnSpc>
                  <a:spcBef>
                    <a:spcPts val="624"/>
                  </a:spcBef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lang="en-GB" sz="1000" spc="-1" strike="noStrike">
                    <a:solidFill>
                      <a:srgbClr val="808080"/>
                    </a:solidFill>
                    <a:latin typeface="Arial"/>
                    <a:ea typeface="바탕"/>
                  </a:rPr>
                  <a:t>0 ~ 20 dBm</a:t>
                </a:r>
                <a:endParaRPr b="0" lang="en-US" sz="1000" spc="-1" strike="noStrike">
                  <a:solidFill>
                    <a:srgbClr val="40458c"/>
                  </a:solidFill>
                  <a:latin typeface="Times New Roman"/>
                </a:endParaRPr>
              </a:p>
              <a:p>
                <a:pPr algn="ctr">
                  <a:lnSpc>
                    <a:spcPct val="50000"/>
                  </a:lnSpc>
                  <a:spcBef>
                    <a:spcPts val="624"/>
                  </a:spcBef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lang="en-GB" sz="1000" spc="-1" strike="noStrike">
                    <a:solidFill>
                      <a:srgbClr val="808080"/>
                    </a:solidFill>
                    <a:latin typeface="Arial"/>
                    <a:ea typeface="바탕"/>
                  </a:rPr>
                  <a:t>(1mW ~ 100mW)</a:t>
                </a:r>
                <a:endParaRPr b="0" lang="en-US" sz="10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79" name=""/>
          <p:cNvGrpSpPr/>
          <p:nvPr/>
        </p:nvGrpSpPr>
        <p:grpSpPr>
          <a:xfrm>
            <a:off x="5086440" y="3069000"/>
            <a:ext cx="1001520" cy="376920"/>
            <a:chOff x="5086440" y="3069000"/>
            <a:chExt cx="1001520" cy="376920"/>
          </a:xfrm>
        </p:grpSpPr>
        <p:sp>
          <p:nvSpPr>
            <p:cNvPr id="380" name=""/>
            <p:cNvSpPr/>
            <p:nvPr/>
          </p:nvSpPr>
          <p:spPr>
            <a:xfrm>
              <a:off x="5086440" y="3095640"/>
              <a:ext cx="1001520" cy="322200"/>
            </a:xfrm>
            <a:prstGeom prst="roundRect">
              <a:avLst>
                <a:gd name="adj" fmla="val 491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086440" y="3069000"/>
              <a:ext cx="1000080" cy="37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93000"/>
                </a:lnSpc>
                <a:spcBef>
                  <a:spcPts val="62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40458c"/>
                  </a:solidFill>
                  <a:latin typeface="Arial"/>
                  <a:ea typeface="바탕"/>
                </a:rPr>
                <a:t>&lt; 20 dBm </a:t>
              </a:r>
              <a:br>
                <a:rPr sz="1000"/>
              </a:br>
              <a:r>
                <a:rPr b="1" lang="en-GB" sz="1000" spc="-1" strike="noStrike">
                  <a:solidFill>
                    <a:srgbClr val="40458c"/>
                  </a:solidFill>
                  <a:latin typeface="Arial"/>
                  <a:ea typeface="바탕"/>
                </a:rPr>
                <a:t>(100mW)</a:t>
              </a:r>
              <a:endParaRPr b="0" lang="en-US" sz="1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3214800" y="3422520"/>
            <a:ext cx="598320" cy="244440"/>
            <a:chOff x="3214800" y="3422520"/>
            <a:chExt cx="598320" cy="244440"/>
          </a:xfrm>
        </p:grpSpPr>
        <p:sp>
          <p:nvSpPr>
            <p:cNvPr id="383" name=""/>
            <p:cNvSpPr/>
            <p:nvPr/>
          </p:nvSpPr>
          <p:spPr>
            <a:xfrm>
              <a:off x="3214800" y="3422520"/>
              <a:ext cx="598320" cy="244440"/>
            </a:xfrm>
            <a:prstGeom prst="roundRect">
              <a:avLst>
                <a:gd name="adj" fmla="val 64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214800" y="3426480"/>
              <a:ext cx="596880" cy="23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93000"/>
                </a:lnSpc>
                <a:spcBef>
                  <a:spcPts val="62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40458c"/>
                  </a:solidFill>
                  <a:latin typeface="Arial"/>
                  <a:ea typeface="바탕"/>
                </a:rPr>
                <a:t>1MS/s</a:t>
              </a:r>
              <a:endParaRPr b="0" lang="en-US" sz="1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385" name=""/>
          <p:cNvSpPr/>
          <p:nvPr/>
        </p:nvSpPr>
        <p:spPr>
          <a:xfrm>
            <a:off x="5094360" y="3427920"/>
            <a:ext cx="1114200" cy="2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3000"/>
              </a:lnSpc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40458c"/>
                </a:solidFill>
                <a:latin typeface="Arial"/>
                <a:ea typeface="바탕"/>
              </a:rPr>
              <a:t>0.8/1.6 MS/s</a:t>
            </a: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7318440" y="3422520"/>
            <a:ext cx="676080" cy="244440"/>
            <a:chOff x="7318440" y="3422520"/>
            <a:chExt cx="676080" cy="244440"/>
          </a:xfrm>
        </p:grpSpPr>
        <p:sp>
          <p:nvSpPr>
            <p:cNvPr id="387" name=""/>
            <p:cNvSpPr/>
            <p:nvPr/>
          </p:nvSpPr>
          <p:spPr>
            <a:xfrm>
              <a:off x="7318440" y="3422520"/>
              <a:ext cx="676080" cy="244440"/>
            </a:xfrm>
            <a:prstGeom prst="roundRect">
              <a:avLst>
                <a:gd name="adj" fmla="val 64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7318440" y="3426480"/>
              <a:ext cx="676080" cy="23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93000"/>
                </a:lnSpc>
                <a:spcBef>
                  <a:spcPts val="62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40458c"/>
                  </a:solidFill>
                  <a:latin typeface="Arial"/>
                  <a:ea typeface="바탕"/>
                </a:rPr>
                <a:t>11MS/s</a:t>
              </a:r>
              <a:endParaRPr b="0" lang="en-US" sz="1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389" name=""/>
          <p:cNvGrpSpPr/>
          <p:nvPr/>
        </p:nvGrpSpPr>
        <p:grpSpPr>
          <a:xfrm>
            <a:off x="2933640" y="3687120"/>
            <a:ext cx="1163520" cy="325080"/>
            <a:chOff x="2933640" y="3687120"/>
            <a:chExt cx="1163520" cy="325080"/>
          </a:xfrm>
        </p:grpSpPr>
        <p:sp>
          <p:nvSpPr>
            <p:cNvPr id="390" name=""/>
            <p:cNvSpPr/>
            <p:nvPr/>
          </p:nvSpPr>
          <p:spPr>
            <a:xfrm>
              <a:off x="2933640" y="3689280"/>
              <a:ext cx="1163520" cy="322200"/>
            </a:xfrm>
            <a:prstGeom prst="roundRect">
              <a:avLst>
                <a:gd name="adj" fmla="val 491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2933640" y="3687120"/>
              <a:ext cx="1162080" cy="32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50000"/>
                </a:lnSpc>
                <a:spcBef>
                  <a:spcPts val="62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40458c"/>
                  </a:solidFill>
                  <a:latin typeface="Arial"/>
                  <a:ea typeface="바탕"/>
                </a:rPr>
                <a:t>10 m</a:t>
              </a:r>
              <a:endParaRPr b="0" lang="en-US" sz="10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50000"/>
                </a:lnSpc>
                <a:spcBef>
                  <a:spcPts val="62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40458c"/>
                  </a:solidFill>
                  <a:latin typeface="Arial"/>
                  <a:ea typeface="바탕"/>
                </a:rPr>
                <a:t>100m(Optional)</a:t>
              </a:r>
              <a:endParaRPr b="0" lang="en-US" sz="1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392" name=""/>
          <p:cNvGrpSpPr/>
          <p:nvPr/>
        </p:nvGrpSpPr>
        <p:grpSpPr>
          <a:xfrm>
            <a:off x="5195880" y="3703680"/>
            <a:ext cx="784080" cy="244440"/>
            <a:chOff x="5195880" y="3703680"/>
            <a:chExt cx="784080" cy="244440"/>
          </a:xfrm>
        </p:grpSpPr>
        <p:sp>
          <p:nvSpPr>
            <p:cNvPr id="393" name=""/>
            <p:cNvSpPr/>
            <p:nvPr/>
          </p:nvSpPr>
          <p:spPr>
            <a:xfrm>
              <a:off x="5195880" y="3703680"/>
              <a:ext cx="784080" cy="244440"/>
            </a:xfrm>
            <a:prstGeom prst="roundRect">
              <a:avLst>
                <a:gd name="adj" fmla="val 64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195880" y="3709080"/>
              <a:ext cx="782640" cy="23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93000"/>
                </a:lnSpc>
                <a:spcBef>
                  <a:spcPts val="62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40458c"/>
                  </a:solidFill>
                  <a:latin typeface="Arial"/>
                  <a:ea typeface="바탕"/>
                </a:rPr>
                <a:t>50/100 m</a:t>
              </a:r>
              <a:endParaRPr b="0" lang="en-US" sz="1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395" name=""/>
          <p:cNvSpPr/>
          <p:nvPr/>
        </p:nvSpPr>
        <p:spPr>
          <a:xfrm>
            <a:off x="7356600" y="3709080"/>
            <a:ext cx="625320" cy="2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3000"/>
              </a:lnSpc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40458c"/>
                </a:solidFill>
                <a:latin typeface="Arial"/>
                <a:ea typeface="바탕"/>
              </a:rPr>
              <a:t>30 m</a:t>
            </a: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3003480" y="3988080"/>
            <a:ext cx="1022400" cy="321840"/>
            <a:chOff x="3003480" y="3988080"/>
            <a:chExt cx="1022400" cy="321840"/>
          </a:xfrm>
        </p:grpSpPr>
        <p:sp>
          <p:nvSpPr>
            <p:cNvPr id="397" name=""/>
            <p:cNvSpPr/>
            <p:nvPr/>
          </p:nvSpPr>
          <p:spPr>
            <a:xfrm>
              <a:off x="3003480" y="3989520"/>
              <a:ext cx="1022400" cy="318960"/>
            </a:xfrm>
            <a:prstGeom prst="roundRect">
              <a:avLst>
                <a:gd name="adj" fmla="val 491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003480" y="3988080"/>
              <a:ext cx="1020960" cy="32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 algn="ctr">
                <a:lnSpc>
                  <a:spcPct val="50000"/>
                </a:lnSpc>
                <a:spcBef>
                  <a:spcPts val="62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40458c"/>
                  </a:solidFill>
                  <a:latin typeface="Arial"/>
                  <a:ea typeface="바탕"/>
                </a:rPr>
                <a:t>8 (Piconet),Point-to-Multi</a:t>
              </a:r>
              <a:endParaRPr b="0" lang="en-US" sz="1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399" name=""/>
          <p:cNvGrpSpPr/>
          <p:nvPr/>
        </p:nvGrpSpPr>
        <p:grpSpPr>
          <a:xfrm>
            <a:off x="2989440" y="4287960"/>
            <a:ext cx="1082520" cy="360360"/>
            <a:chOff x="2989440" y="4287960"/>
            <a:chExt cx="1082520" cy="360360"/>
          </a:xfrm>
        </p:grpSpPr>
        <p:sp>
          <p:nvSpPr>
            <p:cNvPr id="400" name=""/>
            <p:cNvSpPr/>
            <p:nvPr/>
          </p:nvSpPr>
          <p:spPr>
            <a:xfrm>
              <a:off x="2989440" y="4287960"/>
              <a:ext cx="1082520" cy="360360"/>
            </a:xfrm>
            <a:prstGeom prst="roundRect">
              <a:avLst>
                <a:gd name="adj" fmla="val 44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401" name=""/>
            <p:cNvGrpSpPr/>
            <p:nvPr/>
          </p:nvGrpSpPr>
          <p:grpSpPr>
            <a:xfrm>
              <a:off x="2989440" y="4287960"/>
              <a:ext cx="1082520" cy="360360"/>
              <a:chOff x="2989440" y="4287960"/>
              <a:chExt cx="1082520" cy="360360"/>
            </a:xfrm>
          </p:grpSpPr>
          <p:sp>
            <p:nvSpPr>
              <p:cNvPr id="402" name=""/>
              <p:cNvSpPr/>
              <p:nvPr/>
            </p:nvSpPr>
            <p:spPr>
              <a:xfrm>
                <a:off x="2989440" y="4287960"/>
                <a:ext cx="1082520" cy="360360"/>
              </a:xfrm>
              <a:prstGeom prst="roundRect">
                <a:avLst>
                  <a:gd name="adj" fmla="val 440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2989440" y="4304880"/>
                <a:ext cx="1081080" cy="325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50000"/>
                  </a:lnSpc>
                  <a:spcBef>
                    <a:spcPts val="624"/>
                  </a:spcBef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808080"/>
                    </a:solidFill>
                    <a:latin typeface="Arial"/>
                    <a:ea typeface="바탕"/>
                  </a:rPr>
                  <a:t>Authentication</a:t>
                </a:r>
                <a:endParaRPr b="0" lang="en-US" sz="1000" spc="-1" strike="noStrike">
                  <a:solidFill>
                    <a:srgbClr val="40458c"/>
                  </a:solidFill>
                  <a:latin typeface="Times New Roman"/>
                </a:endParaRPr>
              </a:p>
              <a:p>
                <a:pPr>
                  <a:lnSpc>
                    <a:spcPct val="50000"/>
                  </a:lnSpc>
                  <a:spcBef>
                    <a:spcPts val="624"/>
                  </a:spcBef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808080"/>
                    </a:solidFill>
                    <a:latin typeface="Arial"/>
                    <a:ea typeface="바탕"/>
                  </a:rPr>
                  <a:t>Encryption</a:t>
                </a:r>
                <a:endParaRPr b="0" lang="en-US" sz="10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04" name=""/>
          <p:cNvGrpSpPr/>
          <p:nvPr/>
        </p:nvGrpSpPr>
        <p:grpSpPr>
          <a:xfrm>
            <a:off x="5222880" y="4354560"/>
            <a:ext cx="722160" cy="244440"/>
            <a:chOff x="5222880" y="4354560"/>
            <a:chExt cx="722160" cy="244440"/>
          </a:xfrm>
        </p:grpSpPr>
        <p:sp>
          <p:nvSpPr>
            <p:cNvPr id="405" name=""/>
            <p:cNvSpPr/>
            <p:nvPr/>
          </p:nvSpPr>
          <p:spPr>
            <a:xfrm>
              <a:off x="5222880" y="4354560"/>
              <a:ext cx="722160" cy="244440"/>
            </a:xfrm>
            <a:prstGeom prst="roundRect">
              <a:avLst>
                <a:gd name="adj" fmla="val 64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222880" y="4358160"/>
              <a:ext cx="720720" cy="23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93000"/>
                </a:lnSpc>
                <a:spcBef>
                  <a:spcPts val="62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40458c"/>
                  </a:solidFill>
                  <a:latin typeface="Arial"/>
                  <a:ea typeface="바탕"/>
                </a:rPr>
                <a:t>Optional</a:t>
              </a:r>
              <a:endParaRPr b="0" lang="en-US" sz="1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407" name=""/>
          <p:cNvGrpSpPr/>
          <p:nvPr/>
        </p:nvGrpSpPr>
        <p:grpSpPr>
          <a:xfrm>
            <a:off x="7097760" y="4354560"/>
            <a:ext cx="1117440" cy="244440"/>
            <a:chOff x="7097760" y="4354560"/>
            <a:chExt cx="1117440" cy="244440"/>
          </a:xfrm>
        </p:grpSpPr>
        <p:sp>
          <p:nvSpPr>
            <p:cNvPr id="408" name=""/>
            <p:cNvSpPr/>
            <p:nvPr/>
          </p:nvSpPr>
          <p:spPr>
            <a:xfrm>
              <a:off x="7097760" y="4354560"/>
              <a:ext cx="1117440" cy="244440"/>
            </a:xfrm>
            <a:prstGeom prst="roundRect">
              <a:avLst>
                <a:gd name="adj" fmla="val 64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7097760" y="4358160"/>
              <a:ext cx="1117440" cy="23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93000"/>
                </a:lnSpc>
                <a:spcBef>
                  <a:spcPts val="62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40458c"/>
                  </a:solidFill>
                  <a:latin typeface="Arial"/>
                  <a:ea typeface="바탕"/>
                </a:rPr>
                <a:t>Optional</a:t>
              </a:r>
              <a:endParaRPr b="0" lang="en-US" sz="1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7102440" y="3093480"/>
            <a:ext cx="1001880" cy="325080"/>
            <a:chOff x="7102440" y="3093480"/>
            <a:chExt cx="1001880" cy="325080"/>
          </a:xfrm>
        </p:grpSpPr>
        <p:sp>
          <p:nvSpPr>
            <p:cNvPr id="411" name=""/>
            <p:cNvSpPr/>
            <p:nvPr/>
          </p:nvSpPr>
          <p:spPr>
            <a:xfrm>
              <a:off x="7102440" y="3095640"/>
              <a:ext cx="1001880" cy="322200"/>
            </a:xfrm>
            <a:prstGeom prst="roundRect">
              <a:avLst>
                <a:gd name="adj" fmla="val 491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7104240" y="3093480"/>
              <a:ext cx="1000080" cy="32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50000"/>
                </a:lnSpc>
                <a:spcBef>
                  <a:spcPts val="62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40458c"/>
                  </a:solidFill>
                  <a:latin typeface="Arial"/>
                  <a:ea typeface="바탕"/>
                </a:rPr>
                <a:t>&lt; 20 dBm</a:t>
              </a:r>
              <a:endParaRPr b="0" lang="en-US" sz="10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50000"/>
                </a:lnSpc>
                <a:spcBef>
                  <a:spcPts val="62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40458c"/>
                  </a:solidFill>
                  <a:latin typeface="Arial"/>
                  <a:ea typeface="바탕"/>
                </a:rPr>
                <a:t>(100mW)</a:t>
              </a:r>
              <a:endParaRPr b="0" lang="en-US" sz="1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413" name=""/>
          <p:cNvGrpSpPr/>
          <p:nvPr/>
        </p:nvGrpSpPr>
        <p:grpSpPr>
          <a:xfrm>
            <a:off x="5105520" y="3962520"/>
            <a:ext cx="1066320" cy="320400"/>
            <a:chOff x="5105520" y="3962520"/>
            <a:chExt cx="1066320" cy="320400"/>
          </a:xfrm>
        </p:grpSpPr>
        <p:sp>
          <p:nvSpPr>
            <p:cNvPr id="414" name=""/>
            <p:cNvSpPr/>
            <p:nvPr/>
          </p:nvSpPr>
          <p:spPr>
            <a:xfrm>
              <a:off x="5105520" y="3962520"/>
              <a:ext cx="1066320" cy="320400"/>
            </a:xfrm>
            <a:prstGeom prst="roundRect">
              <a:avLst>
                <a:gd name="adj" fmla="val 491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105520" y="3999600"/>
              <a:ext cx="1066320" cy="24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 algn="ctr">
                <a:lnSpc>
                  <a:spcPct val="50000"/>
                </a:lnSpc>
                <a:spcBef>
                  <a:spcPts val="62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40458c"/>
                  </a:solidFill>
                  <a:latin typeface="Arial"/>
                  <a:ea typeface="바탕"/>
                </a:rPr>
                <a:t>Peer to Peer, MS to BS</a:t>
              </a:r>
              <a:endParaRPr b="0" lang="en-US" sz="1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416" name=""/>
          <p:cNvGrpSpPr/>
          <p:nvPr/>
        </p:nvGrpSpPr>
        <p:grpSpPr>
          <a:xfrm>
            <a:off x="7086600" y="3962520"/>
            <a:ext cx="1142640" cy="320400"/>
            <a:chOff x="7086600" y="3962520"/>
            <a:chExt cx="1142640" cy="320400"/>
          </a:xfrm>
        </p:grpSpPr>
        <p:sp>
          <p:nvSpPr>
            <p:cNvPr id="417" name=""/>
            <p:cNvSpPr/>
            <p:nvPr/>
          </p:nvSpPr>
          <p:spPr>
            <a:xfrm>
              <a:off x="7086600" y="3962520"/>
              <a:ext cx="1142640" cy="320400"/>
            </a:xfrm>
            <a:prstGeom prst="roundRect">
              <a:avLst>
                <a:gd name="adj" fmla="val 491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7089840" y="3999960"/>
              <a:ext cx="1139040" cy="24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 algn="ctr">
                <a:lnSpc>
                  <a:spcPct val="50000"/>
                </a:lnSpc>
                <a:spcBef>
                  <a:spcPts val="62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40458c"/>
                  </a:solidFill>
                  <a:latin typeface="Arial"/>
                  <a:ea typeface="바탕"/>
                </a:rPr>
                <a:t>Peer to Peer, MS to BS</a:t>
              </a:r>
              <a:endParaRPr b="0" lang="en-US" sz="1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419" name=""/>
          <p:cNvGrpSpPr/>
          <p:nvPr/>
        </p:nvGrpSpPr>
        <p:grpSpPr>
          <a:xfrm>
            <a:off x="1380960" y="4667400"/>
            <a:ext cx="1176480" cy="296640"/>
            <a:chOff x="1380960" y="4667400"/>
            <a:chExt cx="1176480" cy="296640"/>
          </a:xfrm>
        </p:grpSpPr>
        <p:sp>
          <p:nvSpPr>
            <p:cNvPr id="420" name=""/>
            <p:cNvSpPr/>
            <p:nvPr/>
          </p:nvSpPr>
          <p:spPr>
            <a:xfrm>
              <a:off x="1380960" y="4667400"/>
              <a:ext cx="1176480" cy="296640"/>
            </a:xfrm>
            <a:prstGeom prst="roundRect">
              <a:avLst>
                <a:gd name="adj" fmla="val 53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380960" y="4696560"/>
              <a:ext cx="1176480" cy="23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93000"/>
                </a:lnSpc>
                <a:spcBef>
                  <a:spcPts val="62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40458c"/>
                  </a:solidFill>
                  <a:latin typeface="Arial"/>
                  <a:ea typeface="바탕"/>
                </a:rPr>
                <a:t>Freq HOP</a:t>
              </a:r>
              <a:endParaRPr b="0" lang="en-US" sz="1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422" name=""/>
          <p:cNvGrpSpPr/>
          <p:nvPr/>
        </p:nvGrpSpPr>
        <p:grpSpPr>
          <a:xfrm>
            <a:off x="2808360" y="4702680"/>
            <a:ext cx="1414440" cy="235440"/>
            <a:chOff x="2808360" y="4702680"/>
            <a:chExt cx="1414440" cy="235440"/>
          </a:xfrm>
        </p:grpSpPr>
        <p:sp>
          <p:nvSpPr>
            <p:cNvPr id="423" name=""/>
            <p:cNvSpPr/>
            <p:nvPr/>
          </p:nvSpPr>
          <p:spPr>
            <a:xfrm>
              <a:off x="2808360" y="4705200"/>
              <a:ext cx="1414440" cy="230400"/>
            </a:xfrm>
            <a:prstGeom prst="roundRect">
              <a:avLst>
                <a:gd name="adj" fmla="val 694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2808360" y="4702680"/>
              <a:ext cx="1414440" cy="23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93000"/>
                </a:lnSpc>
                <a:spcBef>
                  <a:spcPts val="62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40458c"/>
                  </a:solidFill>
                  <a:latin typeface="Arial"/>
                  <a:ea typeface="바탕"/>
                </a:rPr>
                <a:t>79ch, 1600 hop/sec</a:t>
              </a:r>
              <a:endParaRPr b="0" lang="en-US" sz="1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425" name=""/>
          <p:cNvGrpSpPr/>
          <p:nvPr/>
        </p:nvGrpSpPr>
        <p:grpSpPr>
          <a:xfrm>
            <a:off x="4956120" y="4689360"/>
            <a:ext cx="1258920" cy="246240"/>
            <a:chOff x="4956120" y="4689360"/>
            <a:chExt cx="1258920" cy="246240"/>
          </a:xfrm>
        </p:grpSpPr>
        <p:sp>
          <p:nvSpPr>
            <p:cNvPr id="426" name=""/>
            <p:cNvSpPr/>
            <p:nvPr/>
          </p:nvSpPr>
          <p:spPr>
            <a:xfrm>
              <a:off x="4956120" y="4689360"/>
              <a:ext cx="1258920" cy="246240"/>
            </a:xfrm>
            <a:prstGeom prst="roundRect">
              <a:avLst>
                <a:gd name="adj" fmla="val 64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4956120" y="4696560"/>
              <a:ext cx="1258920" cy="23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93000"/>
                </a:lnSpc>
                <a:spcBef>
                  <a:spcPts val="62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40458c"/>
                  </a:solidFill>
                  <a:latin typeface="Arial"/>
                  <a:ea typeface="바탕"/>
                </a:rPr>
                <a:t>75ch, 50 hop/sec</a:t>
              </a:r>
              <a:endParaRPr b="0" lang="en-US" sz="1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428" name=""/>
          <p:cNvGrpSpPr/>
          <p:nvPr/>
        </p:nvGrpSpPr>
        <p:grpSpPr>
          <a:xfrm>
            <a:off x="7027920" y="4689360"/>
            <a:ext cx="1257120" cy="246240"/>
            <a:chOff x="7027920" y="4689360"/>
            <a:chExt cx="1257120" cy="246240"/>
          </a:xfrm>
        </p:grpSpPr>
        <p:sp>
          <p:nvSpPr>
            <p:cNvPr id="429" name=""/>
            <p:cNvSpPr/>
            <p:nvPr/>
          </p:nvSpPr>
          <p:spPr>
            <a:xfrm>
              <a:off x="7027920" y="4689360"/>
              <a:ext cx="1257120" cy="246240"/>
            </a:xfrm>
            <a:prstGeom prst="roundRect">
              <a:avLst>
                <a:gd name="adj" fmla="val 64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7027920" y="4696560"/>
              <a:ext cx="1257120" cy="23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93000"/>
                </a:lnSpc>
                <a:spcBef>
                  <a:spcPts val="62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40458c"/>
                  </a:solidFill>
                  <a:latin typeface="Arial"/>
                  <a:ea typeface="바탕"/>
                </a:rPr>
                <a:t>79ch, 2.5hop/sec</a:t>
              </a:r>
              <a:endParaRPr b="0" lang="en-US" sz="1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431" name=""/>
          <p:cNvGrpSpPr/>
          <p:nvPr/>
        </p:nvGrpSpPr>
        <p:grpSpPr>
          <a:xfrm>
            <a:off x="457200" y="5886360"/>
            <a:ext cx="2100240" cy="274680"/>
            <a:chOff x="457200" y="5886360"/>
            <a:chExt cx="2100240" cy="274680"/>
          </a:xfrm>
        </p:grpSpPr>
        <p:sp>
          <p:nvSpPr>
            <p:cNvPr id="432" name=""/>
            <p:cNvSpPr/>
            <p:nvPr/>
          </p:nvSpPr>
          <p:spPr>
            <a:xfrm>
              <a:off x="457200" y="5886360"/>
              <a:ext cx="2100240" cy="274680"/>
            </a:xfrm>
            <a:prstGeom prst="roundRect">
              <a:avLst>
                <a:gd name="adj" fmla="val 579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457200" y="5906160"/>
              <a:ext cx="2100240" cy="23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93000"/>
                </a:lnSpc>
                <a:spcBef>
                  <a:spcPts val="62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40458c"/>
                  </a:solidFill>
                  <a:latin typeface="Arial"/>
                  <a:ea typeface="바탕"/>
                </a:rPr>
                <a:t>Application</a:t>
              </a:r>
              <a:endParaRPr b="0" lang="en-US" sz="1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434" name=""/>
          <p:cNvGrpSpPr/>
          <p:nvPr/>
        </p:nvGrpSpPr>
        <p:grpSpPr>
          <a:xfrm>
            <a:off x="2976480" y="5862600"/>
            <a:ext cx="1187640" cy="355680"/>
            <a:chOff x="2976480" y="5862600"/>
            <a:chExt cx="1187640" cy="355680"/>
          </a:xfrm>
        </p:grpSpPr>
        <p:sp>
          <p:nvSpPr>
            <p:cNvPr id="435" name=""/>
            <p:cNvSpPr/>
            <p:nvPr/>
          </p:nvSpPr>
          <p:spPr>
            <a:xfrm>
              <a:off x="2976480" y="5896080"/>
              <a:ext cx="1187640" cy="287280"/>
            </a:xfrm>
            <a:prstGeom prst="roundRect">
              <a:avLst>
                <a:gd name="adj" fmla="val 55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2976480" y="5862600"/>
              <a:ext cx="118764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 algn="ctr">
                <a:lnSpc>
                  <a:spcPct val="40000"/>
                </a:lnSpc>
                <a:spcBef>
                  <a:spcPts val="62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40458c"/>
                  </a:solidFill>
                  <a:latin typeface="Arial"/>
                  <a:ea typeface="바탕"/>
                </a:rPr>
                <a:t>Mobile Phone</a:t>
              </a:r>
              <a:endParaRPr b="0" lang="en-US" sz="10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40000"/>
                </a:lnSpc>
                <a:spcBef>
                  <a:spcPts val="62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40458c"/>
                  </a:solidFill>
                  <a:latin typeface="Arial"/>
                  <a:ea typeface="바탕"/>
                </a:rPr>
                <a:t>Mobile Computer</a:t>
              </a:r>
              <a:endParaRPr b="0" lang="en-US" sz="1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078520" y="5877000"/>
            <a:ext cx="1017360" cy="245880"/>
            <a:chOff x="5078520" y="5877000"/>
            <a:chExt cx="1017360" cy="245880"/>
          </a:xfrm>
        </p:grpSpPr>
        <p:sp>
          <p:nvSpPr>
            <p:cNvPr id="438" name=""/>
            <p:cNvSpPr/>
            <p:nvPr/>
          </p:nvSpPr>
          <p:spPr>
            <a:xfrm>
              <a:off x="5078520" y="5877000"/>
              <a:ext cx="1017360" cy="245880"/>
            </a:xfrm>
            <a:prstGeom prst="roundRect">
              <a:avLst>
                <a:gd name="adj" fmla="val 64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078520" y="5883840"/>
              <a:ext cx="1015920" cy="23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93000"/>
                </a:lnSpc>
                <a:spcBef>
                  <a:spcPts val="62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40458c"/>
                  </a:solidFill>
                  <a:latin typeface="Arial"/>
                  <a:ea typeface="바탕"/>
                </a:rPr>
                <a:t>Home WLAN</a:t>
              </a:r>
              <a:endParaRPr b="0" lang="en-US" sz="1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440" name=""/>
          <p:cNvGrpSpPr/>
          <p:nvPr/>
        </p:nvGrpSpPr>
        <p:grpSpPr>
          <a:xfrm>
            <a:off x="7354800" y="5877000"/>
            <a:ext cx="606600" cy="245880"/>
            <a:chOff x="7354800" y="5877000"/>
            <a:chExt cx="606600" cy="245880"/>
          </a:xfrm>
        </p:grpSpPr>
        <p:sp>
          <p:nvSpPr>
            <p:cNvPr id="441" name=""/>
            <p:cNvSpPr/>
            <p:nvPr/>
          </p:nvSpPr>
          <p:spPr>
            <a:xfrm>
              <a:off x="7354800" y="5877000"/>
              <a:ext cx="604800" cy="245880"/>
            </a:xfrm>
            <a:prstGeom prst="roundRect">
              <a:avLst>
                <a:gd name="adj" fmla="val 64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7356600" y="5883840"/>
              <a:ext cx="604800" cy="23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93000"/>
                </a:lnSpc>
                <a:spcBef>
                  <a:spcPts val="62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40458c"/>
                  </a:solidFill>
                  <a:latin typeface="Arial"/>
                  <a:ea typeface="바탕"/>
                </a:rPr>
                <a:t>WLAN</a:t>
              </a:r>
              <a:endParaRPr b="0" lang="en-US" sz="1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443" name=""/>
          <p:cNvGrpSpPr/>
          <p:nvPr/>
        </p:nvGrpSpPr>
        <p:grpSpPr>
          <a:xfrm>
            <a:off x="1380960" y="4970520"/>
            <a:ext cx="1176480" cy="298440"/>
            <a:chOff x="1380960" y="4970520"/>
            <a:chExt cx="1176480" cy="298440"/>
          </a:xfrm>
        </p:grpSpPr>
        <p:sp>
          <p:nvSpPr>
            <p:cNvPr id="444" name=""/>
            <p:cNvSpPr/>
            <p:nvPr/>
          </p:nvSpPr>
          <p:spPr>
            <a:xfrm>
              <a:off x="1380960" y="4970520"/>
              <a:ext cx="1176480" cy="298440"/>
            </a:xfrm>
            <a:prstGeom prst="roundRect">
              <a:avLst>
                <a:gd name="adj" fmla="val 52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1380960" y="5001120"/>
              <a:ext cx="1176480" cy="23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93000"/>
                </a:lnSpc>
                <a:spcBef>
                  <a:spcPts val="62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40458c"/>
                  </a:solidFill>
                  <a:latin typeface="Arial"/>
                  <a:ea typeface="바탕"/>
                </a:rPr>
                <a:t>MAC Protocol</a:t>
              </a:r>
              <a:endParaRPr b="0" lang="en-US" sz="1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446" name=""/>
          <p:cNvGrpSpPr/>
          <p:nvPr/>
        </p:nvGrpSpPr>
        <p:grpSpPr>
          <a:xfrm>
            <a:off x="2894040" y="4960440"/>
            <a:ext cx="1308240" cy="325080"/>
            <a:chOff x="2894040" y="4960440"/>
            <a:chExt cx="1308240" cy="325080"/>
          </a:xfrm>
        </p:grpSpPr>
        <p:sp>
          <p:nvSpPr>
            <p:cNvPr id="447" name=""/>
            <p:cNvSpPr/>
            <p:nvPr/>
          </p:nvSpPr>
          <p:spPr>
            <a:xfrm>
              <a:off x="2894040" y="4962600"/>
              <a:ext cx="1308240" cy="320760"/>
            </a:xfrm>
            <a:prstGeom prst="roundRect">
              <a:avLst>
                <a:gd name="adj" fmla="val 491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2894040" y="4960440"/>
              <a:ext cx="1308240" cy="32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50000"/>
                </a:lnSpc>
                <a:spcBef>
                  <a:spcPts val="62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40458c"/>
                  </a:solidFill>
                  <a:latin typeface="Arial"/>
                  <a:ea typeface="바탕"/>
                </a:rPr>
                <a:t>Link Management</a:t>
              </a:r>
              <a:endParaRPr b="0" lang="en-US" sz="10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50000"/>
                </a:lnSpc>
                <a:spcBef>
                  <a:spcPts val="62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40458c"/>
                  </a:solidFill>
                  <a:latin typeface="Arial"/>
                  <a:ea typeface="바탕"/>
                </a:rPr>
                <a:t>L2CAP</a:t>
              </a:r>
              <a:endParaRPr b="0" lang="en-US" sz="1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449" name=""/>
          <p:cNvGrpSpPr/>
          <p:nvPr/>
        </p:nvGrpSpPr>
        <p:grpSpPr>
          <a:xfrm>
            <a:off x="5221440" y="4962600"/>
            <a:ext cx="728640" cy="244440"/>
            <a:chOff x="5221440" y="4962600"/>
            <a:chExt cx="728640" cy="244440"/>
          </a:xfrm>
        </p:grpSpPr>
        <p:sp>
          <p:nvSpPr>
            <p:cNvPr id="450" name=""/>
            <p:cNvSpPr/>
            <p:nvPr/>
          </p:nvSpPr>
          <p:spPr>
            <a:xfrm>
              <a:off x="5221440" y="4962600"/>
              <a:ext cx="728640" cy="244440"/>
            </a:xfrm>
            <a:prstGeom prst="roundRect">
              <a:avLst>
                <a:gd name="adj" fmla="val 64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221440" y="4968000"/>
              <a:ext cx="728640" cy="23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93000"/>
                </a:lnSpc>
                <a:spcBef>
                  <a:spcPts val="62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40458c"/>
                  </a:solidFill>
                  <a:latin typeface="Arial"/>
                  <a:ea typeface="바탕"/>
                </a:rPr>
                <a:t>Ethernet</a:t>
              </a:r>
              <a:endParaRPr b="0" lang="en-US" sz="1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452" name=""/>
          <p:cNvGrpSpPr/>
          <p:nvPr/>
        </p:nvGrpSpPr>
        <p:grpSpPr>
          <a:xfrm>
            <a:off x="7292880" y="4962600"/>
            <a:ext cx="727200" cy="244440"/>
            <a:chOff x="7292880" y="4962600"/>
            <a:chExt cx="727200" cy="244440"/>
          </a:xfrm>
        </p:grpSpPr>
        <p:sp>
          <p:nvSpPr>
            <p:cNvPr id="453" name=""/>
            <p:cNvSpPr/>
            <p:nvPr/>
          </p:nvSpPr>
          <p:spPr>
            <a:xfrm>
              <a:off x="7292880" y="4962600"/>
              <a:ext cx="727200" cy="244440"/>
            </a:xfrm>
            <a:prstGeom prst="roundRect">
              <a:avLst>
                <a:gd name="adj" fmla="val 64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294680" y="4968000"/>
              <a:ext cx="725400" cy="23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93000"/>
                </a:lnSpc>
                <a:spcBef>
                  <a:spcPts val="62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40458c"/>
                  </a:solidFill>
                  <a:latin typeface="Arial"/>
                  <a:ea typeface="바탕"/>
                </a:rPr>
                <a:t>Ethernet</a:t>
              </a:r>
              <a:endParaRPr b="0" lang="en-US" sz="1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455" name=""/>
          <p:cNvGrpSpPr/>
          <p:nvPr/>
        </p:nvGrpSpPr>
        <p:grpSpPr>
          <a:xfrm>
            <a:off x="1380960" y="5231520"/>
            <a:ext cx="1176480" cy="235440"/>
            <a:chOff x="1380960" y="5231520"/>
            <a:chExt cx="1176480" cy="235440"/>
          </a:xfrm>
        </p:grpSpPr>
        <p:sp>
          <p:nvSpPr>
            <p:cNvPr id="456" name=""/>
            <p:cNvSpPr/>
            <p:nvPr/>
          </p:nvSpPr>
          <p:spPr>
            <a:xfrm>
              <a:off x="1380960" y="5275440"/>
              <a:ext cx="1176480" cy="145800"/>
            </a:xfrm>
            <a:prstGeom prst="roundRect">
              <a:avLst>
                <a:gd name="adj" fmla="val 1083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1380960" y="5231520"/>
              <a:ext cx="1176480" cy="23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93000"/>
                </a:lnSpc>
                <a:spcBef>
                  <a:spcPts val="62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40458c"/>
                  </a:solidFill>
                  <a:latin typeface="Arial"/>
                  <a:ea typeface="바탕"/>
                </a:rPr>
                <a:t>Voice</a:t>
              </a:r>
              <a:endParaRPr b="0" lang="en-US" sz="1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458" name=""/>
          <p:cNvGrpSpPr/>
          <p:nvPr/>
        </p:nvGrpSpPr>
        <p:grpSpPr>
          <a:xfrm>
            <a:off x="2894040" y="5280480"/>
            <a:ext cx="1247760" cy="294840"/>
            <a:chOff x="2894040" y="5280480"/>
            <a:chExt cx="1247760" cy="294840"/>
          </a:xfrm>
        </p:grpSpPr>
        <p:sp>
          <p:nvSpPr>
            <p:cNvPr id="459" name=""/>
            <p:cNvSpPr/>
            <p:nvPr/>
          </p:nvSpPr>
          <p:spPr>
            <a:xfrm>
              <a:off x="2894040" y="5283360"/>
              <a:ext cx="1247760" cy="288720"/>
            </a:xfrm>
            <a:prstGeom prst="roundRect">
              <a:avLst>
                <a:gd name="adj" fmla="val 54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2894040" y="5280480"/>
              <a:ext cx="1247760" cy="29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40000"/>
                </a:lnSpc>
                <a:spcBef>
                  <a:spcPts val="62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40458c"/>
                  </a:solidFill>
                  <a:latin typeface="Arial"/>
                  <a:ea typeface="바탕"/>
                </a:rPr>
                <a:t>3Ch, 64kb/ch</a:t>
              </a:r>
              <a:endParaRPr b="0" lang="en-US" sz="10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40000"/>
                </a:lnSpc>
                <a:spcBef>
                  <a:spcPts val="62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40458c"/>
                  </a:solidFill>
                  <a:latin typeface="Arial"/>
                  <a:ea typeface="바탕"/>
                </a:rPr>
                <a:t>CVSD, Log PCM</a:t>
              </a:r>
              <a:endParaRPr b="0" lang="en-US" sz="1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461" name=""/>
          <p:cNvGrpSpPr/>
          <p:nvPr/>
        </p:nvGrpSpPr>
        <p:grpSpPr>
          <a:xfrm>
            <a:off x="4815000" y="5280480"/>
            <a:ext cx="1550880" cy="294840"/>
            <a:chOff x="4815000" y="5280480"/>
            <a:chExt cx="1550880" cy="294840"/>
          </a:xfrm>
        </p:grpSpPr>
        <p:sp>
          <p:nvSpPr>
            <p:cNvPr id="462" name=""/>
            <p:cNvSpPr/>
            <p:nvPr/>
          </p:nvSpPr>
          <p:spPr>
            <a:xfrm>
              <a:off x="4815000" y="5283360"/>
              <a:ext cx="1550880" cy="288720"/>
            </a:xfrm>
            <a:prstGeom prst="roundRect">
              <a:avLst>
                <a:gd name="adj" fmla="val 54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4815000" y="5280480"/>
              <a:ext cx="1549440" cy="29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40000"/>
                </a:lnSpc>
                <a:spcBef>
                  <a:spcPts val="62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40458c"/>
                  </a:solidFill>
                  <a:latin typeface="Arial"/>
                  <a:ea typeface="바탕"/>
                </a:rPr>
                <a:t>DECT</a:t>
              </a:r>
              <a:endParaRPr b="0" lang="en-US" sz="10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40000"/>
                </a:lnSpc>
                <a:spcBef>
                  <a:spcPts val="62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40458c"/>
                  </a:solidFill>
                  <a:latin typeface="Arial"/>
                  <a:ea typeface="바탕"/>
                </a:rPr>
                <a:t>6Ch, 32Kbps ADPCM</a:t>
              </a:r>
              <a:endParaRPr b="0" lang="en-US" sz="1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464" name=""/>
          <p:cNvGrpSpPr/>
          <p:nvPr/>
        </p:nvGrpSpPr>
        <p:grpSpPr>
          <a:xfrm>
            <a:off x="7507440" y="5268960"/>
            <a:ext cx="298440" cy="244440"/>
            <a:chOff x="7507440" y="5268960"/>
            <a:chExt cx="298440" cy="244440"/>
          </a:xfrm>
        </p:grpSpPr>
        <p:sp>
          <p:nvSpPr>
            <p:cNvPr id="465" name=""/>
            <p:cNvSpPr/>
            <p:nvPr/>
          </p:nvSpPr>
          <p:spPr>
            <a:xfrm>
              <a:off x="7507440" y="5268960"/>
              <a:ext cx="296640" cy="244440"/>
            </a:xfrm>
            <a:prstGeom prst="roundRect">
              <a:avLst>
                <a:gd name="adj" fmla="val 64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7508880" y="5272560"/>
              <a:ext cx="297000" cy="23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93000"/>
                </a:lnSpc>
                <a:spcBef>
                  <a:spcPts val="62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40458c"/>
                  </a:solidFill>
                  <a:latin typeface="Arial"/>
                  <a:ea typeface="바탕"/>
                </a:rPr>
                <a:t>X</a:t>
              </a:r>
              <a:endParaRPr b="0" lang="en-US" sz="1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467" name=""/>
          <p:cNvGrpSpPr/>
          <p:nvPr/>
        </p:nvGrpSpPr>
        <p:grpSpPr>
          <a:xfrm>
            <a:off x="1465200" y="5574240"/>
            <a:ext cx="1092240" cy="235440"/>
            <a:chOff x="1465200" y="5574240"/>
            <a:chExt cx="1092240" cy="235440"/>
          </a:xfrm>
        </p:grpSpPr>
        <p:sp>
          <p:nvSpPr>
            <p:cNvPr id="468" name=""/>
            <p:cNvSpPr/>
            <p:nvPr/>
          </p:nvSpPr>
          <p:spPr>
            <a:xfrm>
              <a:off x="1465200" y="5581800"/>
              <a:ext cx="1092240" cy="218880"/>
            </a:xfrm>
            <a:prstGeom prst="roundRect">
              <a:avLst>
                <a:gd name="adj" fmla="val 72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1465200" y="5574240"/>
              <a:ext cx="1092240" cy="23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93000"/>
                </a:lnSpc>
                <a:spcBef>
                  <a:spcPts val="62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40458c"/>
                  </a:solidFill>
                  <a:latin typeface="Arial"/>
                  <a:ea typeface="바탕"/>
                </a:rPr>
                <a:t>Modulation</a:t>
              </a:r>
              <a:endParaRPr b="0" lang="en-US" sz="1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3073320" y="5587920"/>
            <a:ext cx="658800" cy="262080"/>
            <a:chOff x="3073320" y="5587920"/>
            <a:chExt cx="658800" cy="262080"/>
          </a:xfrm>
        </p:grpSpPr>
        <p:sp>
          <p:nvSpPr>
            <p:cNvPr id="471" name=""/>
            <p:cNvSpPr/>
            <p:nvPr/>
          </p:nvSpPr>
          <p:spPr>
            <a:xfrm>
              <a:off x="3073320" y="5587920"/>
              <a:ext cx="6588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073320" y="5604840"/>
              <a:ext cx="658800" cy="2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ts val="1074"/>
                </a:lnSpc>
                <a:spcBef>
                  <a:spcPts val="62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40458c"/>
                  </a:solidFill>
                  <a:latin typeface="Arial"/>
                  <a:ea typeface="바탕"/>
                </a:rPr>
                <a:t>2GFSK</a:t>
              </a:r>
              <a:endParaRPr b="0" lang="en-US" sz="1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5257800" y="5580360"/>
            <a:ext cx="660240" cy="294840"/>
            <a:chOff x="5257800" y="5580360"/>
            <a:chExt cx="660240" cy="294840"/>
          </a:xfrm>
        </p:grpSpPr>
        <p:sp>
          <p:nvSpPr>
            <p:cNvPr id="474" name=""/>
            <p:cNvSpPr/>
            <p:nvPr/>
          </p:nvSpPr>
          <p:spPr>
            <a:xfrm>
              <a:off x="5257800" y="5584680"/>
              <a:ext cx="660240" cy="287640"/>
            </a:xfrm>
            <a:prstGeom prst="roundRect">
              <a:avLst>
                <a:gd name="adj" fmla="val 55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5257800" y="5580360"/>
              <a:ext cx="658800" cy="29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40000"/>
                </a:lnSpc>
                <a:spcBef>
                  <a:spcPts val="62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40458c"/>
                  </a:solidFill>
                  <a:latin typeface="Arial"/>
                  <a:ea typeface="바탕"/>
                </a:rPr>
                <a:t>2GFSK</a:t>
              </a:r>
              <a:endParaRPr b="0" lang="en-US" sz="10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40000"/>
                </a:lnSpc>
                <a:spcBef>
                  <a:spcPts val="62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40458c"/>
                  </a:solidFill>
                  <a:latin typeface="Arial"/>
                  <a:ea typeface="바탕"/>
                </a:rPr>
                <a:t>4GFSK</a:t>
              </a:r>
              <a:endParaRPr b="0" lang="en-US" sz="1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6756480" y="5571000"/>
            <a:ext cx="1677960" cy="294840"/>
            <a:chOff x="6756480" y="5571000"/>
            <a:chExt cx="1677960" cy="294840"/>
          </a:xfrm>
        </p:grpSpPr>
        <p:sp>
          <p:nvSpPr>
            <p:cNvPr id="477" name=""/>
            <p:cNvSpPr/>
            <p:nvPr/>
          </p:nvSpPr>
          <p:spPr>
            <a:xfrm>
              <a:off x="6756480" y="5572080"/>
              <a:ext cx="1676160" cy="290520"/>
            </a:xfrm>
            <a:prstGeom prst="roundRect">
              <a:avLst>
                <a:gd name="adj" fmla="val 54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6757920" y="5571000"/>
              <a:ext cx="1676520" cy="29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40000"/>
                </a:lnSpc>
                <a:spcBef>
                  <a:spcPts val="62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40458c"/>
                  </a:solidFill>
                  <a:latin typeface="Arial"/>
                  <a:ea typeface="바탕"/>
                </a:rPr>
                <a:t>FHSS(2GFSK,4GFSK)</a:t>
              </a:r>
              <a:endParaRPr b="0" lang="en-US" sz="10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40000"/>
                </a:lnSpc>
                <a:spcBef>
                  <a:spcPts val="62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40458c"/>
                  </a:solidFill>
                  <a:latin typeface="Arial"/>
                  <a:ea typeface="바탕"/>
                </a:rPr>
                <a:t>DSSS(DBPSK,DQPSK)</a:t>
              </a:r>
              <a:endParaRPr b="0" lang="en-US" sz="1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479" name=""/>
          <p:cNvGrpSpPr/>
          <p:nvPr/>
        </p:nvGrpSpPr>
        <p:grpSpPr>
          <a:xfrm>
            <a:off x="457200" y="6181560"/>
            <a:ext cx="2100240" cy="276480"/>
            <a:chOff x="457200" y="6181560"/>
            <a:chExt cx="2100240" cy="276480"/>
          </a:xfrm>
        </p:grpSpPr>
        <p:sp>
          <p:nvSpPr>
            <p:cNvPr id="480" name=""/>
            <p:cNvSpPr/>
            <p:nvPr/>
          </p:nvSpPr>
          <p:spPr>
            <a:xfrm>
              <a:off x="457200" y="6181560"/>
              <a:ext cx="2100240" cy="276480"/>
            </a:xfrm>
            <a:prstGeom prst="roundRect">
              <a:avLst>
                <a:gd name="adj" fmla="val 574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57200" y="6201360"/>
              <a:ext cx="2100240" cy="23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93000"/>
                </a:lnSpc>
                <a:spcBef>
                  <a:spcPts val="62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40458c"/>
                  </a:solidFill>
                  <a:latin typeface="Arial"/>
                  <a:ea typeface="바탕"/>
                </a:rPr>
                <a:t>Time to Market</a:t>
              </a:r>
              <a:endParaRPr b="0" lang="en-US" sz="1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482" name=""/>
          <p:cNvGrpSpPr/>
          <p:nvPr/>
        </p:nvGrpSpPr>
        <p:grpSpPr>
          <a:xfrm>
            <a:off x="2557440" y="6156360"/>
            <a:ext cx="1846440" cy="331920"/>
            <a:chOff x="2557440" y="6156360"/>
            <a:chExt cx="1846440" cy="331920"/>
          </a:xfrm>
        </p:grpSpPr>
        <p:sp>
          <p:nvSpPr>
            <p:cNvPr id="483" name=""/>
            <p:cNvSpPr/>
            <p:nvPr/>
          </p:nvSpPr>
          <p:spPr>
            <a:xfrm>
              <a:off x="2557440" y="6156360"/>
              <a:ext cx="1846440" cy="331920"/>
            </a:xfrm>
            <a:prstGeom prst="roundRect">
              <a:avLst>
                <a:gd name="adj" fmla="val 47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2557440" y="6206400"/>
              <a:ext cx="1846440" cy="2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ts val="1074"/>
                </a:lnSpc>
                <a:spcBef>
                  <a:spcPts val="62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40458c"/>
                  </a:solidFill>
                  <a:latin typeface="Arial"/>
                  <a:ea typeface="바탕"/>
                </a:rPr>
                <a:t>Q3, 2000</a:t>
              </a:r>
              <a:endParaRPr b="0" lang="en-US" sz="1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485" name=""/>
          <p:cNvGrpSpPr/>
          <p:nvPr/>
        </p:nvGrpSpPr>
        <p:grpSpPr>
          <a:xfrm>
            <a:off x="4403880" y="6181560"/>
            <a:ext cx="2350800" cy="257400"/>
            <a:chOff x="4403880" y="6181560"/>
            <a:chExt cx="2350800" cy="257400"/>
          </a:xfrm>
        </p:grpSpPr>
        <p:sp>
          <p:nvSpPr>
            <p:cNvPr id="486" name=""/>
            <p:cNvSpPr/>
            <p:nvPr/>
          </p:nvSpPr>
          <p:spPr>
            <a:xfrm>
              <a:off x="4403880" y="6181560"/>
              <a:ext cx="2350800" cy="257400"/>
            </a:xfrm>
            <a:prstGeom prst="roundRect">
              <a:avLst>
                <a:gd name="adj" fmla="val 61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4403880" y="6195240"/>
              <a:ext cx="2349360" cy="2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ts val="1074"/>
                </a:lnSpc>
                <a:spcBef>
                  <a:spcPts val="62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40458c"/>
                  </a:solidFill>
                  <a:latin typeface="Arial"/>
                  <a:ea typeface="바탕"/>
                </a:rPr>
                <a:t>?</a:t>
              </a:r>
              <a:endParaRPr b="0" lang="en-US" sz="1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488" name=""/>
          <p:cNvGrpSpPr/>
          <p:nvPr/>
        </p:nvGrpSpPr>
        <p:grpSpPr>
          <a:xfrm>
            <a:off x="6753240" y="6181560"/>
            <a:ext cx="1932120" cy="306720"/>
            <a:chOff x="6753240" y="6181560"/>
            <a:chExt cx="1932120" cy="306720"/>
          </a:xfrm>
        </p:grpSpPr>
        <p:sp>
          <p:nvSpPr>
            <p:cNvPr id="489" name=""/>
            <p:cNvSpPr/>
            <p:nvPr/>
          </p:nvSpPr>
          <p:spPr>
            <a:xfrm>
              <a:off x="6753240" y="6181560"/>
              <a:ext cx="1932120" cy="306720"/>
            </a:xfrm>
            <a:prstGeom prst="roundRect">
              <a:avLst>
                <a:gd name="adj" fmla="val 519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6753240" y="6219000"/>
              <a:ext cx="1932120" cy="2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ts val="1074"/>
                </a:lnSpc>
                <a:spcBef>
                  <a:spcPts val="62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40458c"/>
                  </a:solidFill>
                  <a:latin typeface="Arial"/>
                  <a:ea typeface="바탕"/>
                </a:rPr>
                <a:t>On Market</a:t>
              </a:r>
              <a:endParaRPr b="0" lang="en-US" sz="1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660066"/>
                </a:solidFill>
                <a:latin typeface="Tahoma"/>
              </a:rPr>
              <a:t>Tecnologi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Tecnologias de Software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Rastreament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Reconhecimento de fac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Reconhecimento de voz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7775640" cy="11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Problema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7775640" cy="41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O custo dos dispositivos computacionais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Largura de banda suficient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Necessidade de se ter consciência da informação que está armazenada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Atual necessidade de instalação dos softwar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660066"/>
                </a:solidFill>
                <a:latin typeface="Tahoma"/>
              </a:rPr>
              <a:t>Desafio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Computação mó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Uso efetivo de espaço inteligent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Transparênci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Interfac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SzPct val="12926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Infra-estrutur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SzPct val="12926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Distribuição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7775640" cy="11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Foco na Aplicaçã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811680" cy="41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"The real purpose for ubiquitous computing, of course, are the applications.”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4" marL="2057400" indent="-228600">
              <a:spcBef>
                <a:spcPts val="451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Tahoma"/>
              </a:rPr>
              <a:t>Mark Weiser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499" name="" descr=""/>
          <p:cNvPicPr/>
          <p:nvPr/>
        </p:nvPicPr>
        <p:blipFill>
          <a:blip r:embed="rId2"/>
          <a:stretch/>
        </p:blipFill>
        <p:spPr>
          <a:xfrm>
            <a:off x="4648320" y="2057400"/>
            <a:ext cx="4008240" cy="386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7775640" cy="11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Aplicaçõ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7775640" cy="41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SzPct val="113122"/>
              <a:buBlip>
                <a:blip r:embed="rId1"/>
              </a:buBlip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PARCTab System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Desenvolvido pela XEROX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Explorar impactos e potencialidades num escritório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3122"/>
              <a:buBlip>
                <a:blip r:embed="rId2"/>
              </a:buBlip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Funcionalidad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As portas devem abrir apenas para os usuários devidamente identificado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A sala cumprimenta as pessoas pelo nome..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7775640" cy="11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Ubiqüidade e Músic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7775640" cy="41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5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Integração com o dia-a-dia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Música on-demand;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Sob encomenda;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Música não mais como produto;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7775640" cy="11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Ubiqüidade e Músic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7775640" cy="41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5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Consumidores não irão atrás apenas da música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Previews;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Acesso prioritario;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Conexão direta com o artist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Adicionar valor a obr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7775640" cy="11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Roteir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7775640" cy="41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Motivação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5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Introdução à Ubiqüidad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Ubiqüidade Computaciona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Ubiqüidade e Música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7775640" cy="11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Ubiqüidade e Músic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7775640" cy="41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5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Ninchos locais;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Música vai ser usada em praticamente tudo: revistas, propagandas;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Fim da pirataria: legalidade vale mais a pena;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7774200" cy="11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Projetos de Músic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7774200" cy="41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5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MusicFX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6f89f7"/>
                </a:solidFill>
                <a:uFillTx/>
                <a:latin typeface="Tahoma"/>
                <a:hlinkClick r:id="rId2"/>
              </a:rPr>
              <a:t>http://portal.</a:t>
            </a:r>
            <a:r>
              <a:rPr b="0" lang="en-GB" sz="2800" spc="-1" strike="noStrike" u="sng">
                <a:solidFill>
                  <a:srgbClr val="6f89f7"/>
                </a:solidFill>
                <a:uFillTx/>
                <a:latin typeface="Tahoma"/>
                <a:hlinkClick r:id="rId3"/>
              </a:rPr>
              <a:t>acm</a:t>
            </a:r>
            <a:r>
              <a:rPr b="0" lang="en-GB" sz="2800" spc="-1" strike="noStrike" u="sng">
                <a:solidFill>
                  <a:srgbClr val="6f89f7"/>
                </a:solidFill>
                <a:uFillTx/>
                <a:latin typeface="Tahoma"/>
                <a:hlinkClick r:id="rId4"/>
              </a:rPr>
              <a:t>.org/citation.</a:t>
            </a:r>
            <a:r>
              <a:rPr b="0" lang="en-GB" sz="2800" spc="-1" strike="noStrike" u="sng">
                <a:solidFill>
                  <a:srgbClr val="6f89f7"/>
                </a:solidFill>
                <a:uFillTx/>
                <a:latin typeface="Tahoma"/>
                <a:hlinkClick r:id="rId5"/>
              </a:rPr>
              <a:t>cfm</a:t>
            </a:r>
            <a:r>
              <a:rPr b="0" lang="en-GB" sz="2800" spc="-1" strike="noStrike" u="sng">
                <a:solidFill>
                  <a:srgbClr val="6f89f7"/>
                </a:solidFill>
                <a:uFillTx/>
                <a:latin typeface="Tahoma"/>
                <a:hlinkClick r:id="rId6"/>
              </a:rPr>
              <a:t>?id=289511&amp;dl=ACM&amp;</a:t>
            </a:r>
            <a:r>
              <a:rPr b="0" lang="en-GB" sz="2800" spc="-1" strike="noStrike" u="sng">
                <a:solidFill>
                  <a:srgbClr val="6f89f7"/>
                </a:solidFill>
                <a:uFillTx/>
                <a:latin typeface="Tahoma"/>
                <a:hlinkClick r:id="rId7"/>
              </a:rPr>
              <a:t>coll</a:t>
            </a:r>
            <a:r>
              <a:rPr b="0" lang="en-GB" sz="2800" spc="-1" strike="noStrike" u="sng">
                <a:solidFill>
                  <a:srgbClr val="6f89f7"/>
                </a:solidFill>
                <a:uFillTx/>
                <a:latin typeface="Tahoma"/>
                <a:hlinkClick r:id="rId8"/>
              </a:rPr>
              <a:t>=porta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9"/>
              </a:buBlip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tunA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6f89f7"/>
                </a:solidFill>
                <a:uFillTx/>
                <a:latin typeface="Tahoma"/>
                <a:hlinkClick r:id="rId10"/>
              </a:rPr>
              <a:t>http://www.</a:t>
            </a:r>
            <a:r>
              <a:rPr b="0" lang="en-GB" sz="2800" spc="-1" strike="noStrike" u="sng">
                <a:solidFill>
                  <a:srgbClr val="6f89f7"/>
                </a:solidFill>
                <a:uFillTx/>
                <a:latin typeface="Tahoma"/>
                <a:hlinkClick r:id="rId11"/>
              </a:rPr>
              <a:t>medialabeurope</a:t>
            </a:r>
            <a:r>
              <a:rPr b="0" lang="en-GB" sz="2800" spc="-1" strike="noStrike" u="sng">
                <a:solidFill>
                  <a:srgbClr val="6f89f7"/>
                </a:solidFill>
                <a:uFillTx/>
                <a:latin typeface="Tahoma"/>
                <a:hlinkClick r:id="rId12"/>
              </a:rPr>
              <a:t>.org/</a:t>
            </a:r>
            <a:r>
              <a:rPr b="0" lang="en-GB" sz="2800" spc="-1" strike="noStrike" u="sng">
                <a:solidFill>
                  <a:srgbClr val="6f89f7"/>
                </a:solidFill>
                <a:uFillTx/>
                <a:latin typeface="Tahoma"/>
                <a:hlinkClick r:id="rId13"/>
              </a:rPr>
              <a:t>hc</a:t>
            </a:r>
            <a:r>
              <a:rPr b="0" lang="en-GB" sz="2800" spc="-1" strike="noStrike" u="sng">
                <a:solidFill>
                  <a:srgbClr val="6f89f7"/>
                </a:solidFill>
                <a:uFillTx/>
                <a:latin typeface="Tahoma"/>
                <a:hlinkClick r:id="rId14"/>
              </a:rPr>
              <a:t>/tuna/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7774200" cy="11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tunA - Motivaçã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7774200" cy="41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5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O walkman pode virar uma experiencia social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Alguém pode se tornar uma estação de rádio móvel 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7774200" cy="11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tun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513" name="" descr=""/>
          <p:cNvPicPr/>
          <p:nvPr/>
        </p:nvPicPr>
        <p:blipFill>
          <a:blip r:embed="rId1"/>
          <a:stretch/>
        </p:blipFill>
        <p:spPr>
          <a:xfrm>
            <a:off x="1027080" y="1792440"/>
            <a:ext cx="7194600" cy="4587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7774200" cy="11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tun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7774200" cy="41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5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Aplicação móvel que permite usuários compartilhar música localmente através de dispositivos portateis;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Permite synchronized peer-to-peer audio streaming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7774200" cy="11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tun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517" name="" descr=""/>
          <p:cNvPicPr/>
          <p:nvPr/>
        </p:nvPicPr>
        <p:blipFill>
          <a:blip r:embed="rId1"/>
          <a:stretch/>
        </p:blipFill>
        <p:spPr>
          <a:xfrm>
            <a:off x="976320" y="1981080"/>
            <a:ext cx="3209760" cy="4113360"/>
          </a:xfrm>
          <a:prstGeom prst="rect">
            <a:avLst/>
          </a:prstGeom>
          <a:ln w="0">
            <a:noFill/>
          </a:ln>
        </p:spPr>
      </p:pic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821120" y="1905120"/>
            <a:ext cx="3794400" cy="41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5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Exibe uma lista de pessoas usando tunA dentro da área de alcance, dando acesso a profiles e lista de música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7774200" cy="11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Cenári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520" name="" descr=""/>
          <p:cNvPicPr/>
          <p:nvPr/>
        </p:nvPicPr>
        <p:blipFill>
          <a:blip r:embed="rId1"/>
          <a:stretch/>
        </p:blipFill>
        <p:spPr>
          <a:xfrm>
            <a:off x="685800" y="2293920"/>
            <a:ext cx="3792600" cy="348624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821120" y="1905120"/>
            <a:ext cx="3794400" cy="41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5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Conhecer as pessoas que andam todos os dias no mesmo onibus através do gosto musical;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660066"/>
                </a:solidFill>
                <a:latin typeface="Tahoma"/>
              </a:rPr>
              <a:t>Referência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458c"/>
                </a:solidFill>
                <a:latin typeface="Tahoma"/>
              </a:rPr>
              <a:t>Website de Mark Weise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40458c"/>
                </a:solidFill>
                <a:latin typeface="Tahoma"/>
              </a:rPr>
              <a:t>http://www.ubiq.com/hypertext/weiser/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458c"/>
                </a:solidFill>
                <a:latin typeface="Tahoma"/>
              </a:rPr>
              <a:t>Website do PARCTAB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40458c"/>
                </a:solidFill>
                <a:latin typeface="Tahoma"/>
              </a:rPr>
              <a:t>http://sandbox.parc.xerox.com/parctab/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458c"/>
                </a:solidFill>
                <a:latin typeface="Tahoma"/>
              </a:rPr>
              <a:t>http://www.ubiq.com/hypertext/weiser/UbiHome.htm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7775640" cy="11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Motivação : Ubiqüida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7775640" cy="41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Ubiqüidade: Do latim </a:t>
            </a:r>
            <a:r>
              <a:rPr b="0" i="1" lang="en-GB" sz="3200" spc="-1" strike="noStrike">
                <a:solidFill>
                  <a:srgbClr val="40458c"/>
                </a:solidFill>
                <a:latin typeface="Tahoma"/>
              </a:rPr>
              <a:t>“ubiquu”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O que está em todo lugar a toda hor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Ex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Energia Elétric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Coca-col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Internet 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7775640" cy="11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Ubiqüidade Computacional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7775640" cy="41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Os </a:t>
            </a:r>
            <a:r>
              <a:rPr b="1" lang="en-GB" sz="2800" spc="-1" strike="noStrike">
                <a:solidFill>
                  <a:srgbClr val="40458c"/>
                </a:solidFill>
                <a:latin typeface="Tahoma"/>
              </a:rPr>
              <a:t>serviços</a:t>
            </a: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 computacionais poderão ser usados em toda parte e a qualquer hor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i="1" lang="en-GB" sz="2400" spc="-1" strike="noStrike">
                <a:solidFill>
                  <a:srgbClr val="40458c"/>
                </a:solidFill>
                <a:latin typeface="Tahoma"/>
              </a:rPr>
              <a:t>Jetsons</a:t>
            </a: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”, “</a:t>
            </a:r>
            <a:r>
              <a:rPr b="0" i="1" lang="en-GB" sz="2400" spc="-1" strike="noStrike">
                <a:solidFill>
                  <a:srgbClr val="40458c"/>
                </a:solidFill>
                <a:latin typeface="Tahoma"/>
              </a:rPr>
              <a:t>Minority Report</a:t>
            </a: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”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Funcionamento dos serviços sem necessidade de conhecimento ou intervenção human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Um ambiente repleto de capacidade de computação e comunicação, sutilmente integrado com usuários humano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7775640" cy="11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Ubiqüidade Computacional</a:t>
            </a:r>
            <a:br>
              <a:rPr sz="4400"/>
            </a:b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Terceira ond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7775640" cy="41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5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MainFram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Muitas pessoas compartilham um único computador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Computadores Pessoais (PC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Uma pessoa com um computador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Computação Ubíqua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Muitos computadores servindo uma pesso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479520"/>
            <a:ext cx="77724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Principais Tendências Computacionai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1219320" y="1828800"/>
            <a:ext cx="6476760" cy="4722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7775640" cy="11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Ubiqüidade Computacional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03848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Pequenos dispositivo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40458c"/>
                </a:solidFill>
                <a:latin typeface="Tahoma"/>
              </a:rPr>
              <a:t>PDAs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40458c"/>
                </a:solidFill>
                <a:latin typeface="Tahoma"/>
              </a:rPr>
              <a:t>Laptops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40458c"/>
                </a:solidFill>
                <a:latin typeface="Tahoma"/>
              </a:rPr>
              <a:t>relógios, anéis, etc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Restrição de recurso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40458c"/>
                </a:solidFill>
                <a:latin typeface="Tahoma"/>
              </a:rPr>
              <a:t>Potencia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40458c"/>
                </a:solidFill>
                <a:latin typeface="Tahoma"/>
              </a:rPr>
              <a:t>Computação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40458c"/>
                </a:solidFill>
                <a:latin typeface="Tahoma"/>
              </a:rPr>
              <a:t>Espaço de Armazenamento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Usuários Movei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Grupos Dinâmico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4572000" y="1905120"/>
            <a:ext cx="4568400" cy="4673160"/>
            <a:chOff x="4572000" y="1905120"/>
            <a:chExt cx="4568400" cy="4673160"/>
          </a:xfrm>
        </p:grpSpPr>
        <p:cxnSp>
          <p:nvCxnSpPr>
            <p:cNvPr id="223" name=""/>
            <p:cNvCxnSpPr>
              <a:stCxn id="224" idx="3"/>
            </p:cNvCxnSpPr>
            <p:nvPr/>
          </p:nvCxnSpPr>
          <p:spPr>
            <a:xfrm flipV="1">
              <a:off x="5257440" y="3516840"/>
              <a:ext cx="1295280" cy="886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pic>
          <p:nvPicPr>
            <p:cNvPr id="225" name="" descr=""/>
            <p:cNvPicPr/>
            <p:nvPr/>
          </p:nvPicPr>
          <p:blipFill>
            <a:blip r:embed="rId4"/>
            <a:stretch/>
          </p:blipFill>
          <p:spPr>
            <a:xfrm>
              <a:off x="4952520" y="1905120"/>
              <a:ext cx="685440" cy="63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6" name="" descr=""/>
            <p:cNvPicPr/>
            <p:nvPr/>
          </p:nvPicPr>
          <p:blipFill>
            <a:blip r:embed="rId5"/>
            <a:stretch/>
          </p:blipFill>
          <p:spPr>
            <a:xfrm>
              <a:off x="7845480" y="2057040"/>
              <a:ext cx="685440" cy="637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7" name="" descr=""/>
            <p:cNvPicPr/>
            <p:nvPr/>
          </p:nvPicPr>
          <p:blipFill>
            <a:blip r:embed="rId6"/>
            <a:stretch/>
          </p:blipFill>
          <p:spPr>
            <a:xfrm>
              <a:off x="4572000" y="4085640"/>
              <a:ext cx="685440" cy="63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8" name="" descr=""/>
            <p:cNvPicPr/>
            <p:nvPr/>
          </p:nvPicPr>
          <p:blipFill>
            <a:blip r:embed="rId7"/>
            <a:stretch/>
          </p:blipFill>
          <p:spPr>
            <a:xfrm>
              <a:off x="8454960" y="4416840"/>
              <a:ext cx="685440" cy="637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9" name="" descr=""/>
            <p:cNvPicPr/>
            <p:nvPr/>
          </p:nvPicPr>
          <p:blipFill>
            <a:blip r:embed="rId8"/>
            <a:stretch/>
          </p:blipFill>
          <p:spPr>
            <a:xfrm>
              <a:off x="6399720" y="5940720"/>
              <a:ext cx="685440" cy="63756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230" name=""/>
            <p:cNvCxnSpPr>
              <a:stCxn id="225" idx="2"/>
            </p:cNvCxnSpPr>
            <p:nvPr/>
          </p:nvCxnSpPr>
          <p:spPr>
            <a:xfrm>
              <a:off x="5295600" y="2542320"/>
              <a:ext cx="1256760" cy="976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31" name=""/>
            <p:cNvCxnSpPr>
              <a:endCxn id="226" idx="2"/>
            </p:cNvCxnSpPr>
            <p:nvPr/>
          </p:nvCxnSpPr>
          <p:spPr>
            <a:xfrm flipV="1">
              <a:off x="7007400" y="2694960"/>
              <a:ext cx="1181160" cy="69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32" name=""/>
            <p:cNvCxnSpPr>
              <a:stCxn id="229" idx="0"/>
            </p:cNvCxnSpPr>
            <p:nvPr/>
          </p:nvCxnSpPr>
          <p:spPr>
            <a:xfrm flipV="1">
              <a:off x="6741000" y="4721040"/>
              <a:ext cx="724320" cy="1219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233" name=""/>
            <p:cNvSpPr/>
            <p:nvPr/>
          </p:nvSpPr>
          <p:spPr>
            <a:xfrm flipH="1" flipV="1">
              <a:off x="7765920" y="4566240"/>
              <a:ext cx="767880" cy="8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 flipV="1">
              <a:off x="6927840" y="3727800"/>
              <a:ext cx="387000" cy="387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pic>
          <p:nvPicPr>
            <p:cNvPr id="235" name="" descr=""/>
            <p:cNvPicPr/>
            <p:nvPr/>
          </p:nvPicPr>
          <p:blipFill>
            <a:blip r:embed="rId9"/>
            <a:stretch/>
          </p:blipFill>
          <p:spPr>
            <a:xfrm>
              <a:off x="6476040" y="3094920"/>
              <a:ext cx="685440" cy="637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6" name="" descr=""/>
            <p:cNvPicPr/>
            <p:nvPr/>
          </p:nvPicPr>
          <p:blipFill>
            <a:blip r:embed="rId10"/>
            <a:stretch/>
          </p:blipFill>
          <p:spPr>
            <a:xfrm>
              <a:off x="7161840" y="4085640"/>
              <a:ext cx="685440" cy="6375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7775640" cy="11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Ubiqüidade Computacional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03848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Pequenos dispositivo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40458c"/>
                </a:solidFill>
                <a:latin typeface="Tahoma"/>
              </a:rPr>
              <a:t>PDAs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40458c"/>
                </a:solidFill>
                <a:latin typeface="Tahoma"/>
              </a:rPr>
              <a:t>Laptops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40458c"/>
                </a:solidFill>
                <a:latin typeface="Tahoma"/>
              </a:rPr>
              <a:t>relógios, anéis, etc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Restrição de recurso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40458c"/>
                </a:solidFill>
                <a:latin typeface="Tahoma"/>
              </a:rPr>
              <a:t>Potencia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40458c"/>
                </a:solidFill>
                <a:latin typeface="Tahoma"/>
              </a:rPr>
              <a:t>Computação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40458c"/>
                </a:solidFill>
                <a:latin typeface="Tahoma"/>
              </a:rPr>
              <a:t>Espaço de Armazenamento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Usuários Movei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Grupos Dinâmico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4538520" y="1752480"/>
            <a:ext cx="4601880" cy="4721040"/>
            <a:chOff x="4538520" y="1752480"/>
            <a:chExt cx="4601880" cy="4721040"/>
          </a:xfrm>
        </p:grpSpPr>
        <p:pic>
          <p:nvPicPr>
            <p:cNvPr id="240" name="" descr=""/>
            <p:cNvPicPr/>
            <p:nvPr/>
          </p:nvPicPr>
          <p:blipFill>
            <a:blip r:embed="rId4"/>
            <a:stretch/>
          </p:blipFill>
          <p:spPr>
            <a:xfrm>
              <a:off x="8421480" y="4264560"/>
              <a:ext cx="718920" cy="837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1" name="" descr=""/>
            <p:cNvPicPr/>
            <p:nvPr/>
          </p:nvPicPr>
          <p:blipFill>
            <a:blip r:embed="rId5"/>
            <a:stretch/>
          </p:blipFill>
          <p:spPr>
            <a:xfrm>
              <a:off x="8040960" y="1752480"/>
              <a:ext cx="718560" cy="83808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242" name=""/>
            <p:cNvCxnSpPr/>
            <p:nvPr/>
          </p:nvCxnSpPr>
          <p:spPr>
            <a:xfrm>
              <a:off x="5186160" y="2313720"/>
              <a:ext cx="1256760" cy="976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43" name=""/>
            <p:cNvCxnSpPr/>
            <p:nvPr/>
          </p:nvCxnSpPr>
          <p:spPr>
            <a:xfrm flipV="1">
              <a:off x="6899400" y="2466360"/>
              <a:ext cx="1181160" cy="695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44" name=""/>
            <p:cNvCxnSpPr/>
            <p:nvPr/>
          </p:nvCxnSpPr>
          <p:spPr>
            <a:xfrm flipV="1">
              <a:off x="5148000" y="3288240"/>
              <a:ext cx="1295280" cy="886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45" name=""/>
            <p:cNvCxnSpPr/>
            <p:nvPr/>
          </p:nvCxnSpPr>
          <p:spPr>
            <a:xfrm flipV="1">
              <a:off x="6631560" y="4492440"/>
              <a:ext cx="724320" cy="1219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246" name=""/>
            <p:cNvSpPr/>
            <p:nvPr/>
          </p:nvSpPr>
          <p:spPr>
            <a:xfrm flipH="1" flipV="1">
              <a:off x="7656480" y="4337640"/>
              <a:ext cx="767880" cy="8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 flipH="1" flipV="1">
              <a:off x="6818400" y="3499200"/>
              <a:ext cx="387000" cy="387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pic>
          <p:nvPicPr>
            <p:cNvPr id="248" name="" descr=""/>
            <p:cNvPicPr/>
            <p:nvPr/>
          </p:nvPicPr>
          <p:blipFill>
            <a:blip r:embed="rId6"/>
            <a:stretch/>
          </p:blipFill>
          <p:spPr>
            <a:xfrm>
              <a:off x="4614480" y="1828440"/>
              <a:ext cx="718920" cy="837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9" name="" descr=""/>
            <p:cNvPicPr/>
            <p:nvPr/>
          </p:nvPicPr>
          <p:blipFill>
            <a:blip r:embed="rId7"/>
            <a:stretch/>
          </p:blipFill>
          <p:spPr>
            <a:xfrm>
              <a:off x="6290640" y="2742840"/>
              <a:ext cx="720360" cy="837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0" name="" descr=""/>
            <p:cNvPicPr/>
            <p:nvPr/>
          </p:nvPicPr>
          <p:blipFill>
            <a:blip r:embed="rId8"/>
            <a:stretch/>
          </p:blipFill>
          <p:spPr>
            <a:xfrm>
              <a:off x="7050600" y="3656880"/>
              <a:ext cx="718920" cy="837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1" name="" descr=""/>
            <p:cNvPicPr/>
            <p:nvPr/>
          </p:nvPicPr>
          <p:blipFill>
            <a:blip r:embed="rId9"/>
            <a:stretch/>
          </p:blipFill>
          <p:spPr>
            <a:xfrm>
              <a:off x="6138000" y="5635800"/>
              <a:ext cx="718920" cy="837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2" name="" descr=""/>
            <p:cNvPicPr/>
            <p:nvPr/>
          </p:nvPicPr>
          <p:blipFill>
            <a:blip r:embed="rId10"/>
            <a:stretch/>
          </p:blipFill>
          <p:spPr>
            <a:xfrm>
              <a:off x="4538520" y="3961800"/>
              <a:ext cx="718920" cy="8391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7775640" cy="11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Ubiqüidade Computacional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4040280" cy="41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Pequenos dispositivo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40458c"/>
                </a:solidFill>
                <a:latin typeface="Tahoma"/>
              </a:rPr>
              <a:t>PDAs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40458c"/>
                </a:solidFill>
                <a:latin typeface="Tahoma"/>
              </a:rPr>
              <a:t>Laptops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40458c"/>
                </a:solidFill>
                <a:latin typeface="Tahoma"/>
              </a:rPr>
              <a:t>relógios, anéis, etc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Restrição de recurso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40458c"/>
                </a:solidFill>
                <a:latin typeface="Tahoma"/>
              </a:rPr>
              <a:t>Potencia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40458c"/>
                </a:solidFill>
                <a:latin typeface="Tahoma"/>
              </a:rPr>
              <a:t>Computação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40458c"/>
                </a:solidFill>
                <a:latin typeface="Tahoma"/>
              </a:rPr>
              <a:t>Espaço de Armazenamento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Usuários Movei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Grupos Dinâmico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4538520" y="1828800"/>
            <a:ext cx="4601880" cy="4721040"/>
            <a:chOff x="4538520" y="1828800"/>
            <a:chExt cx="4601880" cy="4721040"/>
          </a:xfrm>
        </p:grpSpPr>
        <p:pic>
          <p:nvPicPr>
            <p:cNvPr id="256" name="" descr=""/>
            <p:cNvPicPr/>
            <p:nvPr/>
          </p:nvPicPr>
          <p:blipFill>
            <a:blip r:embed="rId4"/>
            <a:stretch/>
          </p:blipFill>
          <p:spPr>
            <a:xfrm>
              <a:off x="8040960" y="1828800"/>
              <a:ext cx="718560" cy="837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7" name="" descr=""/>
            <p:cNvPicPr/>
            <p:nvPr/>
          </p:nvPicPr>
          <p:blipFill>
            <a:blip r:embed="rId5"/>
            <a:stretch/>
          </p:blipFill>
          <p:spPr>
            <a:xfrm>
              <a:off x="4614480" y="1904760"/>
              <a:ext cx="718920" cy="837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8" name="" descr=""/>
            <p:cNvPicPr/>
            <p:nvPr/>
          </p:nvPicPr>
          <p:blipFill>
            <a:blip r:embed="rId6"/>
            <a:stretch/>
          </p:blipFill>
          <p:spPr>
            <a:xfrm>
              <a:off x="6290640" y="2819160"/>
              <a:ext cx="720360" cy="837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9" name="" descr=""/>
            <p:cNvPicPr/>
            <p:nvPr/>
          </p:nvPicPr>
          <p:blipFill>
            <a:blip r:embed="rId7"/>
            <a:stretch/>
          </p:blipFill>
          <p:spPr>
            <a:xfrm>
              <a:off x="7050600" y="3733200"/>
              <a:ext cx="718920" cy="837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0" name="" descr=""/>
            <p:cNvPicPr/>
            <p:nvPr/>
          </p:nvPicPr>
          <p:blipFill>
            <a:blip r:embed="rId8"/>
            <a:stretch/>
          </p:blipFill>
          <p:spPr>
            <a:xfrm>
              <a:off x="8421480" y="4342320"/>
              <a:ext cx="718920" cy="837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1" name="" descr=""/>
            <p:cNvPicPr/>
            <p:nvPr/>
          </p:nvPicPr>
          <p:blipFill>
            <a:blip r:embed="rId9"/>
            <a:stretch/>
          </p:blipFill>
          <p:spPr>
            <a:xfrm>
              <a:off x="6138000" y="5712120"/>
              <a:ext cx="718920" cy="837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2" name="" descr=""/>
            <p:cNvPicPr/>
            <p:nvPr/>
          </p:nvPicPr>
          <p:blipFill>
            <a:blip r:embed="rId10"/>
            <a:stretch/>
          </p:blipFill>
          <p:spPr>
            <a:xfrm>
              <a:off x="4538520" y="4036320"/>
              <a:ext cx="718920" cy="8377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63" name=""/>
            <p:cNvGrpSpPr/>
            <p:nvPr/>
          </p:nvGrpSpPr>
          <p:grpSpPr>
            <a:xfrm>
              <a:off x="5476320" y="2641320"/>
              <a:ext cx="604080" cy="632520"/>
              <a:chOff x="5476320" y="2641320"/>
              <a:chExt cx="604080" cy="632520"/>
            </a:xfrm>
          </p:grpSpPr>
          <p:sp>
            <p:nvSpPr>
              <p:cNvPr id="264" name=""/>
              <p:cNvSpPr/>
              <p:nvPr/>
            </p:nvSpPr>
            <p:spPr>
              <a:xfrm>
                <a:off x="5480640" y="2679120"/>
                <a:ext cx="579240" cy="592920"/>
              </a:xfrm>
              <a:custGeom>
                <a:avLst/>
                <a:gdLst/>
                <a:ahLst/>
                <a:rect l="l" t="t" r="r" b="b"/>
                <a:pathLst>
                  <a:path w="1616" h="1655">
                    <a:moveTo>
                      <a:pt x="1538" y="1170"/>
                    </a:moveTo>
                    <a:lnTo>
                      <a:pt x="951" y="426"/>
                    </a:lnTo>
                    <a:lnTo>
                      <a:pt x="1064" y="1020"/>
                    </a:lnTo>
                    <a:lnTo>
                      <a:pt x="390" y="220"/>
                    </a:lnTo>
                    <a:lnTo>
                      <a:pt x="493" y="534"/>
                    </a:lnTo>
                    <a:lnTo>
                      <a:pt x="0" y="0"/>
                    </a:lnTo>
                    <a:lnTo>
                      <a:pt x="554" y="777"/>
                    </a:lnTo>
                    <a:lnTo>
                      <a:pt x="551" y="583"/>
                    </a:lnTo>
                    <a:lnTo>
                      <a:pt x="1090" y="1234"/>
                    </a:lnTo>
                    <a:lnTo>
                      <a:pt x="1233" y="1456"/>
                    </a:lnTo>
                    <a:lnTo>
                      <a:pt x="1115" y="835"/>
                    </a:lnTo>
                    <a:lnTo>
                      <a:pt x="1615" y="1654"/>
                    </a:lnTo>
                    <a:lnTo>
                      <a:pt x="1538" y="1170"/>
                    </a:lnTo>
                    <a:lnTo>
                      <a:pt x="1538" y="1170"/>
                    </a:lnTo>
                    <a:lnTo>
                      <a:pt x="1538" y="1170"/>
                    </a:lnTo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5476320" y="2641320"/>
                <a:ext cx="579240" cy="592920"/>
              </a:xfrm>
              <a:custGeom>
                <a:avLst/>
                <a:gdLst/>
                <a:ahLst/>
                <a:rect l="l" t="t" r="r" b="b"/>
                <a:pathLst>
                  <a:path w="1616" h="1655">
                    <a:moveTo>
                      <a:pt x="1536" y="1169"/>
                    </a:moveTo>
                    <a:lnTo>
                      <a:pt x="951" y="424"/>
                    </a:lnTo>
                    <a:lnTo>
                      <a:pt x="1063" y="1020"/>
                    </a:lnTo>
                    <a:lnTo>
                      <a:pt x="389" y="220"/>
                    </a:lnTo>
                    <a:lnTo>
                      <a:pt x="493" y="534"/>
                    </a:lnTo>
                    <a:lnTo>
                      <a:pt x="0" y="0"/>
                    </a:lnTo>
                    <a:lnTo>
                      <a:pt x="553" y="778"/>
                    </a:lnTo>
                    <a:lnTo>
                      <a:pt x="550" y="583"/>
                    </a:lnTo>
                    <a:lnTo>
                      <a:pt x="1089" y="1234"/>
                    </a:lnTo>
                    <a:lnTo>
                      <a:pt x="1233" y="1457"/>
                    </a:lnTo>
                    <a:lnTo>
                      <a:pt x="1115" y="834"/>
                    </a:lnTo>
                    <a:lnTo>
                      <a:pt x="1615" y="1654"/>
                    </a:lnTo>
                    <a:lnTo>
                      <a:pt x="1536" y="1169"/>
                    </a:lnTo>
                    <a:lnTo>
                      <a:pt x="1536" y="1169"/>
                    </a:lnTo>
                    <a:lnTo>
                      <a:pt x="1536" y="1169"/>
                    </a:lnTo>
                  </a:path>
                </a:pathLst>
              </a:custGeom>
              <a:solidFill>
                <a:srgbClr val="ffe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5491800" y="2656800"/>
                <a:ext cx="580680" cy="506160"/>
              </a:xfrm>
              <a:custGeom>
                <a:avLst/>
                <a:gdLst/>
                <a:ahLst/>
                <a:rect l="l" t="t" r="r" b="b"/>
                <a:pathLst>
                  <a:path w="1619" h="1409">
                    <a:moveTo>
                      <a:pt x="1593" y="1188"/>
                    </a:moveTo>
                    <a:lnTo>
                      <a:pt x="990" y="423"/>
                    </a:lnTo>
                    <a:lnTo>
                      <a:pt x="1055" y="990"/>
                    </a:lnTo>
                    <a:lnTo>
                      <a:pt x="388" y="174"/>
                    </a:lnTo>
                    <a:lnTo>
                      <a:pt x="451" y="446"/>
                    </a:lnTo>
                    <a:lnTo>
                      <a:pt x="0" y="0"/>
                    </a:lnTo>
                    <a:lnTo>
                      <a:pt x="492" y="550"/>
                    </a:lnTo>
                    <a:lnTo>
                      <a:pt x="476" y="370"/>
                    </a:lnTo>
                    <a:lnTo>
                      <a:pt x="1084" y="1104"/>
                    </a:lnTo>
                    <a:lnTo>
                      <a:pt x="1053" y="561"/>
                    </a:lnTo>
                    <a:lnTo>
                      <a:pt x="1618" y="1408"/>
                    </a:lnTo>
                    <a:lnTo>
                      <a:pt x="1593" y="1188"/>
                    </a:lnTo>
                    <a:lnTo>
                      <a:pt x="1593" y="1188"/>
                    </a:lnTo>
                    <a:lnTo>
                      <a:pt x="1593" y="1188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5556600" y="2737800"/>
                <a:ext cx="523800" cy="536040"/>
              </a:xfrm>
              <a:custGeom>
                <a:avLst/>
                <a:gdLst/>
                <a:ahLst/>
                <a:rect l="l" t="t" r="r" b="b"/>
                <a:pathLst>
                  <a:path w="1461" h="1496">
                    <a:moveTo>
                      <a:pt x="1374" y="1253"/>
                    </a:moveTo>
                    <a:lnTo>
                      <a:pt x="950" y="581"/>
                    </a:lnTo>
                    <a:lnTo>
                      <a:pt x="1031" y="1116"/>
                    </a:lnTo>
                    <a:lnTo>
                      <a:pt x="368" y="311"/>
                    </a:lnTo>
                    <a:lnTo>
                      <a:pt x="358" y="517"/>
                    </a:lnTo>
                    <a:lnTo>
                      <a:pt x="0" y="0"/>
                    </a:lnTo>
                    <a:lnTo>
                      <a:pt x="367" y="639"/>
                    </a:lnTo>
                    <a:lnTo>
                      <a:pt x="407" y="443"/>
                    </a:lnTo>
                    <a:lnTo>
                      <a:pt x="1080" y="1263"/>
                    </a:lnTo>
                    <a:lnTo>
                      <a:pt x="1059" y="895"/>
                    </a:lnTo>
                    <a:lnTo>
                      <a:pt x="1460" y="1495"/>
                    </a:lnTo>
                    <a:lnTo>
                      <a:pt x="1374" y="1253"/>
                    </a:lnTo>
                    <a:lnTo>
                      <a:pt x="1374" y="1253"/>
                    </a:lnTo>
                    <a:lnTo>
                      <a:pt x="1374" y="125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68" name=""/>
            <p:cNvGrpSpPr/>
            <p:nvPr/>
          </p:nvGrpSpPr>
          <p:grpSpPr>
            <a:xfrm>
              <a:off x="7058520" y="3128400"/>
              <a:ext cx="359640" cy="586440"/>
              <a:chOff x="7058520" y="3128400"/>
              <a:chExt cx="359640" cy="586440"/>
            </a:xfrm>
          </p:grpSpPr>
          <p:sp>
            <p:nvSpPr>
              <p:cNvPr id="269" name=""/>
              <p:cNvSpPr/>
              <p:nvPr/>
            </p:nvSpPr>
            <p:spPr>
              <a:xfrm>
                <a:off x="7058520" y="3157920"/>
                <a:ext cx="333000" cy="551880"/>
              </a:xfrm>
              <a:custGeom>
                <a:avLst/>
                <a:gdLst/>
                <a:ahLst/>
                <a:rect l="l" t="t" r="r" b="b"/>
                <a:pathLst>
                  <a:path w="936" h="1540">
                    <a:moveTo>
                      <a:pt x="935" y="1167"/>
                    </a:moveTo>
                    <a:lnTo>
                      <a:pt x="636" y="502"/>
                    </a:lnTo>
                    <a:lnTo>
                      <a:pt x="607" y="963"/>
                    </a:lnTo>
                    <a:lnTo>
                      <a:pt x="250" y="239"/>
                    </a:lnTo>
                    <a:lnTo>
                      <a:pt x="270" y="492"/>
                    </a:lnTo>
                    <a:lnTo>
                      <a:pt x="0" y="0"/>
                    </a:lnTo>
                    <a:lnTo>
                      <a:pt x="269" y="684"/>
                    </a:lnTo>
                    <a:lnTo>
                      <a:pt x="304" y="540"/>
                    </a:lnTo>
                    <a:lnTo>
                      <a:pt x="586" y="1126"/>
                    </a:lnTo>
                    <a:lnTo>
                      <a:pt x="651" y="1317"/>
                    </a:lnTo>
                    <a:lnTo>
                      <a:pt x="681" y="836"/>
                    </a:lnTo>
                    <a:lnTo>
                      <a:pt x="901" y="1539"/>
                    </a:lnTo>
                    <a:lnTo>
                      <a:pt x="935" y="1167"/>
                    </a:lnTo>
                    <a:lnTo>
                      <a:pt x="935" y="1167"/>
                    </a:lnTo>
                    <a:lnTo>
                      <a:pt x="935" y="1167"/>
                    </a:lnTo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7061400" y="3128400"/>
                <a:ext cx="333000" cy="551880"/>
              </a:xfrm>
              <a:custGeom>
                <a:avLst/>
                <a:gdLst/>
                <a:ahLst/>
                <a:rect l="l" t="t" r="r" b="b"/>
                <a:pathLst>
                  <a:path w="936" h="1540">
                    <a:moveTo>
                      <a:pt x="935" y="1166"/>
                    </a:moveTo>
                    <a:lnTo>
                      <a:pt x="636" y="501"/>
                    </a:lnTo>
                    <a:lnTo>
                      <a:pt x="606" y="962"/>
                    </a:lnTo>
                    <a:lnTo>
                      <a:pt x="251" y="240"/>
                    </a:lnTo>
                    <a:lnTo>
                      <a:pt x="270" y="492"/>
                    </a:lnTo>
                    <a:lnTo>
                      <a:pt x="0" y="0"/>
                    </a:lnTo>
                    <a:lnTo>
                      <a:pt x="269" y="684"/>
                    </a:lnTo>
                    <a:lnTo>
                      <a:pt x="303" y="539"/>
                    </a:lnTo>
                    <a:lnTo>
                      <a:pt x="586" y="1126"/>
                    </a:lnTo>
                    <a:lnTo>
                      <a:pt x="652" y="1318"/>
                    </a:lnTo>
                    <a:lnTo>
                      <a:pt x="681" y="835"/>
                    </a:lnTo>
                    <a:lnTo>
                      <a:pt x="902" y="1539"/>
                    </a:lnTo>
                    <a:lnTo>
                      <a:pt x="935" y="1166"/>
                    </a:lnTo>
                    <a:lnTo>
                      <a:pt x="935" y="1166"/>
                    </a:lnTo>
                    <a:lnTo>
                      <a:pt x="935" y="1166"/>
                    </a:lnTo>
                  </a:path>
                </a:pathLst>
              </a:custGeom>
              <a:solidFill>
                <a:srgbClr val="ffe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072560" y="3142080"/>
                <a:ext cx="345600" cy="487080"/>
              </a:xfrm>
              <a:custGeom>
                <a:avLst/>
                <a:gdLst/>
                <a:ahLst/>
                <a:rect l="l" t="t" r="r" b="b"/>
                <a:pathLst>
                  <a:path w="970" h="1359">
                    <a:moveTo>
                      <a:pt x="969" y="1192"/>
                    </a:moveTo>
                    <a:lnTo>
                      <a:pt x="662" y="507"/>
                    </a:lnTo>
                    <a:lnTo>
                      <a:pt x="603" y="940"/>
                    </a:lnTo>
                    <a:lnTo>
                      <a:pt x="259" y="205"/>
                    </a:lnTo>
                    <a:lnTo>
                      <a:pt x="255" y="419"/>
                    </a:lnTo>
                    <a:lnTo>
                      <a:pt x="0" y="0"/>
                    </a:lnTo>
                    <a:lnTo>
                      <a:pt x="266" y="504"/>
                    </a:lnTo>
                    <a:lnTo>
                      <a:pt x="288" y="366"/>
                    </a:lnTo>
                    <a:lnTo>
                      <a:pt x="603" y="1028"/>
                    </a:lnTo>
                    <a:lnTo>
                      <a:pt x="684" y="621"/>
                    </a:lnTo>
                    <a:lnTo>
                      <a:pt x="948" y="1358"/>
                    </a:lnTo>
                    <a:lnTo>
                      <a:pt x="969" y="1192"/>
                    </a:lnTo>
                    <a:lnTo>
                      <a:pt x="969" y="1192"/>
                    </a:lnTo>
                    <a:lnTo>
                      <a:pt x="969" y="119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7103880" y="3215160"/>
                <a:ext cx="290520" cy="499680"/>
              </a:xfrm>
              <a:custGeom>
                <a:avLst/>
                <a:gdLst/>
                <a:ahLst/>
                <a:rect l="l" t="t" r="r" b="b"/>
                <a:pathLst>
                  <a:path w="814" h="1394">
                    <a:moveTo>
                      <a:pt x="794" y="1197"/>
                    </a:moveTo>
                    <a:lnTo>
                      <a:pt x="602" y="616"/>
                    </a:lnTo>
                    <a:lnTo>
                      <a:pt x="562" y="1028"/>
                    </a:lnTo>
                    <a:lnTo>
                      <a:pt x="218" y="303"/>
                    </a:lnTo>
                    <a:lnTo>
                      <a:pt x="171" y="453"/>
                    </a:lnTo>
                    <a:lnTo>
                      <a:pt x="0" y="0"/>
                    </a:lnTo>
                    <a:lnTo>
                      <a:pt x="155" y="546"/>
                    </a:lnTo>
                    <a:lnTo>
                      <a:pt x="222" y="408"/>
                    </a:lnTo>
                    <a:lnTo>
                      <a:pt x="571" y="1146"/>
                    </a:lnTo>
                    <a:lnTo>
                      <a:pt x="625" y="872"/>
                    </a:lnTo>
                    <a:lnTo>
                      <a:pt x="813" y="1393"/>
                    </a:lnTo>
                    <a:lnTo>
                      <a:pt x="794" y="1197"/>
                    </a:lnTo>
                    <a:lnTo>
                      <a:pt x="794" y="1197"/>
                    </a:lnTo>
                    <a:lnTo>
                      <a:pt x="794" y="1197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73" name=""/>
            <p:cNvGrpSpPr/>
            <p:nvPr/>
          </p:nvGrpSpPr>
          <p:grpSpPr>
            <a:xfrm>
              <a:off x="5558760" y="4237560"/>
              <a:ext cx="1045080" cy="296280"/>
              <a:chOff x="5558760" y="4237560"/>
              <a:chExt cx="1045080" cy="296280"/>
            </a:xfrm>
          </p:grpSpPr>
          <p:sp>
            <p:nvSpPr>
              <p:cNvPr id="274" name=""/>
              <p:cNvSpPr/>
              <p:nvPr/>
            </p:nvSpPr>
            <p:spPr>
              <a:xfrm>
                <a:off x="5569560" y="4237560"/>
                <a:ext cx="983520" cy="257400"/>
              </a:xfrm>
              <a:custGeom>
                <a:avLst/>
                <a:gdLst/>
                <a:ahLst/>
                <a:rect l="l" t="t" r="r" b="b"/>
                <a:pathLst>
                  <a:path w="2738" h="724">
                    <a:moveTo>
                      <a:pt x="655" y="723"/>
                    </a:moveTo>
                    <a:lnTo>
                      <a:pt x="1834" y="626"/>
                    </a:lnTo>
                    <a:lnTo>
                      <a:pt x="1024" y="373"/>
                    </a:lnTo>
                    <a:lnTo>
                      <a:pt x="2307" y="229"/>
                    </a:lnTo>
                    <a:lnTo>
                      <a:pt x="1864" y="135"/>
                    </a:lnTo>
                    <a:lnTo>
                      <a:pt x="2737" y="0"/>
                    </a:lnTo>
                    <a:lnTo>
                      <a:pt x="1527" y="45"/>
                    </a:lnTo>
                    <a:lnTo>
                      <a:pt x="1779" y="159"/>
                    </a:lnTo>
                    <a:lnTo>
                      <a:pt x="739" y="267"/>
                    </a:lnTo>
                    <a:lnTo>
                      <a:pt x="397" y="265"/>
                    </a:lnTo>
                    <a:lnTo>
                      <a:pt x="1245" y="532"/>
                    </a:lnTo>
                    <a:lnTo>
                      <a:pt x="0" y="502"/>
                    </a:lnTo>
                    <a:lnTo>
                      <a:pt x="655" y="723"/>
                    </a:lnTo>
                    <a:lnTo>
                      <a:pt x="655" y="723"/>
                    </a:lnTo>
                    <a:lnTo>
                      <a:pt x="655" y="723"/>
                    </a:lnTo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5620320" y="4256280"/>
                <a:ext cx="983520" cy="257400"/>
              </a:xfrm>
              <a:custGeom>
                <a:avLst/>
                <a:gdLst/>
                <a:ahLst/>
                <a:rect l="l" t="t" r="r" b="b"/>
                <a:pathLst>
                  <a:path w="2738" h="723">
                    <a:moveTo>
                      <a:pt x="655" y="722"/>
                    </a:moveTo>
                    <a:lnTo>
                      <a:pt x="1834" y="628"/>
                    </a:lnTo>
                    <a:lnTo>
                      <a:pt x="1024" y="372"/>
                    </a:lnTo>
                    <a:lnTo>
                      <a:pt x="2308" y="229"/>
                    </a:lnTo>
                    <a:lnTo>
                      <a:pt x="1863" y="135"/>
                    </a:lnTo>
                    <a:lnTo>
                      <a:pt x="2737" y="0"/>
                    </a:lnTo>
                    <a:lnTo>
                      <a:pt x="1526" y="44"/>
                    </a:lnTo>
                    <a:lnTo>
                      <a:pt x="1780" y="159"/>
                    </a:lnTo>
                    <a:lnTo>
                      <a:pt x="738" y="268"/>
                    </a:lnTo>
                    <a:lnTo>
                      <a:pt x="397" y="266"/>
                    </a:lnTo>
                    <a:lnTo>
                      <a:pt x="1246" y="533"/>
                    </a:lnTo>
                    <a:lnTo>
                      <a:pt x="0" y="504"/>
                    </a:lnTo>
                    <a:lnTo>
                      <a:pt x="655" y="722"/>
                    </a:lnTo>
                    <a:lnTo>
                      <a:pt x="655" y="722"/>
                    </a:lnTo>
                    <a:lnTo>
                      <a:pt x="655" y="722"/>
                    </a:lnTo>
                  </a:path>
                </a:pathLst>
              </a:custGeom>
              <a:solidFill>
                <a:srgbClr val="ffe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5709240" y="4264200"/>
                <a:ext cx="869760" cy="269640"/>
              </a:xfrm>
              <a:custGeom>
                <a:avLst/>
                <a:gdLst/>
                <a:ahLst/>
                <a:rect l="l" t="t" r="r" b="b"/>
                <a:pathLst>
                  <a:path w="2421" h="759">
                    <a:moveTo>
                      <a:pt x="294" y="758"/>
                    </a:moveTo>
                    <a:lnTo>
                      <a:pt x="1506" y="660"/>
                    </a:lnTo>
                    <a:lnTo>
                      <a:pt x="750" y="379"/>
                    </a:lnTo>
                    <a:lnTo>
                      <a:pt x="2051" y="253"/>
                    </a:lnTo>
                    <a:lnTo>
                      <a:pt x="1675" y="148"/>
                    </a:lnTo>
                    <a:lnTo>
                      <a:pt x="2420" y="0"/>
                    </a:lnTo>
                    <a:lnTo>
                      <a:pt x="1528" y="123"/>
                    </a:lnTo>
                    <a:lnTo>
                      <a:pt x="1764" y="216"/>
                    </a:lnTo>
                    <a:lnTo>
                      <a:pt x="592" y="338"/>
                    </a:lnTo>
                    <a:lnTo>
                      <a:pt x="1303" y="635"/>
                    </a:lnTo>
                    <a:lnTo>
                      <a:pt x="0" y="650"/>
                    </a:lnTo>
                    <a:lnTo>
                      <a:pt x="294" y="758"/>
                    </a:lnTo>
                    <a:lnTo>
                      <a:pt x="294" y="758"/>
                    </a:lnTo>
                    <a:lnTo>
                      <a:pt x="294" y="758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5558760" y="4256280"/>
                <a:ext cx="889920" cy="205560"/>
              </a:xfrm>
              <a:custGeom>
                <a:avLst/>
                <a:gdLst/>
                <a:ahLst/>
                <a:rect l="l" t="t" r="r" b="b"/>
                <a:pathLst>
                  <a:path w="2478" h="578">
                    <a:moveTo>
                      <a:pt x="343" y="565"/>
                    </a:moveTo>
                    <a:lnTo>
                      <a:pt x="1372" y="577"/>
                    </a:lnTo>
                    <a:lnTo>
                      <a:pt x="650" y="330"/>
                    </a:lnTo>
                    <a:lnTo>
                      <a:pt x="1937" y="199"/>
                    </a:lnTo>
                    <a:lnTo>
                      <a:pt x="1675" y="65"/>
                    </a:lnTo>
                    <a:lnTo>
                      <a:pt x="2477" y="44"/>
                    </a:lnTo>
                    <a:lnTo>
                      <a:pt x="1513" y="0"/>
                    </a:lnTo>
                    <a:lnTo>
                      <a:pt x="1753" y="156"/>
                    </a:lnTo>
                    <a:lnTo>
                      <a:pt x="441" y="285"/>
                    </a:lnTo>
                    <a:lnTo>
                      <a:pt x="925" y="489"/>
                    </a:lnTo>
                    <a:lnTo>
                      <a:pt x="0" y="500"/>
                    </a:lnTo>
                    <a:lnTo>
                      <a:pt x="343" y="565"/>
                    </a:lnTo>
                    <a:lnTo>
                      <a:pt x="343" y="565"/>
                    </a:lnTo>
                    <a:lnTo>
                      <a:pt x="343" y="565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78" name=""/>
            <p:cNvGrpSpPr/>
            <p:nvPr/>
          </p:nvGrpSpPr>
          <p:grpSpPr>
            <a:xfrm>
              <a:off x="6628320" y="4693320"/>
              <a:ext cx="510480" cy="713520"/>
              <a:chOff x="6628320" y="4693320"/>
              <a:chExt cx="510480" cy="713520"/>
            </a:xfrm>
          </p:grpSpPr>
          <p:sp>
            <p:nvSpPr>
              <p:cNvPr id="279" name=""/>
              <p:cNvSpPr/>
              <p:nvPr/>
            </p:nvSpPr>
            <p:spPr>
              <a:xfrm>
                <a:off x="6628320" y="4705560"/>
                <a:ext cx="472680" cy="682200"/>
              </a:xfrm>
              <a:custGeom>
                <a:avLst/>
                <a:gdLst/>
                <a:ahLst/>
                <a:rect l="l" t="t" r="r" b="b"/>
                <a:pathLst>
                  <a:path w="1324" h="1896">
                    <a:moveTo>
                      <a:pt x="462" y="1728"/>
                    </a:moveTo>
                    <a:lnTo>
                      <a:pt x="1083" y="1013"/>
                    </a:lnTo>
                    <a:lnTo>
                      <a:pt x="520" y="1234"/>
                    </a:lnTo>
                    <a:lnTo>
                      <a:pt x="1179" y="423"/>
                    </a:lnTo>
                    <a:lnTo>
                      <a:pt x="890" y="584"/>
                    </a:lnTo>
                    <a:lnTo>
                      <a:pt x="1323" y="0"/>
                    </a:lnTo>
                    <a:lnTo>
                      <a:pt x="663" y="689"/>
                    </a:lnTo>
                    <a:lnTo>
                      <a:pt x="853" y="650"/>
                    </a:lnTo>
                    <a:lnTo>
                      <a:pt x="315" y="1300"/>
                    </a:lnTo>
                    <a:lnTo>
                      <a:pt x="122" y="1482"/>
                    </a:lnTo>
                    <a:lnTo>
                      <a:pt x="713" y="1249"/>
                    </a:lnTo>
                    <a:lnTo>
                      <a:pt x="0" y="1895"/>
                    </a:lnTo>
                    <a:lnTo>
                      <a:pt x="462" y="1728"/>
                    </a:lnTo>
                    <a:lnTo>
                      <a:pt x="462" y="1728"/>
                    </a:lnTo>
                    <a:lnTo>
                      <a:pt x="462" y="1728"/>
                    </a:lnTo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6666120" y="4693320"/>
                <a:ext cx="472680" cy="682200"/>
              </a:xfrm>
              <a:custGeom>
                <a:avLst/>
                <a:gdLst/>
                <a:ahLst/>
                <a:rect l="l" t="t" r="r" b="b"/>
                <a:pathLst>
                  <a:path w="1324" h="1896">
                    <a:moveTo>
                      <a:pt x="462" y="1728"/>
                    </a:moveTo>
                    <a:lnTo>
                      <a:pt x="1084" y="1012"/>
                    </a:lnTo>
                    <a:lnTo>
                      <a:pt x="521" y="1234"/>
                    </a:lnTo>
                    <a:lnTo>
                      <a:pt x="1180" y="422"/>
                    </a:lnTo>
                    <a:lnTo>
                      <a:pt x="890" y="584"/>
                    </a:lnTo>
                    <a:lnTo>
                      <a:pt x="1323" y="0"/>
                    </a:lnTo>
                    <a:lnTo>
                      <a:pt x="662" y="689"/>
                    </a:lnTo>
                    <a:lnTo>
                      <a:pt x="853" y="649"/>
                    </a:lnTo>
                    <a:lnTo>
                      <a:pt x="315" y="1298"/>
                    </a:lnTo>
                    <a:lnTo>
                      <a:pt x="122" y="1481"/>
                    </a:lnTo>
                    <a:lnTo>
                      <a:pt x="713" y="1249"/>
                    </a:lnTo>
                    <a:lnTo>
                      <a:pt x="0" y="1895"/>
                    </a:lnTo>
                    <a:lnTo>
                      <a:pt x="462" y="1728"/>
                    </a:lnTo>
                    <a:lnTo>
                      <a:pt x="462" y="1728"/>
                    </a:lnTo>
                    <a:lnTo>
                      <a:pt x="462" y="1728"/>
                    </a:lnTo>
                  </a:path>
                </a:pathLst>
              </a:custGeom>
              <a:solidFill>
                <a:srgbClr val="ffe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6741720" y="4710240"/>
                <a:ext cx="385920" cy="666360"/>
              </a:xfrm>
              <a:custGeom>
                <a:avLst/>
                <a:gdLst/>
                <a:ahLst/>
                <a:rect l="l" t="t" r="r" b="b"/>
                <a:pathLst>
                  <a:path w="1081" h="1852">
                    <a:moveTo>
                      <a:pt x="210" y="1785"/>
                    </a:moveTo>
                    <a:lnTo>
                      <a:pt x="849" y="1049"/>
                    </a:lnTo>
                    <a:lnTo>
                      <a:pt x="305" y="1218"/>
                    </a:lnTo>
                    <a:lnTo>
                      <a:pt x="981" y="412"/>
                    </a:lnTo>
                    <a:lnTo>
                      <a:pt x="725" y="527"/>
                    </a:lnTo>
                    <a:lnTo>
                      <a:pt x="1080" y="0"/>
                    </a:lnTo>
                    <a:lnTo>
                      <a:pt x="631" y="586"/>
                    </a:lnTo>
                    <a:lnTo>
                      <a:pt x="804" y="537"/>
                    </a:lnTo>
                    <a:lnTo>
                      <a:pt x="198" y="1268"/>
                    </a:lnTo>
                    <a:lnTo>
                      <a:pt x="724" y="1137"/>
                    </a:lnTo>
                    <a:lnTo>
                      <a:pt x="0" y="1851"/>
                    </a:lnTo>
                    <a:lnTo>
                      <a:pt x="210" y="1785"/>
                    </a:lnTo>
                    <a:lnTo>
                      <a:pt x="210" y="1785"/>
                    </a:lnTo>
                    <a:lnTo>
                      <a:pt x="210" y="1785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6631200" y="4789800"/>
                <a:ext cx="428400" cy="617040"/>
              </a:xfrm>
              <a:custGeom>
                <a:avLst/>
                <a:gdLst/>
                <a:ahLst/>
                <a:rect l="l" t="t" r="r" b="b"/>
                <a:pathLst>
                  <a:path w="1199" h="1717">
                    <a:moveTo>
                      <a:pt x="221" y="1586"/>
                    </a:moveTo>
                    <a:lnTo>
                      <a:pt x="804" y="1042"/>
                    </a:lnTo>
                    <a:lnTo>
                      <a:pt x="293" y="1222"/>
                    </a:lnTo>
                    <a:lnTo>
                      <a:pt x="961" y="422"/>
                    </a:lnTo>
                    <a:lnTo>
                      <a:pt x="757" y="451"/>
                    </a:lnTo>
                    <a:lnTo>
                      <a:pt x="1198" y="0"/>
                    </a:lnTo>
                    <a:lnTo>
                      <a:pt x="638" y="482"/>
                    </a:lnTo>
                    <a:lnTo>
                      <a:pt x="839" y="484"/>
                    </a:lnTo>
                    <a:lnTo>
                      <a:pt x="157" y="1299"/>
                    </a:lnTo>
                    <a:lnTo>
                      <a:pt x="515" y="1209"/>
                    </a:lnTo>
                    <a:lnTo>
                      <a:pt x="0" y="1716"/>
                    </a:lnTo>
                    <a:lnTo>
                      <a:pt x="221" y="1586"/>
                    </a:lnTo>
                    <a:lnTo>
                      <a:pt x="221" y="1586"/>
                    </a:lnTo>
                    <a:lnTo>
                      <a:pt x="221" y="158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83" name=""/>
            <p:cNvGrpSpPr/>
            <p:nvPr/>
          </p:nvGrpSpPr>
          <p:grpSpPr>
            <a:xfrm>
              <a:off x="7250760" y="2238120"/>
              <a:ext cx="640440" cy="596160"/>
              <a:chOff x="7250760" y="2238120"/>
              <a:chExt cx="640440" cy="596160"/>
            </a:xfrm>
          </p:grpSpPr>
          <p:sp>
            <p:nvSpPr>
              <p:cNvPr id="284" name=""/>
              <p:cNvSpPr/>
              <p:nvPr/>
            </p:nvSpPr>
            <p:spPr>
              <a:xfrm>
                <a:off x="7251840" y="2242440"/>
                <a:ext cx="601200" cy="571320"/>
              </a:xfrm>
              <a:custGeom>
                <a:avLst/>
                <a:gdLst/>
                <a:ahLst/>
                <a:rect l="l" t="t" r="r" b="b"/>
                <a:pathLst>
                  <a:path w="1672" h="1591">
                    <a:moveTo>
                      <a:pt x="484" y="1519"/>
                    </a:moveTo>
                    <a:lnTo>
                      <a:pt x="1233" y="943"/>
                    </a:lnTo>
                    <a:lnTo>
                      <a:pt x="639" y="1048"/>
                    </a:lnTo>
                    <a:lnTo>
                      <a:pt x="1445" y="387"/>
                    </a:lnTo>
                    <a:lnTo>
                      <a:pt x="1131" y="486"/>
                    </a:lnTo>
                    <a:lnTo>
                      <a:pt x="1671" y="0"/>
                    </a:lnTo>
                    <a:lnTo>
                      <a:pt x="888" y="542"/>
                    </a:lnTo>
                    <a:lnTo>
                      <a:pt x="1082" y="542"/>
                    </a:lnTo>
                    <a:lnTo>
                      <a:pt x="427" y="1071"/>
                    </a:lnTo>
                    <a:lnTo>
                      <a:pt x="203" y="1209"/>
                    </a:lnTo>
                    <a:lnTo>
                      <a:pt x="824" y="1101"/>
                    </a:lnTo>
                    <a:lnTo>
                      <a:pt x="0" y="1590"/>
                    </a:lnTo>
                    <a:lnTo>
                      <a:pt x="484" y="1519"/>
                    </a:lnTo>
                    <a:lnTo>
                      <a:pt x="484" y="1519"/>
                    </a:lnTo>
                    <a:lnTo>
                      <a:pt x="484" y="1519"/>
                    </a:lnTo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7290000" y="2238120"/>
                <a:ext cx="601200" cy="571320"/>
              </a:xfrm>
              <a:custGeom>
                <a:avLst/>
                <a:gdLst/>
                <a:ahLst/>
                <a:rect l="l" t="t" r="r" b="b"/>
                <a:pathLst>
                  <a:path w="1672" h="1591">
                    <a:moveTo>
                      <a:pt x="484" y="1518"/>
                    </a:moveTo>
                    <a:lnTo>
                      <a:pt x="1234" y="943"/>
                    </a:lnTo>
                    <a:lnTo>
                      <a:pt x="639" y="1047"/>
                    </a:lnTo>
                    <a:lnTo>
                      <a:pt x="1447" y="387"/>
                    </a:lnTo>
                    <a:lnTo>
                      <a:pt x="1131" y="487"/>
                    </a:lnTo>
                    <a:lnTo>
                      <a:pt x="1671" y="0"/>
                    </a:lnTo>
                    <a:lnTo>
                      <a:pt x="888" y="542"/>
                    </a:lnTo>
                    <a:lnTo>
                      <a:pt x="1081" y="541"/>
                    </a:lnTo>
                    <a:lnTo>
                      <a:pt x="426" y="1070"/>
                    </a:lnTo>
                    <a:lnTo>
                      <a:pt x="203" y="1209"/>
                    </a:lnTo>
                    <a:lnTo>
                      <a:pt x="823" y="1101"/>
                    </a:lnTo>
                    <a:lnTo>
                      <a:pt x="0" y="1590"/>
                    </a:lnTo>
                    <a:lnTo>
                      <a:pt x="484" y="1518"/>
                    </a:lnTo>
                    <a:lnTo>
                      <a:pt x="484" y="1518"/>
                    </a:lnTo>
                    <a:lnTo>
                      <a:pt x="484" y="1518"/>
                    </a:lnTo>
                  </a:path>
                </a:pathLst>
              </a:custGeom>
              <a:solidFill>
                <a:srgbClr val="ffe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7363080" y="2253600"/>
                <a:ext cx="512280" cy="572760"/>
              </a:xfrm>
              <a:custGeom>
                <a:avLst/>
                <a:gdLst/>
                <a:ahLst/>
                <a:rect l="l" t="t" r="r" b="b"/>
                <a:pathLst>
                  <a:path w="1426" h="1595">
                    <a:moveTo>
                      <a:pt x="218" y="1572"/>
                    </a:moveTo>
                    <a:lnTo>
                      <a:pt x="988" y="980"/>
                    </a:lnTo>
                    <a:lnTo>
                      <a:pt x="423" y="1037"/>
                    </a:lnTo>
                    <a:lnTo>
                      <a:pt x="1246" y="384"/>
                    </a:lnTo>
                    <a:lnTo>
                      <a:pt x="973" y="445"/>
                    </a:lnTo>
                    <a:lnTo>
                      <a:pt x="1425" y="0"/>
                    </a:lnTo>
                    <a:lnTo>
                      <a:pt x="869" y="482"/>
                    </a:lnTo>
                    <a:lnTo>
                      <a:pt x="1049" y="469"/>
                    </a:lnTo>
                    <a:lnTo>
                      <a:pt x="310" y="1064"/>
                    </a:lnTo>
                    <a:lnTo>
                      <a:pt x="849" y="1041"/>
                    </a:lnTo>
                    <a:lnTo>
                      <a:pt x="0" y="1594"/>
                    </a:lnTo>
                    <a:lnTo>
                      <a:pt x="218" y="1572"/>
                    </a:lnTo>
                    <a:lnTo>
                      <a:pt x="218" y="1572"/>
                    </a:lnTo>
                    <a:lnTo>
                      <a:pt x="218" y="157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7250760" y="2318760"/>
                <a:ext cx="543960" cy="515520"/>
              </a:xfrm>
              <a:custGeom>
                <a:avLst/>
                <a:gdLst/>
                <a:ahLst/>
                <a:rect l="l" t="t" r="r" b="b"/>
                <a:pathLst>
                  <a:path w="1511" h="1438">
                    <a:moveTo>
                      <a:pt x="241" y="1354"/>
                    </a:moveTo>
                    <a:lnTo>
                      <a:pt x="916" y="938"/>
                    </a:lnTo>
                    <a:lnTo>
                      <a:pt x="384" y="1012"/>
                    </a:lnTo>
                    <a:lnTo>
                      <a:pt x="1193" y="363"/>
                    </a:lnTo>
                    <a:lnTo>
                      <a:pt x="989" y="349"/>
                    </a:lnTo>
                    <a:lnTo>
                      <a:pt x="1510" y="0"/>
                    </a:lnTo>
                    <a:lnTo>
                      <a:pt x="867" y="357"/>
                    </a:lnTo>
                    <a:lnTo>
                      <a:pt x="1062" y="399"/>
                    </a:lnTo>
                    <a:lnTo>
                      <a:pt x="235" y="1059"/>
                    </a:lnTo>
                    <a:lnTo>
                      <a:pt x="603" y="1044"/>
                    </a:lnTo>
                    <a:lnTo>
                      <a:pt x="0" y="1437"/>
                    </a:lnTo>
                    <a:lnTo>
                      <a:pt x="241" y="1354"/>
                    </a:lnTo>
                    <a:lnTo>
                      <a:pt x="241" y="1354"/>
                    </a:lnTo>
                    <a:lnTo>
                      <a:pt x="241" y="135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88" name=""/>
            <p:cNvGrpSpPr/>
            <p:nvPr/>
          </p:nvGrpSpPr>
          <p:grpSpPr>
            <a:xfrm>
              <a:off x="7790040" y="4217040"/>
              <a:ext cx="697680" cy="529200"/>
              <a:chOff x="7790040" y="4217040"/>
              <a:chExt cx="697680" cy="529200"/>
            </a:xfrm>
          </p:grpSpPr>
          <p:sp>
            <p:nvSpPr>
              <p:cNvPr id="289" name=""/>
              <p:cNvSpPr/>
              <p:nvPr/>
            </p:nvSpPr>
            <p:spPr>
              <a:xfrm>
                <a:off x="7800840" y="4253040"/>
                <a:ext cx="666000" cy="493200"/>
              </a:xfrm>
              <a:custGeom>
                <a:avLst/>
                <a:gdLst/>
                <a:ahLst/>
                <a:rect l="l" t="t" r="r" b="b"/>
                <a:pathLst>
                  <a:path w="1858" h="1373">
                    <a:moveTo>
                      <a:pt x="1703" y="906"/>
                    </a:moveTo>
                    <a:lnTo>
                      <a:pt x="1006" y="268"/>
                    </a:lnTo>
                    <a:lnTo>
                      <a:pt x="1211" y="834"/>
                    </a:lnTo>
                    <a:lnTo>
                      <a:pt x="419" y="154"/>
                    </a:lnTo>
                    <a:lnTo>
                      <a:pt x="572" y="448"/>
                    </a:lnTo>
                    <a:lnTo>
                      <a:pt x="0" y="0"/>
                    </a:lnTo>
                    <a:lnTo>
                      <a:pt x="671" y="677"/>
                    </a:lnTo>
                    <a:lnTo>
                      <a:pt x="637" y="486"/>
                    </a:lnTo>
                    <a:lnTo>
                      <a:pt x="1271" y="1041"/>
                    </a:lnTo>
                    <a:lnTo>
                      <a:pt x="1447" y="1238"/>
                    </a:lnTo>
                    <a:lnTo>
                      <a:pt x="1232" y="644"/>
                    </a:lnTo>
                    <a:lnTo>
                      <a:pt x="1857" y="1372"/>
                    </a:lnTo>
                    <a:lnTo>
                      <a:pt x="1703" y="906"/>
                    </a:lnTo>
                    <a:lnTo>
                      <a:pt x="1703" y="906"/>
                    </a:lnTo>
                    <a:lnTo>
                      <a:pt x="1703" y="906"/>
                    </a:lnTo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7790040" y="4217040"/>
                <a:ext cx="666000" cy="493200"/>
              </a:xfrm>
              <a:custGeom>
                <a:avLst/>
                <a:gdLst/>
                <a:ahLst/>
                <a:rect l="l" t="t" r="r" b="b"/>
                <a:pathLst>
                  <a:path w="1858" h="1372">
                    <a:moveTo>
                      <a:pt x="1702" y="906"/>
                    </a:moveTo>
                    <a:lnTo>
                      <a:pt x="1006" y="266"/>
                    </a:lnTo>
                    <a:lnTo>
                      <a:pt x="1211" y="834"/>
                    </a:lnTo>
                    <a:lnTo>
                      <a:pt x="419" y="153"/>
                    </a:lnTo>
                    <a:lnTo>
                      <a:pt x="572" y="447"/>
                    </a:lnTo>
                    <a:lnTo>
                      <a:pt x="0" y="0"/>
                    </a:lnTo>
                    <a:lnTo>
                      <a:pt x="670" y="677"/>
                    </a:lnTo>
                    <a:lnTo>
                      <a:pt x="636" y="486"/>
                    </a:lnTo>
                    <a:lnTo>
                      <a:pt x="1269" y="1040"/>
                    </a:lnTo>
                    <a:lnTo>
                      <a:pt x="1447" y="1238"/>
                    </a:lnTo>
                    <a:lnTo>
                      <a:pt x="1232" y="643"/>
                    </a:lnTo>
                    <a:lnTo>
                      <a:pt x="1857" y="1371"/>
                    </a:lnTo>
                    <a:lnTo>
                      <a:pt x="1702" y="906"/>
                    </a:lnTo>
                    <a:lnTo>
                      <a:pt x="1702" y="906"/>
                    </a:lnTo>
                    <a:lnTo>
                      <a:pt x="1702" y="906"/>
                    </a:lnTo>
                  </a:path>
                </a:pathLst>
              </a:custGeom>
              <a:solidFill>
                <a:srgbClr val="ffe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7808760" y="4229280"/>
                <a:ext cx="653400" cy="406080"/>
              </a:xfrm>
              <a:custGeom>
                <a:avLst/>
                <a:gdLst/>
                <a:ahLst/>
                <a:rect l="l" t="t" r="r" b="b"/>
                <a:pathLst>
                  <a:path w="1822" h="1131">
                    <a:moveTo>
                      <a:pt x="1761" y="918"/>
                    </a:moveTo>
                    <a:lnTo>
                      <a:pt x="1044" y="261"/>
                    </a:lnTo>
                    <a:lnTo>
                      <a:pt x="1197" y="808"/>
                    </a:lnTo>
                    <a:lnTo>
                      <a:pt x="410" y="111"/>
                    </a:lnTo>
                    <a:lnTo>
                      <a:pt x="517" y="369"/>
                    </a:lnTo>
                    <a:lnTo>
                      <a:pt x="0" y="0"/>
                    </a:lnTo>
                    <a:lnTo>
                      <a:pt x="574" y="465"/>
                    </a:lnTo>
                    <a:lnTo>
                      <a:pt x="530" y="290"/>
                    </a:lnTo>
                    <a:lnTo>
                      <a:pt x="1244" y="915"/>
                    </a:lnTo>
                    <a:lnTo>
                      <a:pt x="1129" y="388"/>
                    </a:lnTo>
                    <a:lnTo>
                      <a:pt x="1821" y="1130"/>
                    </a:lnTo>
                    <a:lnTo>
                      <a:pt x="1761" y="918"/>
                    </a:lnTo>
                    <a:lnTo>
                      <a:pt x="1761" y="918"/>
                    </a:lnTo>
                    <a:lnTo>
                      <a:pt x="1761" y="918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7885080" y="4297680"/>
                <a:ext cx="602640" cy="447120"/>
              </a:xfrm>
              <a:custGeom>
                <a:avLst/>
                <a:gdLst/>
                <a:ahLst/>
                <a:rect l="l" t="t" r="r" b="b"/>
                <a:pathLst>
                  <a:path w="1682" h="1245">
                    <a:moveTo>
                      <a:pt x="1558" y="1021"/>
                    </a:moveTo>
                    <a:lnTo>
                      <a:pt x="1030" y="424"/>
                    </a:lnTo>
                    <a:lnTo>
                      <a:pt x="1196" y="938"/>
                    </a:lnTo>
                    <a:lnTo>
                      <a:pt x="416" y="250"/>
                    </a:lnTo>
                    <a:lnTo>
                      <a:pt x="438" y="454"/>
                    </a:lnTo>
                    <a:lnTo>
                      <a:pt x="0" y="0"/>
                    </a:lnTo>
                    <a:lnTo>
                      <a:pt x="466" y="574"/>
                    </a:lnTo>
                    <a:lnTo>
                      <a:pt x="474" y="372"/>
                    </a:lnTo>
                    <a:lnTo>
                      <a:pt x="1268" y="1076"/>
                    </a:lnTo>
                    <a:lnTo>
                      <a:pt x="1189" y="715"/>
                    </a:lnTo>
                    <a:lnTo>
                      <a:pt x="1681" y="1244"/>
                    </a:lnTo>
                    <a:lnTo>
                      <a:pt x="1558" y="1021"/>
                    </a:lnTo>
                    <a:lnTo>
                      <a:pt x="1558" y="1021"/>
                    </a:lnTo>
                    <a:lnTo>
                      <a:pt x="1558" y="102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vsg</cp:lastModifiedBy>
  <dcterms:modified xsi:type="dcterms:W3CDTF">2004-08-09T13:04:30Z</dcterms:modified>
  <cp:revision>17</cp:revision>
  <dc:subject/>
  <dc:title>Ubiqüidade</dc:title>
</cp:coreProperties>
</file>