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8649-1B5D-4B02-B188-C99F4D2CCD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vantar o questionamento de o por que de mais uma A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as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icrosoft® Windows® provides functions that enable an application to add audio services. The multimedia audio functions were introduced in 16-bit Windows. Many of their features have been superseded by features in DirectX. For more information, see the DirectX docu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038-350C-49E7-8C0D-144BDBF3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6C9-1350-4D73-92A3-1CCD4E08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4FA-D4FE-4924-AE91-B4A27DC5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B03-EA99-4CE6-8675-B4D887B0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CBAD-5EB2-44E1-9DB5-1E2A93D8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F4FD-8AE9-4BBE-818B-46272A82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30FA-AF19-408B-9AEA-E41989F7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3E94-5ED9-43CD-85B9-F2F5984D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F0E1-D507-464B-B6D7-EADD5F47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C3C1-2AE9-4605-95C1-ED9F051D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A15F-567F-473F-8C0D-74888295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43A-8B03-44D4-857E-D2EC2314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3FF5-4C9E-4134-9E81-F0388B3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B901-4E56-41B1-9A02-92A3F919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4BD9-1FF4-43FF-8136-946172DB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A8CD-CFB1-4EED-A3C3-C76D0AA9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CF49-6E36-43E6-AFF6-D23D62BB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5EF-F95B-437E-AA5C-7789EC59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0F7-0627-4701-8E8F-CD50B2F1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6FE-6670-4379-9638-737EE416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DE8E-154B-4388-A72D-4EC9093E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FD3-D698-4970-820A-FE25A688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209-9FAC-478F-96B0-8129A376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DF0-F012-457F-AD9A-81B8AC75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B836-4436-48C6-8411-15BFD3B27643}" type="slidenum"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971A-4AF3-4B52-9C98-C276BF06A610}" type="slidenum"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02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Waveform Audio</a:t>
            </a:r>
            <a:br>
              <a:rPr sz="4000"/>
            </a:b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PI Multimedia Audio do Window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581280" y="3657240"/>
            <a:ext cx="47246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mputação Music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rof. Geber Ramalh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lexandre Sarmento, Arlei Calazans, Diogo José, Jarbas Já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{asas, ajcm, djca, jjoj}@cin.ufpe.b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CM Waveform-Audio Data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CM Data Pack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8-bit mon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8-bit stere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16-bit mon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16-bit stere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Outros  (WAVEFORMATEXTENSIBL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692360" y="2765520"/>
          <a:ext cx="5600520" cy="125532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866960"/>
              </a:tblGrid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ormato de dado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alor máxim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alor do mei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-bit PC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5 (0xFF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 128 (0x80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-bit PC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67 (0x7FFF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 32,768 (0x8000)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2917800" y="4797360"/>
            <a:ext cx="460836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2520" y="4797360"/>
            <a:ext cx="5032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30880" y="4797360"/>
            <a:ext cx="50292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38880" y="4797360"/>
            <a:ext cx="5032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46880" y="4797360"/>
            <a:ext cx="5032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7800" y="5157720"/>
            <a:ext cx="460836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2616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5016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4688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216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3888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3380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3088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2580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2252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2520" y="5157720"/>
            <a:ext cx="50328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30880" y="5157720"/>
            <a:ext cx="50292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46880" y="5157720"/>
            <a:ext cx="50328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38880" y="5157720"/>
            <a:ext cx="50328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50160" y="515772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42160" y="515772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33800" y="515772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25800" y="515772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1780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16360" y="480528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17800" y="515772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17800" y="5877000"/>
            <a:ext cx="460836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25800" y="5877000"/>
            <a:ext cx="100800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42160" y="5877000"/>
            <a:ext cx="100800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50160" y="587700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3800" y="587700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17800" y="587700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17800" y="5518080"/>
            <a:ext cx="460836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50160" y="551808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33800" y="551808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17800" y="551808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25800" y="551808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42160" y="551808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7166520" y="4437720"/>
            <a:ext cx="144720" cy="431640"/>
          </a:xfrm>
          <a:custGeom>
            <a:avLst/>
            <a:gdLst>
              <a:gd name="textAreaLeft" fmla="*/ 0 w 144720"/>
              <a:gd name="textAreaRight" fmla="*/ 5220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41"/>
                </a:lnTo>
                <a:cubicBezTo>
                  <a:pt x="10800" y="9741"/>
                  <a:pt x="16200" y="10641"/>
                  <a:pt x="21600" y="10641"/>
                </a:cubicBezTo>
                <a:cubicBezTo>
                  <a:pt x="16200" y="10641"/>
                  <a:pt x="10800" y="11541"/>
                  <a:pt x="10800" y="1244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19080" y="4076640"/>
            <a:ext cx="193032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8 bits = 1 by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527960" y="4653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527960" y="4987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27960" y="5302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27960" y="566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Blocos de Dados de Áud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Funçõe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waveInPrepareHea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waveInUnprepareHea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waveOutPrepareHea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waveOutUnprepareHea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uando dwFlags = WHDR_DONE o buffer foi preenchido totalment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ve-se usar no mínimo dois buffers para não ocorrer falhas no som (tem que dar tempo de preparar um buffer enquanto o outro ainda está sendo preenchido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263760" y="3505320"/>
            <a:ext cx="2667240" cy="1701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1968120" y="4317480"/>
            <a:ext cx="1536840" cy="48276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ptura (waveIn)</a:t>
            </a:r>
            <a:br>
              <a:rPr sz="4400"/>
            </a:b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Inicializan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79720" y="2679840"/>
            <a:ext cx="134964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Op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2840" y="4127400"/>
            <a:ext cx="1223280" cy="30708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InHandl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21120" y="2451240"/>
            <a:ext cx="835920" cy="3070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deviceID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968480" y="3136680"/>
            <a:ext cx="1752480" cy="95220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11480" y="2603520"/>
            <a:ext cx="609480" cy="152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85560" y="2908440"/>
            <a:ext cx="1689480" cy="3070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FORMATEX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111480" y="2908080"/>
            <a:ext cx="609480" cy="152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97400" y="3772080"/>
            <a:ext cx="221544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PrepareHead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51120" y="4597560"/>
            <a:ext cx="184500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AddBuff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994040" y="4114800"/>
            <a:ext cx="1358640" cy="10152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76880" y="4140360"/>
            <a:ext cx="1087560" cy="30708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HD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626080" y="4368960"/>
            <a:ext cx="1295280" cy="3808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54680" y="3924360"/>
            <a:ext cx="1066680" cy="152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55320" y="5905440"/>
            <a:ext cx="128700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Sta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68480" y="4508640"/>
            <a:ext cx="1841400" cy="1511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47680" y="516888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cc99"/>
                </a:solidFill>
                <a:latin typeface="Times New Roman"/>
              </a:rPr>
              <a:t>“</a:t>
            </a:r>
            <a:r>
              <a:rPr b="0" lang="pt-BR" sz="1400" spc="-1" strike="noStrike">
                <a:solidFill>
                  <a:srgbClr val="cccc99"/>
                </a:solidFill>
                <a:latin typeface="Times New Roman"/>
              </a:rPr>
              <a:t>prepararBuffer()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09280" y="37209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1120" y="45338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132280" y="351792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31240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421632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0" y="5092560"/>
            <a:ext cx="0" cy="685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ptura (waveIn)</a:t>
            </a:r>
            <a:br>
              <a:rPr sz="4400"/>
            </a:b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Lendo os D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00280" y="3048120"/>
            <a:ext cx="16002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5480" y="3121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verificar buff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14600" y="3352680"/>
            <a:ext cx="1143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89480" y="304812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reenchid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93" idx="2"/>
          </p:cNvCxnSpPr>
          <p:nvPr/>
        </p:nvCxnSpPr>
        <p:spPr>
          <a:xfrm flipH="1" flipV="1" rot="10800000">
            <a:off x="799200" y="3314520"/>
            <a:ext cx="813240" cy="173520"/>
          </a:xfrm>
          <a:prstGeom prst="bentConnector4">
            <a:avLst>
              <a:gd name="adj1" fmla="val -28122"/>
              <a:gd name="adj2" fmla="val 28607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419040" y="3886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está preenchend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15280" y="3137040"/>
            <a:ext cx="248184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UnprepareHead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360" y="2374920"/>
            <a:ext cx="1223280" cy="30708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InHandl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029200" y="2755440"/>
            <a:ext cx="0" cy="30492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91520" y="3048120"/>
            <a:ext cx="109224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17440" y="31212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ler d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3352680"/>
            <a:ext cx="7617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36800" y="4343400"/>
            <a:ext cx="1087560" cy="30708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HD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2133360" y="3657240"/>
            <a:ext cx="1981080" cy="6094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2590920"/>
            <a:ext cx="45720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495680" y="3580920"/>
            <a:ext cx="2743200" cy="68580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924680" y="3733920"/>
            <a:ext cx="0" cy="1676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23240" y="5562720"/>
            <a:ext cx="177804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76520" y="56386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processar d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5410080"/>
            <a:ext cx="5715000" cy="83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10360" y="5638680"/>
            <a:ext cx="221544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PrepareHead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20520" y="5638680"/>
            <a:ext cx="184500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AddBuff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60280" y="622296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cc99"/>
                </a:solidFill>
                <a:latin typeface="Times New Roman"/>
              </a:rPr>
              <a:t>“</a:t>
            </a:r>
            <a:r>
              <a:rPr b="0" lang="pt-BR" sz="1400" spc="-1" strike="noStrike">
                <a:solidFill>
                  <a:srgbClr val="cccc99"/>
                </a:solidFill>
                <a:latin typeface="Times New Roman"/>
              </a:rPr>
              <a:t>prepararBuffer()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905120" y="373392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895480" y="5867280"/>
            <a:ext cx="5335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35800" y="49528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380880" cy="83844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286000" y="4724280"/>
            <a:ext cx="1752480" cy="83844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78400" y="49528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263760" y="3886200"/>
            <a:ext cx="26672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produção (waveOu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79720" y="2679840"/>
            <a:ext cx="150192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OutOp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2840" y="4127400"/>
            <a:ext cx="1342080" cy="30708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OutHandl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21120" y="2451240"/>
            <a:ext cx="835920" cy="3070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deviceID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968480" y="3136680"/>
            <a:ext cx="1752480" cy="95220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11480" y="2603520"/>
            <a:ext cx="609480" cy="152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85560" y="2908440"/>
            <a:ext cx="1689480" cy="3070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FORMATEX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111480" y="2908080"/>
            <a:ext cx="609480" cy="152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97400" y="4114800"/>
            <a:ext cx="221544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PrepareHead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082600" y="4276800"/>
            <a:ext cx="1277640" cy="324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76880" y="4140360"/>
            <a:ext cx="1087560" cy="30708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HD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4267080"/>
            <a:ext cx="1143000" cy="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14920" y="5905440"/>
            <a:ext cx="152964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OutWri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68480" y="4508640"/>
            <a:ext cx="1689120" cy="1511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183720" y="396252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2280" y="351792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0" y="3124080"/>
            <a:ext cx="0" cy="685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4952880"/>
            <a:ext cx="0" cy="825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562720" y="4495680"/>
            <a:ext cx="1371600" cy="137160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irectSound e DirectSho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DirectSound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: permite algumas funcionalidades e facilidades a mais que a API do Windows, como executar vários sons simultaneamente (ideal para jogo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DirectShow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: arquitetura para media-streamming com a qual pode-se tocar e capturar áudio e vídeos aplicando-lhes filtros facilment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siderações Fina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ntes de escolher entre DirectSound, DirectShow ou a própria API de Áudio do Windows deve-se levar em consideração todos os requisitos do sistema. Assim, escolhe-se o que satisfaz a maioria dos requisitos, pois ambos teoricamente têm desempenho equivalent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API de Áudio do Window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http://msdn.microsoft.com/library/en-us/multimed/htm/_win32_multimedia_audio.asp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DirectSound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http://msdn.microsoft.com/library/en-us/directx9_c/directx/htm/directsound.as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DirectShow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http://msdn.microsoft.com/library/en-us/directshow/htm/directshow.as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otiv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Como capturar áudio da placa de som com eficiência no Window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Exemplo prático de uso do formato PCM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Quais são as demais funcionalidades da API de Áudio do Window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Que outros recursos podem ser usados em vez dessa API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Introdu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Multimedia Aud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Usando a AP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aptura (waveIn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Reprodução (waveOut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DirectSound e DirectSho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onsiderações Fina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O que é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Funções e estrutu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Relativamente baixo ní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Orientada a mensage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ultimedia Aud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udio Compression Manager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udio Mixer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MID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Waveform Aud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Usada por aplicativos que precisam do maior controle possível dos dispositivos de áudi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s funções e estruturas (em letras maiúsculas) dessa interface são nomeadas com o prefixo “wave”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Vejamo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isposit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ipos de D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Blocos de Dados de Áud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1856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Dispositivo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brindo dispositivos Waveform-Audi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InOp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OutOp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Pesquisando disposi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InGetNumDev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OutGetNumDev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InGetDevCaps (preenche WAVEINCAP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OutGetDevCaps (preenche WAVEOUTCAP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2286000"/>
            <a:ext cx="403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INCA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typedef struct {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Mid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Pid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MMVERSION vDriverVersion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TCHAR     szPname[MAXPNAMELEN]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dwFormat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Channel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Reserved1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} WAVEINCAPS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84720" y="3789360"/>
            <a:ext cx="403380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OUTCA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typedef struct {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Mid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Pid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MMVERSION vDriverVersion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TCHAR     szPname[MAXPNAMELEN]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dwFormat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Channel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Reserved1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dwSupport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} WAVEOUTCAP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Tipos de Dados (Estruturas)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Handles: HWAVEIN e HWAVEO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FORMATE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typedef struct {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WORD  wFormatTag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WORD  nChannels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DWORD nSamplesPerSec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DWORD nAvgBytesPerSec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WORD  nBlockAlign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WORD  wBitsPerSample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WORD  cbSize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} WAVEFORMATEX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59280" y="3357720"/>
            <a:ext cx="40338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HD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typedef struct {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LPSTR      lpData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 dwBufferLength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 dwBytesRecorded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_PTR  dwUser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 dwFlag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 dwLoop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struct wavehdr_tag * lpNext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_PTR reserved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} WAVEHDR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oj</cp:lastModifiedBy>
  <dcterms:modified xsi:type="dcterms:W3CDTF">2001-02-24T04:52:25Z</dcterms:modified>
  <cp:revision>15</cp:revision>
  <dc:subject/>
  <dc:title>PowerPoint Presentation</dc:title>
</cp:coreProperties>
</file>