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1DE-DB5D-4A04-9650-E40EBC8E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2880" y="412992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26B-E966-4B14-909B-94B173DA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48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474-E3C1-4E15-A894-EF078246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05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7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28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05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7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52A-FBD3-4C19-82EE-D75E2B1A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4326-721B-45EF-8A0C-1054374C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2880" y="198108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77CB-A5D6-499F-B84D-6741EE05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78C6-C85E-4E5A-9FE5-CC68D5F9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9256-ECBD-4562-B88A-C15B0508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D94A-1F1D-48FF-BCD7-F98B0DFB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2880" y="4568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6F66-C507-4491-A79D-931E09C0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C64D-97F6-426A-A413-8C4214E9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2880" y="198108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5CB-458D-4756-8D52-12F697C6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48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D18F-1805-47D8-896F-57F371A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6919-FC9E-4A65-B60A-F9FBC92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2880" y="412992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1ED6-96C6-4527-84EC-08F4A739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48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FEB8-7F9B-43DB-86D4-DDD5A140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05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7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28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05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7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D19D-140E-4C98-B317-3295E3FB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63F-4B91-4733-B356-FA6E822F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119-FCB9-49AD-BD1B-B430981D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6D7-A510-4DCF-96C9-9AC4AA31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2880" y="4568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D6D-4A13-4266-A609-1C02AFF1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AB7-3F36-4760-99E8-D845024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48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103-3A3A-4EEA-B786-E8DE88E6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FED-9788-463B-A1A8-415FD84C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1149480"/>
            <a:ext cx="1066680" cy="9149040"/>
            <a:chOff x="-720" y="-1149480"/>
            <a:chExt cx="1066680" cy="9149040"/>
          </a:xfrm>
        </p:grpSpPr>
        <p:grpSp>
          <p:nvGrpSpPr>
            <p:cNvPr id="1" name=""/>
            <p:cNvGrpSpPr/>
            <p:nvPr/>
          </p:nvGrpSpPr>
          <p:grpSpPr>
            <a:xfrm>
              <a:off x="167760" y="-1149480"/>
              <a:ext cx="759240" cy="9149040"/>
              <a:chOff x="167760" y="-1149480"/>
              <a:chExt cx="759240" cy="91490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174600" y="-1149480"/>
                <a:ext cx="74304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174600" y="111456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174600" y="573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174600" y="-94464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174600" y="16992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174600" y="-236520"/>
                <a:ext cx="74304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74600" y="-647640"/>
                <a:ext cx="752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168120" y="4111560"/>
                <a:ext cx="74304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68120" y="3570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168120" y="205092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168120" y="316548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168120" y="2760840"/>
                <a:ext cx="74304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167400" y="2347920"/>
                <a:ext cx="7527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174600" y="548640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174600" y="494496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168120" y="6423120"/>
                <a:ext cx="7430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11040" y="7396200"/>
                <a:ext cx="462240" cy="7444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168120" y="7132680"/>
                <a:ext cx="74304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167400" y="6719760"/>
                <a:ext cx="7527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2880" y="198108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B1997A-B72E-4344-A492-C1026335D8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6160" cy="1012320"/>
              <a:chOff x="-3600" y="2479680"/>
              <a:chExt cx="914616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708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0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887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3896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240" y="2750760"/>
                <a:ext cx="990720" cy="466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40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832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52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34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40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212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6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0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2880" y="-898920"/>
            <a:ext cx="77706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40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A45BC7-B1FC-40CE-9B50-AEEB4E2442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3366"/>
                </a:solidFill>
                <a:latin typeface="Times New Roman"/>
              </a:rPr>
              <a:t>Softwares Educativo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DejaVu Sans"/>
              </a:rPr>
              <a:t>Softwares musicais educativos para viol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eMedia Guitar Method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ntagens obser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o de curso, divido em l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ividade, adequado para quem está partindo d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ém do uso de recursos multimídia como vídeos e partitura sincronizada, permite interatividade, aumentando o dinamismo do aprend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eMedia Guitar Method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ão permite edição de músicas (abrir ou salvar arquivos personaliz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ado ao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eMedia Guitar Method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56120" y="1798560"/>
            <a:ext cx="470700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P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8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a das ferramentas mais utilizadas para edição e execução musical para instrumentos de violão e guita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úsicas podem ser editadas em partitura, e com o auxílio da própria imagem do braço do instru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i ferramentas avançadas, ideais para músicos mais expe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Pr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plo ferramental para criação e edição de mú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ação com o usuário é bastante rica, permitindo ao músico criar com velocidade e versat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úsicas podem ser importadas e carregadas de diferentes tipos de 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ço do instrumento sendo exibido permite aprendizado rápido de mú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Pr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ão pareceu muito adequado para pessoas iniciantes, é fácil se perder devido à grande quantidade de funcio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Pr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24160" y="1798560"/>
            <a:ext cx="643896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nale Guit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ramenta também voltada à ed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atu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bém permite importar músicas M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ltado para estudantes de música que tenham aprendizado baseado em teoria mu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nale Guita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 bastante simples e intu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lente para quem esteja aprend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ão é muito adequado para auto-didatas que não aprendam com embasamento de teoria mu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nale Guita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324160" y="1798560"/>
            <a:ext cx="643896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Grup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3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uro Beltr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many Fre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berto Cás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drigo F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’Accord Violão Mas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8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ramenta para auxiliar iniciantes autodidatas, em particular que costumam aprender por cifras e tabl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onibiliza músicas populares para execução e permite criar / editar person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de importar MIDI e outros arqu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’Accord Violão Maste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2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mite importar músicas da web (sites de cif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i ferramentas extras de auxílio, como metrônomo e afi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úsica tocada com exibição sincronizada de como deve ser a execução no braço do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’Accord Violão Maste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lente para quem deseja aprender o básico para tocar músicas, por cif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 bastante simples e intuitiva, não trazendo dificuldades para inici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ursos podem ser úteis até mesmo a usuários mais avanç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’Accord Violão Maste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execução das músicas é simples, ideal para aprendizado inicial, mas um pouco “mecanizada”, a depender muito do aluno o melhoramento em sua habilidade para rit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ão auxilia muito para quem deseja conhecimento mais profundo em teoria mu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’Accord Violão Maste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92480" y="1800360"/>
            <a:ext cx="647064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68652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'Accord Curso de Viol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2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so multimídia (em Flash) para ensino de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nhum conhecimento prévio necess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ções gradativas envolvendo prática e teoria mu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68652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'Accord Curso de Violão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ções gradativas didaticamente escolhidas para pessoa desenvolver do zero lado prático e teórico no uso do instr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sino “mastigado” pode entendiar alguns usuários que tenham pressa de ir mais diretamente ao p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68652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'Accord Curso de Violã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60360" y="1440000"/>
            <a:ext cx="684072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68652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Outras Men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4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x Gu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gu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tar 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ts on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sos tutoriais on-line para aprender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68652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ão faltam boas opções para quem esteja disposto a aprender sem sair de casa ou contratar prof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cadores mais avançados também podem enriquecer sua capacidade com software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 aplicativos pra celulares e dispositivos móveis, as “revistinhas” devem ir ficando rapidamente ultrapassad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oftwares Educativos e afins</a:t>
            </a:r>
            <a:br>
              <a:rPr sz="4400"/>
            </a:br>
            <a:r>
              <a:rPr b="0" i="1" lang="en-GB" sz="4400" spc="-1" strike="noStrike">
                <a:solidFill>
                  <a:srgbClr val="003366"/>
                </a:solidFill>
                <a:latin typeface="Times New Roman"/>
              </a:rPr>
              <a:t>para ensino de violão/guitar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tar 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tar Chords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dia Guita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tar 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e Gu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so de violão D'Ac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’Accord Violão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Chords Labora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3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i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izador de acordes e vari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sas bat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ibe o braço do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 cifras da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dança manual de ac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Chords Laboratory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25760" y="1798560"/>
            <a:ext cx="623736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Stud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9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or de tablatura multi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 intu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ursos avanç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ibe o braço do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 tablaturas e arquivos M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exão MIDI com dispo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Studi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i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rôn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izador de acordes, escalas e vari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yer de arquivos WAV, MIDI e 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Studi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20920" y="1797120"/>
            <a:ext cx="64422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eMedia Guitar Metho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2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so int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atura / Notação musical pad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ção alternativa facilita acompanhamento no viol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o de ví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sões para diversos níveis (e estilos musica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ciante, intermediário, rock, blu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i também ferramentas auxiliares, como metrônomo e afin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F</dc:creator>
  <dc:description/>
  <dc:language>en-US</dc:language>
  <cp:lastModifiedBy>obf</cp:lastModifiedBy>
  <dcterms:modified xsi:type="dcterms:W3CDTF">2006-09-18T12:41:56Z</dcterms:modified>
  <cp:revision>2</cp:revision>
  <dc:subject/>
  <dc:title>Softwares Musicais</dc:title>
</cp:coreProperties>
</file>