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028-0695-49E0-8BAF-F25CAB1426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1881 Clément Ader apresentou um sistema estéreo na exibição de equipamentos elétricos en Paris, transmitindo uma ópera da capital francesa por meio de um tipo de telefone, o teatrófono, que produzia uma sensação de som espacial para os ouvintes. Mas a estereofonia foi lançada no mercado somente em 1957, substituindo os aparelhos monaur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B60-B1DF-4EFB-9144-2B70C3FD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32B-8967-4619-8973-3FB20BC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86E-E8C2-4381-BEED-F071D92B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702-ABA2-4AA2-98A9-E258B1FB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D29-99FB-4A69-91D8-4D3E908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33B-5834-4AB9-96EE-385F0D5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194-93FC-490D-9768-CA4A8819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289-0455-497A-A3A9-5872C96E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144-6647-4373-A976-054B162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78D-A5CD-40E6-96B8-988E8B0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BEE-5DE6-4629-B6A0-3B31851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E95-E079-4751-AD00-343D36F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6AA-F205-4693-8A7D-B15BE6282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terface.cipic.ucdavis.edu/CIL_tutorial/3D_hom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acialização d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lio A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ulo So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ago Bu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jam, ssrf, tbac}@cin.ufpe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sicoacústic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ça na resposta da freqü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dependente de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267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D P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do em D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s mono (fontes*)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om esté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nhuma percepção na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tera inten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querda e dir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ltragem de fr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.g. altas freq. de t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uc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4120" y="401004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ad Related Transf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 a percepção do som para as duas orel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ída = som bina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distorcer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 process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ende de movimentação da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476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3357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rês 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ra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interpo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5734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l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elado ao fone de ouv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ntrada para cada ouv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 das caixas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ixa emite para os dois ouv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eet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RTFs para 4 caix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Dr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sstalk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nais discretos vs.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matr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nais discr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úmero de canais usados originalmente para codificar o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is independentes (toda informação contida no canal não está condicionada a nenhum ou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nai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i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gt; canais orig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canai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êm que ser derivados dos canais orig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ção X.{0,1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ispon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/1: indicação da ausência ou presença de um canal LF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ow-Frequency Effec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eg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woof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ção X/Y.{0,1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frente do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lados ou atrás do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falantes na frente (L/R) e um atrás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Surround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falantes na frente (L/R) e dois atrás (LS/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round Quadraphoni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falantes na frente (L/C/R), um falante mono atrás (S) 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bwoof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o 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Prologi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oa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reofô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na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round Sound vs. 3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scoacústica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D P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rrou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ctSoun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falantes na frente (L/C/R), 2 atrás (LS/RS) 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bwoo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Prologic II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Digital, DTS (discr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ssão de som com AC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ído na especificação do DVD e do padrão americano de HD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l ao 5.1 mas com a adição de mais um falante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icamente o falante adicional é “matrixado” a partir do LS/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Digital EX (THX + Dolby), DTS-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 dois falantes à especificação 5.1 (podendo ser na frente ou atr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ática, normalmente funciona como um 6.1 com o 7º canal sendo uma duplicata do 6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DD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ny Dynamic Digital S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HX não é uma especificaçã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rround Soun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m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ceu em 1983 (Retorno de Je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e 1: Técnicas de Pós-Process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são do canal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rr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mono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tereo Surr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3/1.0) em d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frequências inferiores a 100Hz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canal L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e 2: Certificação dos aparelhos de criação e reprodução de trilhas de cinema e 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eiver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ixer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mplificadores, caixas acú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ormulação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X Ultra vs. THX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ós-processamento THX-EX 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tificação d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ormulação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X Ultr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inação do pós-processamento (melhor aproximação para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3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API de som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ançada em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uladores de vô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cença p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eative Labs, atual propriet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428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í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adf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ou 4 fa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hor para jogo do que surrou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 reflexões do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ave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cust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428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rect Sound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ct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I da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rie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ct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oritmos de terc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argamente implementado em placas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da pela Creativ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97-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junto de 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erb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flex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tr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do em conjunto com outras AP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sucesso do que A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5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Mono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0 sound, 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único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smo sinal compartil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últiplas caixa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lindros fon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os de 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mof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32720" y="1557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56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ki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r jogos para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mente mantido pela Creativ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ilo e convenções baseados em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cença 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428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enuação baseado em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ito Dop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norama baseado em 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diação do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428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o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k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nreal Tournament 200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ttlefiel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edi Knigh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erface.cipic.ucdavis.edu/CIL_tutorial/3D_hom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digit-life.com/articles2/sound-technology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dvd21.com.br/trilhasdeaudio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stereofô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reo, 2.0 sound, Ste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: Duas or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is canais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sação de espaci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co gravações ao v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57,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ixa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üidistantes do ouv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Bin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ula o sinal recebido por cada ouvido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ldes dos ouv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lde de cabeça acú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ment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headfones ab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143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Bin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81, Clément 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ira de equipamento eletrônicos em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tiu uma Ó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melhava-se a um telef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rcialia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890 – 19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éâtr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895 – 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ctrophone (fo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o e incoven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1413000"/>
            <a:ext cx="132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urround Sound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s.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3D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rrou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: simular ambiente real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 sistema de som (estéreo, binaural, quadrifônico, 5.1, 7.1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a percepção das diversas fontes sonoras no espaço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sicoac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D panning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multi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sicoacústic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ça de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ça de inte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ptível em altas fr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(20 dB a 6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3 dB a 500 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s inaud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cons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vimento da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23:36:51Z</dcterms:created>
  <dc:creator>Pentium</dc:creator>
  <dc:description/>
  <dc:language>en-US</dc:language>
  <cp:lastModifiedBy>tbac</cp:lastModifiedBy>
  <dcterms:modified xsi:type="dcterms:W3CDTF">2006-09-25T12:59:28Z</dcterms:modified>
  <cp:revision>98</cp:revision>
  <dc:subject/>
  <dc:title>Espacialização de Som</dc:title>
</cp:coreProperties>
</file>