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19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4464-854A-4933-BCF4-7ABD5D78D07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ttp://www.cs.tut.fi/sgn/arg/music/Heittola_thesis.pdf#search=%22automatic%20classification%20music%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sermos capaz de diferenciar as músicas temos que extrair suas característi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ndador do zen/budismo, monge indiano que em viagem a china orientou os monges chineses na prática do yoga e rudimentos da arte marcial indiana o que caracterizou posteriormente na criação de um estilo próprio pelos monges de shaol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ED9-0716-4B3D-B988-847E1F85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E8F-79AC-4592-B252-71CC1443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0FD-B29B-42C5-AB7C-09530EEA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4C9-5691-414C-BB94-ED6D5A63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8DEF-599A-4517-B746-11E60D8F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C539-F90C-4940-BD9D-DD82CC9C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A7A3-D5F8-4581-81D7-A9A13EFD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4F67-A2BB-4FB3-A555-F90B17E7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5D5F-7A23-4B40-860B-617CFCCB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9A49-8D02-471B-9F5A-081F219D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EB0F-D1C7-450C-89A8-0A12012E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32D-2248-448F-8B7F-769E9C55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4F58-9517-41A8-AD52-1BF444F2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A2B0-44DE-49E1-97A6-7B55357A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CADC-DAB3-4EE8-B79F-4796B720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D634-CB69-4D15-80BA-C64C699E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866C-574E-4EA4-8D6C-163CE4B5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36B-AD19-463B-8DD0-0FB82ACC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640-96D8-4156-9290-6DC89B7F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4C9-6CF9-40CC-AC58-D0D132ED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384-7324-42F4-99C9-5D85304E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B70-1B7C-4125-85FF-1342C350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D56-C681-4CC0-BF65-99DA7FE4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F94-C800-4F59-8634-0487BD0D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3120" y="-227160"/>
            <a:ext cx="9447120" cy="7085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A7B7-8C5A-46F7-97DD-7E96AFC0BB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2505-1578-440C-A9A1-EABDBE9991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1/16/Last.fm-software.png" TargetMode="External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hyperlink" Target="http://www.sixsquare.com/blog/images/0105/stack_big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hyperlink" Target="http://upload.wikimedia.org/wikipedia/en/1/16/Last.fm-software.png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last.fm/tour/discover.php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www.last.fm/join/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last.fm/join/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análise de músicas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27280" y="5105520"/>
            <a:ext cx="291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Tahoma"/>
              </a:rPr>
              <a:t>Diogo Rodrig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Tahoma"/>
              </a:rPr>
              <a:t>Guilherme Oikaw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Tahoma"/>
              </a:rPr>
              <a:t>Paulo Rober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7120" y="1600200"/>
            <a:ext cx="788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8240" y="585720"/>
            <a:ext cx="7608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ffffff"/>
                </a:solidFill>
                <a:latin typeface="Tahoma"/>
              </a:rPr>
              <a:t>jSymbolic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jSymbolic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04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ê MI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a 111 característ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Bodhidha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80000" y="1371600"/>
            <a:ext cx="52228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features_values_</a:t>
            </a:r>
            <a:r>
              <a:rPr b="1" i="1" lang="pt-BR" sz="4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.xm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feature_vector_fil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comments&gt;&lt;/comments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data_s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name&gt;Duration&lt;/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v&gt;4,167E2&lt;/v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/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name&gt;Acoustic Guitar Fraction&lt;/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v&gt;2,311E-1&lt;/v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/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name&gt;Amount of Arpeggiation&lt;/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v&gt;7,402E-1&lt;/v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/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features_definitions_</a:t>
            </a:r>
            <a:r>
              <a:rPr b="1" i="1" lang="pt-BR" sz="4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.xm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name&gt;Voice Equality - Note Duration&lt;/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description&gt;Standard deviation of the total duration of notes in seconds in ea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nel that contains at least one note.&lt;/description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is_sequential&gt;true&lt;/is_sequential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parallel_dimensions&gt;1&lt;/parallel_dimensions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/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name&gt;Voice Equality - Number of Notes&lt;/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description&gt;Standard deviation of the total number of Note Ons in each chann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t contains at least one note.&lt;/description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is_sequential&gt;true&lt;/is_sequential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parallel_dimensions&gt;1&lt;/parallel_dimensions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/featur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ffffff"/>
                </a:solidFill>
                <a:latin typeface="Tahoma"/>
              </a:rPr>
              <a:t>jAudio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jAudi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3907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ê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mp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wa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ai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s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63896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dddddd"/>
                </a:solidFill>
                <a:latin typeface="Tahoma"/>
              </a:rPr>
              <a:t>jAudio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Característica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trongest B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ompact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Beat S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ower Spect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Root Mean Squ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trongest Frequency Vari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trongest Frequency Via FFT Maxim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C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0720" y="1628280"/>
            <a:ext cx="43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i um manu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-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pt de coma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amento em lo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madas exter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va A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n sour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m document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ácil de exte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82960" y="1219320"/>
            <a:ext cx="3619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ápido crescimento das coleções de mú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3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a: classificar 2000 músicas manualmen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ução: análise acús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ayers atuai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am as músicas usando meta informações como música ou álbum e um conjunto limitado de gêneros predefin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ionam bem se conhecemos as mús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3440" y="2565360"/>
            <a:ext cx="3383280" cy="2185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551640" y="1052640"/>
            <a:ext cx="2052720" cy="259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796000" y="4292640"/>
            <a:ext cx="1731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roblemas implícitos [1/2]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êneros não são expressivos bastante para cobrir todo o repertório de um artista. (Quase nenhum artista pode ser enquadrado em uma única categor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êneros são imprecisos demais para guiar usuário através de uma vasta quantidade de mús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roblemas implícitos [2/2]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êneros pouco ajudam os usuários que querem descobrir músicas novas e desconhecidas (especialmente se o nome do artista é desconhecido ou de difícil classificação entre as categorias existent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êneros, não se corresponde muito bem como o nosso humor (uma música do gênero rock pode ser uma balada lenta e calma ou rápida, bruta e barulhen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rganização das música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úsicas são organizadas baseadas em nomes de artistas e títulos de mús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.. mas, as pessoas tendem a organizar as músicas baseado na similaridade com outras músicas e baseadas nas "qualidades emocionais" da mús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udiorada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iva uma série de critérios dos dados da música atual e então provê uma visualização metafórica coerente para navegação baseada em similarid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03640" y="2205000"/>
            <a:ext cx="3465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ritério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udioradar não faz uma contribuição técnica para a atual análise musical, ele utiliza os métodos conhecidos para extração de características utilizadas na visualiza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... sua inovação está na visualiza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580000" y="2052720"/>
            <a:ext cx="33717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Critério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Fast vs S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nta “beats” por minu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dentifica os principais elementos repetitivos e conta a sua ocorrê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lean vs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nsidera alguns intervalos e mede a diferença entre e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deria ser melhor se considerasse a estrutura da música (refrão etc) ou então extraindo elementos contínuos (baseline, chor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Critério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Turbulent vs Cal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uito relacionado com a dimensão ant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sidera a quantidade de intervalos difer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odic vs. Rhythm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mensão mais problemá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algoritmo do Audioradar somente extrai algumas informações básicas sobre ocorrência de harmô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s atuais algoritmos não tratam bem essa dimens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Visualização metafóric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19640" y="1187280"/>
            <a:ext cx="5184720" cy="3808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3032280"/>
            <a:ext cx="3600360" cy="3587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041480" y="65160"/>
            <a:ext cx="6410160" cy="6388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4920" y="85680"/>
            <a:ext cx="856944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Exempl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liveplasma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Arquitetu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isão Lógica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-396720" y="3971880"/>
            <a:ext cx="96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6200" y="3684600"/>
            <a:ext cx="1944720" cy="504720"/>
          </a:xfrm>
          <a:prstGeom prst="rect">
            <a:avLst/>
          </a:prstGeom>
          <a:solidFill>
            <a:srgbClr val="69b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Pré-Processam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22560" y="3684600"/>
            <a:ext cx="1657440" cy="504720"/>
          </a:xfrm>
          <a:prstGeom prst="rect">
            <a:avLst/>
          </a:prstGeom>
          <a:solidFill>
            <a:srgbClr val="69b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Extração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característic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9718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39718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030640" y="3213000"/>
            <a:ext cx="549360" cy="75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2637000"/>
            <a:ext cx="1657080" cy="504720"/>
          </a:xfrm>
          <a:prstGeom prst="rect">
            <a:avLst/>
          </a:prstGeom>
          <a:solidFill>
            <a:srgbClr val="69b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Algoritmos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aprendizag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3933720"/>
            <a:ext cx="86364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365720"/>
            <a:ext cx="1657440" cy="504720"/>
          </a:xfrm>
          <a:prstGeom prst="rect">
            <a:avLst/>
          </a:prstGeom>
          <a:solidFill>
            <a:srgbClr val="69b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Classificaçã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52360" y="368460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áud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2924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49402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44000" y="2492280"/>
            <a:ext cx="649080" cy="2449440"/>
          </a:xfrm>
          <a:prstGeom prst="rect">
            <a:avLst/>
          </a:prstGeom>
          <a:solidFill>
            <a:srgbClr val="69b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92680" y="3259440"/>
            <a:ext cx="40860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96360" y="4653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8280" y="5556240"/>
            <a:ext cx="122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5080" y="2565360"/>
            <a:ext cx="1463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classes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padronizaçã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80120" y="3429000"/>
            <a:ext cx="166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dados de trei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7200" y="3933720"/>
            <a:ext cx="156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dados de tes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87160" y="5124600"/>
            <a:ext cx="2186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Classes reconhecid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stemas de Recomendação de Música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Sistemas de Recomendação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de Músicas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an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Last.f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3733920"/>
            <a:ext cx="3886200" cy="293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3200400" y="1600200"/>
          <a:ext cx="4362480" cy="16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600200"/>
                    <a:ext cx="436248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657600" y="1219320"/>
          <a:ext cx="236232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219320"/>
                    <a:ext cx="23623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Last.fm Logo"/>
          <p:cNvPicPr/>
          <p:nvPr/>
        </p:nvPicPr>
        <p:blipFill>
          <a:blip r:embed="rId7"/>
          <a:stretch/>
        </p:blipFill>
        <p:spPr>
          <a:xfrm>
            <a:off x="3429000" y="5334120"/>
            <a:ext cx="14479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Pandoras home page."/>
          <p:cNvPicPr/>
          <p:nvPr/>
        </p:nvPicPr>
        <p:blipFill>
          <a:blip r:embed="rId1"/>
          <a:stretch/>
        </p:blipFill>
        <p:spPr>
          <a:xfrm>
            <a:off x="5486400" y="3886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andor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6781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Criado pelo </a:t>
            </a:r>
            <a:r>
              <a:rPr b="0" i="1" lang="pt-BR" sz="3400" spc="-1" strike="noStrike">
                <a:solidFill>
                  <a:srgbClr val="ffffff"/>
                </a:solidFill>
                <a:latin typeface="Tahoma"/>
              </a:rPr>
              <a:t>Music Genome Projec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8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O usuário fornece o nome do artista ou da música e o sistema </a:t>
            </a:r>
            <a:br>
              <a:rPr sz="3400"/>
            </a:b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toca uma seleção de músicas com características</a:t>
            </a:r>
            <a:br>
              <a:rPr sz="3400"/>
            </a:b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similares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8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Usa o </a:t>
            </a:r>
            <a:r>
              <a:rPr b="0" i="1" lang="pt-BR" sz="3400" spc="-1" strike="noStrike">
                <a:solidFill>
                  <a:srgbClr val="ffffff"/>
                </a:solidFill>
                <a:latin typeface="Tahoma"/>
              </a:rPr>
              <a:t>feedback</a:t>
            </a: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 do</a:t>
            </a:r>
            <a:br>
              <a:rPr sz="3400"/>
            </a:b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usuário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514840" y="0"/>
          <a:ext cx="3629160" cy="63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14840" y="0"/>
                    <a:ext cx="3629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dddddd"/>
                </a:solidFill>
                <a:latin typeface="Tahoma"/>
              </a:rPr>
              <a:t>Pandora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The Music Genome projec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riado em janeiro de 2000 por </a:t>
            </a:r>
            <a:r>
              <a:rPr b="0" i="1" lang="pt-BR" sz="3200" spc="-1" strike="noStrike">
                <a:solidFill>
                  <a:srgbClr val="ffffff"/>
                </a:solidFill>
                <a:latin typeface="Tahoma"/>
              </a:rPr>
              <a:t>Tim Westergren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 um grupo de músicos e técnic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Capture the essence of music at the fundamental leve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514840" y="0"/>
          <a:ext cx="362916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4840" y="0"/>
                    <a:ext cx="3629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Tim Westergren"/>
          <p:cNvPicPr/>
          <p:nvPr/>
        </p:nvPicPr>
        <p:blipFill>
          <a:blip r:embed="rId3"/>
          <a:stretch/>
        </p:blipFill>
        <p:spPr>
          <a:xfrm>
            <a:off x="6934320" y="1600200"/>
            <a:ext cx="1028520" cy="10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981080" y="3286080"/>
          <a:ext cx="37530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286080"/>
                    <a:ext cx="37530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Pando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tração das característica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 MGP usa cerca de 400 características para classificar as mús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inco dias por semana, 32 pessoas aficcionadas por música analizam pilhas e pilhas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e CD’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Todos são músicos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fissionais e treinados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elo MG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514840" y="0"/>
          <a:ext cx="362916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4840" y="0"/>
                    <a:ext cx="3629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3886200"/>
            <a:ext cx="41907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Pando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lgumas característica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4920" y="1409760"/>
          <a:ext cx="8305560" cy="53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09760"/>
                    <a:ext cx="8305560" cy="53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Last.fm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95280"/>
            <a:ext cx="67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Fundado em 2002 como uma rádio online e comunidade de mú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Quando o usuário escuta uma música em algum player, esta aparece no seu </a:t>
            </a:r>
            <a:r>
              <a:rPr b="0" i="1" lang="pt-BR" sz="3200" spc="-1" strike="noStrike">
                <a:solidFill>
                  <a:srgbClr val="ffffff"/>
                </a:solidFill>
                <a:latin typeface="Tahoma"/>
              </a:rPr>
              <a:t>profile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mus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É necessária a instalação do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Last.fm Logo"/>
          <p:cNvPicPr/>
          <p:nvPr/>
        </p:nvPicPr>
        <p:blipFill>
          <a:blip r:embed="rId1"/>
          <a:stretch/>
        </p:blipFill>
        <p:spPr>
          <a:xfrm>
            <a:off x="6172200" y="0"/>
            <a:ext cx="251460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6553080" y="1752480"/>
          <a:ext cx="2590920" cy="210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1752480"/>
                    <a:ext cx="259092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15080" y="4660920"/>
            <a:ext cx="3705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ahoma"/>
              </a:rPr>
              <a:t>Recomendation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s músicas podem ser qualificadas pelo usuário aravés de tags.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Last.fm Logo"/>
          <p:cNvPicPr/>
          <p:nvPr/>
        </p:nvPicPr>
        <p:blipFill>
          <a:blip r:embed="rId2"/>
          <a:stretch/>
        </p:blipFill>
        <p:spPr>
          <a:xfrm>
            <a:off x="5962680" y="0"/>
            <a:ext cx="2724120" cy="1566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dddddd"/>
                </a:solidFill>
                <a:latin typeface="Tahoma"/>
              </a:rPr>
              <a:t>Last.fm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Recomendaçã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Personalised radio at Last.f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2362320"/>
            <a:ext cx="39625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 usuários podem formar grupos e ver o que os outros estão ouvi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em recomendar músicas uns aos ou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Last.fm Logo"/>
          <p:cNvPicPr/>
          <p:nvPr/>
        </p:nvPicPr>
        <p:blipFill>
          <a:blip r:embed="rId1"/>
          <a:stretch/>
        </p:blipFill>
        <p:spPr>
          <a:xfrm>
            <a:off x="5962680" y="0"/>
            <a:ext cx="2724120" cy="1566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dddddd"/>
                </a:solidFill>
                <a:latin typeface="Tahoma"/>
              </a:rPr>
              <a:t>Last.fm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Comunidad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Discover new music with Last.f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3505320"/>
            <a:ext cx="4125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erguntas</a:t>
            </a:r>
            <a:br>
              <a:rPr sz="4000"/>
            </a:br>
            <a:br>
              <a:rPr sz="40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Extração das característica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ransição de t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Música como mudança de frequência sobre te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scolhido para a implementa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scala musical ocidental (53.8H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 3.43kHz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Extração das característica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uíd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tura da instrumentalidade do s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l para canções melódicas, ruim para Pop R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3133800" cy="3429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Extração das característica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ícil identificar estilos simplesmente pela variação do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for levado em consideração, deve-se dar um peso baixo e somente para casos específicos, devido a sua imprecisão na correla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Extração das característica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empo e Ritm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pobres para sons ritmicamente a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oritmo muito cust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segundos de amostra pode requerer de 3 a 5 minutos de processamento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ffffff"/>
                </a:solidFill>
                <a:latin typeface="Tahoma"/>
              </a:rPr>
              <a:t>Bodhidharma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Bodhidharm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anhador do 2005 MIREX Contest Results - Symbolic Genre Classific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MID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Usa classificador KN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strument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elo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x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it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nâ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atísticas de p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2381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08:49:39Z</dcterms:created>
  <dc:creator>Guilherme</dc:creator>
  <dc:description/>
  <dc:language>en-US</dc:language>
  <cp:lastModifiedBy>Paulo Roberto de Melo Rodrigues</cp:lastModifiedBy>
  <dcterms:modified xsi:type="dcterms:W3CDTF">2006-09-15T15:50:09Z</dcterms:modified>
  <cp:revision>67</cp:revision>
  <dc:subject/>
  <dc:title>Slide 1</dc:title>
</cp:coreProperties>
</file>