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FCE2-CC2A-4809-8729-BE9630347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80" y="3822840"/>
            <a:ext cx="88394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D02A-386E-42EF-8DB7-F989EAA1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800" y="83772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382284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800" y="382284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C0FF-DC53-4CC5-A751-58210F3E4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2846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1000" y="837720"/>
            <a:ext cx="2846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0080" y="837720"/>
            <a:ext cx="2846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80" y="3822840"/>
            <a:ext cx="2846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1000" y="3822840"/>
            <a:ext cx="2846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0080" y="3822840"/>
            <a:ext cx="2846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5ADD-5D60-4C28-AE46-186C41C2F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8227-7AEF-4097-839E-63DAB562F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35D7-96B0-4A0B-9434-D4179937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9C85-BAE7-4431-B43E-75CC1B36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4313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800" y="837720"/>
            <a:ext cx="4313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6F7E4-4844-4F96-90B9-A3B05728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92DA-A03C-449F-8451-091375A2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7668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51E7-F3B9-4914-9AEA-ED4FDB83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800" y="837720"/>
            <a:ext cx="4313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280" y="382284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80B7-1C53-4BFA-933F-A65F3227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45D8-7AC6-477D-8D96-0693B625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4313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800" y="83772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800" y="382284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4B588-5CC5-4F0D-B0EF-664A93D7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800" y="83772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280" y="3822840"/>
            <a:ext cx="88394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FB65-C5B3-455A-AF58-787D0879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280" y="3822840"/>
            <a:ext cx="88394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DF22-268D-4911-AD3E-2EAB6D5C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800" y="83772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280" y="382284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800" y="382284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DE0F0-D59C-485F-90D7-CBEF87CFA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2846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41000" y="837720"/>
            <a:ext cx="2846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0080" y="837720"/>
            <a:ext cx="2846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280" y="3822840"/>
            <a:ext cx="2846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41000" y="3822840"/>
            <a:ext cx="2846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0080" y="3822840"/>
            <a:ext cx="2846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BC6D6-5F1D-4FBA-AA6E-A28C31413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D3A3-F377-47C3-8D24-664D39E2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4313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800" y="837720"/>
            <a:ext cx="4313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E446-3F79-423A-9E4F-E46A7C92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5AE2-65D0-44E7-AE27-8B50BD30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7668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3EB5-23F4-44F8-B43C-E0594A19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800" y="837720"/>
            <a:ext cx="4313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80" y="382284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A326-C34E-4334-BC95-E2B17B0C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4313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83772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800" y="382284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4D48-1443-40C3-8FAF-6D113853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83772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80" y="3822840"/>
            <a:ext cx="88394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F7DB-E726-4667-BE79-90FD244F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62F5-C05E-46BC-A15C-B90F3BFB4401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5909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2023-08B8-4AC8-A27E-1AEADFF6E31A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ue.tu-berlin.de/forschung/projekte/mpeg7/" TargetMode="External"/><Relationship Id="rId3" Type="http://schemas.openxmlformats.org/officeDocument/2006/relationships/hyperlink" Target="http://www-itec.uni-klu.ac.at/~harald/mmbook/" TargetMode="External"/><Relationship Id="rId4" Type="http://schemas.openxmlformats.org/officeDocument/2006/relationships/hyperlink" Target="http://www-itec.uni-klu.ac.at/~harald/mmbook/" TargetMode="External"/><Relationship Id="rId5" Type="http://schemas.openxmlformats.org/officeDocument/2006/relationships/hyperlink" Target="http://www-itec.uni-klu.ac.at/~harald/mmbook/" TargetMode="External"/><Relationship Id="rId6" Type="http://schemas.openxmlformats.org/officeDocument/2006/relationships/hyperlink" Target="http://www-itec.uni-klu.ac.at/~harald/mmbook/" TargetMode="External"/><Relationship Id="rId7" Type="http://schemas.openxmlformats.org/officeDocument/2006/relationships/hyperlink" Target="http://www-itec.uni-klu.ac.at/~harald/mmbook/" TargetMode="External"/><Relationship Id="rId8" Type="http://schemas.openxmlformats.org/officeDocument/2006/relationships/hyperlink" Target="http://www-itec.uni-klu.ac.at/~harald/mmbook/" TargetMode="External"/><Relationship Id="rId9" Type="http://schemas.openxmlformats.org/officeDocument/2006/relationships/hyperlink" Target="http://www-itec.uni-klu.ac.at/~harald/mmbook/" TargetMode="External"/><Relationship Id="rId10" Type="http://schemas.openxmlformats.org/officeDocument/2006/relationships/hyperlink" Target="http://www-itec.uni-klu.ac.at/~harald/mmbook/" TargetMode="External"/><Relationship Id="rId11" Type="http://schemas.openxmlformats.org/officeDocument/2006/relationships/hyperlink" Target="http://www-itec.uni-klu.ac.at/~harald/mmbook/" TargetMode="External"/><Relationship Id="rId12" Type="http://schemas.openxmlformats.org/officeDocument/2006/relationships/hyperlink" Target="http://www-itec.uni-klu.ac.at/~harald/mmbook/" TargetMode="External"/><Relationship Id="rId13" Type="http://schemas.openxmlformats.org/officeDocument/2006/relationships/hyperlink" Target="http://www.chiariglione.org/mpeg/standards/mpeg-7/mpeg-7.htm" TargetMode="External"/><Relationship Id="rId14" Type="http://schemas.openxmlformats.org/officeDocument/2006/relationships/hyperlink" Target="http://www.chiariglione.org/mpeg/standards/mpeg-7/mpeg-7.htm" TargetMode="External"/><Relationship Id="rId15" Type="http://schemas.openxmlformats.org/officeDocument/2006/relationships/hyperlink" Target="http://www.chiariglione.org/mpeg/standards/mpeg-21/mpeg-21.htm" TargetMode="External"/><Relationship Id="rId16" Type="http://schemas.openxmlformats.org/officeDocument/2006/relationships/hyperlink" Target="http://www.chiariglione.org/mpeg/standards/mpeg-21/mpeg-21.htm" TargetMode="External"/><Relationship Id="rId17" Type="http://schemas.openxmlformats.org/officeDocument/2006/relationships/hyperlink" Target="http://www.chiariglione.org/mpeg/standards/mpeg-21/mpeg-21.htm" TargetMode="External"/><Relationship Id="rId18" Type="http://schemas.openxmlformats.org/officeDocument/2006/relationships/hyperlink" Target="http://www.chiariglione.org/mpeg/standards/mpeg-21/mpeg-21.htm" TargetMode="External"/><Relationship Id="rId19" Type="http://schemas.openxmlformats.org/officeDocument/2006/relationships/hyperlink" Target="http://www.chiariglione.org/mpeg/standards/mpeg-21/mpeg-21.htm" TargetMode="External"/><Relationship Id="rId20" Type="http://schemas.openxmlformats.org/officeDocument/2006/relationships/hyperlink" Target="http://www.chiariglione.org/mpeg/standards/mpeg-21/mpeg-21.htm" TargetMode="External"/><Relationship Id="rId21" Type="http://schemas.openxmlformats.org/officeDocument/2006/relationships/hyperlink" Target="http://www.chiariglione.org/mpeg/standards/mpeg-21/mpeg-21.htm" TargetMode="External"/><Relationship Id="rId22" Type="http://schemas.openxmlformats.org/officeDocument/2006/relationships/hyperlink" Target="http://www.chiariglione.org/mpeg/standards/mpeg-21/mpeg-21.htm" TargetMode="External"/><Relationship Id="rId23" Type="http://schemas.openxmlformats.org/officeDocument/2006/relationships/hyperlink" Target="http://www.chiariglione.org/mpeg/standards/mpeg-21/mpeg-21.htm" TargetMode="External"/><Relationship Id="rId24" Type="http://schemas.openxmlformats.org/officeDocument/2006/relationships/hyperlink" Target="http://www.chiariglione.org/mpeg/standards/mpeg-21/mpeg-21.htm" TargetMode="External"/><Relationship Id="rId25" Type="http://schemas.openxmlformats.org/officeDocument/2006/relationships/hyperlink" Target="http://www.chiariglione.org/mpeg/standards/mpeg-21/mpeg-21.htm" TargetMode="External"/><Relationship Id="rId26" Type="http://schemas.openxmlformats.org/officeDocument/2006/relationships/hyperlink" Target="http://www.chiariglione.org/mpeg/standards/mpeg-21/mpeg-21.htm" TargetMode="External"/><Relationship Id="rId27" Type="http://schemas.openxmlformats.org/officeDocument/2006/relationships/hyperlink" Target="http://www.chiariglione.org/mpeg/standards/mpeg-21/mpeg-21.htm" TargetMode="External"/><Relationship Id="rId28" Type="http://schemas.openxmlformats.org/officeDocument/2006/relationships/hyperlink" Target="http://www.chiariglione.org/mpeg/standards/mpeg-21/mpeg-21.htm" TargetMode="External"/><Relationship Id="rId29" Type="http://schemas.openxmlformats.org/officeDocument/2006/relationships/hyperlink" Target="http://www.chiariglione.org/mpeg/standards/mpeg-21/mpeg-21.htm" TargetMode="External"/><Relationship Id="rId3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25909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MPEG7 – MPEG21</a:t>
            </a:r>
            <a:endParaRPr b="0" lang="en-US" sz="5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3504960"/>
            <a:ext cx="5364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utação Music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4724280"/>
            <a:ext cx="280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d4d4d"/>
                </a:solidFill>
                <a:latin typeface="Arial"/>
              </a:rPr>
              <a:t>Carina So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d4d4d"/>
                </a:solidFill>
                <a:latin typeface="Arial"/>
              </a:rPr>
              <a:t>Cristiano Cam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d4d4d"/>
                </a:solidFill>
                <a:latin typeface="Arial"/>
              </a:rPr>
              <a:t>Emanoel Xav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d4d4d"/>
                </a:solidFill>
                <a:latin typeface="Arial"/>
              </a:rPr>
              <a:t>Marcos Auré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d4d4d"/>
                </a:solidFill>
                <a:latin typeface="Arial"/>
              </a:rPr>
              <a:t>Paulo Martinel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Fornecer informações sobre o conteúdo multimídia 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Qual formato do arquiv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Propriedade intelectu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Contexto do dado multimídia. (sobre o que o arquivo é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Fornecer informações presentes no conteúdo multimídia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Descrições dos elementos internos do dad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aracterística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Nível de granularidade variá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Baixo ní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Alto ní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O metadado MPEG-7 pode estar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Dentro do áudio/vídeo, inserido no data stream do mesm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Separado do conteúdo multimídia mas no mesmo banco de dad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Em algum outro lugar, como a intern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Escopo do Padrão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258920" y="1565280"/>
            <a:ext cx="6567480" cy="4095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Principais Elemento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  <a:ea typeface="SimSun"/>
              </a:rPr>
              <a:t>Ferramentas para descrição 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  <a:ea typeface="SimSun"/>
              </a:rPr>
              <a:t>( textual (DLL)/ binária (BiM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  <a:ea typeface="SimSun"/>
              </a:rPr>
              <a:t>Descriptors (D): Define a sintaxe e semântica de cada elemen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  <a:ea typeface="SimSun"/>
              </a:rPr>
              <a:t>Description Schemes (DS): Define as relações entre os element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Reference Software - Guia de implementação de software das partes relevantes do padrão MPEG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Conformance Testing - Guidelines e procedimentos para testar a conformidade de implementações MPEG-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Principais Elemento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619280" y="1484280"/>
            <a:ext cx="5607000" cy="4400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Impact"/>
              </a:rPr>
              <a:t>Principais Elemento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Algoritmos utilizados para codificação não são padronizad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Só o formato de arquivo e a interpretação dele são padronizad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Impact"/>
              </a:rPr>
              <a:t>Tipos de Descriptor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Baixo Ní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Gerais e flexíve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nformações sobr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riação e processo de produçã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stribuição e uso (copyrigh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rmato de Armazenamen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priedades ‘físicas’ (cores, texturas, freqüências, harmônicos..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Alto Ní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nformações conceitua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imbre de Instrument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lod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teúdo fala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22050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Descriptors</a:t>
            </a:r>
            <a:r>
              <a:rPr b="0" lang="pt-BR" sz="5400" spc="-1" strike="noStrike">
                <a:solidFill>
                  <a:srgbClr val="000000"/>
                </a:solidFill>
                <a:latin typeface="Impact"/>
              </a:rPr>
              <a:t> de</a:t>
            </a:r>
            <a:br>
              <a:rPr sz="5400"/>
            </a:br>
            <a:r>
              <a:rPr b="0" lang="pt-BR" sz="5400" spc="-1" strike="noStrike">
                <a:solidFill>
                  <a:srgbClr val="000000"/>
                </a:solidFill>
                <a:latin typeface="Impact"/>
              </a:rPr>
              <a:t>Baixo nível</a:t>
            </a:r>
            <a:endParaRPr b="0" lang="en-US" sz="5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0" y="350532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476360" y="1125360"/>
            <a:ext cx="6324480" cy="5145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187280" y="1484280"/>
          <a:ext cx="6656400" cy="4371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7280" y="1484280"/>
                    <a:ext cx="6656400" cy="43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Impact"/>
              </a:rPr>
              <a:t>Basic Descriptor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MPEG </a:t>
            </a:r>
            <a:r>
              <a:rPr b="0" lang="en-US" sz="4400" spc="-1" strike="noStrike">
                <a:solidFill>
                  <a:srgbClr val="000000"/>
                </a:solidFill>
                <a:latin typeface="Eras Bold ITC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Moving Picture Experts Group (1988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ISO/IE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Padrões para representação codificada de áudio e vídeo digit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Convergência de necessidades: TI, Eletrônicos, Telecomunicaçã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Surgimento de tecnologias  sofisticad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300 pessoas, 200 companhias, 20 paí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Impact"/>
              </a:rPr>
              <a:t>Basic Spectral Descriptor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Provêm uma visão simplificada do espectro de freqüênci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Utilizam freqüências em escala logarítmica, para aproximar a percepção humana do so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Escala centralizada em 1Khz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8 oitavas entre 62.5Hz e 16Khz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Impact"/>
              </a:rPr>
              <a:t>Basic Spectral Descriptor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24" name="sem2" descr=""/>
          <p:cNvPicPr/>
          <p:nvPr/>
        </p:nvPicPr>
        <p:blipFill>
          <a:blip r:embed="rId2"/>
          <a:stretch/>
        </p:blipFill>
        <p:spPr>
          <a:xfrm>
            <a:off x="990720" y="1482840"/>
            <a:ext cx="7211880" cy="4537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09480" y="1535040"/>
            <a:ext cx="7807320" cy="22748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43000" y="4591080"/>
            <a:ext cx="6835680" cy="14288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Impact"/>
              </a:rPr>
              <a:t>Signal Parameter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Impact"/>
              </a:rPr>
              <a:t>Timbral Temporal Descriptor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14240" y="1965240"/>
            <a:ext cx="7715520" cy="3978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Impact"/>
              </a:rPr>
              <a:t>Timbral Spectral Descriptor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57360" y="1125360"/>
            <a:ext cx="782928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Impact"/>
              </a:rPr>
              <a:t>Silence Descriptor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Marca regiões do som em que não há nada de “interessante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292929"/>
                </a:solidFill>
                <a:latin typeface="Arial"/>
              </a:rPr>
              <a:t>Confidence</a:t>
            </a: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: mede a confiança na marcaçã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Pode ser utilizado como uma dica de uma parte do som que não precisa ser processa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Impact"/>
              </a:rPr>
              <a:t>Descriptors de Alto nível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Descriptors para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Assinatura” de s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Reconhecimento conteúdo fala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Descrição de timb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Descrição de melodi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Impact"/>
              </a:rPr>
              <a:t>Descriptors de Alto nível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Assinatura” de So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  <a:ea typeface="SimSun"/>
              </a:rPr>
              <a:t>AudioSignature Description Scheme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  <a:ea typeface="SimSun"/>
              </a:rPr>
              <a:t> provê um identificador único para o áudi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  <a:ea typeface="SimSun"/>
              </a:rPr>
              <a:t>Aplicaçõ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Identificação de áudi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Metadados para áudio “legado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Impact"/>
              </a:rPr>
              <a:t>Descriptors de Alto nível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Reconhecimento de Conteúdo Fala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pokenContentLat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29292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Fonemas e palavr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pokenContentHea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SimSun"/>
              </a:rPr>
              <a:t>Informações sobre “quem” fa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Exempl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pokenContent Description Scheme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29292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http://mpeg7spkc.nue.tu-berlin.de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Impact"/>
              </a:rPr>
              <a:t>Descriptors de Alto nível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Descrição de Timb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Pode ser feito com o auxílio dos seguintes descriptor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  <a:ea typeface="SimSun"/>
              </a:rPr>
              <a:t>HarmonicInstrumentTimb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  <a:ea typeface="SimSun"/>
              </a:rPr>
              <a:t>LogAttackTime Descripto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  <a:ea typeface="SimSun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  <a:ea typeface="SimSun"/>
              </a:rPr>
              <a:t>PercussiveIinstrumentTimb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  <a:ea typeface="SimSun"/>
              </a:rPr>
              <a:t>SpectralCentroid Descrip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9292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  <a:ea typeface="SimSun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Padrões anteriore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MPEG1 (1988 – 199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Padrão para codificação audio-visual digital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1.5 Mbps – VC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MP3 – Terceira camada hierárquica de codificação de áudi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Padrão mais compatível (DVD/VCD player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MPEG2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Usado para transmitir em broadcast (TV a cab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Permite áudio com mais  de dois cana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Aplicações de média e alta qualida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Impact"/>
              </a:rPr>
              <a:t>Descriptors de Alto nível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Detecção de Melodi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  <a:ea typeface="SimSun"/>
              </a:rPr>
              <a:t>Aplicado à busca por similarida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  <a:ea typeface="SimSun"/>
              </a:rPr>
              <a:t>MelodyContour Description Schem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29292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  <a:ea typeface="SimSun"/>
              </a:rPr>
              <a:t>Especificação do ritm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  <a:ea typeface="SimSun"/>
              </a:rPr>
              <a:t>MelodySequence Description Schem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9292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Arial"/>
                <a:ea typeface="SimSun"/>
              </a:rPr>
              <a:t>Baseado na codificação dos interval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Impact"/>
              </a:rPr>
              <a:t>Descriptors de Alto Nível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990720"/>
            <a:ext cx="9144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AudioDS xsi:type="MelodyType"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Meter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Numerator&gt; 6 &lt;/Numerator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Denominator&gt; 8 &lt;/Denominator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Me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!-- SCALE: minor scale --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ale&gt; 2 3 5 7 8 11 12&lt;/Scale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!-- KEY: re minor --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Key mode="minor"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KeyNote display="re"&gt;D&lt;/KeyNote&gt; &lt;/Key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MelodySequence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!-- Starting note --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tartingNote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tartingFrequency&gt;293.66&lt;/StartingFrequency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tartingPitch height="3"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PitchNote display="re"&gt;D&lt;/PitchNote&gt;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tartingPitch&gt;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tartingNote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NoteArray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Note&gt; &lt;Interval&gt;2&lt;/Interval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NoteRelDuration&gt;1.2 &lt;/NoteRelDuration&gt;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Note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NoteArray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MelodySequence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AudioDS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6520" y="6550200"/>
            <a:ext cx="30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ref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www.iua.upf.es/~egomez/mpeg7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Impact"/>
              </a:rPr>
              <a:t>Descriptors de Alto Nível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990720"/>
            <a:ext cx="9144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AudioDS xsi:type="MelodyType"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!-- MELODY CONTOUR --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MelodyContour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Contour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ContourData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 1 1 -1 -1 -1 -1 2 -2 2 1 1 1 -1 -1 -1 -1 2 -2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ContourData&gt;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Contour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!-- Beat position of notes --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Beat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BeatData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 1 2 2 2 2 2 3 3 4 5 5 6 6 6 6 6 7 7 7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BeatData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Beat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MelodyContou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AudioDS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6520" y="6550200"/>
            <a:ext cx="30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ref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www.iua.upf.es/~egomez/mpeg7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25909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MPEG21</a:t>
            </a:r>
            <a:endParaRPr b="0" lang="en-US" sz="5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0" y="350532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O que é MPEG-21 </a:t>
            </a:r>
            <a:r>
              <a:rPr b="0" lang="en-US" sz="4400" spc="-1" strike="noStrike">
                <a:solidFill>
                  <a:srgbClr val="000000"/>
                </a:solidFill>
                <a:latin typeface="Eras Bold ITC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Um 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framework multimídia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para criação, proteção, consumo, entrega, etc de forma transparente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e 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conteúdo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multimíd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uma grande variedade de 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redes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(banda larga, discado, broadcast, sem-fio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ara 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dispositivos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como computadores, PDA, TV Digital, celul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 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usuários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: consumidores, criadores, publicitários, et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Item Digital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Unidade básica de transação no framework MPEG-21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É uma combinação de recursos multimídia (áudio, vídeo, imagens, etc), metadados (MPEG-7) e uma estrutura descrevendo a relação entre os recursos multimídi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Usuário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Qualquer um que interagem com um Item Digital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Criado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Consumido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Distribuido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O detentor dos direitos autorai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Especificaçõe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047600" y="1736640"/>
            <a:ext cx="6980400" cy="4140360"/>
          </a:xfrm>
          <a:prstGeom prst="rect">
            <a:avLst/>
          </a:prstGeom>
          <a:ln w="0">
            <a:noFill/>
          </a:ln>
        </p:spPr>
      </p:pic>
      <p:grpSp>
        <p:nvGrpSpPr>
          <p:cNvPr id="161" name=""/>
          <p:cNvGrpSpPr/>
          <p:nvPr/>
        </p:nvGrpSpPr>
        <p:grpSpPr>
          <a:xfrm>
            <a:off x="3282840" y="2346480"/>
            <a:ext cx="4648320" cy="3047400"/>
            <a:chOff x="3282840" y="2346480"/>
            <a:chExt cx="4648320" cy="3047400"/>
          </a:xfrm>
        </p:grpSpPr>
        <p:sp>
          <p:nvSpPr>
            <p:cNvPr id="162" name=""/>
            <p:cNvSpPr/>
            <p:nvPr/>
          </p:nvSpPr>
          <p:spPr>
            <a:xfrm>
              <a:off x="3282840" y="3336840"/>
              <a:ext cx="2057400" cy="7617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82840" y="2346480"/>
              <a:ext cx="2057400" cy="83808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45160" y="3108240"/>
              <a:ext cx="2286000" cy="228564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Digital Item Declaration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8520" y="837720"/>
            <a:ext cx="8593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Especifica como definir um Item Digital através de um conjunto de termos e conceitos abstrato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Especifica o XML Schema usado para declarar Itens Digitai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Também inclui elementos de escolha como (choice e selectio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Digital Item Declaration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200400" y="1447920"/>
            <a:ext cx="5029200" cy="47084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609480" y="2209680"/>
            <a:ext cx="2495520" cy="32385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 flipV="1">
            <a:off x="2209680" y="1676520"/>
            <a:ext cx="990720" cy="1371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133720" y="1981080"/>
            <a:ext cx="1295280" cy="14479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3809880"/>
            <a:ext cx="1143000" cy="18288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Padrões anteriore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MPEG3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Sinais de HDTV entre 20 e 40 Mb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Resultado similar com pequenas modificações no MPEG2 – Descontinua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MPEG4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Streaming media, videophone, tv broadcast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Suporte para VRM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Uso customizá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QuickTime e Video IP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Direitos Autorai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Intelectual property management and protection (IPMP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Gerencia a propriedade intelectual do conteú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Rights Data Dictionary (RD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Especifica um dicionário de termos chave requeridos para descrever os direitos de um  usuário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Rights Expression Language (REL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Especifica uma linguagem de máquina que pode declarar direitos e permissões usando termos definidos no RD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Direitos Autorai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2178000" y="1050840"/>
            <a:ext cx="4554720" cy="5257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558880" y="1584360"/>
            <a:ext cx="31244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58880" y="2955960"/>
            <a:ext cx="990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87480" y="4022640"/>
            <a:ext cx="36576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87480" y="3336840"/>
            <a:ext cx="37339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Adaptação de Conteúdo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231920" y="1127160"/>
            <a:ext cx="6680160" cy="51354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Adaptação de Conteúdo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80880" y="914400"/>
            <a:ext cx="4873680" cy="5638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308640" y="1712880"/>
            <a:ext cx="154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276720" y="1636560"/>
            <a:ext cx="5117040" cy="2706480"/>
            <a:chOff x="3276720" y="1636560"/>
            <a:chExt cx="5117040" cy="2706480"/>
          </a:xfrm>
        </p:grpSpPr>
        <p:grpSp>
          <p:nvGrpSpPr>
            <p:cNvPr id="187" name=""/>
            <p:cNvGrpSpPr/>
            <p:nvPr/>
          </p:nvGrpSpPr>
          <p:grpSpPr>
            <a:xfrm>
              <a:off x="3276720" y="1828440"/>
              <a:ext cx="2819160" cy="2514600"/>
              <a:chOff x="3276720" y="1828440"/>
              <a:chExt cx="2819160" cy="2514600"/>
            </a:xfrm>
          </p:grpSpPr>
          <p:sp>
            <p:nvSpPr>
              <p:cNvPr id="188" name=""/>
              <p:cNvSpPr/>
              <p:nvPr/>
            </p:nvSpPr>
            <p:spPr>
              <a:xfrm flipV="1">
                <a:off x="3276720" y="1828800"/>
                <a:ext cx="2819160" cy="8380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V="1">
                <a:off x="3581280" y="1828440"/>
                <a:ext cx="2514600" cy="2514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6160320" y="1636560"/>
              <a:ext cx="22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elocidade em kb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 thruBlk="true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Aplicações do MPEG-21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Bibliotecas Digita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Stream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Venda de mús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Filtragem de conteú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onclusão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Imagem e som digitalizados estão em toda part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MPEG1-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Imagem e som digitalizados em toda parte e fáceis de achar graças a conteúdo gerenciável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MPEG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Imagem e som digitalizados altamente distribuídos de forma controlá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MPEG2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Referência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PEG-7-based Audio Annotation for the Archival of Digital Video</a:t>
            </a:r>
            <a:br>
              <a:rPr sz="2400"/>
            </a:br>
            <a:r>
              <a:rPr b="1" lang="en-US" sz="24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http://www.nue.tu-berlin.de/forschung/projekte/mpeg7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Distributed Multimedia Database Technologies Supported by MPEG-7 and MPEG-2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66cc"/>
                </a:solidFill>
                <a:uFillTx/>
                <a:latin typeface="Arial"/>
                <a:hlinkClick r:id="rId3"/>
              </a:rPr>
              <a:t>http</a:t>
            </a:r>
            <a:r>
              <a:rPr b="1" lang="pt-BR" sz="2000" spc="-1" strike="noStrike" u="sng">
                <a:solidFill>
                  <a:srgbClr val="0066cc"/>
                </a:solidFill>
                <a:uFillTx/>
                <a:latin typeface="Arial"/>
                <a:hlinkClick r:id="rId4"/>
              </a:rPr>
              <a:t>://www-</a:t>
            </a:r>
            <a:r>
              <a:rPr b="1" lang="pt-BR" sz="2000" spc="-1" strike="noStrike" u="sng">
                <a:solidFill>
                  <a:srgbClr val="0066cc"/>
                </a:solidFill>
                <a:uFillTx/>
                <a:latin typeface="Arial"/>
                <a:hlinkClick r:id="rId5"/>
              </a:rPr>
              <a:t>itec</a:t>
            </a:r>
            <a:r>
              <a:rPr b="1" lang="pt-BR" sz="2000" spc="-1" strike="noStrike" u="sng">
                <a:solidFill>
                  <a:srgbClr val="0066cc"/>
                </a:solidFill>
                <a:uFillTx/>
                <a:latin typeface="Arial"/>
                <a:hlinkClick r:id="rId6"/>
              </a:rPr>
              <a:t>.uni-</a:t>
            </a:r>
            <a:r>
              <a:rPr b="1" lang="pt-BR" sz="2000" spc="-1" strike="noStrike" u="sng">
                <a:solidFill>
                  <a:srgbClr val="0066cc"/>
                </a:solidFill>
                <a:uFillTx/>
                <a:latin typeface="Arial"/>
                <a:hlinkClick r:id="rId7"/>
              </a:rPr>
              <a:t>klu</a:t>
            </a:r>
            <a:r>
              <a:rPr b="1" lang="pt-BR" sz="2000" spc="-1" strike="noStrike" u="sng">
                <a:solidFill>
                  <a:srgbClr val="0066cc"/>
                </a:solidFill>
                <a:uFillTx/>
                <a:latin typeface="Arial"/>
                <a:hlinkClick r:id="rId8"/>
              </a:rPr>
              <a:t>.ac.at/~</a:t>
            </a:r>
            <a:r>
              <a:rPr b="1" lang="pt-BR" sz="2000" spc="-1" strike="noStrike" u="sng">
                <a:solidFill>
                  <a:srgbClr val="0066cc"/>
                </a:solidFill>
                <a:uFillTx/>
                <a:latin typeface="Arial"/>
                <a:hlinkClick r:id="rId9"/>
              </a:rPr>
              <a:t>harald</a:t>
            </a:r>
            <a:r>
              <a:rPr b="1" lang="pt-BR" sz="2000" spc="-1" strike="noStrike" u="sng">
                <a:solidFill>
                  <a:srgbClr val="0066cc"/>
                </a:solidFill>
                <a:uFillTx/>
                <a:latin typeface="Arial"/>
                <a:hlinkClick r:id="rId10"/>
              </a:rPr>
              <a:t>/</a:t>
            </a:r>
            <a:r>
              <a:rPr b="1" lang="pt-BR" sz="2000" spc="-1" strike="noStrike" u="sng">
                <a:solidFill>
                  <a:srgbClr val="0066cc"/>
                </a:solidFill>
                <a:uFillTx/>
                <a:latin typeface="Arial"/>
                <a:hlinkClick r:id="rId11"/>
              </a:rPr>
              <a:t>mmbook</a:t>
            </a:r>
            <a:r>
              <a:rPr b="1" lang="pt-BR" sz="2000" spc="-1" strike="noStrike" u="sng">
                <a:solidFill>
                  <a:srgbClr val="0066cc"/>
                </a:solidFill>
                <a:uFillTx/>
                <a:latin typeface="Arial"/>
                <a:hlinkClick r:id="rId12"/>
              </a:rPr>
              <a:t>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MPEG-7 Over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400" spc="-1" strike="noStrike" u="sng">
                <a:solidFill>
                  <a:srgbClr val="0066cc"/>
                </a:solidFill>
                <a:uFillTx/>
                <a:latin typeface="Arial"/>
                <a:hlinkClick r:id="rId13"/>
              </a:rPr>
              <a:t>http</a:t>
            </a:r>
            <a:r>
              <a:rPr b="1" lang="pt-BR" sz="2400" spc="-1" strike="noStrike" u="sng">
                <a:solidFill>
                  <a:srgbClr val="0066cc"/>
                </a:solidFill>
                <a:uFillTx/>
                <a:latin typeface="Arial"/>
                <a:hlinkClick r:id="rId14"/>
              </a:rPr>
              <a:t>://www.chiariglione.org/mpeg/standards/mpeg-7/mpeg-7.ht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MPEG-21 Over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66cc"/>
                </a:solidFill>
                <a:uFillTx/>
                <a:latin typeface="Arial"/>
                <a:hlinkClick r:id="rId15"/>
              </a:rPr>
              <a:t>http</a:t>
            </a:r>
            <a:r>
              <a:rPr b="1" lang="pt-BR" sz="2000" spc="-1" strike="noStrike" u="sng">
                <a:solidFill>
                  <a:srgbClr val="0066cc"/>
                </a:solidFill>
                <a:uFillTx/>
                <a:latin typeface="Arial"/>
                <a:hlinkClick r:id="rId16"/>
              </a:rPr>
              <a:t>://www.</a:t>
            </a:r>
            <a:r>
              <a:rPr b="1" lang="pt-BR" sz="2000" spc="-1" strike="noStrike" u="sng">
                <a:solidFill>
                  <a:srgbClr val="0066cc"/>
                </a:solidFill>
                <a:uFillTx/>
                <a:latin typeface="Arial"/>
                <a:hlinkClick r:id="rId17"/>
              </a:rPr>
              <a:t>chiariglione</a:t>
            </a:r>
            <a:r>
              <a:rPr b="1" lang="pt-BR" sz="2000" spc="-1" strike="noStrike" u="sng">
                <a:solidFill>
                  <a:srgbClr val="0066cc"/>
                </a:solidFill>
                <a:uFillTx/>
                <a:latin typeface="Arial"/>
                <a:hlinkClick r:id="rId18"/>
              </a:rPr>
              <a:t>.</a:t>
            </a:r>
            <a:r>
              <a:rPr b="1" lang="pt-BR" sz="2000" spc="-1" strike="noStrike" u="sng">
                <a:solidFill>
                  <a:srgbClr val="0066cc"/>
                </a:solidFill>
                <a:uFillTx/>
                <a:latin typeface="Arial"/>
                <a:hlinkClick r:id="rId19"/>
              </a:rPr>
              <a:t>org</a:t>
            </a:r>
            <a:r>
              <a:rPr b="1" lang="pt-BR" sz="2000" spc="-1" strike="noStrike" u="sng">
                <a:solidFill>
                  <a:srgbClr val="0066cc"/>
                </a:solidFill>
                <a:uFillTx/>
                <a:latin typeface="Arial"/>
                <a:hlinkClick r:id="rId20"/>
              </a:rPr>
              <a:t>/</a:t>
            </a:r>
            <a:r>
              <a:rPr b="1" lang="pt-BR" sz="2000" spc="-1" strike="noStrike" u="sng">
                <a:solidFill>
                  <a:srgbClr val="0066cc"/>
                </a:solidFill>
                <a:uFillTx/>
                <a:latin typeface="Arial"/>
                <a:hlinkClick r:id="rId21"/>
              </a:rPr>
              <a:t>mpeg</a:t>
            </a:r>
            <a:r>
              <a:rPr b="1" lang="pt-BR" sz="2000" spc="-1" strike="noStrike" u="sng">
                <a:solidFill>
                  <a:srgbClr val="0066cc"/>
                </a:solidFill>
                <a:uFillTx/>
                <a:latin typeface="Arial"/>
                <a:hlinkClick r:id="rId22"/>
              </a:rPr>
              <a:t>/</a:t>
            </a:r>
            <a:r>
              <a:rPr b="1" lang="pt-BR" sz="2000" spc="-1" strike="noStrike" u="sng">
                <a:solidFill>
                  <a:srgbClr val="0066cc"/>
                </a:solidFill>
                <a:uFillTx/>
                <a:latin typeface="Arial"/>
                <a:hlinkClick r:id="rId23"/>
              </a:rPr>
              <a:t>standards</a:t>
            </a:r>
            <a:r>
              <a:rPr b="1" lang="pt-BR" sz="2000" spc="-1" strike="noStrike" u="sng">
                <a:solidFill>
                  <a:srgbClr val="0066cc"/>
                </a:solidFill>
                <a:uFillTx/>
                <a:latin typeface="Arial"/>
                <a:hlinkClick r:id="rId24"/>
              </a:rPr>
              <a:t>/</a:t>
            </a:r>
            <a:r>
              <a:rPr b="1" lang="pt-BR" sz="2000" spc="-1" strike="noStrike" u="sng">
                <a:solidFill>
                  <a:srgbClr val="0066cc"/>
                </a:solidFill>
                <a:uFillTx/>
                <a:latin typeface="Arial"/>
                <a:hlinkClick r:id="rId25"/>
              </a:rPr>
              <a:t>mpeg</a:t>
            </a:r>
            <a:r>
              <a:rPr b="1" lang="pt-BR" sz="2000" spc="-1" strike="noStrike" u="sng">
                <a:solidFill>
                  <a:srgbClr val="0066cc"/>
                </a:solidFill>
                <a:uFillTx/>
                <a:latin typeface="Arial"/>
                <a:hlinkClick r:id="rId26"/>
              </a:rPr>
              <a:t>-21/</a:t>
            </a:r>
            <a:r>
              <a:rPr b="1" lang="pt-BR" sz="2000" spc="-1" strike="noStrike" u="sng">
                <a:solidFill>
                  <a:srgbClr val="0066cc"/>
                </a:solidFill>
                <a:uFillTx/>
                <a:latin typeface="Arial"/>
                <a:hlinkClick r:id="rId27"/>
              </a:rPr>
              <a:t>mpeg</a:t>
            </a:r>
            <a:r>
              <a:rPr b="1" lang="pt-BR" sz="2000" spc="-1" strike="noStrike" u="sng">
                <a:solidFill>
                  <a:srgbClr val="0066cc"/>
                </a:solidFill>
                <a:uFillTx/>
                <a:latin typeface="Arial"/>
                <a:hlinkClick r:id="rId28"/>
              </a:rPr>
              <a:t>-21.</a:t>
            </a:r>
            <a:r>
              <a:rPr b="1" lang="pt-BR" sz="2000" spc="-1" strike="noStrike" u="sng">
                <a:solidFill>
                  <a:srgbClr val="0066cc"/>
                </a:solidFill>
                <a:uFillTx/>
                <a:latin typeface="Arial"/>
                <a:hlinkClick r:id="rId29"/>
              </a:rPr>
              <a:t>ht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O que falta </a:t>
            </a:r>
            <a:r>
              <a:rPr b="0" lang="en-US" sz="4400" spc="-1" strike="noStrike">
                <a:solidFill>
                  <a:srgbClr val="000000"/>
                </a:solidFill>
                <a:latin typeface="Eras Bold ITC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Facilitar o gerenciamento de conteúd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Filtragem de informações sobre o conteú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Conteúdo só possui valor se pode ser encontrado eficientemente e rapidamen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Representar os direitos sobre a mídi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Representação digital de direitos/restrições/permissões sobre o conteúd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Licença poder ser lida por máquina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MPEG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Por que MPEG-7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Objetivo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Característic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Escop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Principais Element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MPEG2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O que é MPEG-21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Definiçõ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Direitos Autora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Adaptação de Conteú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Aplicações do MPEG-2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25909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MPEG7</a:t>
            </a:r>
            <a:endParaRPr b="0" lang="en-US" sz="5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0" y="350532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Por que MPEG7 </a:t>
            </a:r>
            <a:r>
              <a:rPr b="0" lang="en-US" sz="4400" spc="-1" strike="noStrike">
                <a:solidFill>
                  <a:srgbClr val="000000"/>
                </a:solidFill>
                <a:latin typeface="Eras Bold ITC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  <a:ea typeface="SimSun"/>
              </a:rPr>
              <a:t>“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  <a:ea typeface="SimSun"/>
              </a:rPr>
              <a:t>The value of information often depends on how easy it can be found, retrieved, accessed, filtered and managed. 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  <a:ea typeface="SimSun"/>
              </a:rPr>
              <a:t>MPEG-1, -2, -4: padronizar a forma de codificar; </a:t>
            </a:r>
            <a:br>
              <a:rPr sz="2800"/>
            </a:b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  <a:ea typeface="SimSun"/>
              </a:rPr>
              <a:t>MPEG-7: tornar o conteúdo acessível, recuperável, filtrável =&gt; gerenciável (via dispositivo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Por que MPEG7 </a:t>
            </a:r>
            <a:r>
              <a:rPr b="0" lang="en-US" sz="4400" spc="-1" strike="noStrike">
                <a:solidFill>
                  <a:srgbClr val="000000"/>
                </a:solidFill>
                <a:latin typeface="Eras Bold ITC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  <a:ea typeface="SimSun"/>
              </a:rPr>
              <a:t>Atingir o maior número possível de aplicaçõ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  <a:ea typeface="SimSun"/>
              </a:rPr>
              <a:t>Padrão compatível com tecnologias já existent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  <a:ea typeface="SimSun"/>
              </a:rPr>
              <a:t>Permitir diferentes níveis de interpretação de informações. </a:t>
            </a:r>
            <a:br>
              <a:rPr sz="2800"/>
            </a:b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01:22:14Z</dcterms:created>
  <dc:creator>Carina</dc:creator>
  <dc:description/>
  <dc:language>en-US</dc:language>
  <cp:lastModifiedBy>geber ramalho </cp:lastModifiedBy>
  <dcterms:modified xsi:type="dcterms:W3CDTF">2006-10-10T19:28:24Z</dcterms:modified>
  <cp:revision>7</cp:revision>
  <dc:subject/>
  <dc:title>MPEG7 – MPEG2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818881033</vt:lpwstr>
  </property>
</Properties>
</file>