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30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32.jpeg" ContentType="image/jpeg"/>
  <Override PartName="/ppt/media/image6.png" ContentType="image/png"/>
  <Override PartName="/ppt/media/image31.png" ContentType="image/png"/>
  <Override PartName="/ppt/media/image7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8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19.gif" ContentType="image/gif"/>
  <Override PartName="/ppt/media/image24.png" ContentType="image/png"/>
  <Override PartName="/ppt/media/image11.jpeg" ContentType="image/jpe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2A0BC-57A1-442E-AF49-9CCC542F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D8EF2-C262-49C0-A106-0103A6D3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787E2-0B89-466B-BE74-9865F698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08F35-0187-4625-8059-E3509ABD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395E-2408-4366-A300-44C884D5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653D-100A-4519-8AAF-14C46974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9D97-B391-4DC5-9E75-2AFFA66E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4586-FE6F-402A-BC65-00309DD3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9F5B-0C30-448C-8AD6-5A3F842B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D14F-89F6-47C8-B43B-260E0119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913E-4434-4BE4-9F22-80249414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D594E-2C5A-4BCC-90F2-CE013014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0B43-5411-4F85-9306-2F0463C2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7937-CA7C-4D94-970F-6FDE5CB0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3CFF-4F43-47AA-9C80-B63AA0DD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6CE8-74F3-49C1-9A7E-2DF14BB6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5AB5-EEC7-4125-A875-02AA26D6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CF851-A75F-4E77-BF61-AF5681F0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3AF61-5E4F-4A4D-89ED-FD6CFB64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EFBDB-55B4-430D-9AF2-46A8130E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2BA67-BF56-4938-81EA-135BDE6C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F8B71-BC88-456C-909A-D66AA68B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4F42D-A03B-4633-885C-4B069849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E3359-D316-4667-A058-4FB2FEDD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B91D-AF4C-4B98-891D-9BD98C939B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16C9-CFD9-43EA-8ED7-10DF560FC0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8.jpeg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www.youtube.com/watch?v=dVUgd8ot6BE" TargetMode="External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hyperlink" Target="http://www.youtube.com/watch?v=uWmgBKTmXvQ" TargetMode="External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hyperlink" Target="http://www.youtube.com/watch?v=aSoo-vPtcys" TargetMode="Externa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projectbarbq.com/" TargetMode="External"/><Relationship Id="rId2" Type="http://schemas.openxmlformats.org/officeDocument/2006/relationships/hyperlink" Target="http://www.gamasutra.com/resource_guide/20020520/odonnell_01.htm" TargetMode="External"/><Relationship Id="rId3" Type="http://schemas.openxmlformats.org/officeDocument/2006/relationships/hyperlink" Target="http://www.gamasutra.com/resource_guide/20020520/odonnell_01.htm" TargetMode="External"/><Relationship Id="rId4" Type="http://schemas.openxmlformats.org/officeDocument/2006/relationships/hyperlink" Target="http://www.gamespot.com/features/6092391/index.html" TargetMode="External"/><Relationship Id="rId5" Type="http://schemas.openxmlformats.org/officeDocument/2006/relationships/hyperlink" Target="http://en.wikipedia.org/wiki/Video_game_music" TargetMode="External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úsica em Jogo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utação Music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4952880"/>
            <a:ext cx="2666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inaldo Pess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Guilherme Olivei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Jobson Sil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aulo Pess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4080" y="4532400"/>
            <a:ext cx="125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rupo 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2080" y="628668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{dap2, gkmo, jrjs, sap}@cin.ufpe.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a::[1990-1999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1991- Nintendo lança Super NES (SNES) nos EU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sistema usava um chip de som dedicado Sony SPC700 de 8-bit com 8 canais separ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ctRais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ilhas mais elabor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versos instru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cando simultane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imbres difer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867280" y="42840"/>
            <a:ext cx="3124440" cy="1862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410080" y="3962520"/>
            <a:ext cx="2895840" cy="24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a::[1990-1999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</a:rPr>
              <a:t>1994 - Final Fantasy VI (III nos EUA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</a:rPr>
              <a:t>Trilha sonora brilhante elaborada por Nobuo Uemats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</a:rPr>
              <a:t>Temas específicos por personag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</a:rPr>
              <a:t>Considerada uma das maiores trilhas sonoras de games de todos os temp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58000" y="763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819520" y="5638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105520" y="5638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5486400" y="5157720"/>
            <a:ext cx="2540160" cy="1656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1600200" y="5321160"/>
            <a:ext cx="1003320" cy="120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62804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48464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a::[1990-1999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1995 – Início da era 32-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ga Satu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 processadores de s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ony Plays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hip de 24-ca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m com qualidade de 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porte nativo a efeitos digi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reverbe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mazenameto em CD-R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553080" y="1533600"/>
            <a:ext cx="2324160" cy="1743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648480" y="4419720"/>
            <a:ext cx="2114640" cy="203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a::[1990-1999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1996 – Nintendo 64 lançado nos EU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om 16-bit stere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P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odos software-driven na CP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anais: 100 PCM (16-24 usados em médi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ada canal consome em torno de 1% da CP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mostragem: 48.0 kHz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rmazenamento: cartuchos de 32-512 MBit (4-64 MBy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019920" y="69840"/>
            <a:ext cx="2743200" cy="18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a::[1990-1999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1998 – The Legend of Zelda: Ocarina of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Um dos primeiros títulos a utilizar música como parte do gamepla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Utilizava um ocarina para teletransportar e abrir passage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74320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00400" y="44197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7493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ção::Defini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Jogos Music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Jogabilidade é orientada a capacidade do jogador de conseguir de acompanhar uma batida musical e se manter no ritmo da trilha sonora do j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ssuem grande apelo visual e acústico para o usu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stam a visão, a audição e a coordenação mo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ção::Ex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4720" y="1746360"/>
            <a:ext cx="2627280" cy="1969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547640" y="37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2"/>
          </p:cNvPr>
          <p:cNvSpPr/>
          <p:nvPr/>
        </p:nvSpPr>
        <p:spPr>
          <a:xfrm>
            <a:off x="3995640" y="51498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uitar H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940360" y="2054160"/>
            <a:ext cx="2895840" cy="3861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659640" y="58705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rumm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3059280" y="2774880"/>
            <a:ext cx="3238200" cy="2428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1141560" y="4292640"/>
            <a:ext cx="2590560" cy="206064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rId6"/>
          </p:cNvPr>
          <p:cNvSpPr/>
          <p:nvPr/>
        </p:nvSpPr>
        <p:spPr>
          <a:xfrm>
            <a:off x="1073520" y="630864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nce Dance Rev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ção::Padr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os jogos musicais compartilham alguns padrõ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ntu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ção::Not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isa quando pressionar, qual marcador pressionar e como pressioná-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écn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adores que caem em uma col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írculos que se expandem e se contra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ção dos d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oavelmente consistente entre os jo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teração: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a como o jogador pressiona um “marcad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sitivos bastante var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umas imitações de instrumentos music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l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ta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ros mais genér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é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ó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ado da Ar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úsica na Inte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lusõ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teração: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que acontece quando um marcador é pressio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ipicamente possuem uma resposta visu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formação da precisão instantâ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formação da precisão contínua (comb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feitos visuais mistu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lguns incluem uma resposta son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teração: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u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ar/Falhar em uma mús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mente um medidor aumenta/diminui a medida que o jogador acerta/erra os marc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o marcador estiver acima de x% ao final da música o jogador passa de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isão, o que importa é a pontuação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itos jogos dão uma nota baseada no percentual de acertos dos marc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gos com histórico de pontu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teração::Demostr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oluntá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retsOn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u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tep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ção::Obj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riação e execução de áudio que dê a ilusão de que foi feito como pós-produção, mesmo sendo gerado ou montado em tempo de exec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ção::Pós-Produ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ós-produções são comuns em fil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acterizadas por serem produções line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s podem ser produzidos e integrados após a gravação e edição do fil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972880" y="4572000"/>
            <a:ext cx="2704320" cy="2059920"/>
            <a:chOff x="2972880" y="4572000"/>
            <a:chExt cx="2704320" cy="2059920"/>
          </a:xfrm>
        </p:grpSpPr>
        <p:sp>
          <p:nvSpPr>
            <p:cNvPr id="195" name=""/>
            <p:cNvSpPr/>
            <p:nvPr/>
          </p:nvSpPr>
          <p:spPr>
            <a:xfrm flipV="1">
              <a:off x="3733920" y="46479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33920" y="61722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1160" y="61722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72880" y="457200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733920" y="4876920"/>
              <a:ext cx="16002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sons precisam estar ligados a ação sem a vantagem da predição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ariedade (   ) e Repetição 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antidade vs. Qual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e-load vs. Stre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ção::Desafios Além do Entretenimento 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996160" y="3213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043080" y="3213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914400" y="61722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Times New Roman"/>
                <a:hlinkClick r:id="rId3"/>
              </a:rPr>
              <a:t>http://www.youtube.com/watch?v=aSoo-vPtcy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ção::Processo Tradicional Inadequ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2240" y="2057400"/>
            <a:ext cx="31068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a/Modifica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65440" y="3276720"/>
            <a:ext cx="334296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a para o program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7920" y="4572000"/>
            <a:ext cx="10112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3640" y="5715000"/>
            <a:ext cx="25034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uta no contex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5943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162920" y="22860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17220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197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19720" y="3886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5105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1676520"/>
            <a:ext cx="33526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ção::Problemas do Processo Tradi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uito dependente do program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pendente de recompilação para “editar, escutar e modific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ongo turn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uca flexibilidade para a equipe de á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egração deveria ser confiada aos experts de á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estões tecnológicas precisam ser conhecidas pelo criadores de conteú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ção::Processo Melho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49760" y="2057400"/>
            <a:ext cx="31068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a/Modifica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7120" y="2057400"/>
            <a:ext cx="38293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dor cri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erram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60800" y="4724280"/>
            <a:ext cx="25034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uta no contex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43800" y="4952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8915400" y="2286000"/>
            <a:ext cx="468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929360" y="2286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768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171840" y="3886200"/>
            <a:ext cx="4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73720" y="3352680"/>
            <a:ext cx="528768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 o conteúdo utilizand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erram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0" y="2590920"/>
            <a:ext cx="3505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ção::Processo Melho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 exemplo: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Ha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undfile” são os dados de á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undtag” são instruções de como tocar os sound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sound engine reconhece apenas soungt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und Designer sentou apenas com o Level Designer para integrar os sons de cada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25960" y="1523880"/>
            <a:ext cx="165096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a::Primórd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</a:rPr>
              <a:t>Elementos sonoros eram esquecidos, similarmente com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levi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il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utros meios primariamente visu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</a:rPr>
              <a:t>Efeitos mais sutis do que visu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</a:rPr>
              <a:t>Limitações técnológic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ção::Especialização de Fun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active arr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Desig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dio Implementation Engineer (AI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dio Archit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odução::Compo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creve as mús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vavelmente orquestra as mús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ia temas music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balha dentro de restrições impostas pel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o Archit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324480" y="76320"/>
            <a:ext cx="1360440" cy="2365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619760" y="2133720"/>
            <a:ext cx="1555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Mitsuda Yasuno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odução::Interactive Arra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nálogo ao arranjador/orquestrador para músicas em g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ormata composições para integrar com o j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balha próximo ao resto do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2057400" cy="19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odução::Sound Effects Desig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dentifica efeitos sonoros necessários para o tít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dera seções de “spott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ia elementos de 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balha com restrições impostas pelo Audio Archit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vê orientações para o A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478560" y="47242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ção::A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ponsável por integrar os elementos de áudio ao j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balha com o programador para implementar a sound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álogo ao “Audio Engineer” em pós-produ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balha próximo ao Interactive Arranger e ao Sound Desig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juda-os a tirarem máximo proveito da tecnologia uti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105520" y="76320"/>
            <a:ext cx="2666880" cy="195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odução::Audio Archit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e escopo e estratégias para implementação de áudio com uma visão geral em 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balha próximo ao resto do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entifica problemas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mpanha e estima implicações em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ticipa do projeto desde o primeiro 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vê a estrutura geral da implementação da sound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nta maximizar o áudio sem impactar no jogo como um t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úsica em jogos é um dos principais fatores que contribuem para a imersão em jo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outro lado, música como idéia central de jogos gera resultados interess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úsica não apenas para ouvir, mas para jo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je tornou-se um gênero musical e tem até mercado próprio e premi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MID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. 1999. “Interactive Audio Desig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. Disponível em: </a:t>
            </a:r>
            <a:r>
              <a:rPr b="0" lang="pt-BR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projectbarbq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OY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A. 2003. “When Worlds Collide: Sound and Music in Film and Games”. Disponível em: </a:t>
            </a:r>
            <a:r>
              <a:rPr b="0" lang="pt-BR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gamasutra.com/resource_guide/20020520/odonnell_0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’DONNE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M. 2002. “Producing Audio for Halo”. Disponível em: </a:t>
            </a:r>
            <a:r>
              <a:rPr b="0" lang="pt-BR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gamasutra.com/resource_guide/20020520/odonnell_0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GLEN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M. “A History of Video Game Music”. Disponível em: </a:t>
            </a:r>
            <a:r>
              <a:rPr b="0" lang="pt-BR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www.gamespot.com/features/6092391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uter and Video Game Music”. Disponível em: </a:t>
            </a:r>
            <a:r>
              <a:rPr b="0" lang="pt-BR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ttp://en.wikipedia.org/wiki/Video_game_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roperly designed, sound and visual cues work together to produce an experience greater than the sum of their parts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[By Glenn McDonal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a::Primórd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era do silên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1958 – William Higinbotham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om um jogo de tênis em um osciloscóp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1963 – Steve Russell, estudante do MIT com um jogo de duelo de naves espacia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1972 – Lançado o primeir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onsole, Magnavox Odyss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16303" r="0" b="0"/>
          <a:stretch/>
        </p:blipFill>
        <p:spPr>
          <a:xfrm>
            <a:off x="6248520" y="4952880"/>
            <a:ext cx="2209680" cy="1663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248520" y="1973160"/>
            <a:ext cx="2286000" cy="10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a::Primórd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1972 – Atari lança Pong, o primeiro jogo arc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rimeiros efeitos sono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m jog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blip-blop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” tocados quan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bola batia na raque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791320" y="2666880"/>
            <a:ext cx="2168280" cy="36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a::Primórd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1977 – Atari lança o Video Computer System (VCS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Mais tarde chamado de Atari 26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2 canais de som mo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rimeiros efeitos sonoros em conso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562720" y="152280"/>
            <a:ext cx="3352680" cy="1871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38080" y="4683240"/>
            <a:ext cx="2667240" cy="179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486400" y="4710240"/>
            <a:ext cx="2666880" cy="1766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029200" y="5410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5812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48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0992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a::[1980-1989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1981 – Arcade da Nintendo chamado Donkey K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higeru Miyamo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riou as musicas 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um pequeno tecl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letrôn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7242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181480" y="2901960"/>
            <a:ext cx="3205440" cy="365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4478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a::[1980-1989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1985 – Nintendo Entertainment System (N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5 canais de s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inda em 1985 Super Mario Bros. é lanç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ound Design inovador de Koji Kon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usicas davam d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2666880" cy="180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58128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02920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410080" y="4764240"/>
            <a:ext cx="2362320" cy="1904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219320" y="4748040"/>
            <a:ext cx="2286000" cy="19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07553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4132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a::[1980-1989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1986- The Legend of Zel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omposições de Koji Kon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música do jogo ganhou muitos f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Inúmeras bandas covers executam as mus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ode ser encontrada facilmente na We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10080" y="4869000"/>
            <a:ext cx="2514600" cy="1860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343400" y="5410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143000" y="4869000"/>
            <a:ext cx="2514600" cy="179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38887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18:09:17Z</dcterms:created>
  <dc:creator>dinaldo</dc:creator>
  <dc:description/>
  <dc:language>en-US</dc:language>
  <cp:lastModifiedBy>Jobson Ronan</cp:lastModifiedBy>
  <dcterms:modified xsi:type="dcterms:W3CDTF">2006-09-11T13:27:30Z</dcterms:modified>
  <cp:revision>249</cp:revision>
  <dc:subject/>
  <dc:title>Música em Jogos</dc:title>
</cp:coreProperties>
</file>