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E137-593C-427D-B2A5-B624887F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424F-3551-46FC-AC31-32431629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821C-F67A-4FD8-8090-C41050A7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F5C0-142E-4025-8062-4C2759DF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7DDF-55D2-4A49-85AE-D6594DB7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3F86-4301-415E-A21A-9BF39F3E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1EA8-E7B4-40A1-AEDC-79B24102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57D1-696F-468D-AF03-74728F4E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AB07-ACDB-4ED0-AC70-96E379FE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F7D3-1A82-450B-BC17-6E3347EE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EFAA-C1BE-4732-B108-4BDA3CCE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E862-85B4-4CF1-A013-EC576E3B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2ED9-FFD9-45B6-B6D0-D3F4E8BC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1AEB-1C18-4702-956D-E9D7FC7E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0BED-F23C-47BF-A383-7634D5E8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DA0E-475C-4344-B070-8E2B7912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A277-F361-46BB-86FD-556CCF33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5958-1D06-4770-8F52-A7AF402E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0A67-FB6E-4098-9837-1C05157A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2AF8-B289-4549-897F-B0503527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FAD0-34ED-475B-96A2-2F0B35B4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60B6-D452-4A1F-8F10-92FB1C3A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766C-1DB6-4CB5-BFDB-2CC266BB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4847-7C00-4CC3-8E89-C2F9A1FA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3731-9760-4C52-B564-A531178C50A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7C6A-F9F1-41E8-91CB-541A07AE68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Pulse/11%20-%20Target.mp3" TargetMode="External"/><Relationship Id="rId3" Type="http://schemas.openxmlformats.org/officeDocument/2006/relationships/hyperlink" Target="file:///Pulse/11%20-%20Target.mp3" TargetMode="External"/><Relationship Id="rId4" Type="http://schemas.openxmlformats.org/officeDocument/2006/relationships/hyperlink" Target="file:///Pulse/11%20-%20Target.mp3" TargetMode="External"/><Relationship Id="rId5" Type="http://schemas.openxmlformats.org/officeDocument/2006/relationships/hyperlink" Target="file:///Pulse/3%20-%20Distante.mp3" TargetMode="External"/><Relationship Id="rId6" Type="http://schemas.openxmlformats.org/officeDocument/2006/relationships/hyperlink" Target="file:///Pulse/5%20-%20Proximo.mp3" TargetMode="External"/><Relationship Id="rId7" Type="http://schemas.openxmlformats.org/officeDocument/2006/relationships/hyperlink" Target="file:///Pulse/5%20-%20Proximo.mp3" TargetMode="External"/><Relationship Id="rId8" Type="http://schemas.openxmlformats.org/officeDocument/2006/relationships/hyperlink" Target="file:///Pulse/5%20-%20Proximo.mp3" TargetMode="Externa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nmat.berkeley.edu/People/Vijay/06.%20Micro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206064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Verdana"/>
              </a:rPr>
              <a:t>Music Performan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7636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luno: Fúlvio Figueirôa Silvest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Microtiming Estu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[Fabien Gouyon, 2007]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amba de Ro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20 expert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anela de tolerância de 50m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2 Padrões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uster 1 - 3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tas 1ª, 3ª acentua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uster 2 - 23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tas 1ª, 2ª, 4ª acentua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Microdinamic - Estu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valuating Expressive Piano Performance With Psychoacoustic Fitness Fun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Jonatas Manzoll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racele Liver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Jose Fornar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Microdinamic - Stud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uls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abilidade de manter o controle do ritm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Legat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Habilidade de tocar melodias seqüênciando notas simpl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taccat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Habilidade de separar as nota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Intensit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Variação da força de cada not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Microdinamic Stud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FF – 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sychoacoustic Fitness Function) – é responsável pela seleção de formas de ond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Loudn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Pit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spectr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Microdinamic Stud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tensity- 11(target), 5(Distante), 8(proxim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63640" y="2349360"/>
            <a:ext cx="6048360" cy="3759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Microdinamic - Stud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ulse – </a:t>
            </a:r>
            <a:r>
              <a:rPr b="0" lang="pt-BR" sz="2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11(</a:t>
            </a:r>
            <a:r>
              <a:rPr b="0" lang="pt-BR" sz="24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target</a:t>
            </a:r>
            <a:r>
              <a:rPr b="0" lang="pt-BR" sz="24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)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t-BR" sz="24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3(Distante)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t-BR" sz="24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5(</a:t>
            </a:r>
            <a:r>
              <a:rPr b="0" lang="pt-BR" sz="24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proximo</a:t>
            </a:r>
            <a:r>
              <a:rPr b="0" lang="pt-BR" sz="24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)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1187280" y="2276640"/>
            <a:ext cx="6337440" cy="3744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Microdinamic - Stud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Legatto - 11(target), 10(Distante), 2(proxim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619280" y="2349360"/>
            <a:ext cx="6264360" cy="36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Microdinamic - Stud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acatto - 11(target), 10(Distante), 2(proxim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619280" y="2349360"/>
            <a:ext cx="6408720" cy="3721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Trabalhos Futur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Microtiming e Microdinami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Ritm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Composi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Instrumen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Conclus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A partir desses estudos com Microtiming e Microdinamic poderemos melhorar a forma de ensino de um ritmo, mostrando a característica de tocar seja de um país seja de um compositor  em especi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trodu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Qual a diferença entre uma música executada por um software de computador e por um músico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Music Performan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vios mínim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ntensidade (dinamic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empo local (nota: antes, depois, mais longo, mais curt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empo (andament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odos de execução (stacatto, legatto,..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vios maiores (fora partitur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Harmon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elod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Referências Bibliográf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wards Machine Learning of Expressive Microtiming in Brazilian Drumming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(Matthew Wright and Edgar Berdahl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icrotiming in “Samba de Roda” —Preliminary experiments with polyphonic audio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(Fabien Gouy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o discontinuous temporal windows in metrical music point to open-loop motor control? A musicological and cross-cultural analysis of rhythmic timing planning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(Andrew McGuines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valuating Expressive Piano Performances With Psychoacoustic Fitness Function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(Jonatas Manzolli, Iracele Livero, Jose Fornari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Microtiming Studies  - </a:t>
            </a:r>
            <a:r>
              <a:rPr b="0" lang="en-US" sz="21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cnmat.berkeley.edu/People/Vijay/06.%20Micro timing%20Studies.html#anchor24176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Característ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Variações de tempo, intensidade duração facilitam ouvintes dividir a música em segmen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tacar aspectos estruturais da mús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fletir restrições temporais impostas por materialização fís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lizar alguma função estética ou comunicat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ei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Ons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ta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11280" y="2781360"/>
            <a:ext cx="7777080" cy="3311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ei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Microtiming – é um conceito criado para alertar sutis diferenças na colocação das not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Microdinamic – é uma pequena variação na intensidade com que a nota é tocada em um dado instant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Tipos de Acen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Drake &amp; Palmer (1993)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 u="sng">
                <a:solidFill>
                  <a:srgbClr val="000000"/>
                </a:solidFill>
                <a:uFillTx/>
                <a:latin typeface="Verdana"/>
              </a:rPr>
              <a:t>Rhythmic Grouping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ma nota longa tende a finalizar um ritmo e é percebida como acentuad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 u="sng">
                <a:solidFill>
                  <a:srgbClr val="000000"/>
                </a:solidFill>
                <a:uFillTx/>
                <a:latin typeface="Verdana"/>
              </a:rPr>
              <a:t>Melodic Contour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odifica o volume da nota tocad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 u="sng">
                <a:solidFill>
                  <a:srgbClr val="000000"/>
                </a:solidFill>
                <a:uFillTx/>
                <a:latin typeface="Verdana"/>
              </a:rPr>
              <a:t>Metric Accents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– Carcterizado por batidas for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Tipos de Acen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76360" y="2133720"/>
          <a:ext cx="6408720" cy="3408120"/>
        </p:xfrm>
        <a:graphic>
          <a:graphicData uri="http://schemas.openxmlformats.org/drawingml/2006/table">
            <a:tbl>
              <a:tblPr/>
              <a:tblGrid>
                <a:gridCol w="2230560"/>
                <a:gridCol w="2089080"/>
                <a:gridCol w="2089080"/>
              </a:tblGrid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ção de Intensidad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se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hythmic group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as crescendo no grup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Último evento é atrasad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lodic Countou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ento em volta é mais al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ento melódico é atrasad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ric Accent</a:t>
                      </a: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tidas fort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Última batida é alonga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Microtiming Estu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Jazz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[Freeman &amp; Lacey, 2002] – Identificaram janelas de 30 ms ao redor da batid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[Friberg and Sundstrom, 2002] – Caracterizaram um padrão longo/curto de colcheias que proporciona o swing do jazz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Música Cuba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[Bilmes, 1993a, 1993b] – Identificou janelas de 20ms-80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: Primeira e  terceira batidas da caixa atrasa em 30m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Microtiming Estu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[Matthew Wright and Edgar Berdahl, 2006]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Ritmos Brasileir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Da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Algoritm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59280" y="1989000"/>
            <a:ext cx="3586320" cy="288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16:48:46Z</dcterms:created>
  <dc:creator>ffs</dc:creator>
  <dc:description/>
  <dc:language>en-US</dc:language>
  <cp:lastModifiedBy>Fulvio</cp:lastModifiedBy>
  <dcterms:modified xsi:type="dcterms:W3CDTF">2007-08-09T12:03:41Z</dcterms:modified>
  <cp:revision>116</cp:revision>
  <dc:subject/>
  <dc:title>Microtiming and Microdinamic</dc:title>
</cp:coreProperties>
</file>