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21.jpeg" ContentType="image/jpeg"/>
  <Override PartName="/ppt/media/image20.jpeg" ContentType="image/jpe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99212-B13B-4A1A-BBFA-AA80774D7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ED9F4-0B1E-43A6-8582-0212209C2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A4D6A-7FE8-474B-B58C-6D308DBA2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E96AA-0418-4669-AD21-93F8F342F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46C36-3E1D-4A85-97B7-0DEEC2E63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6B350-EAEA-4E88-BECA-94C5BDC25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4217D-B523-46A0-B2EC-DC27F3EC3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61C81-3E63-4854-8C9C-9762FE7E4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7834A-5F2C-4200-B2A1-C5BE922E4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249F0-E6F5-4E54-A664-05A114919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33CDB-5771-4A20-9C02-38D86473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37E11-2596-49AE-9916-A9CADE0E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E6577-B7F2-4669-8C04-BDF85AB1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2C277-BA85-4A11-9D21-36ECAB1A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E3C9E-A0CD-4E58-A666-DD06756B0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6C9AD-0D55-44F0-9488-16E716AC3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3AFE2-6750-4220-969F-42C1FD825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16756-12BC-4301-956C-7A1DCBF92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5491C-277E-4258-8741-6F03EB826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F6A5A-9C4C-43F6-9957-0245C4400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8831E-ADAC-42CA-BC02-59E48333A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CEA86-1120-4ECA-A11C-D0822FD4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7EE75-55B0-452C-8EFD-FA9D250B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6FCEF-A66C-4755-9233-88E25332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Rectangle 6" descr=""/>
          <p:cNvPicPr/>
          <p:nvPr/>
        </p:nvPicPr>
        <p:blipFill>
          <a:blip r:embed="rId2"/>
          <a:stretch/>
        </p:blipFill>
        <p:spPr>
          <a:xfrm>
            <a:off x="5105520" y="2971800"/>
            <a:ext cx="4038480" cy="3886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32968-71CC-4FF0-908D-4A10A643F03C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" name="Rectangle 7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6648480" y="4267080"/>
            <a:ext cx="2495520" cy="1495440"/>
          </a:xfrm>
          <a:prstGeom prst="rect">
            <a:avLst/>
          </a:prstGeom>
          <a:ln w="0">
            <a:noFill/>
          </a:ln>
        </p:spPr>
      </p:pic>
      <p:pic>
        <p:nvPicPr>
          <p:cNvPr id="17" name="Rectangle 8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7238880" y="2743200"/>
            <a:ext cx="1428840" cy="2048040"/>
          </a:xfrm>
          <a:prstGeom prst="rect">
            <a:avLst/>
          </a:prstGeom>
          <a:ln w="0">
            <a:noFill/>
          </a:ln>
        </p:spPr>
      </p:pic>
      <p:pic>
        <p:nvPicPr>
          <p:cNvPr id="18" name="" descr=""/>
          <p:cNvPicPr/>
          <p:nvPr/>
        </p:nvPicPr>
        <p:blipFill>
          <a:blip r:embed="rId5"/>
          <a:stretch/>
        </p:blipFill>
        <p:spPr>
          <a:xfrm>
            <a:off x="6294600" y="4797360"/>
            <a:ext cx="1085760" cy="1190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Rectangle 6" descr=""/>
          <p:cNvPicPr/>
          <p:nvPr/>
        </p:nvPicPr>
        <p:blipFill>
          <a:blip r:embed="rId2"/>
          <a:stretch/>
        </p:blipFill>
        <p:spPr>
          <a:xfrm>
            <a:off x="5105520" y="2971800"/>
            <a:ext cx="4038480" cy="3886200"/>
          </a:xfrm>
          <a:prstGeom prst="rect">
            <a:avLst/>
          </a:prstGeom>
          <a:ln w="0">
            <a:noFill/>
          </a:ln>
        </p:spPr>
      </p:pic>
      <p:pic>
        <p:nvPicPr>
          <p:cNvPr id="56" name="Rectangle 7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6648480" y="4267080"/>
            <a:ext cx="2495520" cy="1495440"/>
          </a:xfrm>
          <a:prstGeom prst="rect">
            <a:avLst/>
          </a:prstGeom>
          <a:ln w="0">
            <a:noFill/>
          </a:ln>
        </p:spPr>
      </p:pic>
      <p:pic>
        <p:nvPicPr>
          <p:cNvPr id="57" name="Rectangle 8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7238880" y="2743200"/>
            <a:ext cx="1428840" cy="20480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6294600" y="4797360"/>
            <a:ext cx="1085760" cy="119052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0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3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3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2C5FB-7667-46A2-8FF7-C89B22DDCC82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pt.wikipedia.org/wiki/Batidas_por_minuto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ffffff"/>
                </a:solidFill>
                <a:latin typeface="Arial"/>
              </a:rPr>
              <a:t>Expressive Music Performanc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78920" y="5444640"/>
            <a:ext cx="881244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Arial"/>
              </a:rPr>
              <a:t>{lopb, rfoh} @cin.ufpe.b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1920" y="4583160"/>
            <a:ext cx="88120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Arial"/>
              </a:rPr>
              <a:t>Luís Otávio e Raphael Holand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ncei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s parâmetros mais importantes disponíveis para um músico sã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timing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variações de tempo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dynamic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variações de intensidad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ariações de tempo e intensidade podem ser representadas como curvas que quantificam esses parâmetros através de uma composição musical relativa à algum valor de referência (e.g. a intensidade média ou o tempo da mesma músic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ncei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3035" t="0" r="17689" b="51902"/>
          <a:stretch/>
        </p:blipFill>
        <p:spPr>
          <a:xfrm>
            <a:off x="838080" y="2057400"/>
            <a:ext cx="5410440" cy="46371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324480" y="4724280"/>
            <a:ext cx="1519200" cy="19083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6324480" y="1981080"/>
            <a:ext cx="1212840" cy="190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7543800" y="2895480"/>
            <a:ext cx="142884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ncei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urva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dynamic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e um pequeno trecho do Piano Sonata K.280 de Mozart, 1º movimento, tocado por 5 famosos pian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042920" y="3044880"/>
            <a:ext cx="662472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Conceitos – pontos de express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empo (Cinética musical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tensidade (Dinâmica musical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mo tocar as notas individualmente ou em conjunto (acentuação e articulação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nceitos – Cinética Musi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 Unicode MS"/>
              </a:rPr>
              <a:t>Temp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Unicode MS"/>
              </a:rPr>
              <a:t>Gravissimo</a:t>
            </a:r>
            <a:r>
              <a:rPr b="0" lang="pt-BR" sz="1600" spc="-1" strike="noStrike">
                <a:solidFill>
                  <a:srgbClr val="000000"/>
                </a:solidFill>
                <a:latin typeface="Arial Unicode MS"/>
              </a:rPr>
              <a:t>: Menos de 40 </a:t>
            </a:r>
            <a:r>
              <a:rPr b="0" lang="pt-BR" sz="1600" spc="-1" strike="noStrike" u="sng">
                <a:solidFill>
                  <a:srgbClr val="666699"/>
                </a:solidFill>
                <a:uFillTx/>
                <a:latin typeface="Arial Unicode MS"/>
                <a:hlinkClick r:id="rId1"/>
              </a:rPr>
              <a:t>batidas por minuto</a:t>
            </a:r>
            <a:r>
              <a:rPr b="0" lang="pt-BR" sz="1600" spc="-1" strike="noStrike">
                <a:solidFill>
                  <a:srgbClr val="000000"/>
                </a:solidFill>
                <a:latin typeface="Arial Unicode MS"/>
              </a:rPr>
              <a:t> (bpm). Extremamente le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Unicode MS"/>
              </a:rPr>
              <a:t>Grave</a:t>
            </a:r>
            <a:r>
              <a:rPr b="0" lang="pt-BR" sz="1600" spc="-1" strike="noStrike">
                <a:solidFill>
                  <a:srgbClr val="000000"/>
                </a:solidFill>
                <a:latin typeface="Arial Unicode MS"/>
              </a:rPr>
              <a:t>: de 40 a 48 bpm. Muito lento; grave; sério; demasiadamente vagaros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Unicode MS"/>
              </a:rPr>
              <a:t>Largo</a:t>
            </a:r>
            <a:r>
              <a:rPr b="0" lang="pt-BR" sz="1600" spc="-1" strike="noStrike">
                <a:solidFill>
                  <a:srgbClr val="000000"/>
                </a:solidFill>
                <a:latin typeface="Arial Unicode MS"/>
              </a:rPr>
              <a:t>: de 48 a 58 bpm. Lento, muito vagaros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Unicode MS"/>
              </a:rPr>
              <a:t>Larghetto</a:t>
            </a:r>
            <a:r>
              <a:rPr b="0" lang="pt-BR" sz="1600" spc="-1" strike="noStrike">
                <a:solidFill>
                  <a:srgbClr val="000000"/>
                </a:solidFill>
                <a:latin typeface="Arial Unicode MS"/>
              </a:rPr>
              <a:t>: de 59 a 65 bpm. Um pouco mais rápido que o </a:t>
            </a:r>
            <a:r>
              <a:rPr b="0" i="1" lang="pt-BR" sz="1600" spc="-1" strike="noStrike">
                <a:solidFill>
                  <a:srgbClr val="000000"/>
                </a:solidFill>
                <a:latin typeface="Arial Unicode MS"/>
              </a:rPr>
              <a:t>lar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Unicode MS"/>
              </a:rPr>
              <a:t>Adagio</a:t>
            </a:r>
            <a:r>
              <a:rPr b="0" lang="pt-BR" sz="1600" spc="-1" strike="noStrike">
                <a:solidFill>
                  <a:srgbClr val="000000"/>
                </a:solidFill>
                <a:latin typeface="Arial Unicode MS"/>
              </a:rPr>
              <a:t>: de 66 a 72 bpm. Devagar; calmo; lentam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Unicode MS"/>
              </a:rPr>
              <a:t>Andante</a:t>
            </a:r>
            <a:r>
              <a:rPr b="0" lang="pt-BR" sz="1600" spc="-1" strike="noStrike">
                <a:solidFill>
                  <a:srgbClr val="000000"/>
                </a:solidFill>
                <a:latin typeface="Arial Unicode MS"/>
              </a:rPr>
              <a:t>: de 73 a 80 bpm. Em passo tranquilo; andan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Unicode MS"/>
              </a:rPr>
              <a:t>Andantino</a:t>
            </a:r>
            <a:r>
              <a:rPr b="0" lang="pt-BR" sz="1600" spc="-1" strike="noStrike">
                <a:solidFill>
                  <a:srgbClr val="000000"/>
                </a:solidFill>
                <a:latin typeface="Arial Unicode MS"/>
              </a:rPr>
              <a:t>: de 80 a 95 bpm. Um pouco mais rápido que o </a:t>
            </a:r>
            <a:r>
              <a:rPr b="0" i="1" lang="pt-BR" sz="1600" spc="-1" strike="noStrike">
                <a:solidFill>
                  <a:srgbClr val="000000"/>
                </a:solidFill>
                <a:latin typeface="Arial Unicode MS"/>
              </a:rPr>
              <a:t>anda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Unicode MS"/>
              </a:rPr>
              <a:t>Moderato</a:t>
            </a:r>
            <a:r>
              <a:rPr b="0" lang="pt-BR" sz="1600" spc="-1" strike="noStrike">
                <a:solidFill>
                  <a:srgbClr val="000000"/>
                </a:solidFill>
                <a:latin typeface="Arial Unicode MS"/>
              </a:rPr>
              <a:t>: de 96 a 104 bpm. Velocidade moderada; moderadam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Unicode MS"/>
              </a:rPr>
              <a:t>Allegretto</a:t>
            </a:r>
            <a:r>
              <a:rPr b="0" lang="pt-BR" sz="1600" spc="-1" strike="noStrike">
                <a:solidFill>
                  <a:srgbClr val="000000"/>
                </a:solidFill>
                <a:latin typeface="Arial Unicode MS"/>
              </a:rPr>
              <a:t>: de 105 a 120 bpm. Mais rápido que o </a:t>
            </a:r>
            <a:r>
              <a:rPr b="0" i="1" lang="pt-BR" sz="1600" spc="-1" strike="noStrike">
                <a:solidFill>
                  <a:srgbClr val="000000"/>
                </a:solidFill>
                <a:latin typeface="Arial Unicode MS"/>
              </a:rPr>
              <a:t>moderato</a:t>
            </a:r>
            <a:r>
              <a:rPr b="0" lang="pt-BR" sz="1600" spc="-1" strike="noStrike">
                <a:solidFill>
                  <a:srgbClr val="000000"/>
                </a:solidFill>
                <a:latin typeface="Arial Unicode MS"/>
              </a:rPr>
              <a:t> e mais lento que </a:t>
            </a:r>
            <a:r>
              <a:rPr b="0" i="1" lang="pt-BR" sz="1600" spc="-1" strike="noStrike">
                <a:solidFill>
                  <a:srgbClr val="000000"/>
                </a:solidFill>
                <a:latin typeface="Arial Unicode MS"/>
              </a:rPr>
              <a:t>alleg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Unicode MS"/>
              </a:rPr>
              <a:t>Allegro</a:t>
            </a:r>
            <a:r>
              <a:rPr b="0" lang="pt-BR" sz="1600" spc="-1" strike="noStrike">
                <a:solidFill>
                  <a:srgbClr val="000000"/>
                </a:solidFill>
                <a:latin typeface="Arial Unicode MS"/>
              </a:rPr>
              <a:t>: de 121 a 140 bpm. Depressa; ráp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Unicode MS"/>
              </a:rPr>
              <a:t>Vivace</a:t>
            </a:r>
            <a:r>
              <a:rPr b="0" lang="pt-BR" sz="1600" spc="-1" strike="noStrike">
                <a:solidFill>
                  <a:srgbClr val="000000"/>
                </a:solidFill>
                <a:latin typeface="Arial Unicode MS"/>
              </a:rPr>
              <a:t>: de 141 a a 168 bpm. Vivo; com vivacidad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Unicode MS"/>
              </a:rPr>
              <a:t>Presto</a:t>
            </a:r>
            <a:r>
              <a:rPr b="0" lang="pt-BR" sz="1600" spc="-1" strike="noStrike">
                <a:solidFill>
                  <a:srgbClr val="000000"/>
                </a:solidFill>
                <a:latin typeface="Arial Unicode MS"/>
              </a:rPr>
              <a:t>: de 169 a 180 bpm. Muito depressa; muito ráp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Unicode MS"/>
              </a:rPr>
              <a:t>Prestissimo</a:t>
            </a:r>
            <a:r>
              <a:rPr b="0" lang="pt-BR" sz="1600" spc="-1" strike="noStrike">
                <a:solidFill>
                  <a:srgbClr val="000000"/>
                </a:solidFill>
                <a:latin typeface="Arial Unicode MS"/>
              </a:rPr>
              <a:t>: de 181 a 208 bpm. O mais depressa possí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nceitos – Dinâmica Musi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 Unicode MS"/>
              </a:rPr>
              <a:t>Intensida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 Unicode MS"/>
              </a:rPr>
              <a:t>ppp</a:t>
            </a:r>
            <a:r>
              <a:rPr b="0" lang="pt-BR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i="1" lang="pt-BR" sz="2800" spc="-1" strike="noStrike">
                <a:solidFill>
                  <a:srgbClr val="000000"/>
                </a:solidFill>
                <a:latin typeface="Arial Unicode MS"/>
              </a:rPr>
              <a:t>molto pianissi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 Unicode MS"/>
              </a:rPr>
              <a:t>pp</a:t>
            </a:r>
            <a:r>
              <a:rPr b="1" lang="pt-BR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i="1" lang="pt-BR" sz="2800" spc="-1" strike="noStrike">
                <a:solidFill>
                  <a:srgbClr val="000000"/>
                </a:solidFill>
                <a:latin typeface="Arial Unicode MS"/>
              </a:rPr>
              <a:t>pianissi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 Unicode MS"/>
              </a:rPr>
              <a:t>p</a:t>
            </a:r>
            <a:r>
              <a:rPr b="0" lang="pt-BR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i="1" lang="pt-BR" sz="2800" spc="-1" strike="noStrike">
                <a:solidFill>
                  <a:srgbClr val="000000"/>
                </a:solidFill>
                <a:latin typeface="Arial Unicode MS"/>
              </a:rPr>
              <a:t>pi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 Unicode MS"/>
              </a:rPr>
              <a:t>fp</a:t>
            </a:r>
            <a:r>
              <a:rPr b="0" lang="pt-BR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i="1" lang="pt-BR" sz="2800" spc="-1" strike="noStrike">
                <a:solidFill>
                  <a:srgbClr val="000000"/>
                </a:solidFill>
                <a:latin typeface="Arial Unicode MS"/>
              </a:rPr>
              <a:t>mezzo-fo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 Unicode MS"/>
              </a:rPr>
              <a:t>f</a:t>
            </a:r>
            <a:r>
              <a:rPr b="0" lang="pt-BR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i="1" lang="pt-BR" sz="2800" spc="-1" strike="noStrike">
                <a:solidFill>
                  <a:srgbClr val="000000"/>
                </a:solidFill>
                <a:latin typeface="Arial Unicode MS"/>
              </a:rPr>
              <a:t>fo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 Unicode MS"/>
              </a:rPr>
              <a:t>ff</a:t>
            </a:r>
            <a:r>
              <a:rPr b="1" lang="pt-BR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i="1" lang="pt-BR" sz="2800" spc="-1" strike="noStrike">
                <a:solidFill>
                  <a:srgbClr val="000000"/>
                </a:solidFill>
                <a:latin typeface="Arial Unicode MS"/>
              </a:rPr>
              <a:t>fortissi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 Unicode MS"/>
              </a:rPr>
              <a:t>fff</a:t>
            </a:r>
            <a:r>
              <a:rPr b="0" lang="pt-BR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i="1" lang="pt-BR" sz="2800" spc="-1" strike="noStrike">
                <a:solidFill>
                  <a:srgbClr val="000000"/>
                </a:solidFill>
                <a:latin typeface="Arial Unicode MS"/>
              </a:rPr>
              <a:t>molto fortissi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Conceitos – acentuação e articulaç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2214720"/>
            <a:ext cx="640548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511920" indent="-511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o tocar as notas individualmente ou em conju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Unicode MS"/>
              </a:rPr>
              <a:t>Acentuaçã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Unicode MS"/>
              </a:rPr>
              <a:t>Staccato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ota é destacada das demais por um breve silêncio. Na prática há uma diminuição no tempo da nota. Literalmente significa "destacado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Unicode MS"/>
              </a:rPr>
              <a:t>Articulaçã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Unicode MS"/>
              </a:rPr>
              <a:t>Legato: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Notas cobertas por este símbolo devem ser tocadas sem nenhuma interrupção como se fossem uma s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762120" y="4876920"/>
            <a:ext cx="1346040" cy="13460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838080" y="3352680"/>
            <a:ext cx="1244880" cy="12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ncei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 Unicode MS"/>
              </a:rPr>
              <a:t>Modelos computacionais de performance music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 Unicode MS"/>
              </a:rPr>
              <a:t>Análise por síntese Versus Aprendizagem de máqu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Unicode MS"/>
              </a:rPr>
              <a:t>KTH</a:t>
            </a:r>
            <a:r>
              <a:rPr b="0" lang="pt-BR" sz="2800" spc="-1" strike="noStrike">
                <a:solidFill>
                  <a:srgbClr val="000000"/>
                </a:solidFill>
                <a:latin typeface="Arial Unicode MS"/>
              </a:rPr>
              <a:t> versus </a:t>
            </a:r>
            <a:r>
              <a:rPr b="1" lang="pt-BR" sz="2800" spc="-1" strike="noStrike">
                <a:solidFill>
                  <a:srgbClr val="000000"/>
                </a:solidFill>
                <a:latin typeface="Arial Unicode MS"/>
              </a:rPr>
              <a:t>Machine Learning Model</a:t>
            </a:r>
            <a:r>
              <a:rPr b="0" lang="pt-BR" sz="2800" spc="-1" strike="noStrike">
                <a:solidFill>
                  <a:srgbClr val="000000"/>
                </a:solidFill>
                <a:latin typeface="Arial Unicode MS"/>
              </a:rPr>
              <a:t> (Prof. Widm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nceitos – Análise por Sínte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 Unicode MS"/>
              </a:rPr>
              <a:t>Análise manual de performances re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 Unicode MS"/>
              </a:rPr>
              <a:t>Intuição de exp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 Unicode MS"/>
              </a:rPr>
              <a:t>Hipoteses viram reg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 Unicode MS"/>
              </a:rPr>
              <a:t>Regras são testadas em uma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 Unicode MS"/>
              </a:rPr>
              <a:t>Performance é aceita/rejeitada/refi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 Unicode MS"/>
              </a:rPr>
              <a:t>Muito dependente do ser hum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 Unicode MS"/>
              </a:rPr>
              <a:t>Ex: KTH – Director Mus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nceitos – </a:t>
            </a:r>
            <a:r>
              <a:rPr b="0" i="1" lang="pt-BR" sz="4400" spc="-1" strike="noStrike">
                <a:solidFill>
                  <a:srgbClr val="000000"/>
                </a:solidFill>
                <a:latin typeface="Arial"/>
              </a:rPr>
              <a:t>Machine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 Unicode MS"/>
              </a:rPr>
              <a:t>Prof. Gerhard Widmer (Vienna): </a:t>
            </a:r>
            <a:r>
              <a:rPr b="0" lang="pt-BR" sz="3200" spc="-1" strike="noStrike">
                <a:solidFill>
                  <a:srgbClr val="000000"/>
                </a:solidFill>
                <a:latin typeface="Arial Unicode MS"/>
              </a:rPr>
              <a:t>Bösendorfer + Interpretes tocando Moz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Unicode MS"/>
              </a:rPr>
              <a:t>Extrair informações de perform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Unicode MS"/>
              </a:rPr>
              <a:t>Data mining / rules in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Rotei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otiv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cei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s de aplicaç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clus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ferê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Conceitos – Críticas aos Model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sensíveis ao rit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sensíveis ao contexto histórico (ornament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sultados do KTH são semelhantes ao do método de Widmer (crítica positiva, dá credibilidade aos model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Conceitos – Disklavier (Yama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2214720"/>
            <a:ext cx="792972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is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klavier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(Pianola ‘turbinada’ de 100k libr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838080" y="2743200"/>
            <a:ext cx="3494160" cy="38862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572000" y="297180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nceitos - P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Unicode MS"/>
              </a:rPr>
              <a:t>Psychoacoustic Fitness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Unicode MS"/>
              </a:rPr>
              <a:t>Verificação automatizada de expressividade em performances em pi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Unicode MS"/>
              </a:rPr>
              <a:t>Derivado do ESSynth(Evolutionary Sound Synthesis Meth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Unicode MS"/>
              </a:rPr>
              <a:t>Análise comparativa entre intérpretes no que se refere a algum parâmetro de expressividade (ex: legato, stacca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nceitos - Ornamen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mo o nome diz: Enfeite, algo que “não faz part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tações abertas a interpretação mas não mu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á instruções de execução em função do período de elaboração da ob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inado Barroco / Trinado Clássico  (Liberdade/Bom sens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arroco/Romantismo = Harmonia simples mas complicada de tocar dada a quantidade de ornam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umann (1986) claims that the execution of any ornament is highly dependent on the musical context in which it is sit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xemplos de Aplicaçõ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das primeiras tentativas para tratar expressividade foi proposta por Johnson 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 especialista para determinar o tempo e a articulação a ser aplicada quando tocada fugas de Bach de “The Well-Tempered Clavier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 regras foram obtidas de dois músicos especialist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saída dá o valor de tempo base e uma lista de instruções de execução em duração de notas e articulaçã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principal limitação do sistema é a falta de generalid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xemplos de Aplicaçõ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trabalho do grupo KTH de Stockholm [3, 4, 5, 6] é um dos mais conhecidos esforços em sistemas de performanc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 “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Director Music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”: incorpora regras para tempo, dinâmica e transformações de articulação compelidas para MID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sas regras são divididas em 3 clas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gras de diferenciação: acentua as diferenças entre os ton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gras de agrupamento: mostra quais tons estão junt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gras de conjunto: sincroniza as várias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voic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em um conjunto music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odar Director Mus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xemplos de Aplicaçõ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nazza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et al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[7] desenvolveu um sistema para analizar como as intenções expressivas dos músicos são refletidas na performanc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análise revela duas diferentes dimensões expressiv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relacionada à energia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dynamic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da peç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 outra relacionada às cinéticas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rubat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da peç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ambém foi desenvolvido um programa para gerar performances expressivas de acordo com essas duas dimensõ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xemplos de Aplicaçõ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annenberg e Derenyi [8] trabalharam com transformações de articulação usando regras construídas manualmen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les desenvolveram um sintetizador de trompa que combina um modelo físico com um modelo de execuçã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objetivo do modelo de execução é gerar informação de controle para o modelo físico por meio de uma coleção de regras extraídas manualmente das análises de uma coleção de gravaçõ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nclus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5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dos efeitos da era eletrônica é que ela mudará para sempre os valores que agregamos à arte” Glenn Gould (1932 – 198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puter-aided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re-performanc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e Bach, de uma obra que ele havia gravado em 1955 (Bons revie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038400" y="4343400"/>
            <a:ext cx="3133800" cy="23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nclus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Há padrões e regularidades (micro e macro) para serem aprendidos, modelados e aplicado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ssíveis futur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ercial: música de videogame, ou de propaganda (tocada por “Mozart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uriosidade de ouvir como soaria o sotaque de um interprete já falecido em determinada música ou até mesmo novas composições de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Expressive Music Performa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É a arte de modelar uma peça musical, variando </a:t>
            </a:r>
            <a:r>
              <a:rPr b="0" i="1" lang="pt-BR" sz="3200" spc="-1" strike="noStrike">
                <a:solidFill>
                  <a:srgbClr val="ff0000"/>
                </a:solidFill>
                <a:latin typeface="Arial"/>
              </a:rPr>
              <a:t>parâmetros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 importantes continuamente, como: tempo, intensidade, etc. [Widmer et al., 2003]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Pergunt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22440" y="2184480"/>
            <a:ext cx="416556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Referê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dmer, G., Dixon, S., Goebl, W., Pampalk, E., and Tobudic, A. (2003). In search of the Horowitz factor. AI Magazine, 24(3):111–13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.L. Johnson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n expert system for the articulation of Bach fugue melodi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In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adings in Computer Generated Musi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ed. D.L. Baggi, 41-51. Los Alamitos, Calif.: IEEE Press. 199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. Bresin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rticulation rules for automatic music performan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In Proceedings of the 2001 International Computer Music Conference 2001. San Francisco, Calif.: International Computer Music Association. 200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 Friberg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 quantitative rule system for musical performan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PhD dissertation, KTH, Stockholm. 1995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 Friberg, R. Bresin, L. Fryden, and J. Sunberg. Musical punctuation on the microlevel: automatic identification and performance of small melodic units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ournal of New Music Research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7:3 (1998), 271-29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 Friberg, J. Sunberg, and L. Fryden. Music From Motion: Sound Level Envelopes of Tones Expressing Human Locomotion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ournal on New Music Resear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29:3 (2000 ),199-21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. Canazza, G. De Poli, A. Roda, and A. Vidolin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nalysis and synthesis of expressive intention in a clarinet performan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In Proceedings of the 1997 International Computer Music Conference, 113-120. San Francisco, Calif.: International Computer Music Association. 1997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.B. Dannenberg, and I. Derenyi. Combining instrument and performance models for high quality music synthesis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ournal of New Music Research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7:3 (1998), 211-23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forma como esses 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parâmetro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devem ser variados não é especificado precisamente na partitura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o mesmo tempo, isso é o que permite uma peça musical </a:t>
            </a:r>
            <a:r>
              <a:rPr b="0" lang="pt-BR" sz="3200" spc="-1" strike="noStrike" u="sng">
                <a:solidFill>
                  <a:srgbClr val="000000"/>
                </a:solidFill>
                <a:uFillTx/>
                <a:latin typeface="Arial"/>
              </a:rPr>
              <a:t>ganhar vid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e o que distingue bons artistas de out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otiv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ilhões de pessoas estão regularmente participando de eventos de música ao vivo ou ouvindo à gravações de performances musica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258920" y="4219560"/>
            <a:ext cx="3240000" cy="22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otiv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que os leva a fazer isso é muito difícil de atribuir com exatidão e as razões podem ser as mais divers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449440" y="3840120"/>
            <a:ext cx="2051280" cy="29736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427640" y="3478320"/>
            <a:ext cx="3101760" cy="23270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6732720" y="4941720"/>
            <a:ext cx="2311200" cy="16812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250920" y="3645000"/>
            <a:ext cx="230328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otiv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orém, todos ouvem à músicas feitas pelo homem (a maioria das veze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ais músicas possuem uma 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expressã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humana específica, qualquer que seja essa expressã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que eles ouvem fazem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sentid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para e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otiv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em essa 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expressividad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a música não atrairía tantas pessoa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la é uma parte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integral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da mús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43280" y="4221000"/>
            <a:ext cx="3810240" cy="25434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871560" y="3645000"/>
            <a:ext cx="427680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otiv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da interprete tem sua própria expressivida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erformance Noise (O corpo não é perfeito, a mão não executa no milisegundo correto a instrução, será que isso se confunde com a interpretação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texto (Emoção diferente, lugar diferente, platéia difer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esar disso, vários interpretes tocando várias vezes têm caracteristicas em comum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ogo, um modelo (regras) pode ser arquitetado para estes padrõ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azer a máquina aplicar o padrão certo na hora cer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12:38:04Z</dcterms:created>
  <dc:creator>João</dc:creator>
  <dc:description/>
  <dc:language>en-US</dc:language>
  <cp:lastModifiedBy>Raphael Holanda</cp:lastModifiedBy>
  <dcterms:modified xsi:type="dcterms:W3CDTF">2008-06-03T12:55:50Z</dcterms:modified>
  <cp:revision>20</cp:revision>
  <dc:subject/>
  <dc:title>Recuperação de música baseada em conteúdo</dc:title>
</cp:coreProperties>
</file>