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76C9-D7DD-49EC-B08A-ACF0CCE35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D4D8-1604-4F7A-99C0-3CAA39DC9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2B8D-8792-4950-A759-D7116DA97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DFDB-CD8D-4787-A076-573809E86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2CCA4-C18D-4ED5-8873-CB177A056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E7CA0-519D-40C5-84FC-B85F1D535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27240-9A13-48E6-BA5E-6034A68EC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6A5D1-D2C1-4CB8-9FAA-C305981E4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5289A-CBD8-40FC-B582-FEE2219F5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D46B8-77B8-4665-A9A6-06C0016F9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11CFD-D2EB-4213-A182-3FD73439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39B9-F9C0-426A-BFA9-C40EAE178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897C1-BA34-4CA1-B1E2-16511B0CF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D9D4B-A4D5-43EF-8F1C-FB074D2F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203C5-1140-4B4C-A498-159C96630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CC256-D258-4E1D-A83D-2289E3DD3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9DA20-2B1E-4A69-B0EE-68470919C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ED84-4CD8-4E80-AD4D-CC66F4404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30D6-E65C-4EAA-B98F-BC1989262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C85B-7D53-46F6-A5F2-E6AFCD2ED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C4F1-E9F5-4E3D-947D-5B82A8CD9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F6AE-FD69-466C-AF45-9024504E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686C-1EC7-4BC5-9960-8D77DE35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5252-1DF1-46B7-A44F-8D65226D3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44E22-D575-4486-AB4B-B4B633CBBDC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2D098-15AB-4019-B7D7-9D74675228C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Clef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MUSICXML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508720" y="4723920"/>
            <a:ext cx="334944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arcelo Pereir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anieri Valenç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osana Mat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Valmir Sen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Básico de Notação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mpass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050920" y="2637000"/>
            <a:ext cx="330516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Básico de Notação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ta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95280" y="3213000"/>
            <a:ext cx="8748720" cy="34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Básico de Notação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tas e Pausa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15920" y="3573360"/>
            <a:ext cx="9028080" cy="13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Esquema MusicXml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Verdana"/>
              </a:rPr>
              <a:t>&lt;?xml version="1.0" encoding="UTF-8" standalone="no"?&gt;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Verdana"/>
              </a:rPr>
              <a:t>&lt;!DOCTYPE score-partwise PUBLIC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Verdana"/>
              </a:rPr>
              <a:t>"-//Recordare//DTD MusicXML 1.1 Partwise//EN"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Verdana"/>
              </a:rPr>
              <a:t>"http://www.musicxml.org/dtds/partwise.dtd"&gt;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Verdana"/>
              </a:rPr>
              <a:t>&lt;score-partwise version="1.1"&gt;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Verdana"/>
              </a:rPr>
              <a:t>&lt;part-list&gt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Verdana"/>
              </a:rPr>
              <a:t>&lt;/part-list&gt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Esquema MusicXml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Part-Lis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score-part id="P1"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part-name&gt;clarinet in A&lt;/part-na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score-instrument id="P1-I1"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instrument-name&gt;Clarinet&lt;/instrument-na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/score-instrument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midi-instrument id="P1-I1"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midi-channel&gt;1&lt;/midi-channel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midi-program&gt;72&lt;/midi-program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/midi-instrument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/score-part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score-part id="P2"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part-name&gt;violino I&lt;/part-na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score-instrument id="P2-I3"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instrument-name&gt;Violin&lt;/instrument-na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/score-instrument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midi-instrument id="P2-I3"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midi-channel&gt;3&lt;/midi-channel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midi-program&gt;41&lt;/midi-program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/midi-instrument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/score-part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Esquema MusicXml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Part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part id="P1"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measure number="0" implicit="yes"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attributes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divisions&gt;6&lt;/divisions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key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fifths&gt;0&lt;/fifths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mode&gt;major&lt;/mod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/key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beats&gt;3&lt;/beats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beat-type&gt;4&lt;/beat-typ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clef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sign&gt;G&lt;/sign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line&gt;2&lt;/lin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/clef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transpos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diatonic&gt;-2&lt;/diatonic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chromatic&gt;-3&lt;/chromatic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/transpos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/attributes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364000" y="1773360"/>
            <a:ext cx="194328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Esquema MusicXml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&lt;not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&lt;pitch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&lt;step&gt;C&lt;/step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&lt;octave&gt;5&lt;/octav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&lt;/pitch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&lt;duration&gt;3&lt;/duration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&lt;type&gt;eighth&lt;/typ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&lt;stem&gt;down&lt;/stem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&lt;beam number="1"&gt;begin&lt;/beam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&lt;notations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&lt;slur type="start" number="1"/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&lt;/notations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&lt;/not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&lt;not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&lt;pitch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&lt;step&gt;E&lt;/step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&lt;octave&gt;5&lt;/octav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&lt;/pitch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&lt;duration&gt;3&lt;/duration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&lt;type&gt;eighth&lt;/typ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&lt;stem&gt;down&lt;/stem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&lt;/not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427640" y="1628640"/>
            <a:ext cx="379080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Esquema MusicXml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Representação de Acor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not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pitch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step&gt;C&lt;/step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octave&gt;5&lt;/octav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/pitch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duration&gt;3&lt;/duration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/not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not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chord/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pitch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step&gt;E&lt;/step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octave&gt;5&lt;/octav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/pitch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/not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not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chord/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pitch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step&gt;G&lt;/step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octave&gt;5&lt;/octav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/pitch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/not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859280" y="2637000"/>
            <a:ext cx="289548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Esquema MusicXml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03280" y="1844280"/>
            <a:ext cx="731376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Representação da Let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&lt;note&gt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&lt;pitch&gt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&lt;step&gt;G&lt;/step&gt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&lt;octave&gt;4&lt;/octave&gt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&lt;/pitch&gt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&lt;duration&gt;12&lt;/duration&gt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&lt;lyric&gt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&lt;syllabic&gt;single&lt;/syllabic&gt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&lt;text&gt;Dans&lt;/text&gt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&lt;/lyric&gt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&lt;/note&gt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&lt;note&gt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&lt;pitch&gt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&lt;step&gt;C&lt;/step&gt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&lt;octave&gt;5&lt;/octave&gt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&lt;/pitch&gt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&lt;duration&gt;12&lt;/duration&gt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&lt;lyric&gt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&lt;syllabic&gt;single&lt;/syllabic&gt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&lt;text&gt;un&lt;/text&gt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&lt;/lyric&gt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&lt;/note&gt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Esquema MusicXml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403280" y="1844280"/>
            <a:ext cx="731376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Representação da Let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&lt;note&gt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&lt;pitch&gt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&lt;step&gt;G&lt;/step&gt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&lt;octave&gt;4&lt;/octave&gt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&lt;/pitch&gt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&lt;duration&gt;12&lt;/duration&gt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&lt;lyric&gt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&lt;syllabic&gt;single&lt;/syllabic&gt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&lt;text&gt;Dans&lt;/text&gt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&lt;/lyric&gt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&lt;/note&gt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&lt;note&gt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&lt;pitch&gt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&lt;step&gt;C&lt;/step&gt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&lt;octave&gt;5&lt;/octave&gt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&lt;/pitch&gt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&lt;duration&gt;12&lt;/duration&gt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&lt;lyric&gt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&lt;syllabic&gt;single&lt;/syllabic&gt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&lt;text&gt;un&lt;/text&gt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&lt;/lyric&gt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&lt;/note&gt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49201" t="0" r="0" b="0"/>
          <a:stretch/>
        </p:blipFill>
        <p:spPr>
          <a:xfrm>
            <a:off x="5364000" y="1844640"/>
            <a:ext cx="282600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Roteiro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troduçã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curso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ásico de Notaçã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squema MusicXm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clusã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Esquema MusicXml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03280" y="1844280"/>
            <a:ext cx="731376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Representação da Let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&lt;note&gt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&lt;pitch&gt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&lt;step&gt;D&lt;/step&gt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&lt;octave&gt;5&lt;/octave&gt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&lt;/pitch&gt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&lt;duration&gt;12&lt;/duration&gt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&lt;lyric&gt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&lt;syllabic&gt;begin&lt;/syllabic&gt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&lt;text&gt;som&lt;/text&gt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&lt;/lyric&gt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&lt;/note&gt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49201" t="0" r="0" b="0"/>
          <a:stretch/>
        </p:blipFill>
        <p:spPr>
          <a:xfrm>
            <a:off x="5435640" y="2781360"/>
            <a:ext cx="2825640" cy="29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onclusão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usicXML é uma ótima idéi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s funcionalidades de indexação e recuperação são muito boa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uporta praticamente todos os recursos utilizados em partitur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ácil de entend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Referência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MusicXml Tutorial</a:t>
            </a:r>
            <a:r>
              <a:rPr b="0" lang="pt-BR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http://www.recordare.com/xml/musicxml-tutorial.pdf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Clef Wikipedia (Claves) - </a:t>
            </a:r>
            <a:r>
              <a:rPr b="0" lang="pt-BR" sz="18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http://en.wikipedia.org/wiki/Clef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trodução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Verdana"/>
              </a:rPr>
              <a:t>Definição MusicXm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Desenvolvido pela Recordar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m formato aberto, utilizável por diversas aplicações para intercâmbio music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m tradutor universal para a notação popular da música Ocident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Baseada em MuseData e Hundrum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esenvolvidos em universidad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Uso aberto para portadores de </a:t>
            </a:r>
            <a:r>
              <a:rPr b="0" i="1" lang="pt-BR" sz="2100" spc="-1" strike="noStrike">
                <a:solidFill>
                  <a:srgbClr val="000000"/>
                </a:solidFill>
                <a:latin typeface="Verdana"/>
              </a:rPr>
              <a:t>royalty-free license</a:t>
            </a: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A informação musical é designada para ser utilizada por programas de notação, seqüenciadores, programas de educação musical e banco de dados de musicas e etc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trodução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otivaçã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oi criado pela Recordare para facilitar o intercâmbio de partitura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esma idéia do MIDI, porém resolve um problema diferent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over formatos intercambiáveis para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taçã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áli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cuperaçã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plicações de performanc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trodução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or que não utilizar soluções anteriore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IFF: formato gráfic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MDL: muito complex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IDI: representação limitad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trodução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gramas Suportado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195640" y="2492280"/>
            <a:ext cx="475272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Recurso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notação de Partitur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ablatur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124000" y="2852640"/>
            <a:ext cx="560700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Recurso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ercussã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900000" y="3284640"/>
            <a:ext cx="7694640" cy="20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Básico de Notação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av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124000" y="2421000"/>
            <a:ext cx="4143600" cy="12952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050920" y="3284640"/>
            <a:ext cx="4249800" cy="12492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2195640" y="4437000"/>
            <a:ext cx="360036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10:10:12Z</dcterms:created>
  <dc:creator>Juca</dc:creator>
  <dc:description/>
  <dc:language>en-US</dc:language>
  <cp:lastModifiedBy>Juca</cp:lastModifiedBy>
  <dcterms:modified xsi:type="dcterms:W3CDTF">2008-06-06T15:01:54Z</dcterms:modified>
  <cp:revision>24</cp:revision>
  <dc:subject/>
  <dc:title>MUSICXML</dc:title>
</cp:coreProperties>
</file>