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F9AB-B95B-46F8-B34A-0E53A8C5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9DE0-9140-44BB-9337-1283D3BB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5AD2-9DD6-447B-BBBF-1039C5B7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DB23-0BDA-4D93-9C59-C036F30B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A78B-6498-414D-96ED-AED06236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F453-B154-4183-8E10-F5BBD267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91E2-9121-473E-A1F7-AE9D9A45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B3C9-CD54-44E1-B70A-DEB7A601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726B-8F62-4D43-B2D2-72CCFD1E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32B9-E6A3-4AE7-A8A4-9029E59F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FE14-F15B-4865-A0E4-079DFAC4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B50D-CCC6-44F1-B531-5E847642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6595-41E2-4BD6-BEF8-D89B8AE6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DA7A-8ACD-4BEB-874E-05C7A1E5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E657-4232-4BEE-A8B7-F09EA8C2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357C-B901-4024-8479-82CD25A9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AC1A-EE6D-46F6-8F2E-E40C5EAB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0890-91F7-4405-95D8-2F20EF3D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538B-E74B-4A37-888C-47B2FEEA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7D74-EED1-4144-8B11-5D088352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C14-67C3-4C2B-8346-43E1B685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28F8-E392-49C0-9697-A06E7E47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4510-5885-4FC5-BB4C-89178559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5244-3517-4EB5-A954-73153C37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B118-FD62-4E87-935E-3BCE34E1EB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03E5-1958-48FF-ACCE-07B1054E83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putação Music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ibliotecas Java - Java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lasses Estendid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l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ipo especial de Channel que pode ser carregado 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uporta loops, reposicionamento e contagem de t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 recurso de sistema compartilh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ssui métodos para obtenção de informações sobre o disposi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lasses Estendid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putDe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ssui métodos para obtenção de um InputChan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ança uma exceção se o recurso já esta sendo usado por outra aplic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ssui uma ou mais Ports que podem ser habilit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utputDe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ssui métodos para obtenção de um OutputChan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ança uma exceção se o recurso já esta sendo usado por outra aplic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ssui uma ou mais Ports que podem ser habilit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lasses Estendid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ix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uporta a entrada de múltiplos InputChannels ou Cli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ssui métodos para para procurar a quantidade entradas que o dispositivo suporta e métodos para trabalhar com Channels e Cl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AUDIO_OUTPUT" descr=""/>
          <p:cNvPicPr/>
          <p:nvPr/>
        </p:nvPicPr>
        <p:blipFill>
          <a:blip r:embed="rId1"/>
          <a:stretch/>
        </p:blipFill>
        <p:spPr>
          <a:xfrm>
            <a:off x="2286000" y="4191120"/>
            <a:ext cx="4743360" cy="1047600"/>
          </a:xfrm>
          <a:prstGeom prst="rect">
            <a:avLst/>
          </a:prstGeom>
          <a:ln w="0">
            <a:noFill/>
          </a:ln>
        </p:spPr>
      </p:pic>
      <p:pic>
        <p:nvPicPr>
          <p:cNvPr id="126" name="AUDIO_INPUT" descr=""/>
          <p:cNvPicPr/>
          <p:nvPr/>
        </p:nvPicPr>
        <p:blipFill>
          <a:blip r:embed="rId2"/>
          <a:stretch/>
        </p:blipFill>
        <p:spPr>
          <a:xfrm>
            <a:off x="2819520" y="5486400"/>
            <a:ext cx="34480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c66"/>
                </a:solidFill>
                <a:latin typeface="Times New Roman"/>
              </a:rPr>
              <a:t>Outras Class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tr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ão controles como gain e pan obtidos de um Channel ou 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duzem eventos quando os valores são mudados que podem registrados por uma aplicação quando e adicionado um listener para o contr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de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difica e decodifica dados , permitindo a conversão de um formato de dados para ou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classe AudioSystem possui métodos que fazem essas conversões de maneira inteli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c66"/>
                </a:solidFill>
                <a:latin typeface="Times New Roman"/>
              </a:rPr>
              <a:t>Outras Class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iles e Stre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ileStream é um InputStream com tipo de arquivo e tamanho associ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udioStream é um InputStream com formato de audio e tamanho associ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mbos podem ser convertidos entre 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udioSystem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étodos para conversão de formatos de au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étodos para busca de dispositivos instalados no sistema (InputDevices, OutputDevices e Mix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c66"/>
                </a:solidFill>
                <a:latin typeface="Times New Roman"/>
              </a:rPr>
              <a:t>Informaçõ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http://java.sun.com/products/java-media/sound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ite oficial da sun sobre Java S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http://developer.java.su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Java developer Connection - Disponibilizou o Java Sound API Early Release para quem quiser test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Java Sound - O que é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é o ano de 98, java não possuia nenhum tipo de biblioteca oficial para manipulação de objetos de au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 desembro de 98, com o lancamento da plataforma Java 2 (SDK 1.2), a Sun desenvolveu uma API para manipulação de som. A Java S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É o conjunto de bibliotecas que oferece suporte low-level para operações como mixagem de audio, sequenciamento e síntese de MIDI , captura de au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aracterístic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ultiplatafor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ssim como a linguag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lta-Perform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24-voice MIDI usa apenas 20% de uma CPU Pentium 90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dependência do Hard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 única exigência é que o hardware possua um simples D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Uso de app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ormatos de Arqu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WAVE, AIFF AU, MIDI(0,1,2), RM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Pac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Java sound inclui suporte para audio digital e para música MIDI. Esse dois módulos estão divididos em dois pacot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javax.media.sound.samp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javax.media.sound.sampled.s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Especifica interfaces para captura, mixagem e reprodução de audio digital (samplead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javax.media.sound.mi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javax.media.sound.midi.s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Prove interfaces para síntese MIDI, sequenciamento e transporte de even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Audio Samplead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principal conceito no pacote javax.media.sound.sampled é a interface Channel (can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presenta algum tipo de dado de som digital (um arquivo de som, um dispositivo hardware, um mixador) através da arquitetura orientada a objeto de 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hannel 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Canal de so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istem vários métodos para obter controle e informações sobre um objeto Chan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Propriedades do Chann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udio Format - Formato de dados associ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osition - Posicao em numero de frames sampli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Buffer size - Tamanho do buffer em fra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Level - intencidade do sinal ( 0 -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ause/Resume Stat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Drain - Bloqueia até processar todo o buf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Flush - Limpa o buf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Open/Close Status - O channel esta aberto ou fech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ctive Status - Esta ativo se ele esta processando dados do buf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ontrols - Metodos para acessar contro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vent listener - Recebem eventos de um canal (open, close, pause, res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lasses Estendid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channel_inheritance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190840" cy="2638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90720" y="487692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 channel não possui nenhum método para manipulação de dados (leitura e escrita). Esses métodos encontram-se nas classes que herdam de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lasses Estendid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put Cha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ssui métodos para especificamente para ler um stream e para determinar quanto esta disponí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 uma aplicação tenta ler mais do que existe no buffer, o metodo de leitura trava a aplicaçã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 uma aplicação tenta ler mais do que o tamanho do buffer , ele trava a aplicação e retorna quando o buffer tiver che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 acontece overflow, descarta-se os dados mais ant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lasses Estendid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utputCha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ssui métodos, especificamente, para escrever um stream e quanto dados o channel esta preparado para receber até encher o buf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 uma aplicação tenta escrever mais do que o espaço restante do buffer o método de escrita bloqueia a aplic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 a underflow um evento the stop e ge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03:22:43Z</dcterms:created>
  <dc:creator>flus</dc:creator>
  <dc:description/>
  <dc:language>en-US</dc:language>
  <cp:lastModifiedBy>jhbg</cp:lastModifiedBy>
  <dcterms:modified xsi:type="dcterms:W3CDTF">1999-05-17T16:19:01Z</dcterms:modified>
  <cp:revision>22</cp:revision>
  <dc:subject/>
  <dc:title>Computação Musical</dc:title>
</cp:coreProperties>
</file>