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treme.wav" ContentType="audio/x-wav"/>
  <Override PartName="/ppt/media/Utopia%20Padr%C3%A3o.wav" ContentType="audio/x-wav"/>
  <Override PartName="/ppt/media/Chico.wav" ContentType="audio/x-wav"/>
  <Override PartName="/ppt/media/image1.wmf" ContentType="image/x-wmf"/>
  <Override PartName="/ppt/media/vai.wav" ContentType="audio/x-wav"/>
  <Override PartName="/ppt/media/image2.wmf" ContentType="image/x-wmf"/>
  <Override PartName="/ppt/media/vanhalen.wav" ContentType="audio/x-wav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2E0-AB0A-4253-ABBB-2869B399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F69-3960-4B0A-BE27-381FCEED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DFC-ABD5-4A4F-8A20-D4C974D0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9EE-300B-4555-93E6-C88F66D0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141-57EC-433B-BC8D-228A57EF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2F5-E47C-47EA-85CA-FAA9E56C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F09-95A7-4409-8245-5BCC0971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121-223D-48B6-BAAD-57639DED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6C3-2EE1-4B5F-B772-2880CB9C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C20-B9AA-48B6-892B-508E7B82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ED1-27F4-4929-991C-E6F34339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C69-B6AF-40C7-8524-37D382F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EC4A-B6BA-4B54-88F3-5F212FB06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trem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Utopia%20Padr&#227;o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vanhalen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co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Utopia%20Padr&#227;o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ai.wav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llegro  -  Biblioteca C/C++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I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extr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0"/>
            <a:ext cx="9144000" cy="65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#include "stdio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#include "allegro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IDI *the_musi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har name[4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har es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lrsc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intf("Digite o nome do arquivo: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gets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llegro_init(); </a:t>
            </a:r>
            <a:r>
              <a:rPr b="0" lang="pt-BR" sz="1600" spc="-1" strike="noStrike">
                <a:solidFill>
                  <a:srgbClr val="ff5050"/>
                </a:solidFill>
                <a:latin typeface="Arial"/>
              </a:rPr>
              <a:t>/*Inicializa a biblioteca allegro, armazena memoria, e configura exit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nstall_tim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f(install_sound(DIGI_AUTODETECT,MIDI_AUTODETECT,"") !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intf("Erro de instalaca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getc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the_music=load_midi(&amp;name[0]);</a:t>
            </a:r>
            <a:r>
              <a:rPr b="0" lang="pt-BR" sz="1600" spc="-1" strike="noStrike">
                <a:solidFill>
                  <a:srgbClr val="ff5050"/>
                </a:solidFill>
                <a:latin typeface="Arial"/>
              </a:rPr>
              <a:t>/*load_midi retorna um ponteiro pra estrutura midi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f(!the_mus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intf("erro de leitura no arquiv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getc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exit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</a:t>
            </a:r>
            <a:r>
              <a:rPr b="0" lang="pt-BR" sz="1800" spc="-1" strike="noStrike">
                <a:solidFill>
                  <a:srgbClr val="ccccff"/>
                </a:solidFill>
                <a:latin typeface="Arial"/>
              </a:rPr>
              <a:t>EXEMPLO CONTINU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3" name="Utopia%20Padr%C3%A3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609480"/>
            <a:ext cx="8382240" cy="60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set_volume(230,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f(play_midi(the_music,TRUE)!=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intf("UM Erro ocorreu em Play MIDI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getc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while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esc=getch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switch(es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se 'l':play_midi(the_music,TRUE);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se 'p':midi_pause();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se 'r':midi_resume();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se 's':stop_midi();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se 'd':destroy_midi(the_music);exit(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llegro_exi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raphite Light ATT"/>
              </a:rPr>
              <a:t>Onde Achar alleg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Graphite Light ATT"/>
              </a:rPr>
              <a:t>www.delorie.com/dgj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Graphite Light ATT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Graphite Light ATT"/>
              </a:rPr>
              <a:t>www.talula.co.uk/alleg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vanhale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egro em Italiano quer dizer: Rápido, Vivo, Glorioso. Mas aqui pode-se entender como: A Low Level Game Rout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egro é uma biblioteca de funções desenvolvida especialmente para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i  escrita numa mistura de C e assembl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duzido em cooperação, é distribuído livremente, podendo ser  modificado da maneira que você qui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 que é Allegr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porte so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DI (mais de 64 efeitos simultân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e On, Note off, Volume, pan, PitchBend, Pitch e mensagem program changes. Usando General MIDI Patch Set e Drum Mapp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porta: Adlib, SB, SB pro , SB16, AWE32,MPU-401, ESS AudioDrive, Ensoniq , Soundscape, e  Software wavetable MID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o está definida a estrutura MI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057400"/>
            <a:ext cx="8153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ypedef struct M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 divisions;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// Numero de tiques por quarto de 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signed char * data;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/* Fonte da mensagem MIDI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 len;         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/*comprimento da faixa de informaca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} Track[MIDI_TRACKS]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} MI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DI_TRACKS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Chic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nções de Allegro.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752480"/>
            <a:ext cx="80773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int allegro_init( )- Inicializa a Biblioteca Allegro, Dá valor a certas variáveis globais, aloca memória e indica allegro_exit( ) como uma rotina de saída. Retorna zero se bem suced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allegro_exit( )- Faz o sistema retornar ao modo tex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install_timer( )-Instala a Interrupção de tempo necessário ao dispositivo MI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Int install_sound(int digi_card, int midi_card)-Inicializa o módulo de som, retornado zero se bem suced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Parametros de Install_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2058840"/>
          <a:ext cx="77724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8840"/>
                    <a:ext cx="77724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  <p:sndAc>
      <p:stSnd>
        <p:snd r:embed="rId3" name="Utopia%20Padr%C3%A3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Funções allegro.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3640" y="1704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76520"/>
            <a:ext cx="81532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remove_sound( )- Termina a execução de arqu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set_volume (int digi_vol, int midi_vol )- altera os valores das variáveis globais relativas ao volume do dispositivo MIDI e da placa de s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MIDI * load_midi( char * nome_do_arquivo ) - Carrega um arquivo MID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destory_midi (MIDI *midi ) - Finaliza a execução de uma mensagem MIDI se ela estiver 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play_midi ( MIDI *midi,int loop ) - Executa uma seqüência MIDI o parâmetro loop indica se a sequência será executada em loop ou n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vai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nções para manipular MI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4382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2209680"/>
            <a:ext cx="74674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stop_midi( )-o mesmo que play_midi( NULL ,int loop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midi_pause( )- pausa uma seqüência M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resume_midi( )-Resume uma seqüência MIDI, antes em estado de pa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midi_out( unsigned char *data, int len ) -Joga na saída MIDI a seqüência apontada por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load_patches( )-força o dispositivo MIDI a carregar um conjunto pre-definido de  P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Exemplo de uso de midi_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3880"/>
            <a:ext cx="8077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800100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void set_patch(int channel, int pro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unsigned char msg[2] = { 0xC0+channel, prog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idi_out(msg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void set_pan(int channel, int pan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unsigned char msg[3] = { 0xB0+channel, 10, pan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idi_out(msg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void note_on(int channel, int pitch, int ve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unsigned char msg[3] = { 0x90+channel, pitch, vel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idi_out(msg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void note_off(int channel, int pitch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unsigned char msg[3] = { 0x80+channel, pitch, 0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idi_out(msg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7:20:42Z</dcterms:created>
  <dc:creator>SALETE</dc:creator>
  <dc:description/>
  <dc:language>en-US</dc:language>
  <cp:lastModifiedBy>glr</cp:lastModifiedBy>
  <dcterms:modified xsi:type="dcterms:W3CDTF">1999-06-16T16:42:00Z</dcterms:modified>
  <cp:revision>21</cp:revision>
  <dc:subject/>
  <dc:title> Allegro  -  Biblioteca C/C++  </dc:title>
</cp:coreProperties>
</file>