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5797440"/>
            <a:ext cx="9166680" cy="1075320"/>
            <a:chOff x="0" y="5797440"/>
            <a:chExt cx="9166680" cy="1075320"/>
          </a:xfrm>
        </p:grpSpPr>
        <p:sp>
          <p:nvSpPr>
            <p:cNvPr id="2" name=""/>
            <p:cNvSpPr/>
            <p:nvPr/>
          </p:nvSpPr>
          <p:spPr>
            <a:xfrm>
              <a:off x="0" y="5835600"/>
              <a:ext cx="9166320" cy="1020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5797440"/>
              <a:ext cx="9166680" cy="1075320"/>
              <a:chOff x="0" y="5797440"/>
              <a:chExt cx="9166680" cy="107532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8904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395360" y="5797440"/>
                <a:ext cx="919440" cy="1074960"/>
              </a:xfrm>
              <a:custGeom>
                <a:avLst/>
                <a:gdLst/>
                <a:ahLst/>
                <a:rect l="0" t="0" r="r" b="b"/>
                <a:pathLst>
                  <a:path w="2554" h="2986">
                    <a:moveTo>
                      <a:pt x="0" y="2986"/>
                    </a:moveTo>
                    <a:lnTo>
                      <a:pt x="2128" y="0"/>
                    </a:lnTo>
                    <a:lnTo>
                      <a:pt x="2554" y="0"/>
                    </a:lnTo>
                    <a:lnTo>
                      <a:pt x="425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10348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81160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7920" y="5797440"/>
                <a:ext cx="919440" cy="1074960"/>
              </a:xfrm>
              <a:custGeom>
                <a:avLst/>
                <a:gdLst/>
                <a:ahLst/>
                <a:rect l="0" t="0" r="r" b="b"/>
                <a:pathLst>
                  <a:path w="2554" h="2986">
                    <a:moveTo>
                      <a:pt x="0" y="2986"/>
                    </a:moveTo>
                    <a:lnTo>
                      <a:pt x="2128" y="0"/>
                    </a:lnTo>
                    <a:lnTo>
                      <a:pt x="2554" y="0"/>
                    </a:lnTo>
                    <a:lnTo>
                      <a:pt x="425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0696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91508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4192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36732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11360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840800" y="5797440"/>
                <a:ext cx="918000" cy="1074960"/>
              </a:xfrm>
              <a:custGeom>
                <a:avLst/>
                <a:gdLst/>
                <a:ahLst/>
                <a:rect l="0" t="0" r="r" b="b"/>
                <a:pathLst>
                  <a:path w="2550" h="2986">
                    <a:moveTo>
                      <a:pt x="0" y="2986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986"/>
                    </a:lnTo>
                    <a:lnTo>
                      <a:pt x="0" y="29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93200" y="6072120"/>
                <a:ext cx="573480" cy="800640"/>
              </a:xfrm>
              <a:custGeom>
                <a:avLst/>
                <a:gdLst/>
                <a:ahLst/>
                <a:rect l="0" t="0" r="r" b="b"/>
                <a:pathLst>
                  <a:path w="1593" h="2224">
                    <a:moveTo>
                      <a:pt x="0" y="2224"/>
                    </a:moveTo>
                    <a:lnTo>
                      <a:pt x="1593" y="0"/>
                    </a:lnTo>
                    <a:lnTo>
                      <a:pt x="1593" y="542"/>
                    </a:lnTo>
                    <a:lnTo>
                      <a:pt x="425" y="2224"/>
                    </a:lnTo>
                    <a:lnTo>
                      <a:pt x="0" y="2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2760840"/>
            <a:ext cx="9150840" cy="4111920"/>
            <a:chOff x="0" y="2760840"/>
            <a:chExt cx="9150840" cy="4111920"/>
          </a:xfrm>
        </p:grpSpPr>
        <p:grpSp>
          <p:nvGrpSpPr>
            <p:cNvPr id="57" name=""/>
            <p:cNvGrpSpPr/>
            <p:nvPr/>
          </p:nvGrpSpPr>
          <p:grpSpPr>
            <a:xfrm>
              <a:off x="0" y="5797440"/>
              <a:ext cx="9150840" cy="1075320"/>
              <a:chOff x="0" y="5797440"/>
              <a:chExt cx="9150840" cy="1075320"/>
            </a:xfrm>
          </p:grpSpPr>
          <p:sp>
            <p:nvSpPr>
              <p:cNvPr id="58" name=""/>
              <p:cNvSpPr/>
              <p:nvPr/>
            </p:nvSpPr>
            <p:spPr>
              <a:xfrm>
                <a:off x="0" y="5835600"/>
                <a:ext cx="9150480" cy="10206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0" y="5797440"/>
                <a:ext cx="9150840" cy="1075320"/>
                <a:chOff x="0" y="5797440"/>
                <a:chExt cx="9150840" cy="10753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724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39392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10024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80656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1324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0048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90536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63076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35652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10100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82640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577360" y="6072120"/>
                  <a:ext cx="573480" cy="800640"/>
                </a:xfrm>
                <a:custGeom>
                  <a:avLst/>
                  <a:gdLst/>
                  <a:ahLst/>
                  <a:rect l="0" t="0" r="r" b="b"/>
                  <a:pathLst>
                    <a:path w="1593" h="2224">
                      <a:moveTo>
                        <a:pt x="0" y="2224"/>
                      </a:moveTo>
                      <a:lnTo>
                        <a:pt x="1593" y="0"/>
                      </a:lnTo>
                      <a:lnTo>
                        <a:pt x="1593" y="542"/>
                      </a:lnTo>
                      <a:lnTo>
                        <a:pt x="425" y="2224"/>
                      </a:lnTo>
                      <a:lnTo>
                        <a:pt x="0" y="2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" name=""/>
            <p:cNvSpPr/>
            <p:nvPr/>
          </p:nvSpPr>
          <p:spPr>
            <a:xfrm>
              <a:off x="0" y="2760840"/>
              <a:ext cx="817920" cy="1448280"/>
            </a:xfrm>
            <a:custGeom>
              <a:avLst/>
              <a:gdLst/>
              <a:ahLst/>
              <a:rect l="0" t="0" r="r" b="b"/>
              <a:pathLst>
                <a:path w="2272" h="4023">
                  <a:moveTo>
                    <a:pt x="0" y="0"/>
                  </a:moveTo>
                  <a:lnTo>
                    <a:pt x="2272" y="0"/>
                  </a:lnTo>
                  <a:lnTo>
                    <a:pt x="0" y="402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1828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"Sistema Inteligente Híbrido para Previsão de Acordes Musicais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dney Cu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gcc@di.ufpe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elando e Definindo um Ac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486080"/>
            <a:ext cx="77724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ição do conceito de um acorde 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ô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teg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17880" y="4633920"/>
            <a:ext cx="512136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 tarefa de prever um acorde se transformou na tarefa de prever quatro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ndo o Algoritmo de Aprendizag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8520" y="2757600"/>
            <a:ext cx="849780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Algoritmo capaz de extrair a maior quant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possível de informações que se tem a pr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do contexto musical em questão (jaz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envolvi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7146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álise entre uma Rede Neural do tipo MLP-backpropagation e I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imbólico X Conex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pus de 58 canções de jazz standards devidamente codific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889280" y="1461960"/>
            <a:ext cx="544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elhores Resultados (% de E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17880" y="2041560"/>
            <a:ext cx="4789440" cy="990720"/>
            <a:chOff x="2117880" y="2041560"/>
            <a:chExt cx="4789440" cy="990720"/>
          </a:xfrm>
        </p:grpSpPr>
        <p:sp>
          <p:nvSpPr>
            <p:cNvPr id="165" name=""/>
            <p:cNvSpPr txBox="1"/>
            <p:nvPr/>
          </p:nvSpPr>
          <p:spPr>
            <a:xfrm>
              <a:off x="2117880" y="2041560"/>
              <a:ext cx="4789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LP-backpropagation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,2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117880" y="2575080"/>
              <a:ext cx="4705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D3: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23,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76212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s modelos de rede neural RBF e KNN também foram testados mas apresentaram resultados inferiores ao MLP-back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ndo o Sequence Trac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2452680"/>
            <a:ext cx="85201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Algoritmo capaz de analisar a canção toc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em tempo real, e identificar qualqu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sequencia (AABA, AAB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repetida dentro da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envolv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62120" y="914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partir da análise detalhada de 30 canções de Jaz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dentificação e extração de regras que pudessem definir o momento em que uma sequencia vai se repetir dentro da ca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241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da a canção é uma sequ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241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ó podemos garantir que estamos iniciando uma sequência após a coincidência de pelo menos três compassos (acordes e melod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241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sequencias têm, normalmente, tamanhos múltilos de o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241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stema Especialista Híbr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5800" y="1219320"/>
            <a:ext cx="7467840" cy="4454280"/>
            <a:chOff x="685800" y="1219320"/>
            <a:chExt cx="7467840" cy="445428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85800" y="3657600"/>
              <a:ext cx="2139840" cy="201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5181480" y="1446120"/>
              <a:ext cx="1905120" cy="2287800"/>
              <a:chOff x="5181480" y="1446120"/>
              <a:chExt cx="1905120" cy="2287800"/>
            </a:xfrm>
          </p:grpSpPr>
          <p:sp>
            <p:nvSpPr>
              <p:cNvPr id="176" name=""/>
              <p:cNvSpPr/>
              <p:nvPr/>
            </p:nvSpPr>
            <p:spPr>
              <a:xfrm>
                <a:off x="6553080" y="1836720"/>
                <a:ext cx="533520" cy="446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7280" y="1836720"/>
                <a:ext cx="533520" cy="446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81480" y="1836720"/>
                <a:ext cx="533520" cy="446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48520" y="2506680"/>
                <a:ext cx="533520" cy="446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43600" y="3063960"/>
                <a:ext cx="533520" cy="447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62720" y="2506680"/>
                <a:ext cx="533520" cy="446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58000" y="1446120"/>
                <a:ext cx="0" cy="39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553080" y="2282760"/>
                <a:ext cx="228600" cy="22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10080" y="1446120"/>
                <a:ext cx="0" cy="39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95880" y="1446120"/>
                <a:ext cx="0" cy="39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867280" y="2282760"/>
                <a:ext cx="304920" cy="22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72200" y="2282760"/>
                <a:ext cx="380880" cy="22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5867280" y="2282760"/>
                <a:ext cx="914400" cy="22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86400" y="2282760"/>
                <a:ext cx="1066680" cy="22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86400" y="2282760"/>
                <a:ext cx="380880" cy="22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172200" y="2952720"/>
                <a:ext cx="22860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67280" y="2952720"/>
                <a:ext cx="30492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48520" y="3511440"/>
                <a:ext cx="0" cy="222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 txBox="1"/>
            <p:nvPr/>
          </p:nvSpPr>
          <p:spPr>
            <a:xfrm>
              <a:off x="746280" y="2193840"/>
              <a:ext cx="1174680" cy="48276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  <a:ea typeface="Arial"/>
                </a:rPr>
                <a:t>Mús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2895480"/>
              <a:ext cx="382320" cy="9162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3019320" y="2104920"/>
              <a:ext cx="1666800" cy="8478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eque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rack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5013360" y="4189320"/>
              <a:ext cx="2360520" cy="48276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0033"/>
                  </a:solidFill>
                  <a:latin typeface="Arial"/>
                  <a:ea typeface="Arial"/>
                </a:rPr>
                <a:t>Acorde Previs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1219320"/>
              <a:ext cx="6019920" cy="266688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2133720" y="2590920"/>
              <a:ext cx="304560" cy="137160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438280" y="3886200"/>
              <a:ext cx="3200400" cy="7632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434340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4495680"/>
              <a:ext cx="213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ltim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889280" y="1461960"/>
            <a:ext cx="544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elhores Resultados (% de E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117880" y="2041560"/>
            <a:ext cx="5703840" cy="990720"/>
            <a:chOff x="2117880" y="2041560"/>
            <a:chExt cx="5703840" cy="990720"/>
          </a:xfrm>
        </p:grpSpPr>
        <p:sp>
          <p:nvSpPr>
            <p:cNvPr id="206" name=""/>
            <p:cNvSpPr txBox="1"/>
            <p:nvPr/>
          </p:nvSpPr>
          <p:spPr>
            <a:xfrm>
              <a:off x="2117880" y="2041560"/>
              <a:ext cx="5703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LP-backpropagation (sem ST)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11,2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2117880" y="2575080"/>
              <a:ext cx="5197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LP-backpropagation (com ST)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76212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m muitos casos, quando a música se repete, o sequence tracker diminui ainda mais a taxa de erros, devido a extração constante de inform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clusão e Trabalhos Futu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7146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ultados bem superiores aos de Bellinda T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ão para outros estilos music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álise de outros modelos de redes neu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álise de modelos estat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988400" y="5421240"/>
            <a:ext cx="1154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tiv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7146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r que prever acordes music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ompanhamento Auto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manda da indústria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tar mais uma classe de problemas d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Series Predi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2560" cy="1023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65040" y="1812960"/>
            <a:ext cx="8502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da uma certa sequência de acordes, qual seria o próxi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55760" y="4251240"/>
            <a:ext cx="6113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o conseguimos tocar uma música s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nca tê-la ouv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800280"/>
            <a:ext cx="777240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ão existem regras universais na 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nde variedade de estilos e de formas de se tocar uma dada 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o modelar o nosso conhec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o definir um acorde para a má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o extrair, em tempo real, informações de cada música (Refrões e estrof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o usar informações que temos a priori (II-V-I, I-VI-IIm-I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Estado da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714680"/>
            <a:ext cx="7772400" cy="43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Trabalho de Bellinda T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visão de Acordes em músicas de Ja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goritmo baseado em modelos probabilíst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ês métodos de aprendizagem: On-line, off-line e híb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hor Taxa de Acerto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4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ita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das as canções em uma única ton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lodia desconsid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ndo Solu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20880" y="1538280"/>
            <a:ext cx="709596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hecimento a prio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hecimento extraído em tempo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70200" y="3398760"/>
            <a:ext cx="35053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  <a:ea typeface="Arial"/>
              </a:rPr>
              <a:t>Modelo Híb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chin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quence T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280" y="838080"/>
            <a:ext cx="26668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Modelo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838080"/>
            <a:ext cx="1698480" cy="1600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038480" y="35812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55960" y="2575080"/>
            <a:ext cx="2700360" cy="482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quence T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71960" y="5991120"/>
            <a:ext cx="2360520" cy="482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orde Pre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581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648320" y="4098960"/>
            <a:ext cx="2761920" cy="1768320"/>
            <a:chOff x="4648320" y="4098960"/>
            <a:chExt cx="2761920" cy="1768320"/>
          </a:xfrm>
        </p:grpSpPr>
        <p:grpSp>
          <p:nvGrpSpPr>
            <p:cNvPr id="135" name=""/>
            <p:cNvGrpSpPr/>
            <p:nvPr/>
          </p:nvGrpSpPr>
          <p:grpSpPr>
            <a:xfrm>
              <a:off x="4786200" y="4098960"/>
              <a:ext cx="2624040" cy="1736640"/>
              <a:chOff x="4786200" y="4098960"/>
              <a:chExt cx="2624040" cy="1736640"/>
            </a:xfrm>
          </p:grpSpPr>
          <p:sp>
            <p:nvSpPr>
              <p:cNvPr id="136" name=""/>
              <p:cNvSpPr txBox="1"/>
              <p:nvPr/>
            </p:nvSpPr>
            <p:spPr>
              <a:xfrm>
                <a:off x="4886280" y="4098960"/>
                <a:ext cx="225108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lgoritmo para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isã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4786200" y="5013360"/>
                <a:ext cx="26240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rial"/>
                    <a:ea typeface="Arial"/>
                  </a:rPr>
                  <a:t>Rede Neural, ID3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Arial"/>
                    <a:ea typeface="Arial"/>
                  </a:rPr>
                  <a:t>Box-Jenkins..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648320" y="4114800"/>
              <a:ext cx="2743200" cy="1752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5562720" y="5943600"/>
            <a:ext cx="60948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0"/>
            <a:ext cx="3600360" cy="790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14600" y="2438280"/>
            <a:ext cx="5029200" cy="4267080"/>
          </a:xfrm>
          <a:prstGeom prst="rect">
            <a:avLst/>
          </a:prstGeom>
          <a:noFill/>
          <a:ln w="38160">
            <a:solidFill>
              <a:srgbClr val="ff00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elando e Definindo um Ac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146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álise das variáveis presentes no contexto 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 que é pertinente nesta defini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50840" y="3747960"/>
            <a:ext cx="4078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uitivamente, terí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08040" y="4357800"/>
            <a:ext cx="6835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orde = [ Tônica, Categoria ]   ou   C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elando e Definindo um Ac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3344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o considerar os casos como os que se seguem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 mesmo padrão de acordes seguidos de notas diferen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84360" y="2346480"/>
            <a:ext cx="203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m7 | G 7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|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4360" y="2803680"/>
            <a:ext cx="453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m7 |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m 7 | G 7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| Db7(#11) |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84360" y="333684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7(9) | A 7 |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m 7 | G 7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| Cm 7 | F |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451640" y="28796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451640" y="3336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55760" y="4784760"/>
            <a:ext cx="7047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caso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ercebemos a importância da d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m acor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55760" y="5546880"/>
            <a:ext cx="7097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caso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ercebemos a importância do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de o padrão ocor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raquitan Sidney G. C. Cunha</dc:creator>
  <dc:description/>
  <dc:language>en-US</dc:language>
  <cp:lastModifiedBy>Uraquitan Sidney G. C. Cunha</cp:lastModifiedBy>
  <cp:revision>0</cp:revision>
  <dc:subject/>
  <dc:title>"Sistema Inteligente Híbrido para Previsão de Acordes Musicais"</dc:title>
</cp:coreProperties>
</file>