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FD74-B14A-4F3C-B83F-397A8212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4C7-5854-4213-8203-D5993591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7B0-BD25-4438-A38F-2ADD021B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78E-085D-4D3C-BDE3-C8307BBB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69C4-271B-427D-85DC-E9EAC110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52B0-AF93-40D9-A936-2853ADE6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81E4-4AD0-4F31-99D7-116B9412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E52F-2211-4BFC-BAC4-7679C00C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A938-3B4F-48D9-B03D-95E347AD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2BE1-DADB-4D50-8F83-DA1897E3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8C6D-05BB-4CF4-9A1A-F2A89DD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12D-2FCD-412C-85C5-0BDCADAD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6C43-8496-477C-983F-F285F160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D425-557C-4E6A-AED6-AF3E994C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9C7D-B0D5-4C7E-BBDA-1ABD6EA2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B1FE-970A-467E-AA86-C30F261A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F7D8-D40F-4AE9-A0EB-870FD888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6BB-BA2F-4F8F-819D-70D5D40E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9C7-9134-4317-A743-825E8395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60E-F1CB-43DF-88C4-6FF18338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E769-5257-4F9A-9CC0-3C3F0F9E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502-9833-44BF-BC54-40D36579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E4D-DD04-4DCC-B332-B0E8BD9D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2B2-9BBB-4497-8997-F78799A7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F6D9-C056-42D4-B26F-DEBAB9717D59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6EEC-377E-414F-A797-486F3CBB888F}" type="slidenum">
              <a:rPr b="0" lang="pt-B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D´Accord Music Softw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Giordano Ribeir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BPFCC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Dada uma sequencia de acordes, escolher a melhor sequencia de acordes, de acordo com criterios do usuari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acilida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Freqüência de us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Variação do baix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Voic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Produtos em Desenvolviment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D´Accord Violã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Play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Intera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Gerador d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Base de Acord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308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62640" y="2971800"/>
            <a:ext cx="4581360" cy="3297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6236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braco interativo" descr=""/>
          <p:cNvPicPr/>
          <p:nvPr/>
        </p:nvPicPr>
        <p:blipFill>
          <a:blip r:embed="rId2"/>
          <a:stretch/>
        </p:blipFill>
        <p:spPr>
          <a:xfrm>
            <a:off x="5724360" y="228600"/>
            <a:ext cx="3419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bd189"/>
                </a:solidFill>
                <a:latin typeface="Arial"/>
              </a:rPr>
              <a:t>IP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Mostra na tela do computador uma música sendo tocada diretamente em um instrumento virtual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Violão – ambiguidad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Notas consonan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Multiplas posicoes para os acord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Princípio do D´Accord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Separação entre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Let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Harmo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Melo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Rit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Sol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Problemas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Sol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Notação convencional </a:t>
            </a:r>
            <a:r>
              <a:rPr b="0" lang="pt-BR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 Braç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Braço </a:t>
            </a:r>
            <a:r>
              <a:rPr b="0" lang="pt-BR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 Notação convenc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Harmo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Braço </a:t>
            </a:r>
            <a:r>
              <a:rPr b="0" lang="pt-BR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 Cif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Cifra </a:t>
            </a:r>
            <a:r>
              <a:rPr b="0" lang="pt-BR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 Braç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Rit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Bati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eaeaea"/>
                </a:solidFill>
                <a:latin typeface="Arial"/>
              </a:rPr>
              <a:t>Variaçõ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Cifra </a:t>
            </a:r>
            <a:r>
              <a:rPr b="0" lang="pt-BR" sz="4800" spc="-1" strike="noStrike">
                <a:solidFill>
                  <a:srgbClr val="ebd189"/>
                </a:solidFill>
                <a:latin typeface="Wingdings"/>
                <a:ea typeface="Wingdings"/>
              </a:rPr>
              <a:t></a:t>
            </a: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 Braço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Geração de Base de Acord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Positio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Finge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Best Positioning and Fingering in Chord Chain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Positioning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Quais as possíveis Posições de um acorde no braço do violã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Restrico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Musica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Anatom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Cultura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Ex: Fm7(11)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30 posições isolada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43750 combinaçõ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5880 Fm7(11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283 podem ser tocado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7640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69343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ebd189"/>
                </a:solidFill>
                <a:latin typeface="Arial"/>
              </a:rPr>
              <a:t>Fingering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eaeaea"/>
                </a:solidFill>
                <a:latin typeface="Arial"/>
              </a:rPr>
              <a:t>Quais dedos utilizar em cada posica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Arial"/>
              </a:rPr>
              <a:t>Utilização de pestana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6204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962520"/>
            <a:ext cx="8382240" cy="23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4114800"/>
            <a:ext cx="792468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06:41:23Z</dcterms:created>
  <dc:creator>Centro de Informática</dc:creator>
  <dc:description/>
  <dc:language>en-US</dc:language>
  <cp:lastModifiedBy>grec</cp:lastModifiedBy>
  <dcterms:modified xsi:type="dcterms:W3CDTF">2001-05-16T12:11:29Z</dcterms:modified>
  <cp:revision>3</cp:revision>
  <dc:subject/>
  <dc:title>D´Accord Music Software</dc:title>
</cp:coreProperties>
</file>